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201-E664-44C9-935A-BF52FE1C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78A-2264-456C-BCCE-61F27B10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318-8380-4DAF-B940-5B07D000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E13-FC1D-4F7B-B474-52CBE61E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DE82-6FAB-46FD-A9DE-498C4037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6574-946F-4918-A41E-0B12CAF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5F9-0640-439D-B28F-DF3F880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C424-3229-42C1-8070-24B83AE9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6995-2C7D-46A0-8796-6E0528E9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C148-71FF-42BA-B969-9CCF6D36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D667-45DC-4631-BFE3-A309F60B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3A9-85EF-409C-85B6-6D99386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6EB4-8326-47A2-84C4-4A4C1AD4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DD2E-87AC-4CC1-96A2-C324C122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11AB-12F5-40FE-AFA0-B11B6561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164B-20F6-4F7D-A052-1A554B8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EF77-7B90-45F6-9466-B9FDDEB8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70E-BAC3-493D-B279-EFD1BCC7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BC1-B787-40E3-BD30-845652B5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F19-0993-4AB0-A5C5-08E6EC0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9A2-3D96-46E1-AE07-464210A2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A8C-FAC0-4ACF-804C-EC68CDB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4DA-2286-433A-9E88-7BB6952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689-6A19-4080-99D3-EEC1F9F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B2C-EADB-44E5-A1FE-AC092AD9899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FDBC-AB47-48AA-A21B-8395DEEB6E2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IVAN ALVAREZ VALDES</cp:lastModifiedBy>
  <cp:lastPrinted>1999-03-18T20:54:39Z</cp:lastPrinted>
  <dcterms:modified xsi:type="dcterms:W3CDTF">2006-04-01T03:56:21Z</dcterms:modified>
  <cp:revision>23</cp:revision>
  <dc:subject/>
  <dc:title>Primera Parte: Contabilidad Financiera</dc:title>
</cp:coreProperties>
</file>