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EF1-067A-43AD-A50B-F40B3411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2ED-8D95-44E5-8572-2F914EA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E97-E56C-4F62-9381-39499B08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7DD-2236-4D4D-BBD1-4273FD04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7B01-DEAB-4A69-B0AF-7E287B58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03A3-AF40-45D5-B835-B12F874D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A9EA-F857-43A3-9C6C-C9A4DB3E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C11F-3697-4347-A23A-EDD58D89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278-A5B7-4F6A-902F-96186AFC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7921-1B97-4001-B7D7-A7D99FAC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FF65-A99E-4CD0-94DD-16BC9D4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B8F-8865-49BF-BB8C-E12F1ADE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5C13-2F9E-462A-B3E8-BE9EF81A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F968-28DE-4B13-A798-3077EF5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DB4-2445-4B68-9F74-3832A342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3F40-4487-4ABA-A36D-FB03B944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5834-0F21-4567-9CDD-226B3472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7D2-68FF-4BCB-960D-436FC408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664-EEB4-42F0-8CB3-CB64AE3F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14C-7677-4C24-98BE-1D81B96E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028-4E46-477E-BDB2-3B9A2D79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961-B931-4A7C-8A40-A64B4D28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027-F92B-49EB-87E5-6FBE83C0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F6C-0EC2-4E9B-81FF-3E22F23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F1A7-BDAB-47FD-AE0F-97383DBD9C2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162D-0F18-4DBB-A9B9-36B129213DE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IVAN ALVAREZ VALDES</cp:lastModifiedBy>
  <cp:lastPrinted>1999-03-18T20:54:39Z</cp:lastPrinted>
  <dcterms:modified xsi:type="dcterms:W3CDTF">2006-04-01T03:56:21Z</dcterms:modified>
  <cp:revision>23</cp:revision>
  <dc:subject/>
  <dc:title>Primera Parte: Contabilidad Financiera</dc:title>
</cp:coreProperties>
</file>