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D10A-4966-42F7-A31E-D879399B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01E-5BE6-4906-A52D-AAF2C34F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0AEB-0D8C-4ADD-A477-582E4368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901-0B80-42E7-B29C-243326E9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3F40-8469-4BF9-9D6C-47E6A7FA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4EF2-909A-4DDB-AEED-EF9CE576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CB7D-2D91-4B43-9EC1-27B13FF7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6ED3-760A-474D-A123-EAC8746D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0FFF-F8CE-45E2-B9F6-440CD3D3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28D7-40A0-4C31-A233-F37B3042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382B-1B84-400C-A594-A65DFD4B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8D57-3209-4BE9-8DE2-B17588D5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77B4-6BD9-4C93-9A03-988BF2C6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E457-3AB6-4D08-BFC2-1146B41D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696C-281C-4DBA-AF3D-64352BFD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A0BF-937E-43E6-A2D5-29717F0F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95A9-9EBF-4BF2-8304-F5F4E27F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AA9D4-4951-4A18-B1A8-F5D38926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6C6D8-EA84-4452-821E-81053512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FD5F2-F881-4BAE-A4FB-15954D16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6452C-06FA-48A9-A198-5E2B371C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BCEDD-39F0-4334-8116-9636E2AB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5A1-FF9E-4428-8D2E-CA74EC6A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E5A1D-4188-4733-8D01-34ABBB25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3607A-B848-4BDE-9E24-25FCF75C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A2585-8FAC-40EA-9966-FD576508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9D6B8-8E5C-4815-8E62-A0E49567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C3E5C-5851-4CF9-B135-85292F60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5D1D7-1E77-4A68-9973-B30C9969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FAE9C-9431-410C-8FDD-F0B87871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F2F6-8B3C-42DE-9446-B0187437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6D3-F243-49FC-8AC1-A9183621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2AF5-0BA4-47CB-8E71-E86231C2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7CA-10D2-471C-954A-5D4DA917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C1B7-FD14-4AD7-9915-779AB519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42B3-63FA-4516-92AB-76D6F8CB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CD8F-F14F-4F73-A059-61C5054BEF9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23F0-D579-4176-9810-38D565FAB7F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0F39-143C-46AD-87C6-67B6C2A2B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halvarez@ing.uchile.cl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700360" y="2133720"/>
            <a:ext cx="352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uxilia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46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89000"/>
            <a:ext cx="1979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260280"/>
            <a:ext cx="2232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Departamento de Ingeniería Indust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Universidad de Ch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5661000"/>
            <a:ext cx="29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rebuchet MS"/>
              </a:rPr>
              <a:t>Profesor: Vicente Asto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rebuchet MS"/>
              </a:rPr>
              <a:t>Auxiliar: Héctor Alvar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260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98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do d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413000"/>
            <a:ext cx="84247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Ingreso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: Valor de los bienes y derechos obtenidos por la empresa, durante un período, a cambio de la venta de bienes o prestación de servicios. Aumento del activo o disminución del pasivo, producto de las actividades comerciales de la ent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Gasto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: Valor de los recursos empleados (bienes, derechos o servicios utilizados o consumidos) durante un período, con el objeto de generar los ingresos correspondientes al mismo período. Disminución del activo o aumento del pasivo resultante de los recursos consum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Resultado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: Diferencia entre los ingresos generados y los gastos incurridos, en un período determinado. Utilidad: resultado positivo, aumento del patrimonio. Pérdida: resultado negativo, disminución del patrimon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95640" y="558972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RESULTADO = INGRESO - G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5589720"/>
            <a:ext cx="5256360" cy="5047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4360" y="33336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nceptos para resolución de ejerc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052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incipio de Deven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1700280"/>
            <a:ext cx="7345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La determinación del resultado y posición financiera de la empresa debe considerar todos los recursos y obligaciones del período, aunque estos hayan sido o no percibidos o pagados, con el objeto de que los costos y gastos puedan ser debidamente relacionados con los respectivos ingresos que genera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33336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nceptos para resolución de ejerc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052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uenta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1700280"/>
            <a:ext cx="7559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Formato de trabajo que permite agrupar y ordenar las transacciones sobre un mismo concepto y calcular su saldo a una fecha determi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Consiste en agrupar todos los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cargos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y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abonos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de una misma cuenta en un período determinado. El saldo final de un período es el inicial de un período siguient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19324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jerc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1125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) Los socios hacen un aporte de capital de $100.000, de los cuales $70.000 son en efectivo y el resto en muebles y equipos de ofic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2708280"/>
          <a:ext cx="7632360" cy="2054160"/>
        </p:xfrm>
        <a:graphic>
          <a:graphicData uri="http://schemas.openxmlformats.org/drawingml/2006/table">
            <a:tbl>
              <a:tblPr/>
              <a:tblGrid>
                <a:gridCol w="1821240"/>
                <a:gridCol w="1851480"/>
                <a:gridCol w="1906200"/>
                <a:gridCol w="205344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Activo Fij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3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trimoni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0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) Se compra mercadería por $20.000, pagando el 30% al co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4360" y="2133720"/>
          <a:ext cx="7704000" cy="2342520"/>
        </p:xfrm>
        <a:graphic>
          <a:graphicData uri="http://schemas.openxmlformats.org/drawingml/2006/table">
            <a:tbl>
              <a:tblPr/>
              <a:tblGrid>
                <a:gridCol w="1689480"/>
                <a:gridCol w="2660400"/>
                <a:gridCol w="1676880"/>
                <a:gridCol w="1677240"/>
              </a:tblGrid>
              <a:tr h="585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Existenci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6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pag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4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) Se vende mercadería por $10.000, que tenía un costo de $7.500, pagando el 25% al co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2205000"/>
          <a:ext cx="8353440" cy="3411720"/>
        </p:xfrm>
        <a:graphic>
          <a:graphicData uri="http://schemas.openxmlformats.org/drawingml/2006/table">
            <a:tbl>
              <a:tblPr/>
              <a:tblGrid>
                <a:gridCol w="1876320"/>
                <a:gridCol w="2917800"/>
                <a:gridCol w="1779840"/>
                <a:gridCol w="1779480"/>
              </a:tblGrid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Cobr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Ingresos por ven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osto de Ven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Ex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) Se paga el arriendo de un mes por $2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95280" y="2349360"/>
          <a:ext cx="8362440" cy="1622160"/>
        </p:xfrm>
        <a:graphic>
          <a:graphicData uri="http://schemas.openxmlformats.org/drawingml/2006/table">
            <a:tbl>
              <a:tblPr/>
              <a:tblGrid>
                <a:gridCol w="1812960"/>
                <a:gridCol w="2950200"/>
                <a:gridCol w="1799640"/>
                <a:gridCol w="1799640"/>
              </a:tblGrid>
              <a:tr h="54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Gasto Adm. Y Venta (GAV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) Se recibe la cuenta de luz por $1.500 (no hay políticas de previs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270828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 no tener políticas de previsión, la cuenta no se asume hasta el momento de pagarla, por lo que no hay transacción en este mo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) Se pagan remuneraciones por $20.000, cancelando $15.000 al co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24000" y="2276640"/>
          <a:ext cx="8435880" cy="2093400"/>
        </p:xfrm>
        <a:graphic>
          <a:graphicData uri="http://schemas.openxmlformats.org/drawingml/2006/table">
            <a:tbl>
              <a:tblPr/>
              <a:tblGrid>
                <a:gridCol w="1828800"/>
                <a:gridCol w="2976480"/>
                <a:gridCol w="1814400"/>
                <a:gridCol w="1816200"/>
              </a:tblGrid>
              <a:tr h="52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Remuneraciones (GAV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5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Retencio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5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76720" y="33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ont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773360"/>
            <a:ext cx="828036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esor Auxiliar: Héctor Alva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s-ES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alvarez@ing.uchile.c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dar e-mails con asunto “[IN46A] Asunto”, para que sea tomado en cuenta. Si no, lo consideraré s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) Se paga el 50% de la deuda con proveedores (de la deuda adquirida en este ejerci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11280" y="2637000"/>
          <a:ext cx="8229600" cy="1461960"/>
        </p:xfrm>
        <a:graphic>
          <a:graphicData uri="http://schemas.openxmlformats.org/drawingml/2006/table">
            <a:tbl>
              <a:tblPr/>
              <a:tblGrid>
                <a:gridCol w="1784160"/>
                <a:gridCol w="2903760"/>
                <a:gridCol w="1769760"/>
                <a:gridCol w="1771920"/>
              </a:tblGrid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Pag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) Se paga la cuenta de la lu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835280" y="2349360"/>
          <a:ext cx="5616000" cy="1461960"/>
        </p:xfrm>
        <a:graphic>
          <a:graphicData uri="http://schemas.openxmlformats.org/drawingml/2006/table">
            <a:tbl>
              <a:tblPr/>
              <a:tblGrid>
                <a:gridCol w="886680"/>
                <a:gridCol w="1746720"/>
                <a:gridCol w="1478160"/>
                <a:gridCol w="1504440"/>
              </a:tblGrid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GAV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) Se hace un retiro de capital de $2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47640" y="2205000"/>
          <a:ext cx="5483160" cy="1461960"/>
        </p:xfrm>
        <a:graphic>
          <a:graphicData uri="http://schemas.openxmlformats.org/drawingml/2006/table">
            <a:tbl>
              <a:tblPr/>
              <a:tblGrid>
                <a:gridCol w="817560"/>
                <a:gridCol w="1608120"/>
                <a:gridCol w="1522440"/>
                <a:gridCol w="1535040"/>
              </a:tblGrid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trimoni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68360" y="2060640"/>
          <a:ext cx="8229240" cy="2845800"/>
        </p:xfrm>
        <a:graphic>
          <a:graphicData uri="http://schemas.openxmlformats.org/drawingml/2006/table">
            <a:tbl>
              <a:tblPr/>
              <a:tblGrid>
                <a:gridCol w="5927400"/>
                <a:gridCol w="2301840"/>
              </a:tblGrid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Ingresos por 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osto de 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Margen de Explot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Gastos de Adm. y 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(23.500)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til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(21.000)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lanc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1773360"/>
          <a:ext cx="8229600" cy="4357080"/>
        </p:xfrm>
        <a:graphic>
          <a:graphicData uri="http://schemas.openxmlformats.org/drawingml/2006/table">
            <a:tbl>
              <a:tblPr/>
              <a:tblGrid>
                <a:gridCol w="2458080"/>
                <a:gridCol w="1383840"/>
                <a:gridCol w="629280"/>
                <a:gridCol w="2374560"/>
                <a:gridCol w="1383840"/>
              </a:tblGrid>
              <a:tr h="825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ACTIV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SIVO Y PATRIMONI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1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      pag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cobr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Retencio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5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Existenci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2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trimoni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8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Activo Fij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3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tilidades Períod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(21.000)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To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1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To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1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08000" y="476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Organización Empresa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700280"/>
            <a:ext cx="828036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ERSONA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MPRESARIO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MPRESA UNIPERSONAL DE RESPONSABILIDAD LIM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SOCIE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COOPE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Responsabilidad Ltda. v/s  Anónim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Importa la pers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Decisiones por unanimidad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Venta derechos acuerdo s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Socios pueden administr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Forma de distribución de utilidades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Responsabilidad limitada a los apor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No mas de 50 s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292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apital dividido en acciones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Socios responden por aportes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Administradas por Directorio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eden libremente acciones   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Decisiones por may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341360"/>
            <a:ext cx="4032360" cy="46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1341360"/>
            <a:ext cx="4032360" cy="46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9640" y="404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rcic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Para proteger el patrimonio personal conviene hacer una Sociedad Anónima, en vez de una Sociedad Limita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206064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 ventaja de armar una sociedad, es que a través de ella una persona puede acotar la exposición financiera. Esto quiere decir que si crea una sociedad, lo que puede llegar a perder es exactamente el monto que estuvo dispuesto a invertir en la sociedad (lo que se llama “Aporte de Capital”), dejando blindado su patrimonio personal. Esto se comporta de igual manera en una sociedad anónima que es una limi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260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rcic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En esta empresa mando yo”, dijo el dueño del 51% de “JPF Ltd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177336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 una sociedad limitada, en todo lo que respecta los estatutos de la sociedad, las decisiones deben ser tomadas por el 100% de los socios. Por ejemplo, aumento de capital, venta de derechos, designación de administración, entre o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4046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ncepto: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erencia entre contribuciones y ta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19700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mbos son mecanismos de recaudación por parte del Estado.  El primero, con el fin de beneficiar una zona específica, por ejemplo Contribuciones a los bienes raíces y en el segundo el Estado entrega un servicio a cambio, por ejemplo el pago que realizó al momento de solicitar un certificado de na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4365720"/>
            <a:ext cx="3961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tribuciones: Se cobran para beneficiar, de algún modo a quienes pagan este grava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jemplo: Impuesto a la Benc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4341960"/>
            <a:ext cx="3959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sas: Se pagan al momento de utilizar un servicio públ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jemplo: Certificado de Na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11280" y="2667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ontabilidad Financi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1341360"/>
            <a:ext cx="55450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Principios Co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La moneda común denomin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Entidad empr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Empresa en mar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El costo como base de valo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Período con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Estados Financier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Balance Gene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tado de Resul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Estado de Flujo de Efe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260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98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lanc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1484280"/>
            <a:ext cx="62643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Activo: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conjunto de recursos económicos, bienes y derechos de propiedad de la empresa, a un momento del tiempo, y que han sido obtenidos con el propósito de obtener beneficios futu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Pasivo: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conjunto de obligaciones de la empresa con terceros o derechos de terceros acreedores sobre la empresa, a la misma fe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Patrimonio: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diferencia entre Activo y Pasivo, o derechos sobre el Activo que corresponden a los propietarios, una vez deducidas las obligaciones de la empresa con terc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8000" y="522936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CTIVO = PASIVO + PATRIMO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5013360"/>
            <a:ext cx="5759640" cy="9367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0:56:31Z</dcterms:created>
  <dc:creator>Breaker</dc:creator>
  <dc:description/>
  <dc:language>en-US</dc:language>
  <cp:lastModifiedBy>alumnodii</cp:lastModifiedBy>
  <dcterms:modified xsi:type="dcterms:W3CDTF">2007-03-21T15:15:52Z</dcterms:modified>
  <cp:revision>10</cp:revision>
  <dc:subject/>
  <dc:title>Diapositiva 1</dc:title>
</cp:coreProperties>
</file>