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7AF-1468-4217-A490-8045857B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D6A-AFD5-4888-A656-E8A569B8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971-C26C-4B96-B0EE-F8B6D75F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CDE-CE08-44F3-A38E-F5548090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747F-98CD-497F-BA65-1793E400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02A1-82C9-4820-A877-8435872A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F75D-14CA-4BD9-9A51-8325953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C7E6-5504-4C4E-8F4E-B4A8076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7791-F672-45E4-850A-CC434F96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1B90-D7F9-4C38-829C-7F14549F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6BD2-106B-467D-81F5-7670717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EE1-9437-4724-8934-ABEFCC94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109-FBB0-4563-92AA-AB20EB1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5177-F61E-4F98-844C-BD65380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FFF-CB74-4230-8826-243F46F9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157E-66D1-4EDF-8718-81B31384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1A2-397E-48FA-AA4B-EB77CBD7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B8C5-1D39-4CF0-8B92-9FAD5A9F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B895-DD68-4772-97EE-5381FE2B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22F5-B5C6-4EED-9FC7-83BA2BDF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4B5F-8A5D-4488-A709-FE4ACCC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8527-5596-4EB3-BB2F-995D194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457-A979-4587-BF59-8F0E6F3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B08B-9F35-42D3-B0C0-AC9FD91B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49FC-9C47-4F91-A495-EA62925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862C-8B7B-4C49-9662-22F440BC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32A3-BC65-44B6-8B9C-9B831F4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69EC-C17D-4CCF-98DF-88FEDA29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E5CD-4EFE-4423-8928-2441D4A3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9F74-D78B-4BF8-AE9B-EB061294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B8E-2F82-4703-85E6-9AAFBF1A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634-790A-4242-952E-A0B5914D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841-AE25-4EF5-AEDD-617A9D3F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005-4061-45E7-96EA-09ED2E7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37-CE86-4C77-A505-BDE8DB8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111-8647-430A-B508-E0CBF94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518-87B1-4A97-82C6-2DE0BAFD657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B39-E5BB-4A30-8F3F-7CC33F0B168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9CFC-3972-43B2-A17D-8C0B2949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alvarez@ing.uchile.c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00360" y="2133720"/>
            <a:ext cx="35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2232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Departamento de Ingeniería Indust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Universidad de 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661000"/>
            <a:ext cx="29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Profesor: Vicente Asto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Auxiliar: Héctor Alv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Ingres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bienes y derechos obtenidos por la empresa, durante un período, a cambio de la venta de bienes o prestación de servicios. Aumento del activo o disminución del pasivo, producto de las actividades comerciales de la ent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Gast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recursos empleados (bienes, derechos o servicios utilizados o consumidos) durante un período, con el objeto de generar los ingresos correspondientes al mismo período. Disminución del activo o aumento del pasivo resultante de los recursos consum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sultad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Diferencia entre los ingresos generados y los gastos incurridos, en un período determinado. Utilidad: resultado positivo, aumento del patrimonio. Pérdida: resultado negativo, disminución del patrimo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589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ADO = INGRESO -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5589720"/>
            <a:ext cx="5256360" cy="504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cipio de Deve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70028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enta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559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ormato de trabajo que permite agrupar y ordenar las transacciones sobre un mismo concepto y calcular su saldo a una fecha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iste en agrupar todos los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carg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y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abon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de una misma cuenta en un período determinado. El saldo final de un período es el inicial de un período siguien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9324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12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 Los socios hacen un aporte de capital de $100.000, de los cuales $70.000 son en efectivo y el resto en muebles y equipos de ofi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2708280"/>
          <a:ext cx="7632360" cy="2054160"/>
        </p:xfrm>
        <a:graphic>
          <a:graphicData uri="http://schemas.openxmlformats.org/drawingml/2006/table">
            <a:tbl>
              <a:tblPr/>
              <a:tblGrid>
                <a:gridCol w="1821240"/>
                <a:gridCol w="1851480"/>
                <a:gridCol w="1906200"/>
                <a:gridCol w="205344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 Se compra mercadería por $20.000, pagando el 30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2133720"/>
          <a:ext cx="7704000" cy="2342520"/>
        </p:xfrm>
        <a:graphic>
          <a:graphicData uri="http://schemas.openxmlformats.org/drawingml/2006/table">
            <a:tbl>
              <a:tblPr/>
              <a:tblGrid>
                <a:gridCol w="1689480"/>
                <a:gridCol w="2660400"/>
                <a:gridCol w="1676880"/>
                <a:gridCol w="1677240"/>
              </a:tblGrid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6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4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 Se vende mercadería por $10.000, que tenía un costo de $7.500, pagando el 25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05000"/>
          <a:ext cx="8353440" cy="3411720"/>
        </p:xfrm>
        <a:graphic>
          <a:graphicData uri="http://schemas.openxmlformats.org/drawingml/2006/table">
            <a:tbl>
              <a:tblPr/>
              <a:tblGrid>
                <a:gridCol w="1876320"/>
                <a:gridCol w="2917800"/>
                <a:gridCol w="1779840"/>
                <a:gridCol w="177948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 Se paga el arriendo de un mes por $2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2349360"/>
          <a:ext cx="8362440" cy="1622160"/>
        </p:xfrm>
        <a:graphic>
          <a:graphicData uri="http://schemas.openxmlformats.org/drawingml/2006/table">
            <a:tbl>
              <a:tblPr/>
              <a:tblGrid>
                <a:gridCol w="1812960"/>
                <a:gridCol w="2950200"/>
                <a:gridCol w="1799640"/>
                <a:gridCol w="1799640"/>
              </a:tblGrid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 Adm. Y Venta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) Se recibe la cuenta de luz por $1.500 (no hay políticas de pre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70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 no tener políticas de previsión, la cuenta no se asume hasta el momento de pagarla, por lo que no hay transacción en este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) Se pagan remuneraciones por $20.000, cancelando $15.000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276640"/>
          <a:ext cx="8435880" cy="2093400"/>
        </p:xfrm>
        <a:graphic>
          <a:graphicData uri="http://schemas.openxmlformats.org/drawingml/2006/table">
            <a:tbl>
              <a:tblPr/>
              <a:tblGrid>
                <a:gridCol w="1828800"/>
                <a:gridCol w="2976480"/>
                <a:gridCol w="1814400"/>
                <a:gridCol w="1816200"/>
              </a:tblGrid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muneraciones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773360"/>
            <a:ext cx="82803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Auxiliar: Héctor Alva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s-E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alvarez@ing.uchile.c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dar e-mails con asunto “[IN46A] Asunto”, para que sea tomado en cuenta. Si no, lo consideraré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) Se paga el 50% de la deuda con proveedores (de la deuda adquirida en este ejerc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11280" y="2637000"/>
          <a:ext cx="8229600" cy="1461960"/>
        </p:xfrm>
        <a:graphic>
          <a:graphicData uri="http://schemas.openxmlformats.org/drawingml/2006/table">
            <a:tbl>
              <a:tblPr/>
              <a:tblGrid>
                <a:gridCol w="1784160"/>
                <a:gridCol w="2903760"/>
                <a:gridCol w="1769760"/>
                <a:gridCol w="177192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) Se paga la cuenta de la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35280" y="2349360"/>
          <a:ext cx="5616000" cy="1461960"/>
        </p:xfrm>
        <a:graphic>
          <a:graphicData uri="http://schemas.openxmlformats.org/drawingml/2006/table">
            <a:tbl>
              <a:tblPr/>
              <a:tblGrid>
                <a:gridCol w="886680"/>
                <a:gridCol w="1746720"/>
                <a:gridCol w="1478160"/>
                <a:gridCol w="15044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) Se hace un retiro de capital de $2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47640" y="2205000"/>
          <a:ext cx="5483160" cy="1461960"/>
        </p:xfrm>
        <a:graphic>
          <a:graphicData uri="http://schemas.openxmlformats.org/drawingml/2006/table">
            <a:tbl>
              <a:tblPr/>
              <a:tblGrid>
                <a:gridCol w="817560"/>
                <a:gridCol w="1608120"/>
                <a:gridCol w="1522440"/>
                <a:gridCol w="1535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2060640"/>
          <a:ext cx="8229240" cy="2845800"/>
        </p:xfrm>
        <a:graphic>
          <a:graphicData uri="http://schemas.openxmlformats.org/drawingml/2006/table">
            <a:tbl>
              <a:tblPr/>
              <a:tblGrid>
                <a:gridCol w="5927400"/>
                <a:gridCol w="2301840"/>
              </a:tblGrid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argen de Explo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s de Adm. y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3.5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773360"/>
          <a:ext cx="8229600" cy="4357080"/>
        </p:xfrm>
        <a:graphic>
          <a:graphicData uri="http://schemas.openxmlformats.org/drawingml/2006/table">
            <a:tbl>
              <a:tblPr/>
              <a:tblGrid>
                <a:gridCol w="2458080"/>
                <a:gridCol w="1383840"/>
                <a:gridCol w="629280"/>
                <a:gridCol w="2374560"/>
                <a:gridCol w="1383840"/>
              </a:tblGrid>
              <a:tr h="82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SIVO Y 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     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8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 Perío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341360"/>
            <a:ext cx="5545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rincipi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moneda común denom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ntidad empr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mpresa en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l costo como base de val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eríodo co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dos Financi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ce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stado de Flujo de Ef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1484280"/>
            <a:ext cx="6264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Act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recursos económicos, bienes y derechos de propiedad de la empresa, a un momento del tiempo, y que han sido obtenidos con el propósito de obtener beneficios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s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obligaciones de la empresa con terceros o derechos de terceros acreedores sobre la empresa, a la misma f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trimoni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diferencia entre Activo y Pasivo, o derechos sobre el Activo que corresponden a los propietarios, una vez deducidas las obligaciones de la empresa con terc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522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O = PASIVO +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013360"/>
            <a:ext cx="5759640" cy="936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alumnodii</cp:lastModifiedBy>
  <dcterms:modified xsi:type="dcterms:W3CDTF">2007-03-21T15:15:52Z</dcterms:modified>
  <cp:revision>10</cp:revision>
  <dc:subject/>
  <dc:title>Diapositiva 1</dc:title>
</cp:coreProperties>
</file>