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5D0-7FF0-4FF7-AC40-E021DEE6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743-3C58-43B2-9E3B-DF00A23F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14C-4592-4DD5-866C-5FE72308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63E-61CC-4BA0-8789-300E1511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8E4-F9DA-44D3-9C76-459EA526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45B-B275-432B-AAB9-EB12032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7D85-6D3F-4015-B3E0-79CF1D14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4594-8CFD-43EE-A3B5-6ADB89CC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3BA4-52D1-45FC-997A-20262FC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7DF-6174-4BC3-90AC-A7F2862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C8EE-5ACB-4621-B1EC-BC02DB15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592-0818-41BA-9C3F-CA68FFB7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3A66-9744-447C-A9B5-F128034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E66-5A6E-49EF-AB7C-674A787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6D7-44BA-4BB4-BD31-329EC930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9FF5-80B0-47C9-AE90-730C42C9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9DF-EB17-41A6-A190-67A7238D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4019-5127-42F4-80F1-B9B7B800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0D5C-BFA1-4101-9461-4785FAD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E2E2-FA43-49F0-AD88-95BC88B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E3CD-30BC-4E60-987A-51A8F191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27DE-D00F-4F1C-B4A5-43D3F5B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1F3-8D57-4FCD-BE87-509AE4C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D124-0853-4FC9-BE49-39AD4B4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13A9-82F6-4C70-A24B-F8A99DE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B9D7-0492-40FC-9DE7-0D13F1E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F1AF-62E3-42B9-A321-32CC604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7552-587A-4465-8B0D-0D37041C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AEA1-AE72-4E17-AED1-9EE3FED5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17A3-E3FE-43D7-A1EF-FDA3199A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D75-8A07-4E3D-85CC-14A53BC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F26-30BA-47B8-A836-C5BBBA9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48F-177C-4B4B-95BD-583E1C4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90D-F1B8-430E-BADC-BAD7652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A04-6EE6-4882-A614-BE319FF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279-4BE2-422D-AD04-41F403C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920-D066-4630-BD5E-C213044FE3E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20E-F914-4C65-88F3-B23D3076FA6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C4C9-119B-4CA1-9256-A60D03CB9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varez@ing.uchile.c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00360" y="2133720"/>
            <a:ext cx="35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2232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Departamento de Ingeniería Indust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Universidad de 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661000"/>
            <a:ext cx="29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Profesor: Vicente Asto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Auxiliar: Héctor Alv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Ingres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bienes y derechos obtenidos por la empresa, durante un período, a cambio de la venta de bienes o prestación de servicios. Aumento del activo o disminución del pasivo, producto de las actividades comerciales de la ent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Gast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recursos empleados (bienes, derechos o servicios utilizados o consumidos) durante un período, con el objeto de generar los ingresos correspondientes al mismo período. Disminución del activo o aumento del pasivo resultante de los recursos consum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ltad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Diferencia entre los ingresos generados y los gastos incurridos, en un período determinado. Utilidad: resultado positivo, aumento del patrimonio. Pérdida: resultado negativo, disminución del p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589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ADO = INGRESO -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589720"/>
            <a:ext cx="5256360" cy="50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cipio de Deve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0028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enta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559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ormato de trabajo que permite agrupar y ordenar las transacciones sobre un mismo concepto y calcular su saldo a una fecha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iste en agrupar todos los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carg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abon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de una misma cuenta en un período determinado. El saldo final de un período es el inicial de un período sigu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9324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Los socios hacen un aporte de capital de $100.000, de los cuales $70.000 son en efectivo y el resto en muebles y equipos de ofi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2708280"/>
          <a:ext cx="7632360" cy="2054160"/>
        </p:xfrm>
        <a:graphic>
          <a:graphicData uri="http://schemas.openxmlformats.org/drawingml/2006/table">
            <a:tbl>
              <a:tblPr/>
              <a:tblGrid>
                <a:gridCol w="1821240"/>
                <a:gridCol w="1851480"/>
                <a:gridCol w="1906200"/>
                <a:gridCol w="205344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Se compra mercadería por $20.000, pagando el 30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133720"/>
          <a:ext cx="7704000" cy="2342520"/>
        </p:xfrm>
        <a:graphic>
          <a:graphicData uri="http://schemas.openxmlformats.org/drawingml/2006/table">
            <a:tbl>
              <a:tblPr/>
              <a:tblGrid>
                <a:gridCol w="1689480"/>
                <a:gridCol w="2660400"/>
                <a:gridCol w="1676880"/>
                <a:gridCol w="16772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6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4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Se vende mercadería por $10.000, que tenía un costo de $7.500, pagando el 25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05000"/>
          <a:ext cx="8353440" cy="3411720"/>
        </p:xfrm>
        <a:graphic>
          <a:graphicData uri="http://schemas.openxmlformats.org/drawingml/2006/table">
            <a:tbl>
              <a:tblPr/>
              <a:tblGrid>
                <a:gridCol w="1876320"/>
                <a:gridCol w="2917800"/>
                <a:gridCol w="1779840"/>
                <a:gridCol w="177948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 Se paga el arriendo de un mes por $2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2349360"/>
          <a:ext cx="8362440" cy="1622160"/>
        </p:xfrm>
        <a:graphic>
          <a:graphicData uri="http://schemas.openxmlformats.org/drawingml/2006/table">
            <a:tbl>
              <a:tblPr/>
              <a:tblGrid>
                <a:gridCol w="1812960"/>
                <a:gridCol w="2950200"/>
                <a:gridCol w="1799640"/>
                <a:gridCol w="1799640"/>
              </a:tblGrid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 Adm. Y Venta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) Se recibe la cuenta de luz por $1.500 (no hay políticas de pre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no tener políticas de previsión, la cuenta no se asume hasta el momento de pagarla, por lo que no hay transacción en est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) Se pagan remuneraciones por $20.000, cancelando $15.000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76640"/>
          <a:ext cx="8435880" cy="2093400"/>
        </p:xfrm>
        <a:graphic>
          <a:graphicData uri="http://schemas.openxmlformats.org/drawingml/2006/table">
            <a:tbl>
              <a:tblPr/>
              <a:tblGrid>
                <a:gridCol w="1828800"/>
                <a:gridCol w="2976480"/>
                <a:gridCol w="1814400"/>
                <a:gridCol w="1816200"/>
              </a:tblGrid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muneraciones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2803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Auxiliar: Héctor Alva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s-E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alvarez@ing.uchile.c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dar e-mails con asunto “[IN46A] Asunto”, para que sea tomado en cuenta. Si no, lo consideraré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) Se paga el 50% de la deuda con proveedores (de la deuda adquirida en este ejerc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11280" y="2637000"/>
          <a:ext cx="8229600" cy="1461960"/>
        </p:xfrm>
        <a:graphic>
          <a:graphicData uri="http://schemas.openxmlformats.org/drawingml/2006/table">
            <a:tbl>
              <a:tblPr/>
              <a:tblGrid>
                <a:gridCol w="1784160"/>
                <a:gridCol w="2903760"/>
                <a:gridCol w="1769760"/>
                <a:gridCol w="177192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) Se paga la cuenta de la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35280" y="2349360"/>
          <a:ext cx="5616000" cy="1461960"/>
        </p:xfrm>
        <a:graphic>
          <a:graphicData uri="http://schemas.openxmlformats.org/drawingml/2006/table">
            <a:tbl>
              <a:tblPr/>
              <a:tblGrid>
                <a:gridCol w="886680"/>
                <a:gridCol w="1746720"/>
                <a:gridCol w="1478160"/>
                <a:gridCol w="15044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) Se hace un retiro de capital de $2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47640" y="2205000"/>
          <a:ext cx="5483160" cy="1461960"/>
        </p:xfrm>
        <a:graphic>
          <a:graphicData uri="http://schemas.openxmlformats.org/drawingml/2006/table">
            <a:tbl>
              <a:tblPr/>
              <a:tblGrid>
                <a:gridCol w="817560"/>
                <a:gridCol w="1608120"/>
                <a:gridCol w="1522440"/>
                <a:gridCol w="1535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2060640"/>
          <a:ext cx="8229240" cy="2845800"/>
        </p:xfrm>
        <a:graphic>
          <a:graphicData uri="http://schemas.openxmlformats.org/drawingml/2006/table">
            <a:tbl>
              <a:tblPr/>
              <a:tblGrid>
                <a:gridCol w="5927400"/>
                <a:gridCol w="2301840"/>
              </a:tblGrid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argen de Explo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s de Adm. y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3.5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773360"/>
          <a:ext cx="8229600" cy="4357080"/>
        </p:xfrm>
        <a:graphic>
          <a:graphicData uri="http://schemas.openxmlformats.org/drawingml/2006/table">
            <a:tbl>
              <a:tblPr/>
              <a:tblGrid>
                <a:gridCol w="2458080"/>
                <a:gridCol w="1383840"/>
                <a:gridCol w="629280"/>
                <a:gridCol w="2374560"/>
                <a:gridCol w="138384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SIVO Y 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     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8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 Perío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5545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incipi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moneda común denom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ntidad empr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mpresa en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l costo como base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eríodo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dos Financi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ce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stado de Flujo de Ef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1484280"/>
            <a:ext cx="6264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Act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recursos económicos, bienes y derechos de propiedad de la empresa, a un momento del tiempo, y que han sido obtenidos con el propósito de obtener beneficios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s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obligaciones de la empresa con terceros o derechos de terceros acreedores sobre la empresa, a la misma f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trimoni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diferencia entre Activo y Pasivo, o derechos sobre el Activo que corresponden a los propietarios, una vez deducidas las obligaciones de la empresa con terc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522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O = PASIVO +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13360"/>
            <a:ext cx="5759640" cy="936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alumnodii</cp:lastModifiedBy>
  <dcterms:modified xsi:type="dcterms:W3CDTF">2007-03-21T15:15:52Z</dcterms:modified>
  <cp:revision>10</cp:revision>
  <dc:subject/>
  <dc:title>Diapositiva 1</dc:title>
</cp:coreProperties>
</file>