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11E8-84D3-44F2-853B-4ACA4B242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78ED-F2B4-4FF2-9C67-0E2B22272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6295-216E-4442-8A36-64822429B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25E0-538A-41B5-9660-BC7E9E261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061A8-9BA7-4408-9835-F346C40B1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D5675-AC69-4B4B-B3B7-9ABF089FA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49E85-C2B3-43F5-8A74-5815B2A5B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1A967-CDB9-4234-9250-0C1691C93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70D14-D1F9-42EF-9BC6-A93D0861C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10AB2-AB88-4958-98B3-802A4A796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CB934-3478-487B-AFEE-70C718E9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D814-E630-46E0-BEC8-2CC619CE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72638-53FB-4448-846B-9B2EFC72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D06AA-E9ED-4A86-88D6-4980DD89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51EBA-4A9C-480A-8C14-3324DE9AE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1550D-CB2D-44A4-9771-4A892C13D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60C6E-EEBF-4F01-A5A6-1F7774AC0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27A47-15C7-4301-A340-7153C921C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D7F9B-AB33-483F-9FD1-951B71776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CD988-B873-49AA-9388-466015105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FC72B-9DA5-4B18-9200-179B5BFCE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558BB-8031-435D-A595-C839173C4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7D17-888E-4DBA-84F2-25D11FFFB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8AF23-F98A-4FAA-B72A-A3A2B42B8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D172A-9AC3-4858-8F39-BE952EDF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C260D-6070-427C-B3BE-EE8507AE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E2E45-C544-410C-9604-0AA63ABE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A33F5-275C-441A-9763-76B126B9A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F6077-26DE-4E49-9765-59FBFB0B5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372A5-C1DC-4257-B3D1-309B0FA2A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9C22-A3FF-4B15-B657-E100991FF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117C-6FF1-4103-A514-2F559F481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9756-E736-40D2-8330-083C72B30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A0D0-94B7-4754-B2C9-2DBABF2C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50F6-B055-403C-89A0-49914242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4FF5-C086-47B7-A6EC-5E658FAD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87CE3-49DF-4C24-BD88-32265C8A37A1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BF87A-2196-4726-8510-5C82FFBB6548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B44FD-D90D-4347-8595-3CBAF8CA21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halvarez@ing.uchile.cl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700360" y="2133720"/>
            <a:ext cx="3529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Auxiliar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IN46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189000"/>
            <a:ext cx="19796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260280"/>
            <a:ext cx="22320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</a:rPr>
              <a:t>Departamento de Ingeniería Industr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</a:rPr>
              <a:t>Facultad de Ciencias Físicas y Matemátic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</a:rPr>
              <a:t>Universidad de Chi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5661000"/>
            <a:ext cx="2987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rebuchet MS"/>
              </a:rPr>
              <a:t>Profesor: Vicente Astor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rebuchet MS"/>
              </a:rPr>
              <a:t>Auxiliar: Héctor Alvare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68360" y="26028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Estados Financie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26920" y="98100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rebuchet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stado de Resul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5280" y="1413000"/>
            <a:ext cx="842472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rebuchet MS"/>
              </a:rPr>
              <a:t>Ingreso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: Valor de los bienes y derechos obtenidos por la empresa, durante un período, a cambio de la venta de bienes o prestación de servicios. Aumento del activo o disminución del pasivo, producto de las actividades comerciales de la ent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rebuchet MS"/>
              </a:rPr>
              <a:t>Gasto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: Valor de los recursos empleados (bienes, derechos o servicios utilizados o consumidos) durante un período, con el objeto de generar los ingresos correspondientes al mismo período. Disminución del activo o aumento del pasivo resultante de los recursos consumid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rebuchet MS"/>
              </a:rPr>
              <a:t>Resultado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: Diferencia entre los ingresos generados y los gastos incurridos, en un período determinado. Utilidad: resultado positivo, aumento del patrimonio. Pérdida: resultado negativo, disminución del patrimon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95640" y="5589720"/>
            <a:ext cx="47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RESULTADO = INGRESO - GA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79640" y="5589720"/>
            <a:ext cx="5256360" cy="50472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84360" y="33336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onceptos para resolución de ejerci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105264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incipio de Deveng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26920" y="1700280"/>
            <a:ext cx="734544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s-ES_tradnl" sz="2000" spc="-1" strike="noStrike">
                <a:solidFill>
                  <a:srgbClr val="000000"/>
                </a:solidFill>
                <a:latin typeface="Trebuchet MS"/>
              </a:rPr>
              <a:t>La determinación del resultado y posición financiera de la empresa debe considerar todos los recursos y obligaciones del período, aunque estos hayan sido o no percibidos o pagados, con el objeto de que los costos y gastos puedan ser debidamente relacionados con los respectivos ingresos que generan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84360" y="33336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onceptos para resolución de ejerci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8360" y="105264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uenta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00000" y="1700280"/>
            <a:ext cx="755964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Formato de trabajo que permite agrupar y ordenar las transacciones sobre un mismo concepto y calcular su saldo a una fecha determin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Consiste en agrupar todos los </a:t>
            </a:r>
            <a:r>
              <a:rPr b="1" i="1" lang="en-US" sz="2000" spc="-1" strike="noStrike">
                <a:solidFill>
                  <a:srgbClr val="000000"/>
                </a:solidFill>
                <a:latin typeface="Trebuchet MS"/>
              </a:rPr>
              <a:t>cargos</a:t>
            </a: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 y </a:t>
            </a:r>
            <a:r>
              <a:rPr b="1" i="1" lang="en-US" sz="2000" spc="-1" strike="noStrike">
                <a:solidFill>
                  <a:srgbClr val="000000"/>
                </a:solidFill>
                <a:latin typeface="Trebuchet MS"/>
              </a:rPr>
              <a:t>abonos</a:t>
            </a: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 de una misma cuenta en un período determinado. El saldo final de un período es el inicial de un período siguient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193240" cy="30178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468360" y="333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jerc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68360" y="333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ol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8360" y="112536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) Los socios hacen un aporte de capital de $100.000, de los cuales $70.000 son en efectivo y el resto en muebles y equipos de ofic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2708280"/>
          <a:ext cx="7632360" cy="2054160"/>
        </p:xfrm>
        <a:graphic>
          <a:graphicData uri="http://schemas.openxmlformats.org/drawingml/2006/table">
            <a:tbl>
              <a:tblPr/>
              <a:tblGrid>
                <a:gridCol w="1821240"/>
                <a:gridCol w="1851480"/>
                <a:gridCol w="1906200"/>
                <a:gridCol w="2053440"/>
              </a:tblGrid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Deb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Hab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Disponibl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70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Activo Fijo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30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Patrimonio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100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68360" y="333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ol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8360" y="112536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) Se compra mercadería por $20.000, pagando el 30% al con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684360" y="2133720"/>
          <a:ext cx="7704000" cy="2342520"/>
        </p:xfrm>
        <a:graphic>
          <a:graphicData uri="http://schemas.openxmlformats.org/drawingml/2006/table">
            <a:tbl>
              <a:tblPr/>
              <a:tblGrid>
                <a:gridCol w="1689480"/>
                <a:gridCol w="2660400"/>
                <a:gridCol w="1676880"/>
                <a:gridCol w="1677240"/>
              </a:tblGrid>
              <a:tr h="585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Deb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Hab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Existencia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20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Disponibl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6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Cuentas por paga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14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68360" y="333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ol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112536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) Se vende mercadería por $10.000, que tenía un costo de $7.500, pagando el 25% al con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95280" y="2205000"/>
          <a:ext cx="8353440" cy="3411720"/>
        </p:xfrm>
        <a:graphic>
          <a:graphicData uri="http://schemas.openxmlformats.org/drawingml/2006/table">
            <a:tbl>
              <a:tblPr/>
              <a:tblGrid>
                <a:gridCol w="1876320"/>
                <a:gridCol w="2917800"/>
                <a:gridCol w="1779840"/>
                <a:gridCol w="1779480"/>
              </a:tblGrid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Deb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Hab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Disponibl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2.5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Cuentas por Cobra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7.5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Ingresos por vent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10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Costo de Vent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7.5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Existenci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7.5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8360" y="333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ol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8360" y="112536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) Se paga el arriendo de un mes por $2.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95280" y="2349360"/>
          <a:ext cx="8362440" cy="1622160"/>
        </p:xfrm>
        <a:graphic>
          <a:graphicData uri="http://schemas.openxmlformats.org/drawingml/2006/table">
            <a:tbl>
              <a:tblPr/>
              <a:tblGrid>
                <a:gridCol w="1812960"/>
                <a:gridCol w="2950200"/>
                <a:gridCol w="1799640"/>
                <a:gridCol w="1799640"/>
              </a:tblGrid>
              <a:tr h="540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Deb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Hab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Gasto Adm. Y Venta (GAV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2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Disponibl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2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68360" y="333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ol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8360" y="112536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) Se recibe la cuenta de luz por $1.500 (no hay políticas de previs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4360" y="2708280"/>
            <a:ext cx="71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l no tener políticas de previsión, la cuenta no se asume hasta el momento de pagarla, por lo que no hay transacción en este mo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468360" y="333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ol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8360" y="112536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) Se pagan remuneraciones por $20.000, cancelando $15.000 al con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324000" y="2276640"/>
          <a:ext cx="8435880" cy="2093400"/>
        </p:xfrm>
        <a:graphic>
          <a:graphicData uri="http://schemas.openxmlformats.org/drawingml/2006/table">
            <a:tbl>
              <a:tblPr/>
              <a:tblGrid>
                <a:gridCol w="1828800"/>
                <a:gridCol w="2976480"/>
                <a:gridCol w="1814400"/>
                <a:gridCol w="1816200"/>
              </a:tblGrid>
              <a:tr h="523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Deb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Hab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Remuneraciones (GAV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20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3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Disponibl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15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3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Retencion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5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276720" y="333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ontac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8360" y="1773360"/>
            <a:ext cx="8280360" cy="23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fesor Auxiliar: Héctor Alvar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s-ES" sz="24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alvarez@ing.uchile.c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andar e-mails con asunto “[IN46A] Asunto”, para que sea tomado en cuenta. Si no, lo consideraré sp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68360" y="333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ol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8360" y="112536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g) Se paga el 50% de la deuda con proveedores (de la deuda adquirida en este ejercic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611280" y="2637000"/>
          <a:ext cx="8229600" cy="1461960"/>
        </p:xfrm>
        <a:graphic>
          <a:graphicData uri="http://schemas.openxmlformats.org/drawingml/2006/table">
            <a:tbl>
              <a:tblPr/>
              <a:tblGrid>
                <a:gridCol w="1784160"/>
                <a:gridCol w="2903760"/>
                <a:gridCol w="1769760"/>
                <a:gridCol w="1771920"/>
              </a:tblGrid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Deb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Hab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Cuentas por Paga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7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Disponibl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7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468360" y="333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ol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8360" y="112536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) Se paga la cuenta de la lu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835280" y="2349360"/>
          <a:ext cx="5616000" cy="1461960"/>
        </p:xfrm>
        <a:graphic>
          <a:graphicData uri="http://schemas.openxmlformats.org/drawingml/2006/table">
            <a:tbl>
              <a:tblPr/>
              <a:tblGrid>
                <a:gridCol w="886680"/>
                <a:gridCol w="1746720"/>
                <a:gridCol w="1478160"/>
                <a:gridCol w="1504440"/>
              </a:tblGrid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Deb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Hab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GAV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1.5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Disponibl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1.5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68360" y="333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ol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68360" y="112536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) Se hace un retiro de capital de $20.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47640" y="2205000"/>
          <a:ext cx="5483160" cy="1461960"/>
        </p:xfrm>
        <a:graphic>
          <a:graphicData uri="http://schemas.openxmlformats.org/drawingml/2006/table">
            <a:tbl>
              <a:tblPr/>
              <a:tblGrid>
                <a:gridCol w="817560"/>
                <a:gridCol w="1608120"/>
                <a:gridCol w="1522440"/>
                <a:gridCol w="1535040"/>
              </a:tblGrid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Deb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Hab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Patrimonio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20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Disponibl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20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468360" y="333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ol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8360" y="112536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stado de Resul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68360" y="2060640"/>
          <a:ext cx="8229240" cy="2845800"/>
        </p:xfrm>
        <a:graphic>
          <a:graphicData uri="http://schemas.openxmlformats.org/drawingml/2006/table">
            <a:tbl>
              <a:tblPr/>
              <a:tblGrid>
                <a:gridCol w="5927400"/>
                <a:gridCol w="2301840"/>
              </a:tblGrid>
              <a:tr h="569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Ingresos por Ven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10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9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Costo de Ven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7.5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Margen de Explot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2.5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9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Gastos de Adm. y Ven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(23.500)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Utilidad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(21.000)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68360" y="333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ol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8360" y="112536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alance 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57200" y="1773360"/>
          <a:ext cx="8229600" cy="4357080"/>
        </p:xfrm>
        <a:graphic>
          <a:graphicData uri="http://schemas.openxmlformats.org/drawingml/2006/table">
            <a:tbl>
              <a:tblPr/>
              <a:tblGrid>
                <a:gridCol w="2458080"/>
                <a:gridCol w="1383840"/>
                <a:gridCol w="629280"/>
                <a:gridCol w="2374560"/>
                <a:gridCol w="1383840"/>
              </a:tblGrid>
              <a:tr h="8254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ACTIVO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PASIVO Y PATRIMONIO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Disponibl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21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Cuentas por       paga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7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Cuentas por cobra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7.5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Retencion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5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Existencia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12.5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Patrimonio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80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Activo Fijo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30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Utilidades Período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(21.000)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Tot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71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Tot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71.000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908000" y="476280"/>
            <a:ext cx="54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Organización Empresa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9640" y="1700280"/>
            <a:ext cx="8280360" cy="39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PERSONA NAT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EMPRESARIO INDIV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EMPRESA UNIPERSONAL DE RESPONSABILIDAD LIMIT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SOCIE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COOPERA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Responsabilidad Ltda. v/s  Anónima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Importa la perso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Decisiones por unanimidad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Venta derechos acuerdo soc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Socios pueden administr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Forma de distribución de utilidades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Responsabilidad limitada a los apor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No mas de 50 soc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2920" y="14130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Capital dividido en acciones</a:t>
            </a:r>
            <a:br>
              <a:rPr sz="2200"/>
            </a:b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Socios responden por aportes</a:t>
            </a:r>
            <a:br>
              <a:rPr sz="2200"/>
            </a:b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Administradas por Directorio</a:t>
            </a:r>
            <a:br>
              <a:rPr sz="2200"/>
            </a:b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Ceden libremente acciones    </a:t>
            </a:r>
            <a:br>
              <a:rPr sz="2200"/>
            </a:b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Decisiones por mayorí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1341360"/>
            <a:ext cx="4032360" cy="4608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3280" y="1341360"/>
            <a:ext cx="4032360" cy="4608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39640" y="404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jercicio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Para proteger el patrimonio personal conviene hacer una Sociedad Anónima, en vez de una Sociedad Limitad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0920" y="2060640"/>
            <a:ext cx="856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a ventaja de armar una sociedad, es que a través de ella una persona puede acotar la exposición financiera. Esto quiere decir que si crea una sociedad, lo que puede llegar a perder es exactamente el monto que estuvo dispuesto a invertir en la sociedad (lo que se llama “Aporte de Capital”), dejando blindado su patrimonio personal. Esto se comporta de igual manera en una sociedad anónima que es una limit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8360" y="26028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jercicio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En esta empresa mando yo”, dijo el dueño del 51% de “JPF Ltda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0920" y="1773360"/>
            <a:ext cx="849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n una sociedad limitada, en todo lo que respecta los estatutos de la sociedad, las decisiones deben ser tomadas por el 100% de los socios. Por ejemplo, aumento de capital, venta de derechos, designación de administración, entre ot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68360" y="404640"/>
            <a:ext cx="79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oncepto: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iferencia entre contribuciones y tas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1197000"/>
            <a:ext cx="792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mbos son mecanismos de recaudación por parte del Estado.  El primero, con el fin de beneficiar una zona específica, por ejemplo Contribuciones a los bienes raíces y en el segundo el Estado entrega un servicio a cambio, por ejemplo el pago que realizó al momento de solicitar un certificado de na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9640" y="4365720"/>
            <a:ext cx="39610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ntribuciones: Se cobran para beneficiar, de algún modo a quienes pagan este gravam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jemplo: Impuesto a la Benci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43280" y="4341960"/>
            <a:ext cx="39592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asas: Se pagan al momento de utilizar un servicio públ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jemplo: Certificado de Naci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11280" y="2667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Contabilidad Financie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4360" y="1341360"/>
            <a:ext cx="55450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Principios Con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rebuchet MS"/>
              </a:rPr>
              <a:t>La moneda común denomin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rebuchet MS"/>
              </a:rPr>
              <a:t>Entidad empres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rebuchet MS"/>
              </a:rPr>
              <a:t>Empresa en marc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rebuchet MS"/>
              </a:rPr>
              <a:t>El costo como base de valo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rebuchet MS"/>
              </a:rPr>
              <a:t>Período con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Estados Financier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Balance Gener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Estado de Resul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rebuchet MS"/>
              </a:rPr>
              <a:t>Estado de Flujo de Efec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68360" y="26028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Estados Financie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26920" y="98100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alance 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332000" y="1484280"/>
            <a:ext cx="626436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rebuchet MS"/>
              </a:rPr>
              <a:t>Activo: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 conjunto de recursos económicos, bienes y derechos de propiedad de la empresa, a un momento del tiempo, y que han sido obtenidos con el propósito de obtener beneficios futu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rebuchet MS"/>
              </a:rPr>
              <a:t>Pasivo: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 conjunto de obligaciones de la empresa con terceros o derechos de terceros acreedores sobre la empresa, a la misma fech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rebuchet MS"/>
              </a:rPr>
              <a:t>Patrimonio: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 diferencia entre Activo y Pasivo, o derechos sobre el Activo que corresponden a los propietarios, una vez deducidas las obligaciones de la empresa con terce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08000" y="5229360"/>
            <a:ext cx="47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ACTIVO = PASIVO + PATRIMON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76360" y="5013360"/>
            <a:ext cx="5759640" cy="93672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9T20:56:31Z</dcterms:created>
  <dc:creator>Breaker</dc:creator>
  <dc:description/>
  <dc:language>en-US</dc:language>
  <cp:lastModifiedBy>alumnodii</cp:lastModifiedBy>
  <dcterms:modified xsi:type="dcterms:W3CDTF">2007-03-21T15:15:52Z</dcterms:modified>
  <cp:revision>10</cp:revision>
  <dc:subject/>
  <dc:title>Diapositiva 1</dc:title>
</cp:coreProperties>
</file>