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C200A9-647B-44CE-919A-6E5805F1D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1351EB-4FB3-4B2F-BF7B-FE03E77DE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DFCD677-81DB-4B28-A3CF-E3C4CFB11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056445-35D1-4F19-86A7-B4AB7C7BD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DDDF0-7F99-451F-A0BB-D8508AFB7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B3039-D037-42F6-B3D9-784629EDB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5CFC8-E071-48EB-BDFB-433D53486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7A797-C40B-466C-A758-17F69AA38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359C3-65E2-4CC9-9B16-815243E25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6D148-7F5C-45D4-B6DE-4D23D064D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7DA1C-DEDA-4417-9753-A91C87406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9351B8-87CE-4F64-B302-75A8BA057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DE4DD-9265-458B-9EC9-688E3018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AF7C8-2AF3-4AE4-B828-0AD596B1B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27C15-65CF-405A-877A-212CBBE1F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400FE-5272-49B2-8AE0-C64AA7F65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E5289-2191-4A8F-AB79-BDB8D1533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BA51EC-6EA5-464C-9C8B-C817AD24C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3A2576-F944-4EC0-818E-D11DD9293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1607A4-98EC-4389-898A-17A69A3FF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40B7C0-D1A3-4BE6-8485-2BBA11533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65A89B-C9D4-4656-ACA4-CA2CB31E6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355F09-C869-4998-B3E7-62A742D5D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ECE9A3-2BF1-4140-B924-835D29842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BF07-2E36-48C9-852E-BC38FA566A34}"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C7B4-6272-41F5-A710-94DEE45184E7}"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hyperlink" Target="http://www.ayudacontador.cl/ayudacontador/boletines/boletin1.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a:t>
            </a:r>
            <a:r>
              <a:rPr b="0" lang="es-ES_tradnl" sz="1800" spc="-1" strike="noStrike" u="sng">
                <a:solidFill>
                  <a:srgbClr val="ffcc00"/>
                </a:solidFill>
                <a:uFillTx/>
                <a:latin typeface="Garamond"/>
                <a:hlinkClick r:id="rId2"/>
              </a:rPr>
              <a:t>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Vicente Astorga Pizarro</cp:lastModifiedBy>
  <cp:lastPrinted>1999-03-18T20:46:15Z</cp:lastPrinted>
  <dcterms:modified xsi:type="dcterms:W3CDTF">2007-03-01T20:09:35Z</dcterms:modified>
  <cp:revision>21</cp:revision>
  <dc:subject/>
  <dc:title>Vender una idea o un producto</dc:title>
</cp:coreProperties>
</file>