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A57C1DB-97CA-4AD7-AF7A-15B3F97AF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513CC2-4AB7-421D-9272-99DA170D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B6B6EEF-60FF-448A-805E-C54880B39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06E5BF3-3681-414E-85B0-9953C1F5B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D2F04-06D9-43C9-B361-48197F994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BB0FF-EA6A-4F6A-B7B5-96A41CDFD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A9CBA-9FD2-492E-A57F-7CB85C432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CDB66-A82A-4454-AD68-2E3C7E7F3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C3847-D1AE-418B-82F2-88AC8CF40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506F1-F998-47E9-9111-24D41E673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931E5-47AD-4B70-9DFE-599714B01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8E9A0D-9963-442E-ADC9-6EDBEA970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EAD90-DF47-4DB2-81CF-884A35C7C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12DC7-60EC-4A99-8420-6126E1B8C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66953-DF1E-4F3D-9C20-3D3929EC9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2E4AD-1BA8-4CE8-A6E4-85D8B0AF6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8562C-E349-4FFD-AE40-0D11ED43E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72D9C0-6348-4DCF-863D-C3DEFFD0D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F7E76C-E0F4-48C7-8EF4-F7F92CEEB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BD323E-DF03-486A-8B26-F0468E112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F634AC-2203-493C-93D6-6E0B7FE9C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9BEBDC-8BDB-4284-8AC0-D4C4F02C0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15EDE5-B895-4625-B9D0-DD2C216CE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8A1412-0EA8-4E48-A43A-2ADC45F94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A55E-2CA1-4AF0-8250-8B24B5F03465}"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B001-264F-4CD3-9D35-B5C56C45FAAC}"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hyperlink" Target="http://www.ayudacontador.cl/ayudacontador/boletines/boletin1.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a:t>
            </a:r>
            <a:r>
              <a:rPr b="0" lang="es-ES_tradnl" sz="1800" spc="-1" strike="noStrike" u="sng">
                <a:solidFill>
                  <a:srgbClr val="ffcc00"/>
                </a:solidFill>
                <a:uFillTx/>
                <a:latin typeface="Garamond"/>
                <a:hlinkClick r:id="rId2"/>
              </a:rPr>
              <a:t>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Vicente Astorga Pizarro</cp:lastModifiedBy>
  <cp:lastPrinted>1999-03-18T20:46:15Z</cp:lastPrinted>
  <dcterms:modified xsi:type="dcterms:W3CDTF">2007-03-01T20:09:35Z</dcterms:modified>
  <cp:revision>21</cp:revision>
  <dc:subject/>
  <dc:title>Vender una idea o un producto</dc:title>
</cp:coreProperties>
</file>