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ED2F7B1-3505-4C59-97BB-333E80415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9E3B11-42CE-4CBE-A300-E951EDB87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741D764-B488-434D-9156-447262626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4D795E2-B5E4-4EAC-9D22-98866E15A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EE3AB-8BAA-4B7C-972D-CA067DB93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36844-3607-4919-94C9-8C9A9814D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7CE77-E004-469B-B918-E695B1327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B8151-D688-4B34-B850-EAA3777CB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4071B-AAE3-49CF-A7EC-8AC421FD6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CDD92-765F-4C92-8DEA-1FA7ED7FA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1352B-80DC-4ED3-9988-CA0CB45AF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11A6669-9EC3-48A1-8C17-AF2E48AEB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5BFA4-73C7-4FEB-AE4C-90ABDC5DC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FD41B-8FFE-44A7-835C-CC2916F85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34406-733F-4265-BC7B-A263C601A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F2B12-9FF1-449D-A5E3-04EAAAB14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74103-4A44-40AF-AF5A-566E1AF8E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61A78C3-4206-46C1-8987-533C66D98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8352A0-1F43-4CEC-AA3E-5DC0CA5FA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BADEBF-9EA9-4556-93B8-838BBFDD4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366049-C231-4C13-8884-1A08E7605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85DDFD-5156-4E8C-916D-EBC8953EA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DEC997-A336-45DB-97E1-6729F7D44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AF0444-7E06-42A9-822A-B3C0CCB8B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E85D-6EBA-4D54-B0AC-E350CCC8B847}"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D885-CB89-4238-A66E-391A3FD5197E}"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hyperlink" Target="http://www.ayudacontador.cl/ayudacontador/boletines/boletin1.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a:t>
            </a:r>
            <a:r>
              <a:rPr b="0" lang="es-ES_tradnl" sz="1800" spc="-1" strike="noStrike" u="sng">
                <a:solidFill>
                  <a:srgbClr val="ffcc00"/>
                </a:solidFill>
                <a:uFillTx/>
                <a:latin typeface="Garamond"/>
                <a:hlinkClick r:id="rId2"/>
              </a:rPr>
              <a:t>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Vicente Astorga Pizarro</cp:lastModifiedBy>
  <cp:lastPrinted>1999-03-18T20:46:15Z</cp:lastPrinted>
  <dcterms:modified xsi:type="dcterms:W3CDTF">2007-03-01T20:09:35Z</dcterms:modified>
  <cp:revision>21</cp:revision>
  <dc:subject/>
  <dc:title>Vender una idea o un producto</dc:title>
</cp:coreProperties>
</file>