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E49FB6A-BF9B-4460-BC20-26BCBA0A2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049842-2DA8-4C9B-9041-04E2560E2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7B60195-5EE7-4D25-B99E-7A0231DB9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D74273D-244A-4B93-822C-3219335C0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0A29F-4E26-4FBC-B02D-8F73E0383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4DF7A-EA9B-43B7-9269-8D6AF6F89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2B62F-5065-4307-9C78-82493DC12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17FE3-2358-4636-B392-D0425F868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72C0B-872C-4D2E-A0D5-41BC80B05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D66B5-9EF1-4EE3-8DF5-21E06FC73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0DC78-BECD-4CD7-8DE0-E0CEB689F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AFB9FA-4E4D-4643-B994-E2EBE5E9B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09336-653A-40DC-A0E2-69BAD5B57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7FEB8-F03E-46CC-93E1-65CFD1858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19DD6-4D7D-431C-9632-133B9960B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AAF2A-ADB1-4607-B3E9-0B3FA782A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38D2A-1436-4A85-85C3-BE5095642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1A7393-B0EE-4ED2-81D5-AE7FFA30A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AC73ED-4A53-4E57-9D7E-DB7A796DA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B24F2F-9537-47E3-956A-662FBBA27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2F28B6-8B4B-4F2F-A1BB-B940D29E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FFA91D-5CC2-4AF0-9224-E8A40F9CF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E02383-8D2B-40DB-9282-5AC84F05A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35404D-100B-4A50-93EA-4B7706D29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FEDC-309D-45A4-A574-BBD1C890620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87F9-6931-4DDD-B032-C1B478D8F6B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LEGISLACIÓN  Y PRÁCTICAS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SA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49"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5" name="PlaceHolder 2"/>
          <p:cNvSpPr>
            <a:spLocks noGrp="1"/>
          </p:cNvSpPr>
          <p:nvPr>
            <p:ph/>
          </p:nvPr>
        </p:nvSpPr>
        <p:spPr>
          <a:xfrm>
            <a:off x="468360" y="1844640"/>
            <a:ext cx="8229600" cy="4276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ar-SA" sz="4000" spc="-1" strike="noStrike">
                <a:solidFill>
                  <a:srgbClr val="e5e5ff"/>
                </a:solidFill>
                <a:latin typeface="Garamond"/>
              </a:rPr>
              <a:t>(E.I.R.L.)</a:t>
            </a:r>
            <a:r>
              <a:rPr b="0"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ar-SA"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cente Astorga Pizarro</cp:lastModifiedBy>
  <dcterms:modified xsi:type="dcterms:W3CDTF">2007-03-01T20:28:41Z</dcterms:modified>
  <cp:revision>33</cp:revision>
  <dc:subject/>
  <dc:title>Diapositiva 1</dc:title>
</cp:coreProperties>
</file>