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ECB0E03-ECCC-4DF3-A9CC-0BEC3B336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817796-8A8C-45A3-B40C-E2F99AE44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DF70824-22CA-4BA1-A884-FE3FE1491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20D7130-A178-4EA9-B4EB-BFDCF3D05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C0082-3F93-4D01-895F-C8DBD261B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6C220-26DD-4F62-B0AD-63FD5D6D1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3C726-98E1-4330-B99D-132E9A68E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22667-8BA5-4805-96C2-6E84BADB7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BCF6B-9152-4348-BC35-70AFBA85E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5777E-A419-4BAA-99C7-00D7E2F43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3CFEB-C89E-435D-8A52-864511648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9318F4-E1CE-4273-BE89-C9211449A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49CAA-4990-4A20-AC9A-652437E0D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9ED0C-11DE-4A4D-BE40-E3B71C503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55EF0-3901-4A37-897D-11E024D02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BA263-EF8A-4339-ACA0-C021A84D2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27EB8-DC94-400A-9DCC-F00CBAB142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510E2FD-E8A6-4B52-BF79-760402AC5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B5E9137-AF27-45C8-B62F-213440541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B53C73-0F1E-43F9-BDE2-137478A41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7339ED2-2790-408F-9010-9F16E5E20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4A5687-843F-4940-AA27-5F54C5937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7683C7-8B48-4EAC-8407-6E569635D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52DE87-9489-4F6C-B6B0-994798642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2253-C9D2-4E4B-A480-47729E6E43E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AE2D-6F83-4771-B06E-A0CC8C374B8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LEGISLACIÓN  Y PRÁCTICAS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SA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49"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5" name="PlaceHolder 2"/>
          <p:cNvSpPr>
            <a:spLocks noGrp="1"/>
          </p:cNvSpPr>
          <p:nvPr>
            <p:ph/>
          </p:nvPr>
        </p:nvSpPr>
        <p:spPr>
          <a:xfrm>
            <a:off x="468360" y="1844640"/>
            <a:ext cx="8229600" cy="4276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ar-SA" sz="4000" spc="-1" strike="noStrike">
                <a:solidFill>
                  <a:srgbClr val="e5e5ff"/>
                </a:solidFill>
                <a:latin typeface="Garamond"/>
              </a:rPr>
              <a:t>(E.I.R.L.)</a:t>
            </a:r>
            <a:r>
              <a:rPr b="0"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ar-SA"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cente Astorga Pizarro</cp:lastModifiedBy>
  <dcterms:modified xsi:type="dcterms:W3CDTF">2007-03-01T20:28:41Z</dcterms:modified>
  <cp:revision>33</cp:revision>
  <dc:subject/>
  <dc:title>Diapositiva 1</dc:title>
</cp:coreProperties>
</file>