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CF1F7BC-971B-4771-835E-89D572EE2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4880E67-0882-4D8A-9D9E-112D54FCD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44734FF-0AE0-4F54-A4AD-8AB148640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1C57ECA-6F2B-41B0-AFF0-C13C61293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38BC0E-63ED-4CBB-AFB4-4119D9BA68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5B6FE-23FC-4977-AECB-E785F910E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40551-4282-4314-B1B0-53D6C2AED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7CF58-EF6E-4237-B6BC-02505DA18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454CA-2F09-463E-A296-47479DD59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2D5EA-C2A9-469C-961D-E98E3C2AE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92D50-A2D5-4FF6-B9ED-15F35CBF7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801B6D2-4386-4206-BE11-BC56673CF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2EF6F-5829-4053-AEF0-947D9C98C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B6BFB-A8B8-482F-8EB4-BA5CCCD26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9871E-29F2-4C1F-9C6C-B88848934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1C2DF-6FF1-46F3-90E1-CC7996D00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0813C-7E7A-40AE-8BC6-7229D7C13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FAE89B-F64B-4773-B782-CA8F27E3C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3DD617-1899-4113-9E2E-C3C9E2251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BA0707B-034D-4B79-84AB-465292206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C3BE7DD-8F2E-4929-BD90-E98A8C67C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05E48E-26EC-481D-B030-BA6D88C11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80C46E0-E2AF-4F05-A65D-F91A87075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0BB7FD-3FE6-4594-BBC1-AC13987E4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335B-CDAE-4917-BC49-65ECD095F83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D9DA-6F6A-4508-855B-9012B27F3C5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LEGISLACIÓN  Y PRÁCTICAS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2007</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SA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EMA CENTRAL  DEL PROGRAMA</a:t>
            </a:r>
            <a:endParaRPr b="1" lang="en-US" sz="4000" spc="-1" strike="noStrike">
              <a:solidFill>
                <a:srgbClr val="e5e5ff"/>
              </a:solidFill>
              <a:latin typeface="Garamond"/>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49" name="PlaceHolder 2"/>
          <p:cNvSpPr>
            <a:spLocks noGrp="1"/>
          </p:cNvSpPr>
          <p:nvPr>
            <p:ph/>
          </p:nvPr>
        </p:nvSpPr>
        <p:spPr>
          <a:xfrm>
            <a:off x="539640" y="155736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GRAMA</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05" name="PlaceHolder 2"/>
          <p:cNvSpPr>
            <a:spLocks noGrp="1"/>
          </p:cNvSpPr>
          <p:nvPr>
            <p:ph/>
          </p:nvPr>
        </p:nvSpPr>
        <p:spPr>
          <a:xfrm>
            <a:off x="468360" y="1844640"/>
            <a:ext cx="8229600" cy="427680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ar-SA" sz="4000" spc="-1" strike="noStrike">
                <a:solidFill>
                  <a:srgbClr val="e5e5ff"/>
                </a:solidFill>
                <a:latin typeface="Garamond"/>
              </a:rPr>
              <a:t>(E.I.R.L.)</a:t>
            </a:r>
            <a:r>
              <a:rPr b="0"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ar-SA"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cente Astorga Pizarro</cp:lastModifiedBy>
  <dcterms:modified xsi:type="dcterms:W3CDTF">2007-03-01T20:28:41Z</dcterms:modified>
  <cp:revision>33</cp:revision>
  <dc:subject/>
  <dc:title>Diapositiva 1</dc:title>
</cp:coreProperties>
</file>