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5770D0-849D-451F-B269-EA7271F80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EAB427A-4A5C-4551-A128-2B457CBF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18EC75B-65BE-473E-A4B5-3F0BC67A8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9E16E00-ADB1-451D-ADE0-4B462803E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33131-5F67-43D4-9DEA-7C3D81C2F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34C80-F2E6-4B46-98EE-E61DE6C8E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78605-FE93-4717-A6E5-191719391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C56CB5-10DF-404F-B161-55B31B785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CB49A-F7B7-4CDD-950C-7B65226DD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A338A-F40F-411C-894D-00ED05DAC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CE7F8-6A73-48F4-A35C-4F0CC0EA8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69FEFD8-CE6D-41EF-B2F4-9A32A480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0EB6E-906D-4307-A2DE-276ACA25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E49C0-69ED-4A8E-8799-D41819CFB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68540-B4B2-4F1D-B685-9F180B969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D4A70F-F104-451D-B180-58280F2F5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FF577-B1EB-421E-950C-F58BBD999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6D9D65-F7FB-430D-8A4E-8393F3A92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8656B5E-2A41-493C-9A6B-F93A87EC9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A1F9DC8-C6DA-488C-B53A-8450ECD19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22FE57-3EE7-479C-95AC-A66DFC3F6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F18E02-F237-4308-A5ED-8852C1998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236206-CEC8-4225-96E6-C3CA8C451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62D0AA-3AF8-466A-A702-A5C2A5F87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5811-CC80-4D69-8FB2-9C7AD601613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C695-D28F-45FC-BD2B-D98EFFD2ED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LEGISLACIÓN  Y PRÁCTICAS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   </a:t>
            </a:r>
            <a:r>
              <a:rPr b="1" lang="en-US"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ASA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49" name="PlaceHolder 2"/>
          <p:cNvSpPr>
            <a:spLocks noGrp="1"/>
          </p:cNvSpPr>
          <p:nvPr>
            <p:ph/>
          </p:nvPr>
        </p:nvSpPr>
        <p:spPr>
          <a:xfrm>
            <a:off x="539640" y="155736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5" name="PlaceHolder 2"/>
          <p:cNvSpPr>
            <a:spLocks noGrp="1"/>
          </p:cNvSpPr>
          <p:nvPr>
            <p:ph/>
          </p:nvPr>
        </p:nvSpPr>
        <p:spPr>
          <a:xfrm>
            <a:off x="468360" y="1844640"/>
            <a:ext cx="8229600" cy="42768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ar-SA" sz="4000" spc="-1" strike="noStrike">
                <a:solidFill>
                  <a:srgbClr val="e5e5ff"/>
                </a:solidFill>
                <a:latin typeface="Garamond"/>
              </a:rPr>
              <a:t>(E.I.R.L.)</a:t>
            </a:r>
            <a:r>
              <a:rPr b="0" lang="ar-SA" sz="4000" spc="-1" strike="noStrike">
                <a:solidFill>
                  <a:srgbClr val="e5e5ff"/>
                </a:solidFill>
                <a:latin typeface="Garamond"/>
              </a:rPr>
              <a:t>	</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ar-SA"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cente Astorga Pizarro</cp:lastModifiedBy>
  <dcterms:modified xsi:type="dcterms:W3CDTF">2007-03-01T20:28:41Z</dcterms:modified>
  <cp:revision>33</cp:revision>
  <dc:subject/>
  <dc:title>Diapositiva 1</dc:title>
</cp:coreProperties>
</file>