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5117-165C-4D50-B825-28AC95F8B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C353-5593-4DE9-9251-CA550A69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AB76-412F-4B3E-BFEB-82AA71D6C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E02E-610F-42D7-AEA8-3BF75BFA7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C377-3B9F-4402-87A1-F7AFD21B4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83524-4641-4EAC-9908-3AB26B12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7ADF-67CA-4603-8B25-255D76B0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3D2E-711E-47B6-83DB-F180666E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BE01-5117-45AE-BE3C-8A50A36F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195B-5239-4B29-8142-DEAD0121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6160-FE84-4F4C-A519-89749383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F043-554F-4C76-B3A7-C3A8CAD7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C473-C1BF-4D23-B108-7F6DB789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228F-6CCB-44CC-9BA7-4B0A4076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D06A-F9EC-4689-AD95-9F7CCC2C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BFBC-4585-4156-9B91-0AA9A4133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E656-2D35-4D67-AEE8-C96F5A4B2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DD654-AA32-4772-BB91-EEED951E4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D84C6-3830-4F6A-BBF3-C55011F7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80A71-7D32-40D5-891D-F61C9BFD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FFD92-838E-48A2-8328-F7F22FBB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EEB28-02FB-493E-958E-D041C62A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E26D-DC09-4221-86A0-84988B5D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CCD59-451B-48EC-8286-0F174E54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CF203-E8E8-4233-97F2-1B78A0D1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70DBE-0BCF-449A-BF94-44DB37CA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4FFDB-D3EA-4280-9D42-798AF4D2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5D18F-D267-40BD-A162-076EB630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E308F-A9B1-4B32-A767-3216B068E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47A0B-5483-4E91-BC70-08A496A80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EFC4E-E307-4C9E-BD90-3D42F0692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F25B8-7496-41A1-ADAF-E0F8E647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29668-7762-48CF-B96F-BBC4C663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E407-FAD7-4823-8665-4AE7F41C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9A270-0C04-4536-8C77-5BF6A703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9912F-C7FB-47C3-9064-E0783923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3721F-F1FC-47C1-9A68-F3628B27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3E6C4-1366-4317-ADE1-5621AEBD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B010D-FBB5-4407-8977-81C9B5F7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724B6-9892-4FD5-B4F6-E1C1E412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67887-94D6-4F26-881C-75F514D4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A3662-2BDA-4BEF-ABE0-D500E5821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2E40F-634F-45F6-A65D-6BF323E36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837E2-51A3-44E5-A034-B9E786DAE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EB43-5D15-44BB-91EB-4514D0D3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19056-AEF5-4E7F-93FE-8635E2BC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87D06-2F62-4F5B-B5EB-4B7E3E7E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BF4D7-F8BD-4050-AD97-19829EB3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44A65-450F-4772-9279-9EBB4396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AB76B-E54E-44E6-95E3-55596780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E8620-5A78-44C0-9BE9-1D22C5CE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2E2A3-FD4C-4302-8A84-12A00356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9F078-4D03-40DF-ACC3-73ACE7EC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39104-D6A3-4AF9-B213-9120EDF8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F2AE4-0B79-4EFF-91D8-98F03B1CB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DC15-CF28-4B74-BB01-3A8439F3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18B94-7444-4F44-BF3E-9605EE711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7526-3131-46E5-84EF-B50426BE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1F83-B780-49CF-8029-CD24DD32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D285-E90F-4D52-A701-097ED21E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DEA8-ACEA-4B82-9A88-5CBEBBCE393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9059-BD24-4C99-BE72-B0AF7DF9D43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7"/>
          <p:cNvSpPr/>
          <p:nvPr/>
        </p:nvSpPr>
        <p:spPr>
          <a:xfrm flipV="1">
            <a:off x="228600" y="-360"/>
            <a:ext cx="0" cy="6248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228600" y="624852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9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2BFA-1E80-4BC0-BBB4-61CBB0CB286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0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Line 7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IN42A – 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Abril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Line 7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8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9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0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B453-7154-4D7F-A1E3-A5736A4CD26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600" spc="-1" strike="noStrike">
                <a:solidFill>
                  <a:srgbClr val="000000"/>
                </a:solidFill>
                <a:latin typeface="Arial Black"/>
              </a:rPr>
              <a:t>Entendiendo Solver</a:t>
            </a:r>
            <a:endParaRPr b="0" lang="en-US" sz="5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2724120" cy="266688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5"/>
          <p:cNvSpPr/>
          <p:nvPr/>
        </p:nvSpPr>
        <p:spPr>
          <a:xfrm>
            <a:off x="4343400" y="1600200"/>
            <a:ext cx="2666880" cy="6858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abre Solver en Herramientas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ol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6"/>
          <p:cNvSpPr/>
          <p:nvPr/>
        </p:nvSpPr>
        <p:spPr>
          <a:xfrm>
            <a:off x="3657600" y="1981080"/>
            <a:ext cx="5335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7" descr=""/>
          <p:cNvPicPr/>
          <p:nvPr/>
        </p:nvPicPr>
        <p:blipFill>
          <a:blip r:embed="rId2"/>
          <a:stretch/>
        </p:blipFill>
        <p:spPr>
          <a:xfrm>
            <a:off x="3962520" y="3200400"/>
            <a:ext cx="4724280" cy="2943360"/>
          </a:xfrm>
          <a:prstGeom prst="rect">
            <a:avLst/>
          </a:prstGeom>
          <a:ln w="0">
            <a:noFill/>
          </a:ln>
        </p:spPr>
      </p:pic>
      <p:sp>
        <p:nvSpPr>
          <p:cNvPr id="256" name="Line 10"/>
          <p:cNvSpPr/>
          <p:nvPr/>
        </p:nvSpPr>
        <p:spPr>
          <a:xfrm>
            <a:off x="5715000" y="2514600"/>
            <a:ext cx="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Celda Objetivo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Es la celda que contiene la fórmula de la función objetivo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Máximo, Mínimo o Valores de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Se elige que tipo de optimización se quier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Cambiando las celdas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Son las celdas que van a iterar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Las restricciones se agregan en </a:t>
            </a: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Agregar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Vamos a partir con las restricciones. Primero agregamos la restricción de máxima inversión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1"/>
          <a:stretch/>
        </p:blipFill>
        <p:spPr>
          <a:xfrm>
            <a:off x="1066680" y="3124080"/>
            <a:ext cx="4286520" cy="280044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6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gr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Ahora agregamos la restricción de que invertimos por lo menos un 5% en cada proyect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cep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6" descr=""/>
          <p:cNvPicPr/>
          <p:nvPr/>
        </p:nvPicPr>
        <p:blipFill>
          <a:blip r:embed="rId1"/>
          <a:stretch/>
        </p:blipFill>
        <p:spPr>
          <a:xfrm>
            <a:off x="990720" y="3276720"/>
            <a:ext cx="45147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Ahora agregamos la restricción de que invertimos a lo máximo un 100% en cada proyect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gr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"/>
          <p:cNvPicPr/>
          <p:nvPr/>
        </p:nvPicPr>
        <p:blipFill>
          <a:blip r:embed="rId1"/>
          <a:stretch/>
        </p:blipFill>
        <p:spPr>
          <a:xfrm>
            <a:off x="990720" y="3429000"/>
            <a:ext cx="34858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Las celdas que cambian (iteran) son los alfa i que se invierten en cada proyecto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3" name="Picture 6" descr=""/>
          <p:cNvPicPr/>
          <p:nvPr/>
        </p:nvPicPr>
        <p:blipFill>
          <a:blip r:embed="rId1"/>
          <a:srcRect l="0" t="0" r="0" b="51626"/>
          <a:stretch/>
        </p:blipFill>
        <p:spPr>
          <a:xfrm>
            <a:off x="762120" y="2971800"/>
            <a:ext cx="510516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En este caso estamos maximizand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6" name="Picture 5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493380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Y nuestra función objetivo se encuentra en E29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9" name="Picture 5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533412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El menú de Solver debiera quedar así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6019920" y="4800600"/>
            <a:ext cx="266688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acer click en Resolver! Y Después en Acep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6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43434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19920" y="1599840"/>
            <a:ext cx="2666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Y el resultado que maximiza el VAN queda en la hoja de cálculo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86" name="Picture 6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5438520" cy="3867120"/>
          </a:xfrm>
          <a:prstGeom prst="rect">
            <a:avLst/>
          </a:prstGeom>
          <a:ln w="0">
            <a:noFill/>
          </a:ln>
        </p:spPr>
      </p:pic>
      <p:sp>
        <p:nvSpPr>
          <p:cNvPr id="287" name="Oval 7"/>
          <p:cNvSpPr/>
          <p:nvPr/>
        </p:nvSpPr>
        <p:spPr>
          <a:xfrm>
            <a:off x="2209680" y="1752480"/>
            <a:ext cx="1447920" cy="2438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¿Qué es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Básicamente un programa para Excel que sirve para solucionar problemas de optimización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Resuelve problemas lineales y algunos no-lineales (espacios convexos y con derivadas continuas principalmente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¿Cómo hay que cambiar el problema si elimino la restricción del 5% y asumo que los proyectos no son fraccionables o divisibles?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Sol: Agregar la restricción que los alfa son binario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Y eliminar la restricción del 5%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tretch/>
        </p:blipFill>
        <p:spPr>
          <a:xfrm>
            <a:off x="2286000" y="2590920"/>
            <a:ext cx="34574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324480" y="1600200"/>
            <a:ext cx="2438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Finalmente el menú de Solver quedaría así, y la hoja excel tendría los nuevos alfa óptimos: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5" name="Picture 5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563868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4790880" cy="326700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5638680" y="1827360"/>
            <a:ext cx="2667240" cy="1982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mero comprobar si está instal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o se puede comprobar si existe el sub-menú “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olv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” bajo el menú principa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erramie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6"/>
          <p:cNvSpPr/>
          <p:nvPr/>
        </p:nvSpPr>
        <p:spPr>
          <a:xfrm flipH="1">
            <a:off x="3581280" y="4038480"/>
            <a:ext cx="289584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2971800" cy="40194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5"/>
          <p:cNvSpPr/>
          <p:nvPr/>
        </p:nvSpPr>
        <p:spPr>
          <a:xfrm>
            <a:off x="4343400" y="1600200"/>
            <a:ext cx="2666880" cy="1982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no existe, ir a Herramientas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mplementos y se abrirá un menú, donde hay que seleccionar “Solv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3581280" y="2819520"/>
            <a:ext cx="6858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2"/>
          <a:stretch/>
        </p:blipFill>
        <p:spPr>
          <a:xfrm>
            <a:off x="4495680" y="4419720"/>
            <a:ext cx="3191040" cy="1552320"/>
          </a:xfrm>
          <a:prstGeom prst="rect">
            <a:avLst/>
          </a:prstGeom>
          <a:ln w="0">
            <a:noFill/>
          </a:ln>
        </p:spPr>
      </p:pic>
      <p:sp>
        <p:nvSpPr>
          <p:cNvPr id="231" name="Line 8"/>
          <p:cNvSpPr/>
          <p:nvPr/>
        </p:nvSpPr>
        <p:spPr>
          <a:xfrm>
            <a:off x="5486400" y="3733920"/>
            <a:ext cx="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60958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Si no está Solver dentro de las opciones, o aparece algún error, es muy probable que haya que recurrir al CD original del Excel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Si se perdió el CD hay que conseguírselo con alguien que lo teng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4" name="Picture 5" descr="MCj03266060000[1]"/>
          <p:cNvPicPr/>
          <p:nvPr/>
        </p:nvPicPr>
        <p:blipFill>
          <a:blip r:embed="rId1"/>
          <a:stretch/>
        </p:blipFill>
        <p:spPr>
          <a:xfrm>
            <a:off x="6553080" y="1981080"/>
            <a:ext cx="2052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Se acaba de ganar US$1 millón en la lotería y aparecen los amigos de siempre que le ofrecen una serie de proyectos, con las siguientes características, todos independientes y fraccionable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351240" cy="373392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¿Cómo puede distribuir su premio entre los proyectos si debe invertir con al menos un 5% de la inversión de cada uno y desea maximizar su VAN?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351240" cy="37339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00"/>
                </a:solidFill>
                <a:latin typeface="Lucida Sans"/>
              </a:rPr>
              <a:t>Sol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351240" cy="373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Object 5"/>
          <p:cNvGraphicFramePr/>
          <p:nvPr/>
        </p:nvGraphicFramePr>
        <p:xfrm>
          <a:off x="1170000" y="2286000"/>
          <a:ext cx="2612880" cy="350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0000" y="2286000"/>
                    <a:ext cx="26128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7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Viendo el archivo de ejemplo, en la hoja “datos” están todas las fórmulas requerida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Hay que agregar en una celda la función objetivo (E29) y en otras celdas hay que incluir algunas de las restriccion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19:21:55Z</dcterms:created>
  <dc:creator>Administrador</dc:creator>
  <dc:description/>
  <dc:language>en-US</dc:language>
  <cp:lastModifiedBy>scobian</cp:lastModifiedBy>
  <dcterms:modified xsi:type="dcterms:W3CDTF">2007-05-08T04:36:42Z</dcterms:modified>
  <cp:revision>61</cp:revision>
  <dc:subject/>
  <dc:title>Diapositiva 1</dc:title>
</cp:coreProperties>
</file>