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E1F3-F068-43AA-92D9-B92FA509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A2E-D352-4912-96CE-A112BCDE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91A-10DE-41C0-B17A-BE831624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D948-D4D2-4383-9370-191D0AA9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B8CB-147D-4BD8-A43B-9B9E881B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3865-38DF-4803-BBBD-86D02885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4810-A96D-4883-AD8D-A11B83BA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24AA-7562-435C-8AFC-0DE90167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9AB6-903E-4C12-A348-0CD702A2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359D-2890-4A3B-8572-3BA7137E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D13C-A577-4AF1-B0F9-BD47EEC3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E0D-BC04-4FFE-A5C0-FF945E9B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DFB5-F60F-4841-BE61-B3561C82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A95A-1FC1-426C-BA7D-E5DD807F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C7E5-D97B-48C1-8D2B-A8C71D3C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551D-36BD-42E8-BD18-0CCFB314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8826-9061-4E3F-BFB4-9C34FEAA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55735-CC09-41F4-965D-23AEECF3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3C88D-8C87-4267-8043-48B09A84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1C40C-AE19-4D82-8915-86546E48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8ADBA-38B0-471B-A905-30FF94C5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7E868-3129-4978-96B2-A4FDD01A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685-05E2-4002-A796-78166F57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EB4F1-D48C-4362-9013-2C213986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F59EF-CCAA-493D-87EF-630007D2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28457-5F5E-4FFD-8910-8226C622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D6FC5-D5B2-43D1-A2C9-B043B700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8A9E4-E0B1-47BC-8AC0-854D4BE3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FAFD8-EA5F-4851-9581-8E64782B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71D90-451D-4AE1-91D3-477E1380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1458B-0447-4F5C-9615-EF849781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F8B93-B74C-4EA4-A012-092D692E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8EEE3-8550-4A37-96F1-9443DCCA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58A-7F90-4A9D-BB0C-9E15B5C7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D74E3-4790-46F6-B88A-5DAF3BF7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41FDE-ABEC-426F-8506-4849643B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7F359-2BE4-44FA-9FD7-81985EB2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A82B7-B53F-47CF-BD9D-76CA027E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8942A-1513-404B-B3F2-65F6F85D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4251D-3915-4079-BCCC-8D039395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2E4BA-EF7F-41C1-B9C9-82EE4FBE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C0314-5DFF-487C-B3FE-7E5299F8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A816C-6795-4E17-A66B-00889FBD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C2FE5-3920-44FC-A7FD-9D5CCF21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DEC-4D08-4EBF-B994-0029C7B6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8EF69-EC3F-4D95-93E8-C3DF9685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72EA7-260B-4CFC-A77C-ECAC3B1A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AFB87-A542-42CD-A049-3F274E81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27A64-9894-49F8-93A7-09E5125E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8564E-8777-4682-B238-5F691518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10C38-4F4B-4523-BA10-06DEF636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12E04-AEC0-4723-BFF0-608F3D3D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92F58-6E84-43FE-80B9-B3BB53B3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54E58-C3DB-4F02-967E-BD97D828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2FC15-CE67-487E-8909-5E933805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D61-483B-4A9A-90D3-46792EF5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BC56C-83E1-41BA-B755-15AFFE51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D015-AB39-4DB8-895E-AD1852EB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B4A-42BD-4381-9F9F-D50C9E7E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7282-CF10-4B88-9571-5665D306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4778-DAB0-4611-B1D9-367BA7EC35C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BBDA-E68A-4EB0-BD83-961E5D25BB9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9DC6-485F-41AF-A8FA-B398D267886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7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b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7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26D3-D21D-4101-9E88-35A4E46D0FD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Entendiendo Solver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7241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5"/>
          <p:cNvSpPr/>
          <p:nvPr/>
        </p:nvSpPr>
        <p:spPr>
          <a:xfrm>
            <a:off x="4343400" y="1600200"/>
            <a:ext cx="26668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Solver en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3657600" y="1981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724280" cy="2943360"/>
          </a:xfrm>
          <a:prstGeom prst="rect">
            <a:avLst/>
          </a:prstGeom>
          <a:ln w="0">
            <a:noFill/>
          </a:ln>
        </p:spPr>
      </p:pic>
      <p:sp>
        <p:nvSpPr>
          <p:cNvPr id="256" name="Line 10"/>
          <p:cNvSpPr/>
          <p:nvPr/>
        </p:nvSpPr>
        <p:spPr>
          <a:xfrm>
            <a:off x="57150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elda Objetivo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Es la celda que contiene la fórmula de la función objetiv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Máximo, Mínimo o Valores de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e elige que tipo de optimización se qui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ambiando las celdas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on las celdas que van a iter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restricciones se agregan en </a:t>
            </a: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Agregar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Vamos a partir con las restricciones. Primero agregamos la restricción de máxima inversión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6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por lo menos un 5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cep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4514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a lo máximo un 100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3485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celdas que cambian (iteran) son los alfa i que se invierten en cada proyect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rcRect l="0" t="0" r="0" b="51626"/>
          <a:stretch/>
        </p:blipFill>
        <p:spPr>
          <a:xfrm>
            <a:off x="762120" y="2971800"/>
            <a:ext cx="5105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n este caso estamos maximizand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338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Y nuestra función objetivo se encuentra en E29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334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l menú de Solver debiera quedar así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6019920" y="4800600"/>
            <a:ext cx="266688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click en Resolver! Y Después en Acep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43434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266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Y el resultado que maximiza el VAN queda en la hoja de cálcu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438520" cy="3867120"/>
          </a:xfrm>
          <a:prstGeom prst="rect">
            <a:avLst/>
          </a:prstGeom>
          <a:ln w="0">
            <a:noFill/>
          </a:ln>
        </p:spPr>
      </p:pic>
      <p:sp>
        <p:nvSpPr>
          <p:cNvPr id="287" name="Oval 7"/>
          <p:cNvSpPr/>
          <p:nvPr/>
        </p:nvSpPr>
        <p:spPr>
          <a:xfrm>
            <a:off x="2209680" y="1752480"/>
            <a:ext cx="1447920" cy="243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Básicamente un programa para Excel que sirve para solucionar problemas de optimizació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Resuelve problemas lineales y algunos no-lineales (espacios convexos y con derivadas continuas principalment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¿Cómo hay que cambiar el problema si elimino la restricción del 5% y asumo que los proyectos no son fraccionables o divisibles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ol: Agregar la restricción que los alfa son binario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Y eliminar la restricción del 5%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457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24480" y="1600200"/>
            <a:ext cx="2438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inalmente el menú de Solver quedaría así, y la hoja excel tendría los nuevos alfa óptimo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6386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790880" cy="3267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5638680" y="1827360"/>
            <a:ext cx="2667240" cy="1982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 comprobar si está insta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 se puede comprobar si existe el sub-menú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bajo el menú princip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 flipH="1">
            <a:off x="3581280" y="4038480"/>
            <a:ext cx="28958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971800" cy="40194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4343400" y="1600200"/>
            <a:ext cx="2666880" cy="1982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, ir a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lementos y se abrirá un menú, donde hay que seleccionar “Sol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3191040" cy="1552320"/>
          </a:xfrm>
          <a:prstGeom prst="rect">
            <a:avLst/>
          </a:prstGeom>
          <a:ln w="0">
            <a:noFill/>
          </a:ln>
        </p:spPr>
      </p:pic>
      <p:sp>
        <p:nvSpPr>
          <p:cNvPr id="231" name="Line 8"/>
          <p:cNvSpPr/>
          <p:nvPr/>
        </p:nvSpPr>
        <p:spPr>
          <a:xfrm>
            <a:off x="5486400" y="3733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no está Solver dentro de las opciones, o aparece algún error, es muy probable que haya que recurrir al CD original del Exce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se perdió el CD hay que conseguírselo con alguien que lo teng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4" name="Picture 5" descr="MCj03266060000[1]"/>
          <p:cNvPicPr/>
          <p:nvPr/>
        </p:nvPicPr>
        <p:blipFill>
          <a:blip r:embed="rId1"/>
          <a:stretch/>
        </p:blipFill>
        <p:spPr>
          <a:xfrm>
            <a:off x="6553080" y="1981080"/>
            <a:ext cx="205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e acaba de ganar US$1 millón en la lotería y aparecen los amigos de siempre que le ofrecen una serie de proyectos, con las siguientes características, todos independientes y fraccionabl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¿Cómo puede distribuir su premio entre los proyectos si debe invertir con al menos un 5% de la inversión de cada uno y desea maximizar su VAN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Lucida Sans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124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5"/>
          <p:cNvGraphicFramePr/>
          <p:nvPr/>
        </p:nvGraphicFramePr>
        <p:xfrm>
          <a:off x="1170000" y="2286000"/>
          <a:ext cx="26128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0000" y="2286000"/>
                    <a:ext cx="261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7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Viendo el archivo de ejemplo, en la hoja “datos” están todas las fórmulas requerida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Hay que agregar en una celda la función objetivo (E29) y en otras celdas hay que incluir algunas de las restriccio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scobian</cp:lastModifiedBy>
  <dcterms:modified xsi:type="dcterms:W3CDTF">2007-05-08T04:36:42Z</dcterms:modified>
  <cp:revision>61</cp:revision>
  <dc:subject/>
  <dc:title>Diapositiva 1</dc:title>
</cp:coreProperties>
</file>