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2A4-8898-4FC4-837B-FFF7DD54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6B5-ABA9-4147-8390-CD4A6842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01F-50B4-44F6-8D3B-628354B1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CF6-A26B-43B1-ACD8-AF0354B3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9225-D0E6-4EC4-9A54-A515A4E2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420F-4578-4866-8905-20950A37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F173-CE45-4F63-B1DB-0317D96D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2BEB-D5C5-428B-B760-72F2688A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B4E1-0027-47AE-A795-42AA15F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9A37-CD90-45DB-99A0-AF5BD695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F183-BB44-4B82-BC2C-3721B24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717-A29D-4DB6-AFB8-8FAC5548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4806-0185-472E-A6A6-51FEE53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71CF-6EA2-4A63-AAE7-B6F06D2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3816-A246-4ABE-8BC9-D1EC6A76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94B8-9E0E-4155-8AA7-1DF7BB5B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2019-A340-46C9-8FAF-23FD7025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FBE6-DC49-4518-A1F8-1D45A5FD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0DE3-0DD8-438C-ADBF-54213C68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C940-231A-43E6-A66C-0B205BEC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B4DD-1ECF-4D2E-B7FA-89CBC04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704B-2FD5-49D4-800B-1FC9C0D9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503-CD33-4547-A500-520F751C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6DF3-2B90-48CA-841D-C2F4DCE8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3C1E-B58B-44E8-A103-B681F182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358A-2708-4D50-9DB0-C391C9D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804E-6FB8-4184-A571-27E4FC2A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C47F-E864-4A7D-8FF5-89CD360C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4F7D-5F36-49E6-9C42-15278B0F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050F-971D-462B-8A66-42DA66FC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948E7-00AF-49FC-BE93-CE398495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7B6E-D209-45E9-B93C-8EDA22E1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95BF-9483-4808-8F1F-4662A73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1C4-C1CC-44CF-A5B2-D7742B33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00B0-8C30-48A0-8FFD-4440A74D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3962-7691-4F20-B731-198826AA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060B-B225-488F-ABD8-F8ED554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3B35-FF6F-4963-AD84-33F8CD9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47DE-3143-49CE-BF75-24452828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6413-EBA1-49F0-9844-8A245E0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D74A-2231-4757-A4DC-626EE880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F22FE-47CD-4F4B-9E22-DE515AC6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18CF-8F90-47E6-8EBF-1970DABE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B3865-8A21-46B6-B092-CA4FEBDA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617-0DB5-4FF9-854D-081B8BCD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D916-E874-41DC-B9A0-EC8B68F2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6B19F-46C1-4C1B-9937-F6572DC9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8930-D4A5-4510-B6ED-21F3FAB8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F98F-6BB0-4010-B297-378E73F5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B4C0-4841-47AF-AD7C-4215250D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8951-339A-46E2-9F8A-886D68CF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218D-AD90-4478-BBD9-7704BD35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AA1FD-11AA-468F-97F4-AB3CF6D9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41125-38CF-42CC-9140-D4236651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79FA-D79B-4779-ABA2-EBE1D03E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8B8-1366-4440-AE53-7FB59902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13966-38FE-4AB5-9EDF-C4B72B96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228-6E0E-48CB-A214-54AA1ED2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8B2-F824-4920-A51C-878C06D1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92A-B3CE-4DF8-AB50-9BD73D59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CC19-ABD1-40F9-BF72-C602CB2687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D830-9B56-417B-8829-21AA300493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35C-F4F5-4EC2-8569-C997888D09A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C55B-E060-4F0A-83DA-80EB8B280D0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Line 10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Oval 7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Picture 5" descr="MCj03266060000[1]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5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iendo el archivo de ejemplo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scobian</cp:lastModifiedBy>
  <dcterms:modified xsi:type="dcterms:W3CDTF">2007-05-08T04:36:42Z</dcterms:modified>
  <cp:revision>61</cp:revision>
  <dc:subject/>
  <dc:title>Diapositiva 1</dc:title>
</cp:coreProperties>
</file>