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F12-18F5-456F-B016-86D95036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032-6C6E-47A1-9D59-2ABB3D36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5A2-CB02-4E11-8688-7BD791DC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3C2-644A-43A7-A1FC-57CA7DCC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A70B-202C-4C6F-B194-60F6E6DE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D348-B32A-4D3E-A96E-00225F36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0B3D-1EC6-46BE-9ACB-5240940E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D6C9-0D5B-4835-9FE3-BC0EC8F3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F0D6-0FAD-4BA8-AF8E-0C7619BD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3FD7-5382-492F-98EC-2475808D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2D8E-A0E7-4A24-8AAC-82211879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BB5-AE49-4AAF-9F53-6A54E04C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5FC8-AD02-4CF5-BA4F-7970AFFF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5333-CE7C-4E73-A897-E4FB1D46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5139-AC7B-4982-814A-322EDAFD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5687-DF60-4251-9D15-E54035FE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980B-5474-4002-B783-3433E281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DE70F-5522-454D-BE3C-AC8D7AF3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A9E78-76CF-4005-92FB-7DBAE3BC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7690-6463-430D-A440-E5330670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11E49-1384-47B1-8E2C-B523F594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808B1-5AC9-4B74-94F4-9947BF1D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1CC-E5BF-4567-8EBF-9F6FB0CF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5FDC5-7197-4A9D-8980-F02D016E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A5362-4286-4689-83A4-15BED440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347EC-9C91-453D-B4EA-DEC94C00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B8967-BD13-47D1-8C50-5E331F6A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61F6A-1DA7-4955-860A-A9BD5980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227B-4493-41E2-A596-422FEA26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B03F4-D8F1-48AD-8AD5-4268A26A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6DDB8-1346-4AEA-98BA-351EF45C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23E4D-FBD5-4DCC-B029-5B4FC401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A3355-2286-4DD5-AAC5-D69BB519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3DC-731C-4D83-862C-D21A1C12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3DFB7-152D-43BD-8143-8B70A32D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2A8D9-C43C-4177-BA5B-1EA0C8FF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F244-4A68-4832-8468-618F6DE5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28CAF-8144-4C18-8782-3298ED51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71D78-6BEB-4A71-A490-094E4FEB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8C737-5FA2-4433-9348-91C6B6FD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BD924-32E6-46F3-AA26-B788ACC1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CA8AB-66EB-4818-8D34-DE5B8889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673D9-AEAC-4194-B886-F5B16BB2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187E4-C7D0-4F81-8601-45EE7CC0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B02-B674-4EA3-9494-4048DBEC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C8423-FC13-43C6-BF10-256DD5A4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B99C4-5460-4983-B3C2-BBBDECE0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BF59E-8963-4789-A51E-284B1A3D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0E3EB-FA82-49A9-8270-B0C4CC4F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B8571-0115-4BB5-9E00-36A1BD8A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45BBC-075F-44D5-990D-2AEB3167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22CEB-5F9B-4B12-9F29-A8AFEC64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89FB3-024E-48BF-96FA-E5EEC6C4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7A9AD-962E-488C-AB8A-C8B96335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EB52D-DE2C-464A-82B1-D65CB1BC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622-34F2-4D6E-9F5E-B44E1A24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CE94E-094F-4CE1-AE00-2018A068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CB1-7FC8-4AA7-BDEA-BAA4D3B3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8E2-6ACF-4200-B879-D3E2EEAB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C45-0881-4335-8EBF-622401F8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F6E1-AFA5-4D38-ABBC-1808A4981EC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3070-60AA-4A4D-BDD6-76E37C0A739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E3BE-03EB-497F-A85E-9B8D10B87B7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7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7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93DF-7CD7-4028-A890-A0352830256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Line 10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6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Oval 7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Line 8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Picture 5" descr="MCj03266060000[1]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5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Viendo el archivo de ejemplo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scobian</cp:lastModifiedBy>
  <dcterms:modified xsi:type="dcterms:W3CDTF">2007-05-08T04:36:42Z</dcterms:modified>
  <cp:revision>61</cp:revision>
  <dc:subject/>
  <dc:title>Diapositiva 1</dc:title>
</cp:coreProperties>
</file>