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0BDA-2BEC-40D6-9776-C843B16DA0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8D2-651E-482E-95EC-0B4DD2C6B0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1628-A115-4731-A2F2-B9B5AD3F62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C0DC7-A944-47C6-99F6-8B1AD1D7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7E129-62EF-4123-9F1E-B64BE891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1D68D-7E4B-47E4-8630-4883412A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3E821-A308-4726-9477-B6162F7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A9CD3-9842-4FB2-BCF7-2EE9C2E2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DF5DF-6F3A-4E51-9E21-66C428DA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2D260-1D81-4164-AD65-07976120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5E768-B705-4F49-8146-6A187ED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B3F78-FE59-4C39-968F-7264F0C9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50F2-2FC9-455C-81D5-480BD421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A21B1-CC21-48E2-9FEF-26E9BD52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A7E65-1E83-4E0D-B6EF-29F0A48A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AA3E-60B2-4D94-9C38-2DCCB13A76C7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365720"/>
            <a:ext cx="748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3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4 determinantes de la 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82800" y="1197000"/>
                <a:ext cx="7148520" cy="52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nomi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zarra seg</m:t>
                        </m:r>
                        <m:r>
                          <m:t xml:space="preserve">ú</m:t>
                        </m:r>
                        <m:r>
                          <m:rPr>
                            <m:lit/>
                            <m:nor/>
                          </m:rPr>
                          <m:t xml:space="preserve">n producto financie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para un producto financiero libre de riesgo 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ndencia de los precios a subir en el tiemp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flaci</m:t>
                        </m:r>
                        <m:r>
                          <m:t xml:space="preserve">ón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 la deuda del Banco Centr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quidity premium o premio por liquid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encia de consumo  en  el tiemp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efault risk premiu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no pag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turity risk premium o premio por madur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fluctuaci</m:t>
                        </m:r>
                        <m:r>
                          <m:t xml:space="preserve">ó</m:t>
                        </m:r>
                        <m:r>
                          <m:rPr>
                            <m:lit/>
                            <m:nor/>
                          </m:rPr>
                          <m:t xml:space="preserve">n de tasas de interé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7840" y="182160"/>
            <a:ext cx="8750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étodos para calcular el riesgo de un proyecto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riesgo de un proyecto se mide a partir de la “tasa de descuento” 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lo veremos en detalle 2 clases más adelante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3 stake holders y 3 objetivos finaciero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07960" y="2081160"/>
            <a:ext cx="194292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240" y="2081160"/>
            <a:ext cx="252108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06520" y="5249880"/>
            <a:ext cx="44658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5321160"/>
            <a:ext cx="154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ccionista busca rentabil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8520" y="53211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rentes buscan un “buen trabajo”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1092240"/>
            <a:ext cx="19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liente busca satisfacer una neces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6280" y="3429000"/>
            <a:ext cx="164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Problemas de agencia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en la Empresa/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575600">
            <a:off x="2371680" y="480060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3165200">
            <a:off x="5651280" y="472392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792600" y="257796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1960" y="5575320"/>
            <a:ext cx="24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simetrías de información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y conflictos de interes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40000" y="5805360"/>
            <a:ext cx="792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5805360"/>
            <a:ext cx="79236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0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ercados financieros globa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19280" cy="2801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87640" cy="303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280" y="4653000"/>
            <a:ext cx="89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“…</a:t>
            </a: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Carry Trade* no podrá mantenerse por mucho más tiempo…”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Alan Greenspan, ex Presidente de la Reserva Federal de USA - Jueves 8 Marzo 07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 Carry Trade es una jugada popular entre inversionistas, mediante la cual piden préstamos barartos (hoy yenes) para comprar activos de alto rendimiento en mercados, también llamada maquina de hacer dinero o arbitraje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idiendo la rentabilidad: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alternativas a la conta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41300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a contabilidad entrega mucha información valiosa, pero también presenta limitaciones. En respuesta a estas limitaciones, analistan han creado medidas alternativas de medición de resultados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(Market Value Added) de la empres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de mercado (accionario) – Patrimonio (a portado por socio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VA (Economic Value Added) creado por la gerencia en un añ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EBIT * (1 – tasa impuesto)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(Patrimonio + Pasivo LP) * (Costo capital después de impuesto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5435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Nota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EBIT es Earnings (utilidades) before interest and tax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W.Smithburg (CEO Quaker Oat’s) dice: EVA hace que gerentes se comporten como accionist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sto del capital – WACC*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59200" y="3178080"/>
                <a:ext cx="495468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uda nueva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capit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red stoc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utilidades acumulada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tained earn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rcetanj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e deud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eva, capital y utilidades retenida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uest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0" y="3716280"/>
            <a:ext cx="2930400" cy="244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435200" y="610884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* Weighted average cost of capi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920" y="1125360"/>
            <a:ext cx="3538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futur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2747880" y="3317760"/>
            <a:ext cx="3479760" cy="3996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7880" y="323532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7760" y="324648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42252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342108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7880" y="2752560"/>
            <a:ext cx="0" cy="57168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2781360"/>
            <a:ext cx="0" cy="57132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7880" y="2752560"/>
            <a:ext cx="59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2752560"/>
            <a:ext cx="59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3063960"/>
            <a:ext cx="3425760" cy="201600"/>
          </a:xfrm>
          <a:custGeom>
            <a:avLst/>
            <a:gdLst>
              <a:gd name="textAreaLeft" fmla="*/ 599400 w 3425760"/>
              <a:gd name="textAreaRight" fmla="*/ 2483640 w 3425760"/>
              <a:gd name="textAreaTop" fmla="*/ 27000 h 201600"/>
              <a:gd name="textAreaBottom" fmla="*/ 1746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14840" y="26892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4292640"/>
            <a:ext cx="66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alor futuro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presente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* (1+r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1333440"/>
            <a:ext cx="6335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Ahorrante o inversionista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Si hoy deposito F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t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uanto recibiré mañana???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tiemp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75640" cy="2341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9640" y="4365720"/>
            <a:ext cx="777744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uando se invierte 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interés compuesto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, los intereses devengados son reinvertidos para obtener más interes en los siguientes períodos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 (1+r)^(n-t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actor de descuento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1/ (1+r)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Valor presente neto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00000" y="2133720"/>
                <a:ext cx="734400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30200" y="4797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el monto absoluto (VPN), y considerando el concepto del “valor del dinero el el tiempo”. Invierto hasta maximizar el VPN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Supuesto: La tasa de interés “r” se asume como tasa de descuento del proyect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sa interna de retorno (TIR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336760"/>
                <a:ext cx="73440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50920" y="4508640"/>
            <a:ext cx="87138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la tasa de descuento (porcentaje), y considerando el concepto del “valor del dinero el el tiempo”. Invierto hasta que la rentabilidad marginal es igual al mercado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* es la tas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TIR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a la cual la suma de los flujos descontados del proyecto pag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422100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(pendiente: impuestos, inflación y depreciación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55800" y="35622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Finan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1280" y="5164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204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5016200">
            <a:off x="4698000" y="1862640"/>
            <a:ext cx="2664000" cy="5796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9240" y="11253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Payback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900000" y="2295360"/>
                <a:ext cx="734400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50920" y="5373720"/>
            <a:ext cx="8713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n* es extensión de tiempo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Payback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necesaria para que la suma de los flujos descontados cubr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-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reak even y Capital de trabaj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225440"/>
            <a:ext cx="7632720" cy="501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21080" y="3746520"/>
            <a:ext cx="5745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5080" y="6093000"/>
            <a:ext cx="65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omento del tiempo en el cual los flujos se hacen positiv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908000" y="4149360"/>
            <a:ext cx="863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08000" y="4149360"/>
            <a:ext cx="129564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8000" y="4149360"/>
            <a:ext cx="503280" cy="3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Que proyecto te quedas??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6640" y="2708280"/>
            <a:ext cx="8001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incipios de las finanzas y aversión a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Mercado de capitales y evolución de crédit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Oferta/Demanda por dinero y determinantes de la tasa de interé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Stake holders y problemas de agenci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oportunidad del capital en mercados glob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capital (WACC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y EV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Valor del dinero en el futuro y en el tiemp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P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ayback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reak-even y capital de traba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 múltip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798640"/>
            <a:ext cx="7346880" cy="129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s lo mismo tener un peso hoy que un peso mañana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370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financiero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imer Principio: Costo de oportunidad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hoy vale más que un peso mañana, dado que ese peso hoy puede ser invertido para comenzar a obtener intereses inmediatament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Segundo Principio: Aversión al riesg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seguro vale más que un precio con riesgo, dado que el riesgo puede significar que ese peso no lo tenga mañana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60930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os de financiación empresarial. Brealey &amp; Myers. Cap. 2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Personas con distinta aversión al riesg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1197000"/>
          <a:ext cx="65516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65516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rcado de capital e instituciones financier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1700280"/>
            <a:ext cx="1527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62720" y="1674720"/>
            <a:ext cx="185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7280" y="17733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19890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1413000"/>
            <a:ext cx="23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78080" y="20606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55608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353052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36291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8448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349800"/>
            <a:ext cx="16574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Banco de inversion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796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128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42916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540396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5502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718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222880"/>
            <a:ext cx="20876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mediarios  Financier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796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880" y="4941720"/>
            <a:ext cx="136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strumento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financier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704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1640" y="500076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Evolución en credi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176720" cy="3475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4211640" cy="3359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Oferta/Demanda por dinero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0320" y="443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Un mercado de capital perfectamente compititivo*, tiene un precio llamado tasa de interés “r” o costo del dinero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17840" y="1179360"/>
            <a:ext cx="0" cy="2881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840" y="4060800"/>
            <a:ext cx="540216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5680" y="1252440"/>
            <a:ext cx="86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%)Tas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te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39164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28920" y="1754280"/>
            <a:ext cx="388944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0760" y="140976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1754280"/>
            <a:ext cx="3528720" cy="1584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6120" y="31161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2619360"/>
            <a:ext cx="2808360" cy="1764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2619360"/>
            <a:ext cx="0" cy="144000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3200" y="23716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93720" y="41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$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6320" y="5805360"/>
            <a:ext cx="77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* La realidad esta distorsionada por: actores dominantes que afectan el precio, costos de transacción, asimetrías de información e impuestos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13T00:24:37Z</dcterms:modified>
  <cp:revision>437</cp:revision>
  <dc:subject/>
  <dc:title>Matemáticas Financieras</dc:title>
</cp:coreProperties>
</file>