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1573-602A-4E75-844C-EDEC4661B8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307-30D5-4181-8697-0DB407328DC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11EA-FE70-4E28-921B-C437BDC453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087A3E-FB6B-4093-BFE2-FD35EEFC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4A330-8583-4CDD-86FB-DF7DF7B2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8D3DF-5FD5-4A1F-821A-50798542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51611-F860-4A7C-9BDC-FACDE638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D2A30-8715-45D7-97E3-375208FD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80BD4-309E-4B1E-B19F-AC25737A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CD4FB-7F0F-4FAF-AC83-F2A57D9C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E387E-582F-43C5-8312-3CDC2F9D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6B3827-061F-4537-BC8E-2693A7E1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89229-8C4E-4A06-B178-71EE47B4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62517-0BA1-44EB-B7CD-BA9D1F9D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9E53A-A7C7-4092-AB60-6A11985A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Verdana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632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i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d4d4d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5D2B-9A34-42E8-88C3-E8C378390AB5}" type="slidenum">
              <a:rPr b="0" lang="es-ES" sz="12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2A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Evaluación de Proyectos</a:t>
            </a:r>
            <a:endParaRPr b="1" i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365720"/>
            <a:ext cx="74883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Principios de administración financiera</a:t>
            </a:r>
            <a:br>
              <a:rPr sz="3600"/>
            </a:br>
            <a:br>
              <a:rPr sz="3600"/>
            </a:b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Sesión # 3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4 determinantes de la tasa de interé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982800" y="1197000"/>
                <a:ext cx="7148520" cy="520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/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nomin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izarra seg</m:t>
                        </m:r>
                        <m:r>
                          <m:t xml:space="preserve">ú</m:t>
                        </m:r>
                        <m:r>
                          <m:rPr>
                            <m:lit/>
                            <m:nor/>
                          </m:rPr>
                          <m:t xml:space="preserve">n producto financiero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/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para un producto financiero libre de riesgo </m:t>
                        </m:r>
                      </m:e>
                      <m:e>
                        <m:r>
                          <m:t xml:space="preserve">Π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endencia de los precios a subir en el tiempo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nflaci</m:t>
                        </m:r>
                        <m:r>
                          <m:t xml:space="preserve">ón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ro riesg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de la deuda del Banco Centr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C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iquidity premium o premio por liquidez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eferencia de consumo  en  el tiemp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default risk premiu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sgo de no pag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R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turity risk premium o premio por madurez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iesgo de fluctuaci</m:t>
                        </m:r>
                        <m:r>
                          <m:t xml:space="preserve">ó</m:t>
                        </m:r>
                        <m:r>
                          <m:rPr>
                            <m:lit/>
                            <m:nor/>
                          </m:rPr>
                          <m:t xml:space="preserve">n de tasas de interé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7840" y="182160"/>
            <a:ext cx="875016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cc3300"/>
                </a:solidFill>
                <a:latin typeface="Verdana"/>
              </a:rPr>
              <a:t>Métodos para calcular el riesgo de un proyecto…</a:t>
            </a:r>
            <a:endParaRPr b="1" lang="en-US" sz="22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35240"/>
            <a:ext cx="91440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l riesgo de un proyecto se mide a partir de la “tasa de descuento” y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lo veremos en detalle 2 clases más adelante…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3 stake holders y 3 objetivos finaciero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307960" y="2081160"/>
            <a:ext cx="1942920" cy="3168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240" y="2081160"/>
            <a:ext cx="2521080" cy="316872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06520" y="5249880"/>
            <a:ext cx="44658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5321160"/>
            <a:ext cx="154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ccionista busca rentabilida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78520" y="53211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Gerentes buscan un “buen trabajo”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4760" y="1092240"/>
            <a:ext cx="194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liente busca satisfacer una necesidad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6280" y="3429000"/>
            <a:ext cx="1647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Problemas de agencia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en la Empresa/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yecto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9575600">
            <a:off x="2371680" y="480060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3165200">
            <a:off x="5651280" y="472392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3792600" y="2577960"/>
            <a:ext cx="976320" cy="293760"/>
          </a:xfrm>
          <a:prstGeom prst="leftArrow">
            <a:avLst>
              <a:gd name="adj1" fmla="val 50000"/>
              <a:gd name="adj2" fmla="val 83088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1960" y="5575320"/>
            <a:ext cx="242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simetrías de información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y conflictos de interes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340000" y="5805360"/>
            <a:ext cx="792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40360" y="5805360"/>
            <a:ext cx="79236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0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Mercados financieros globale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319280" cy="28018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788000" y="1268280"/>
            <a:ext cx="3887640" cy="30322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292720" y="620856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emoria del Banco Central (año 2003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280" y="4653000"/>
            <a:ext cx="8964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“…</a:t>
            </a: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l Carry Trade* no podrá mantenerse por mucho más tiempo…”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d4d4d"/>
                </a:solidFill>
                <a:latin typeface="Verdana"/>
              </a:rPr>
              <a:t>Alan Greenspan, ex Presidente de la Reserva Federal de USA - Jueves 8 Marzo 07</a:t>
            </a: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* Carry Trade es una jugada popular entre inversionistas, mediante la cual piden préstamos barartos (hoy yenes) para comprar activos de alto rendimiento en mercados, también llamada maquina de hacer dinero o arbitraje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6828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Midiendo la rentabilidad: </a:t>
            </a:r>
            <a:br>
              <a:rPr sz="3000"/>
            </a:b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alternativas a la contabilidad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1413000"/>
            <a:ext cx="82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a contabilidad entrega mucha información valiosa, pero también presenta limitaciones. En respuesta a estas limitaciones, analistan han creado medidas alternativas de medición de resultados: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VA (Market Value Added) de la empres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Valor de mercado (accionario) – Patrimonio (a portado por socios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VA (Economic Value Added) creado por la gerencia en un añ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EBIT * (1 – tasa impuesto)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–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(Patrimonio + Pasivo LP) * (Costo capital después de impuesto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8000" y="54356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Notas: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EBIT es Earnings (utilidades) before interest and tax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Verdana"/>
              </a:rPr>
              <a:t>W.Smithburg (CEO Quaker Oat’s) dice: EVA hace que gerentes se comporten como accionista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Costo del capital – WACC*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859200" y="3178080"/>
                <a:ext cx="4954680" cy="21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AC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deuda nueva 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capita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referred stock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asa interés utilidades acumuladas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tained earnin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rcetanjes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de deud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eva, capital y utilidades retenida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puesto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4920" y="3716280"/>
            <a:ext cx="2930400" cy="24447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435200" y="610884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* Weighted average cost of capit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4920" y="1125360"/>
            <a:ext cx="353844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Valor del dinero en el futur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2747880" y="3317760"/>
            <a:ext cx="3479760" cy="39960"/>
          </a:xfrm>
          <a:prstGeom prst="line">
            <a:avLst/>
          </a:prstGeom>
          <a:ln w="381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7880" y="3235320"/>
            <a:ext cx="0" cy="155520"/>
          </a:xfrm>
          <a:prstGeom prst="line">
            <a:avLst/>
          </a:prstGeom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97760" y="3246480"/>
            <a:ext cx="0" cy="155520"/>
          </a:xfrm>
          <a:prstGeom prst="line">
            <a:avLst/>
          </a:prstGeom>
          <a:ln w="1908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42252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0360" y="3421080"/>
            <a:ext cx="6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47880" y="2752560"/>
            <a:ext cx="0" cy="57168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2781360"/>
            <a:ext cx="0" cy="571320"/>
          </a:xfrm>
          <a:prstGeom prst="line">
            <a:avLst/>
          </a:prstGeom>
          <a:ln w="28440">
            <a:solidFill>
              <a:srgbClr val="008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47880" y="2752560"/>
            <a:ext cx="59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4d4d4d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72360" y="2752560"/>
            <a:ext cx="59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3063960"/>
            <a:ext cx="3425760" cy="201600"/>
          </a:xfrm>
          <a:custGeom>
            <a:avLst/>
            <a:gdLst>
              <a:gd name="textAreaLeft" fmla="*/ 599400 w 3425760"/>
              <a:gd name="textAreaRight" fmla="*/ 2483640 w 3425760"/>
              <a:gd name="textAreaTop" fmla="*/ 27000 h 201600"/>
              <a:gd name="textAreaBottom" fmla="*/ 1746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a3b2c1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14840" y="26892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3280" y="4292640"/>
            <a:ext cx="66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alor futuro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</a:t>
            </a:r>
            <a:r>
              <a:rPr b="1" lang="es-CL" sz="2400" spc="-1" strike="noStrike" baseline="-25000">
                <a:solidFill>
                  <a:srgbClr val="4d4d4d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Valor presente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* (1+r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1333440"/>
            <a:ext cx="6335640" cy="11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4d4d4d"/>
                </a:solidFill>
                <a:latin typeface="Verdana"/>
              </a:rPr>
              <a:t>Ahorrante o inversionista: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Si hoy deposito F</a:t>
            </a:r>
            <a:r>
              <a:rPr b="1" lang="es-CL" sz="2400" spc="-1" strike="noStrike" baseline="-25000">
                <a:solidFill>
                  <a:srgbClr val="4d4d4d"/>
                </a:solidFill>
                <a:latin typeface="Arial"/>
              </a:rPr>
              <a:t>t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uanto recibiré mañana???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Valor del dinero en el tiemp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675640" cy="2341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39640" y="4365720"/>
            <a:ext cx="777744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uando se invierte a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interés compuesto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, los intereses devengados son reinvertidos para obtener más interes en los siguientes períodos 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t+1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* (1+r)^(n-t)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factor de descuento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= 1/ (1+r) 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Valor presente neto de un proyect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900000" y="2133720"/>
                <a:ext cx="734400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430200" y="4797360"/>
            <a:ext cx="871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 un método para rankear alternativas de inversión, usando el monto absoluto (VPN), y considerando el concepto del “valor del dinero el el tiempo”. Invierto hasta maximizar el VPN!!!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Supuesto: La tasa de interés “r” se asume como tasa de descuento del proyecto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Tasa interna de retorno (TIR)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900000" y="2336760"/>
                <a:ext cx="734400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r>
                              <m:t xml:space="preserve">∗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250920" y="4508640"/>
            <a:ext cx="8713800" cy="18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Es un método para rankear alternativas de inversión, usando la tasa de descuento (porcentaje), y considerando el concepto del “valor del dinero el el tiempo”. Invierto hasta que la rentabilidad marginal es igual al mercado!!!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* es la tasa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(TIR)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a la cual la suma de los flujos descontados del proyecto pagan la inversión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0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haciendo el VPN =0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258920" y="1557360"/>
            <a:ext cx="6591240" cy="4248000"/>
          </a:xfrm>
          <a:prstGeom prst="ellipse">
            <a:avLst/>
          </a:prstGeom>
          <a:noFill/>
          <a:ln cap="rnd" w="9360">
            <a:solidFill>
              <a:srgbClr val="4d4d4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7720" y="3573360"/>
            <a:ext cx="15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peracion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24440" y="13334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72360" y="4221000"/>
            <a:ext cx="230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ntabilidad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4d4d4d"/>
                </a:solidFill>
                <a:latin typeface="Verdana"/>
              </a:rPr>
              <a:t>(pendiente: impuestos, inflación y depreciación)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8760" y="493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ecnología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30360" y="198900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55800" y="3562200"/>
            <a:ext cx="15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Finanza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35440" y="320832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d4d4d"/>
                </a:solidFill>
                <a:latin typeface="Verdana"/>
              </a:rPr>
              <a:t>Client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91280" y="51642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Recursos human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61160" y="1916280"/>
            <a:ext cx="15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mpras 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2040" y="559584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Aspectos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legale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280" y="1557360"/>
            <a:ext cx="3492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7214600">
            <a:off x="4607640" y="-278280"/>
            <a:ext cx="1944720" cy="4464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9786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5016200">
            <a:off x="4698000" y="1862640"/>
            <a:ext cx="2664000" cy="5796000"/>
          </a:xfrm>
          <a:prstGeom prst="ellipse">
            <a:avLst/>
          </a:prstGeom>
          <a:gradFill rotWithShape="0">
            <a:gsLst>
              <a:gs pos="0">
                <a:srgbClr val="ffff66">
                  <a:alpha val="50196"/>
                </a:srgbClr>
              </a:gs>
              <a:gs pos="100000">
                <a:srgbClr val="75752f">
                  <a:alpha val="50196"/>
                </a:srgbClr>
              </a:gs>
            </a:gsLst>
            <a:lin ang="11982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6120" y="13413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Ope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69240" y="11253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Comercial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10760" y="5805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Financiamiento y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Administración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404640"/>
            <a:ext cx="8959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Especialidades de una Empresas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Payback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900000" y="2295360"/>
                <a:ext cx="7344000" cy="191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∗</m:t>
                        </m:r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250920" y="5373720"/>
            <a:ext cx="8713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n* es extensión de tiempo </a:t>
            </a:r>
            <a:r>
              <a:rPr b="1" lang="es-CL" sz="1800" spc="-1" strike="noStrike">
                <a:solidFill>
                  <a:srgbClr val="4d4d4d"/>
                </a:solidFill>
                <a:latin typeface="Verdana"/>
              </a:rPr>
              <a:t>(Payback)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 necesaria para que la suma de los flujos descontados cubran la inversión (F</a:t>
            </a:r>
            <a:r>
              <a:rPr b="0" lang="es-CL" sz="2400" spc="-1" strike="noStrike" baseline="-25000">
                <a:solidFill>
                  <a:srgbClr val="4d4d4d"/>
                </a:solidFill>
                <a:latin typeface="Arial"/>
              </a:rPr>
              <a:t>0 </a:t>
            </a: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) - haciendo el VPN =0 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Break even y Capital de trabaj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1225440"/>
            <a:ext cx="7632720" cy="5011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421080" y="3746520"/>
            <a:ext cx="574560" cy="576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95080" y="6093000"/>
            <a:ext cx="65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omento del tiempo en el cual los flujos se hacen positivos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908000" y="4149360"/>
            <a:ext cx="863640" cy="647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908000" y="4149360"/>
            <a:ext cx="1295640" cy="93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8000" y="4149360"/>
            <a:ext cx="503280" cy="358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Que proyecto te quedas???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6640" y="2708280"/>
            <a:ext cx="80010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Agenda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Principios de las finanzas y aversión al riesg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Mercado de capitales y evolución de crédit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Oferta/Demanda por dinero y determinantes de la tasa de interé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Stake holders y problemas de agenci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sto de oportunidad del capital en mercados glob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Costo de capital (WACC)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MVA y EV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153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15360" indent="-31536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Valor del dinero en el futuro y en el tiemp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VP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Payback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Break-even y capital de trabaj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TIR múltip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40464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600" spc="-1" strike="noStrike">
                <a:solidFill>
                  <a:srgbClr val="cc3300"/>
                </a:solidFill>
                <a:latin typeface="Verdana"/>
              </a:rPr>
              <a:t>Principios de administración financiera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798640"/>
            <a:ext cx="7346880" cy="1295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ahoma"/>
              </a:rPr>
              <a:t>¡Es lo mismo tener un peso hoy que un peso mañana!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37000"/>
            <a:ext cx="5638680" cy="17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600" spc="-1" strike="noStrike">
                <a:solidFill>
                  <a:srgbClr val="006699"/>
                </a:solidFill>
                <a:latin typeface="Arial Narrow"/>
              </a:rPr>
              <a:t>?</a:t>
            </a:r>
            <a:endParaRPr b="0" lang="en-US" sz="12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Principios financieros fundamentales </a:t>
            </a:r>
            <a:r>
              <a:rPr b="1" lang="es-ES_tradnl" sz="2400" spc="-1" strike="noStrike" baseline="30000">
                <a:solidFill>
                  <a:srgbClr val="cc3300"/>
                </a:solidFill>
                <a:latin typeface="Verdana"/>
              </a:rPr>
              <a:t>1</a:t>
            </a:r>
            <a:endParaRPr b="1" lang="en-US" sz="2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Primer Principio: Costo de oportunidad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 peso hoy vale más que un peso mañana, dado que ese peso hoy puede ser invertido para comenzar a obtener intereses inmediatamente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Verdana"/>
              </a:rPr>
              <a:t>Segundo Principio: Aversión al riesg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Un peso seguro vale más que un precio con riesgo, dado que el riesgo puede significar que ese peso no lo tenga mañana.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403280" y="6093000"/>
            <a:ext cx="640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1. Fundamentos de financiación empresarial. Brealey &amp; Myers. Cap. 2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Personas con distinta aversión al riesgo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116000" y="1197000"/>
          <a:ext cx="6551640" cy="53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97000"/>
                    <a:ext cx="655164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001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cc3300"/>
                </a:solidFill>
                <a:latin typeface="Verdana"/>
              </a:rPr>
              <a:t>Mercado de capital e instituciones financieras</a:t>
            </a:r>
            <a:endParaRPr b="1" lang="en-US" sz="2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846000" y="1700280"/>
            <a:ext cx="1527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62720" y="1674720"/>
            <a:ext cx="1854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57280" y="177336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7280" y="198900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19640" y="1413000"/>
            <a:ext cx="23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78080" y="20606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3556080"/>
            <a:ext cx="152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3530520"/>
            <a:ext cx="185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362916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1280" y="384480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349800"/>
            <a:ext cx="165744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Banco de inversion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47960" y="3987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81280" y="305280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7040" y="398772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1640" y="305280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429160"/>
            <a:ext cx="152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Empresa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16720" y="5403960"/>
            <a:ext cx="18540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Ahorrante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11280" y="550224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5718240"/>
            <a:ext cx="4104000" cy="0"/>
          </a:xfrm>
          <a:prstGeom prst="line">
            <a:avLst/>
          </a:prstGeom>
          <a:ln w="9360">
            <a:solidFill>
              <a:srgbClr val="4d4d4d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360" y="5222880"/>
            <a:ext cx="2087640" cy="703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d4d4d"/>
                </a:solidFill>
                <a:latin typeface="Verdana"/>
              </a:rPr>
              <a:t>Intermediarios  Financieros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7960" y="5861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27880" y="4941720"/>
            <a:ext cx="1363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Instrumento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financier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7040" y="586116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1640" y="5000760"/>
            <a:ext cx="96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Acciones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o bon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cc3300"/>
                </a:solidFill>
                <a:latin typeface="Verdana"/>
              </a:rPr>
              <a:t>Evolución en creditos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4176720" cy="3475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4211640" cy="3359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292720" y="6208560"/>
            <a:ext cx="331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4d4d4d"/>
                </a:solidFill>
                <a:latin typeface="Verdana"/>
              </a:rPr>
              <a:t>Memoria del Banco Central (año 2003)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Oferta/Demanda por dinero </a:t>
            </a:r>
            <a:br>
              <a:rPr sz="3000"/>
            </a:br>
            <a:r>
              <a:rPr b="1" lang="es-CL" sz="3000" spc="-1" strike="noStrike">
                <a:solidFill>
                  <a:srgbClr val="cc3300"/>
                </a:solidFill>
                <a:latin typeface="Verdana"/>
              </a:rPr>
              <a:t>Tasa de interés</a:t>
            </a:r>
            <a:endParaRPr b="1" lang="en-US" sz="30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0320" y="443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2500" spc="-1" strike="noStrike">
                <a:solidFill>
                  <a:srgbClr val="4d4d4d"/>
                </a:solidFill>
                <a:latin typeface="Verdana"/>
              </a:rPr>
              <a:t>Un mercado de capital perfectamente compititivo*, tiene un precio llamado tasa de interés “r” o costo del dinero</a:t>
            </a:r>
            <a:endParaRPr b="0" lang="en-US" sz="25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17840" y="1179360"/>
            <a:ext cx="0" cy="288144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17840" y="4060800"/>
            <a:ext cx="5402160" cy="0"/>
          </a:xfrm>
          <a:prstGeom prst="line">
            <a:avLst/>
          </a:prstGeom>
          <a:ln w="93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5680" y="1252440"/>
            <a:ext cx="86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(%)Tasa 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intere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69040" y="3916440"/>
            <a:ext cx="66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4d4d4d"/>
                </a:solidFill>
                <a:latin typeface="Verdana"/>
              </a:rPr>
              <a:t>Pesos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428920" y="1754280"/>
            <a:ext cx="3889440" cy="172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0760" y="140976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Ofert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56000" y="1754280"/>
            <a:ext cx="3528720" cy="1584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6120" y="31161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d4d4d"/>
                </a:solidFill>
                <a:latin typeface="Verdana"/>
              </a:rPr>
              <a:t>Demanda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2619360"/>
            <a:ext cx="2808360" cy="17640"/>
          </a:xfrm>
          <a:prstGeom prst="line">
            <a:avLst/>
          </a:prstGeom>
          <a:ln w="9360">
            <a:solidFill>
              <a:srgbClr val="4d4d4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27640" y="2619360"/>
            <a:ext cx="0" cy="1440000"/>
          </a:xfrm>
          <a:prstGeom prst="line">
            <a:avLst/>
          </a:prstGeom>
          <a:ln w="9360">
            <a:solidFill>
              <a:srgbClr val="4d4d4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23200" y="23716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93720" y="41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$</a:t>
            </a:r>
            <a:endParaRPr b="0" lang="en-US" sz="18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6320" y="5805360"/>
            <a:ext cx="77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CL" sz="1500" spc="-1" strike="noStrike">
                <a:solidFill>
                  <a:srgbClr val="4d4d4d"/>
                </a:solidFill>
                <a:latin typeface="Verdana"/>
              </a:rPr>
              <a:t>* La realidad esta distorsionada por: actores dominantes que afectan el precio, costos de transacción, asimetrías de información e impuestos</a:t>
            </a:r>
            <a:endParaRPr b="0" lang="en-US" sz="15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Cristian Palacios Aguirre</cp:lastModifiedBy>
  <cp:lastPrinted>2002-11-13T13:47:55Z</cp:lastPrinted>
  <dcterms:modified xsi:type="dcterms:W3CDTF">2007-03-13T00:24:37Z</dcterms:modified>
  <cp:revision>437</cp:revision>
  <dc:subject/>
  <dc:title>Matemáticas Financieras</dc:title>
</cp:coreProperties>
</file>