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0922-A276-44EF-89A3-C8BF14F517D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FACB-EF82-4884-8879-ED562611C77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31FA-1603-49A8-80CC-61CFC5DC80F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43815-A3BF-4776-A254-D0415944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1C515-93DC-404C-B883-9A1AC926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158BD-B5B0-4133-87F4-6A1203C9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65C40-A29D-490F-BF84-8E376DE6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ECE24-0494-4755-9839-8C71AD3A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F3A66-2621-4EF3-B0F5-CB275255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06A97-6788-49A6-844D-3569BB76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CA01C-C930-4996-A90C-43FBADDB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D5A7C-3D45-4CA4-809F-0F60934A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56B98-29B3-4258-A0FF-838539F2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395A7-82E8-4A73-A938-CE2C812D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6BBBC-A1AB-4937-9F98-49B50AB4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9FD9-1AFE-4F2F-881B-CA6C45964B57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365720"/>
            <a:ext cx="7488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Principios de administración financiera</a:t>
            </a:r>
            <a:br>
              <a:rPr sz="3600"/>
            </a:br>
            <a:br>
              <a:rPr sz="3600"/>
            </a:b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Sesión # 3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36828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4 determinantes de la tasa de interés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982800" y="1197000"/>
                <a:ext cx="7148520" cy="520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ro riesg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R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RP</m:t>
                        </m:r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ro riesg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/>
                        </m:sSub>
                        <m:r>
                          <m:t xml:space="preserve">+</m:t>
                        </m:r>
                        <m:r>
                          <m:t xml:space="preserve">Π</m:t>
                        </m:r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nomina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zarra seg</m:t>
                        </m:r>
                        <m:r>
                          <m:t xml:space="preserve">ú</m:t>
                        </m:r>
                        <m:r>
                          <m:rPr>
                            <m:lit/>
                            <m:nor/>
                          </m:rPr>
                          <m:t xml:space="preserve">n producto financier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/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para un producto financiero libre de riesgo </m:t>
                        </m:r>
                      </m:e>
                      <m:e>
                        <m:r>
                          <m:t xml:space="preserve">Π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endencia de los precios a subir en el tiemp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nflaci</m:t>
                        </m:r>
                        <m:r>
                          <m:t xml:space="preserve">ón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ro riesg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de la deuda del Banco Centra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C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iquidity premium o premio por liquidez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eferencia de consumo  en  el tiempo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R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efault risk premiu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iesgo de no pago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R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turity risk premium o premio por madurez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iesgo de fluctuaci</m:t>
                        </m:r>
                        <m:r>
                          <m:t xml:space="preserve">ó</m:t>
                        </m:r>
                        <m:r>
                          <m:rPr>
                            <m:lit/>
                            <m:nor/>
                          </m:rPr>
                          <m:t xml:space="preserve">n de tasas de interé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7840" y="182160"/>
            <a:ext cx="875016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3300"/>
                </a:solidFill>
                <a:latin typeface="Verdana"/>
              </a:rPr>
              <a:t>Métodos para calcular el riesgo de un proyecto…</a:t>
            </a:r>
            <a:endParaRPr b="1" lang="en-US" sz="2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3524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l riesgo de un proyecto se mide a partir de la “tasa de descuento” y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lo veremos en detalle 2 clases más adelante…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320" y="404640"/>
            <a:ext cx="8959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3 stake holders y 3 objetivos finaciero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307960" y="2081160"/>
            <a:ext cx="1942920" cy="316872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51240" y="2081160"/>
            <a:ext cx="2521080" cy="316872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06520" y="5249880"/>
            <a:ext cx="446580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5321160"/>
            <a:ext cx="154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ccionista busca rentabilidad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78520" y="5321160"/>
            <a:ext cx="187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Gerentes buscan un “buen trabajo”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44760" y="1092240"/>
            <a:ext cx="194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liente busca satisfacer una necesidad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6280" y="3429000"/>
            <a:ext cx="164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Problemas de agencia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en la Empresa/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royect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9575600">
            <a:off x="2371680" y="4800600"/>
            <a:ext cx="976320" cy="293760"/>
          </a:xfrm>
          <a:prstGeom prst="leftArrow">
            <a:avLst>
              <a:gd name="adj1" fmla="val 50000"/>
              <a:gd name="adj2" fmla="val 83088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3165200">
            <a:off x="5651280" y="4723920"/>
            <a:ext cx="976320" cy="293760"/>
          </a:xfrm>
          <a:prstGeom prst="leftArrow">
            <a:avLst>
              <a:gd name="adj1" fmla="val 50000"/>
              <a:gd name="adj2" fmla="val 83088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3792600" y="2577960"/>
            <a:ext cx="976320" cy="293760"/>
          </a:xfrm>
          <a:prstGeom prst="leftArrow">
            <a:avLst>
              <a:gd name="adj1" fmla="val 50000"/>
              <a:gd name="adj2" fmla="val 83088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1960" y="5575320"/>
            <a:ext cx="242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simetrías de información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y conflictos de interese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340000" y="5805360"/>
            <a:ext cx="792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40360" y="5805360"/>
            <a:ext cx="79236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60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Mercados financieros global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319280" cy="2801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887640" cy="3032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292720" y="6208560"/>
            <a:ext cx="33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Memoria del Banco Central (año 2003)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280" y="4653000"/>
            <a:ext cx="8964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“…</a:t>
            </a: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l Carry Trade* no podrá mantenerse por mucho más tiempo…”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Verdana"/>
              </a:rPr>
              <a:t>Alan Greenspan, ex Presidente de la Reserva Federal de USA - Jueves 8 Marzo 07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* Carry Trade es una jugada popular entre inversionistas, mediante la cual piden préstamos barartos (hoy yenes) para comprar activos de alto rendimiento en mercados, también llamada maquina de hacer dinero o arbitraje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6828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Midiendo la rentabilidad: </a:t>
            </a:r>
            <a:br>
              <a:rPr sz="3000"/>
            </a:b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alternativas a la conta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1413000"/>
            <a:ext cx="828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La contabilidad entrega mucha información valiosa, pero también presenta limitaciones. En respuesta a estas limitaciones, analistan han creado medidas alternativas de medición de resultados: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VA (Market Value Added) de la empres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Valor de mercado (accionario) – Patrimonio (a portado por socios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EVA (Economic Value Added) creado por la gerencia en un año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EBIT * (1 – tasa impuesto)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–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(Patrimonio + Pasivo LP) * (Costo capital después de impuesto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8000" y="543564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Notas: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EBIT es Earnings (utilidades) before interest and tax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W.Smithburg (CEO Quaker Oat’s) dice: EVA hace que gerentes se comporten como accionista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Costo del capital – WACC*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859200" y="3178080"/>
                <a:ext cx="4954680" cy="21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AC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deuda nueva 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capita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eferred stock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utilidades acumuladas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tained earnin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rcetanje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de deuda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ueva, capital y utilidades retenida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puesto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4920" y="3716280"/>
            <a:ext cx="2930400" cy="2444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435200" y="610884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* Weighted average cost of capit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4920" y="1125360"/>
            <a:ext cx="35384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Valor del dinero en el futur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2747880" y="3317760"/>
            <a:ext cx="3479760" cy="39960"/>
          </a:xfrm>
          <a:prstGeom prst="line">
            <a:avLst/>
          </a:prstGeom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7880" y="3235320"/>
            <a:ext cx="0" cy="155520"/>
          </a:xfrm>
          <a:prstGeom prst="line">
            <a:avLst/>
          </a:prstGeom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97760" y="3246480"/>
            <a:ext cx="0" cy="155520"/>
          </a:xfrm>
          <a:prstGeom prst="line">
            <a:avLst/>
          </a:prstGeom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3422520"/>
            <a:ext cx="6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0360" y="3421080"/>
            <a:ext cx="6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Arial"/>
              </a:rPr>
              <a:t>t+1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7880" y="2752560"/>
            <a:ext cx="0" cy="57168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27640" y="2781360"/>
            <a:ext cx="0" cy="57132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7880" y="2752560"/>
            <a:ext cx="59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4d4d4d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72360" y="2752560"/>
            <a:ext cx="59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4d4d4d"/>
                </a:solidFill>
                <a:latin typeface="Arial"/>
              </a:rPr>
              <a:t>t+1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43280" y="3063960"/>
            <a:ext cx="3425760" cy="201600"/>
          </a:xfrm>
          <a:custGeom>
            <a:avLst/>
            <a:gdLst>
              <a:gd name="textAreaLeft" fmla="*/ 599400 w 3425760"/>
              <a:gd name="textAreaRight" fmla="*/ 2483640 w 3425760"/>
              <a:gd name="textAreaTop" fmla="*/ 27000 h 201600"/>
              <a:gd name="textAreaBottom" fmla="*/ 174600 h 20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14840" y="268920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03280" y="4292640"/>
            <a:ext cx="669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alor futuro (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t+1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)</a:t>
            </a:r>
            <a:r>
              <a:rPr b="1" lang="es-CL" sz="2400" spc="-1" strike="noStrike" baseline="-25000">
                <a:solidFill>
                  <a:srgbClr val="4d4d4d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Valor presente (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t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) * (1+r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1333440"/>
            <a:ext cx="63356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4d4d4d"/>
                </a:solidFill>
                <a:latin typeface="Verdana"/>
              </a:rPr>
              <a:t>Ahorrante o inversionista: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Si hoy deposito F</a:t>
            </a:r>
            <a:r>
              <a:rPr b="1" lang="es-CL" sz="2400" spc="-1" strike="noStrike" baseline="-25000">
                <a:solidFill>
                  <a:srgbClr val="4d4d4d"/>
                </a:solidFill>
                <a:latin typeface="Arial"/>
              </a:rPr>
              <a:t>t </a:t>
            </a: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cuanto recibiré mañana???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Valor del dinero en el tiemp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675640" cy="2341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9640" y="4365720"/>
            <a:ext cx="777744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uando se invierte a </a:t>
            </a: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interés compuesto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, los intereses devengados son reinvertidos para obtener más interes en los siguientes períodos 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t+1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t+1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* (1+r)^(n-t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factor de descuento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1/ (1+r) 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Valor presente neto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900000" y="2133720"/>
                <a:ext cx="7344000" cy="22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430200" y="479736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Es un método para rankear alternativas de inversión, usando el monto absoluto (VPN), y considerando el concepto del “valor del dinero el el tiempo”. Invierto hasta maximizar el VPN!!!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Supuesto: La tasa de interés “r” se asume como tasa de descuento del proyecto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asa interna de retorno (TIR)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900000" y="2336760"/>
                <a:ext cx="734400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250920" y="4508640"/>
            <a:ext cx="871380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Es un método para rankear alternativas de inversión, usando la tasa de descuento (porcentaje), y considerando el concepto del “valor del dinero el el tiempo”. Invierto hasta que la rentabilidad marginal es igual al mercado!!!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r* es la tasa </a:t>
            </a: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(TIR)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a la cual la suma de los flujos descontados del proyecto pagan la inversión (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0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) haciendo el VPN =0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1557360"/>
            <a:ext cx="6591240" cy="4248000"/>
          </a:xfrm>
          <a:prstGeom prst="ellipse">
            <a:avLst/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7720" y="3573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Operacion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24440" y="133344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72360" y="4221000"/>
            <a:ext cx="23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ntabilidad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(pendiente: impuestos, inflación y depreciación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08760" y="493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ecnologí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30360" y="19890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55800" y="356220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Finanz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35440" y="3208320"/>
            <a:ext cx="15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d4d4d"/>
                </a:solidFill>
                <a:latin typeface="Verdana"/>
              </a:rPr>
              <a:t>Clien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91280" y="5164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Recursos huma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61160" y="191628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mpras 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02040" y="559584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spect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legal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280" y="1557360"/>
            <a:ext cx="3492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7214600">
            <a:off x="4607640" y="-278280"/>
            <a:ext cx="1944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9786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5016200">
            <a:off x="4698000" y="1862640"/>
            <a:ext cx="2664000" cy="5796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11982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120" y="13413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Ope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69240" y="1125360"/>
            <a:ext cx="19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Comerci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10760" y="5805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Financiamiento y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Administ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404640"/>
            <a:ext cx="8959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Especialidades de una Empresa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Payback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900000" y="2295360"/>
                <a:ext cx="7344000" cy="19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∗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250920" y="5373720"/>
            <a:ext cx="87138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n* es extensión de tiempo </a:t>
            </a: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(Payback)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necesaria para que la suma de los flujos descontados cubran la inversión (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0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) - haciendo el VPN =0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Break even y Capital de trabaj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26920" y="1225440"/>
            <a:ext cx="7632720" cy="5011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421080" y="3746520"/>
            <a:ext cx="5745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95080" y="6093000"/>
            <a:ext cx="65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omento del tiempo en el cual los flujos se hacen positiv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908000" y="4149360"/>
            <a:ext cx="86364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908000" y="4149360"/>
            <a:ext cx="1295640" cy="93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8000" y="4149360"/>
            <a:ext cx="503280" cy="358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Que proyecto te quedas???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66640" y="2708280"/>
            <a:ext cx="8001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Agend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Principios de las finanzas y aversión al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Mercado de capitales y evolución de crédit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Oferta/Demanda por dinero y determinantes de la tasa de interé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Stake holders y problemas de agenci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sto de oportunidad del capital en mercados glob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sto de capital (WACC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VA y EVA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Valor del dinero en el futuro y en el tiemp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P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I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ayback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Break-even y capital de traba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IR múltip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40464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cc3300"/>
                </a:solidFill>
                <a:latin typeface="Verdana"/>
              </a:rPr>
              <a:t>Principios de administración financiera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798640"/>
            <a:ext cx="7346880" cy="129564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ahoma"/>
              </a:rPr>
              <a:t>¡Es lo mismo tener un peso hoy que un peso mañana!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2637000"/>
            <a:ext cx="5638680" cy="17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600" spc="-1" strike="noStrike">
                <a:solidFill>
                  <a:srgbClr val="006699"/>
                </a:solidFill>
                <a:latin typeface="Arial Narrow"/>
              </a:rPr>
              <a:t>?</a:t>
            </a:r>
            <a:endParaRPr b="0" lang="en-US" sz="12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Principios financieros fundamentales </a:t>
            </a:r>
            <a:r>
              <a:rPr b="1" lang="es-ES_tradnl" sz="2400" spc="-1" strike="noStrike" baseline="30000">
                <a:solidFill>
                  <a:srgbClr val="cc3300"/>
                </a:solidFill>
                <a:latin typeface="Verdana"/>
              </a:rPr>
              <a:t>1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rimer Principio: Costo de oportunidad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Un peso hoy vale más que un peso mañana, dado que ese peso hoy puede ser invertido para comenzar a obtener intereses inmediatament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Segundo Principio: Aversión al riesg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Un peso seguro vale más que un precio con riesgo, dado que el riesgo puede significar que ese peso no lo tenga mañana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609300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Fundamentos de financiación empresarial. Brealey &amp; Myers. Cap. 2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Personas con distinta aversión al riesg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16000" y="1197000"/>
          <a:ext cx="6551640" cy="53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97000"/>
                    <a:ext cx="655164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001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Mercado de capital e instituciones financieras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846000" y="1700280"/>
            <a:ext cx="1527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mpres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62720" y="1674720"/>
            <a:ext cx="1854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Ahorra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57280" y="177336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7280" y="198900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1413000"/>
            <a:ext cx="23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cciones o bon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78080" y="206064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3556080"/>
            <a:ext cx="1527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mpres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3530520"/>
            <a:ext cx="1854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Ahorra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11280" y="362916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384480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92360" y="3349800"/>
            <a:ext cx="1657440" cy="703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Banco de inversion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47960" y="398772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81280" y="3052800"/>
            <a:ext cx="96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cciones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o bon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7040" y="398772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01640" y="3052800"/>
            <a:ext cx="96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cciones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o bon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429160"/>
            <a:ext cx="1527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mpres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16720" y="5403960"/>
            <a:ext cx="1854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Ahorra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550224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571824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5222880"/>
            <a:ext cx="2087640" cy="703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Intermediarios  Financier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47960" y="586116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27880" y="4941720"/>
            <a:ext cx="136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Instrumentos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financier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7040" y="586116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01640" y="5000760"/>
            <a:ext cx="96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cciones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o bon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Evolución en credi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4176720" cy="3475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4211640" cy="3359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292720" y="6208560"/>
            <a:ext cx="33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Memoria del Banco Central (año 2003)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Oferta/Demanda por dinero </a:t>
            </a:r>
            <a:br>
              <a:rPr sz="3000"/>
            </a:b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Tasa de interés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0320" y="4438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Un mercado de capital perfectamente compititivo*, tiene un precio llamado tasa de interés “r” o costo del dinero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617840" y="1179360"/>
            <a:ext cx="0" cy="288144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840" y="4060800"/>
            <a:ext cx="5402160" cy="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5680" y="1252440"/>
            <a:ext cx="86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(%)Tasa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intere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69040" y="391644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428920" y="1754280"/>
            <a:ext cx="388944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40760" y="140976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Ofert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1754280"/>
            <a:ext cx="3528720" cy="1584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86120" y="311616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Demand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2619360"/>
            <a:ext cx="2808360" cy="17640"/>
          </a:xfrm>
          <a:prstGeom prst="line">
            <a:avLst/>
          </a:prstGeom>
          <a:ln w="9360">
            <a:solidFill>
              <a:srgbClr val="4d4d4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27640" y="2619360"/>
            <a:ext cx="0" cy="1440000"/>
          </a:xfrm>
          <a:prstGeom prst="line">
            <a:avLst/>
          </a:prstGeom>
          <a:ln w="9360">
            <a:solidFill>
              <a:srgbClr val="4d4d4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3200" y="23716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93720" y="414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$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76320" y="5805360"/>
            <a:ext cx="7772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1500" spc="-1" strike="noStrike">
                <a:solidFill>
                  <a:srgbClr val="4d4d4d"/>
                </a:solidFill>
                <a:latin typeface="Verdana"/>
              </a:rPr>
              <a:t>* La realidad esta distorsionada por: actores dominantes que afectan el precio, costos de transacción, asimetrías de información e impuestos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ristian Palacios Aguirre</cp:lastModifiedBy>
  <cp:lastPrinted>2002-11-13T13:47:55Z</cp:lastPrinted>
  <dcterms:modified xsi:type="dcterms:W3CDTF">2007-03-13T00:24:37Z</dcterms:modified>
  <cp:revision>437</cp:revision>
  <dc:subject/>
  <dc:title>Matemáticas Financieras</dc:title>
</cp:coreProperties>
</file>