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B4FE-F9E4-4B9B-90CD-9EAEC0E13B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C2A6-9BFA-451D-856B-8974489A28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43CD-BC0E-485F-8E28-E7E4CF43693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F160-C5DE-40AA-9758-D98C7E94D0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2B0A-50B0-4E82-8056-AD62E50CD9F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CDA3-54BE-49C6-9416-4B36D84ACF3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94E8-FC0B-4370-835F-F3D8BE84BEA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279B9-69CB-42E6-BB77-B7945FC8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B5CC2-8E8F-4383-9F78-A34166D7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4AB79-B790-4B7E-B14A-8E3B4214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70E66-B364-4CA8-992F-2A711DEC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89F88-56F9-4293-850F-6F2DEFA3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9EF95-E175-4556-9E89-280B91CE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07F8E-715F-470C-A8E8-18207D64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56737-6938-45B0-AF2C-102E1B62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0A94E-DCC8-498A-906F-D6B93136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ACE81-7E81-4ECF-B77B-03CB32D3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B5955-5EA3-4B96-B8EE-D6697A49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4D384-E4FF-4635-B265-01554592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7E92-ABF4-4705-9776-FB3D8D436D6E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078440"/>
            <a:ext cx="7488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Contabilidad, ingresos potenciales y costos</a:t>
            </a:r>
            <a:br>
              <a:rPr sz="3600"/>
            </a:b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2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Modelo de operación contable 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Registrar los asientos contables (libros de doble entrada o cuentas T)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Acumular los ingresos y gastos en el Estado de Resultad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Analizar “otros ítems” que no han sido ya considerados en el P&amp;L (ex: depreciación, impuestos, corrección monetaria,…)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Preparar el Balance de cierre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Preparar el Estado de fuentes y u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620856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Fuentes y usos de efec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969080" cy="234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00720" y="3521160"/>
            <a:ext cx="4643280" cy="3292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4880" y="4292640"/>
            <a:ext cx="33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Unos US$ 32 millones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por cada av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576360"/>
            <a:ext cx="8001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Metodología para calcular ingresos potenciale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197000"/>
            <a:ext cx="7550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Diseño y aplicación del estudio de mercado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1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para determinar los ingresos 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potenciales de un 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Tabulación de datos y proyección sobre de resultados sobre el mercado total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451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Análisis: el método estadístico más típicamente utilizado es la regresión lineal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5832360"/>
            <a:ext cx="64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“Metodología para estudiar necesidades” IN 42 A Sesión 6 de Marzo 200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Ingresos (I) = Precio del producto/servicio (P) * Cantidad de personas que compran (Q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3. Ver Capítulo 5. Preparación y Evaluación de Proyectos, Sapag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Diseño del estudio de mercad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abul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2592360" cy="104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419640" y="2565360"/>
            <a:ext cx="5473440" cy="3821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1971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Análisis por regresión lineal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étodo econométrico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1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de estimación de demanda, asumiendo comportamiento lineal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donde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57200" algn="just">
              <a:spcAft>
                <a:spcPts val="550"/>
              </a:spcAft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: preci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57200" algn="just">
              <a:spcAft>
                <a:spcPts val="550"/>
              </a:spcAft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Q: número de persona que pagarían el precio y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0" algn="just"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asume que las “n”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personas entrevistadas son representativas del mercad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635280" y="1990800"/>
                <a:ext cx="1790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539640" y="4941720"/>
            <a:ext cx="8064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Método también es conocido como “mínimos cuadrados” , dado que los parámetros de la recta (a,b) son estimados al </a:t>
            </a:r>
            <a:r>
              <a:rPr b="0" lang="es-ES" sz="1000" spc="-1" strike="noStrike">
                <a:solidFill>
                  <a:srgbClr val="4d4d4d"/>
                </a:solidFill>
                <a:latin typeface="Verdana"/>
              </a:rPr>
              <a:t>minimiza la distancia al cuadrado entre los puntos observados y la recta de la ecuación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</a:t>
            </a:r>
            <a:r>
              <a:rPr b="0" lang="es-ES" sz="1000" spc="-1" strike="noStrike">
                <a:solidFill>
                  <a:srgbClr val="4d4d4d"/>
                </a:solidFill>
                <a:latin typeface="Verdana"/>
              </a:rPr>
              <a:t>El coeficiente de determinación (R2) indica cuan bueno es el ajuste de la ecuación estimada a los datos reales. Así por ejemplo, R2=0,9 indica que la variable independiente explica un 90% del comportamiento de la variable dependiente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3. El número de personas a entrevistar se determina según la significación estadística requerida. Por ejemplo si se asume que la decisión sigue una distribución Normal (0,1), entonces con un n= 33 se alcanza un 99% de intervalo de confianza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– 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Ver literatura de Estadística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c3300"/>
                </a:solidFill>
                <a:latin typeface="Verdana"/>
              </a:rPr>
              <a:t>Ingresos potenciales dada la demanda estimada por regresión lineal</a:t>
            </a:r>
            <a:endParaRPr b="1" lang="en-US" sz="25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627280" y="6308640"/>
                <a:ext cx="245124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asticidad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76520" y="1052640"/>
            <a:ext cx="51274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Información de costos para tomar: Conceptos básico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1090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s fijo versus variable y punto de equlibrio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s directos versus costos indirectos (ejemplo: “ABC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3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Costing” para Servipag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 marginal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nversión (costo hundido y de oportunidad), capital de trabajo (operación) y costo salida (provisiones emplead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 (valor) mercado versus costo contabl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56000" y="1828800"/>
            <a:ext cx="1873080" cy="1241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88000" y="1830240"/>
            <a:ext cx="1800000" cy="1220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39760" y="5967360"/>
            <a:ext cx="908532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Capítulo 6. Preparación y Evaluación de Proyectos, Sapag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Capítulo 2. Ingeniería Económica, Sullivan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d4d4d"/>
                </a:solidFill>
                <a:latin typeface="Verdana"/>
              </a:rPr>
              <a:t>3. ABC (Activity Based Costing) puede ser una complejidad virtuosa... si puedo separar mercados… discriminar por preci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aso: Activo fijo y su depreciación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406520"/>
            <a:ext cx="0" cy="4608360"/>
          </a:xfrm>
          <a:prstGeom prst="line">
            <a:avLst/>
          </a:prstGeom>
          <a:ln w="2844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187280" y="6014880"/>
            <a:ext cx="6624720" cy="0"/>
          </a:xfrm>
          <a:prstGeom prst="line">
            <a:avLst/>
          </a:prstGeom>
          <a:ln w="2844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58800" y="57340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ñ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emp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1040" y="10526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$ Cos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1695600"/>
            <a:ext cx="0" cy="41767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9000" y="3344760"/>
            <a:ext cx="32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0" cy="12193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7760" y="5149800"/>
            <a:ext cx="33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547640" y="6230880"/>
            <a:ext cx="5329440" cy="648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37000" y="6086520"/>
            <a:ext cx="32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71040" y="6006960"/>
            <a:ext cx="5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vida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út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56960" y="422100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valor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residua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1557360"/>
            <a:ext cx="5688360" cy="2951280"/>
          </a:xfrm>
          <a:prstGeom prst="line">
            <a:avLst/>
          </a:prstGeom>
          <a:ln w="2844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1628640"/>
            <a:ext cx="5616720" cy="3024360"/>
          </a:xfrm>
          <a:custGeom>
            <a:avLst/>
            <a:gdLst/>
            <a:ahLst/>
            <a:rect l="l" t="t" r="r" b="b"/>
            <a:pathLst>
              <a:path w="3538" h="1905">
                <a:moveTo>
                  <a:pt x="0" y="0"/>
                </a:moveTo>
                <a:cubicBezTo>
                  <a:pt x="498" y="566"/>
                  <a:pt x="997" y="1133"/>
                  <a:pt x="1587" y="1451"/>
                </a:cubicBezTo>
                <a:cubicBezTo>
                  <a:pt x="2177" y="1769"/>
                  <a:pt x="2857" y="1837"/>
                  <a:pt x="3538" y="1905"/>
                </a:cubicBezTo>
              </a:path>
            </a:pathLst>
          </a:custGeom>
          <a:noFill/>
          <a:ln w="2844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26240" y="2852640"/>
            <a:ext cx="1157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preciación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linear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4960" y="3835440"/>
            <a:ext cx="1157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preciación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acelerad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72200" y="1355760"/>
            <a:ext cx="326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Verdana"/>
              </a:rPr>
              <a:t>Depreciación es el cargo por utilización de un activo para producción, no representa flujo de efectiv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62802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8230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57800" y="2133720"/>
            <a:ext cx="719280" cy="2887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3213000"/>
            <a:ext cx="719280" cy="289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6381720"/>
            <a:ext cx="719280" cy="289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Ustedes son …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4000" cy="2000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7775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aso: Impues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Impuestos son recaudados para pagar el gasto del gobierno, luego son territoriales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Los principales tipos de impuestos en Chile so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Impuesto a la Renta*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Primera categoría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l capital (utilidades de empresas, rentas de capitales mobiliarios, rentas de bienes raíces, etc.) – régimen de renta presunta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Segunda Categoría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l trabajo y es progresivo (porcentaje a pagar aumenta con el monto de la renta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Global Complementario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el total de las rentas obtenidas (consolidadas) por personas naturales y es progresivo. Dadas las provisiones mensuales realizadas por los impuestos de 1ra y 2da categoría es necesario realizar una re-liquidación anual (mes de Abril), tomando la 1ra categoría como crédito (para evitar doble tributación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Adicional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 fuente chilena obtenidas por personas extranjera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Impuesto al consumo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Verdana"/>
              </a:rPr>
              <a:t>Impuesto al Valor Agregado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 (19% IVA) calculado sobre la diferencia entre las ventas (débito fiscal) y las compras (crédito fiscal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Verdana"/>
              </a:rPr>
              <a:t>Impuesto de timbres y estampillas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, graba las operaciones de crédito y movimientos de dinero (ex: cheque o retiro del cajero automático $ 129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Otros: Combustible, Aranceles o Comercio exterior, Tabaco,…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682560" y="6021360"/>
            <a:ext cx="792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*Se realiza una declaración en Abril de cada año, donde se calcula pago o devolución según los PPM enterados mensualment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aso: Infl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394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Inflación es términos simples es “mucho dinero persiguiendo muy pocos bienes”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La inflación es un problema para la contabilidad dado que “cambia la unidad de medida” utilizada (dinero)  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Para solucionar este problema se puede ajustar la unidad de medida utilizada (dinero) según su variación en la capacidad de compra (IPC) de cada año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ctivos monetarios no están afectos a corrección por paridad de compra, luego “pierden valor”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ctivos No monetarios si son corregidos para mantener su “valor”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Esta cuenta se incorpora en el EERR como Corrección Monetaria  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620856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392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Newscorporation: Interesante y controversial</a:t>
            </a:r>
            <a:br>
              <a:rPr sz="2600"/>
            </a:b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(Tax Havens)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Ruppert Murdoch es presidente de News Corporatio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News Corporation tiene aproximadamente un 70% de sus operaciones en USA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USA tiene impuestos significativamente mayores que países como: Bahamas, Islas Caimán, Antillas Holandesas … (paraísos fiscales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News Corporation (USA) ha transferido sus utilidades a News Corporation (Antillas) logrando prácticamente NO pagar impuestos en USA y reduciendo de manera notable el total de impuestos pagados por el Grupo Newscorporatio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Murdoch dice, “mover activos de esta forma es uno de los beneficios de ser global…” ; si bien esta actividad es legal, otros cuestionan la ética… 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quien gana??? quien pierde??? que políticas sobre inversiones se pueden tomar???...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62802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Fundamentals of Financial Management, Brigham &amp; Houston, 1998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5200" y="436572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Verdana"/>
              </a:rPr>
              <a:t>Contabilidad</a:t>
            </a:r>
            <a:r>
              <a:rPr b="1" lang="es-CL" sz="2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760" y="3638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35440" y="320832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</a:rPr>
              <a:t>Clien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8920" y="5013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49680" y="544500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5016200">
            <a:off x="5058360" y="1933920"/>
            <a:ext cx="2448000" cy="558036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69240" y="1125360"/>
            <a:ext cx="19954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(quedo pendiente de clase anterior Proyección de Beneficios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Conta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296720"/>
            <a:ext cx="8785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Contabi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incipios contables fundamen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Estados conta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odelo de operación contabl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Cálculo de ingresos potenc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Información de Costos para tomar dec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onceptos básic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sos: Activo fijo (depreciación), Impuestos e Inflació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sos: News Corporation (Interesante y controversial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Principios contables fundamentale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asume que la empresa se mantiene en funcionamiento (“going concern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conocen los ingresos y costos cuando los eventos ocurren, no cuando se realiza el flujo monetario (devengado o “accuals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quiere consistencia, de un periodo a otro, en el tratamiento de los ítems similares (“consistency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quiere ser conservador, contabilizar ingresos sólo cuando estos han sido realizados y hacer provisiones para los gastos o perdidas aún si no son totalmente seguras (“prudence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609300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Apéndice A, Ingeniería Económica, Sulliva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ados contables 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menos una vez al año las empresas deben emitir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de resultados (“profit and loss statement” o “P&amp;L” o EE.RR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Resumen de las ventas, gastos y utilidad para un periodo con contable (ex: Q4 2006 – cuarto trimestre del año 2006)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(“ balance sheet”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Resumen a una fecha (ex: 31-12-2006) de la acumulación de recursos que han sido provistos por terceros a una empresa y como estos han sido utilizados en activo fijo y capital de trabaj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Presentación de la posición financiera de una empresa en un momento del tiemp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lujo de caja (“cash flow statement”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á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lculo de diferencia de activos entre periodos contables consecutivos, que muestra las fuentes de efectivo y como esta ha sido utilizado para el período contable (ex: año 2006 vs. 2005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Resumen del impacto, en la caja ($) de una empresa durante un periodo, de las actividades de la operación, inversiones y financiamiento; en oposición al estado de resultados. 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609300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Apéndice A, Ingeniería Económica, Sulliva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7920" y="-27000"/>
            <a:ext cx="91519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6360" y="0"/>
            <a:ext cx="8388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08T12:19:34Z</dcterms:modified>
  <cp:revision>413</cp:revision>
  <dc:subject/>
  <dc:title>Formulación de Proyectos</dc:title>
</cp:coreProperties>
</file>