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0.wmf" ContentType="image/x-wmf"/>
  <Override PartName="/ppt/media/image16.png" ContentType="image/png"/>
  <Override PartName="/ppt/media/image15.png" ContentType="image/png"/>
  <Override PartName="/ppt/media/image1.jpeg" ContentType="image/jpeg"/>
  <Override PartName="/ppt/media/image2.wmf" ContentType="image/x-wmf"/>
  <Override PartName="/ppt/media/image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4.png" ContentType="image/png"/>
  <Override PartName="/ppt/media/image12.wmf" ContentType="image/x-wmf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Verdana"/>
              </a:rPr>
              <a:t>Click to move the slide</a:t>
            </a:r>
            <a:endParaRPr b="1" i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96830-E029-49C3-91B1-4005F7AEC50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5BC22-62BB-41C5-945A-81A892CD840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ADBBD-46C5-49B8-9312-B068E287BFF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80AD0-30BE-4A07-BCFA-0AA6988B0F9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79270-AF5F-4BB4-B5D2-7D978E603B3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9B919-302E-4E2B-A2A8-A0BA0092BEC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AEE4B-0EE3-44D1-82DA-6D170BC55D7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C60559-A1F5-4407-8034-443786A4C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63DC0D-6C4E-4364-9720-7C33FD70F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B3654E-F6E6-470E-BA75-6280167BA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2237D3-EC37-4ED8-9221-55EA12322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1C4F0E-A711-4D2F-B8BB-844D25065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957E07-AD5C-4792-91CF-55321EC8A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32C932-D76A-4DF3-9384-8E3F1F59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04C711-4D9A-4DFE-A1C9-8550BAEE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FA34BC-E085-4953-AAA2-0AC5E1B5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33DB9E-3BCB-4D35-B72C-FF49D5B91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F58339-7222-4D95-9821-5472B7ADD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8FBC4D-D945-4648-8ACD-3A18D9641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2205000"/>
            <a:ext cx="7632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i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B90FD-B9E7-4B88-B034-B9AACE5E1E57}" type="slidenum">
              <a:rPr b="0" lang="es-ES" sz="12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2A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Evaluación de Proyectos</a:t>
            </a:r>
            <a:endParaRPr b="1" i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826920" y="4078440"/>
            <a:ext cx="74883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Contabilidad, ingresos potenciales y costos</a:t>
            </a:r>
            <a:br>
              <a:rPr sz="3600"/>
            </a:br>
            <a:br>
              <a:rPr sz="3600"/>
            </a:b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Sesión # 2</a:t>
            </a:r>
            <a:endParaRPr b="0" lang="en-US" sz="36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Modelo de operación contable </a:t>
            </a:r>
            <a:r>
              <a:rPr b="1" lang="es-ES_tradnl" sz="2800" spc="-1" strike="noStrike" baseline="30000">
                <a:solidFill>
                  <a:srgbClr val="cc3300"/>
                </a:solidFill>
                <a:latin typeface="Verdana"/>
              </a:rPr>
              <a:t>1</a:t>
            </a:r>
            <a:endParaRPr b="1" lang="en-US" sz="28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d4d4d"/>
                </a:solidFill>
                <a:latin typeface="Verdana"/>
              </a:rPr>
              <a:t>Registrar los asientos contables (libros de doble entrada o cuentas T)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d4d4d"/>
                </a:solidFill>
                <a:latin typeface="Verdana"/>
              </a:rPr>
              <a:t>Acumular los ingresos y gastos en el Estado de Resultados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d4d4d"/>
                </a:solidFill>
                <a:latin typeface="Verdana"/>
              </a:rPr>
              <a:t>Analizar “otros ítems” que no han sido ya considerados en el P&amp;L (ex: depreciación, impuestos, corrección monetaria,…)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d4d4d"/>
                </a:solidFill>
                <a:latin typeface="Verdana"/>
              </a:rPr>
              <a:t>Preparar el Balance de cierre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d4d4d"/>
                </a:solidFill>
                <a:latin typeface="Verdana"/>
              </a:rPr>
              <a:t>Preparar el Estado de fuentes y usos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1403280" y="6208560"/>
            <a:ext cx="640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1. The Meaning of company accounts, Walter Reid and DR Myddelton, 1997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Fuentes y usos de efectiv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4969080" cy="2343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500720" y="3521160"/>
            <a:ext cx="4643280" cy="32925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14880" y="4292640"/>
            <a:ext cx="336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d4d4d"/>
                </a:solidFill>
                <a:latin typeface="Verdana"/>
              </a:rPr>
              <a:t>Unos US$ 32 millones 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d4d4d"/>
                </a:solidFill>
                <a:latin typeface="Verdana"/>
              </a:rPr>
              <a:t>por cada av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280" y="576360"/>
            <a:ext cx="80010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cc3300"/>
                </a:solidFill>
                <a:latin typeface="Verdana"/>
              </a:rPr>
              <a:t>Metodología para calcular ingresos potenciales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838080" y="1197000"/>
            <a:ext cx="75502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Aft>
                <a:spcPts val="649"/>
              </a:spcAft>
              <a:buClr>
                <a:srgbClr val="cc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Diseño y aplicación del estudio de mercado</a:t>
            </a:r>
            <a:r>
              <a:rPr b="0" lang="es-ES_tradnl" sz="2400" spc="-1" strike="noStrike" baseline="30000">
                <a:solidFill>
                  <a:srgbClr val="4d4d4d"/>
                </a:solidFill>
                <a:latin typeface="Verdana"/>
              </a:rPr>
              <a:t>1 </a:t>
            </a: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para determinar los ingresos </a:t>
            </a:r>
            <a:r>
              <a:rPr b="0" lang="es-ES_tradnl" sz="2400" spc="-1" strike="noStrike" baseline="30000">
                <a:solidFill>
                  <a:srgbClr val="4d4d4d"/>
                </a:solidFill>
                <a:latin typeface="Verdana"/>
              </a:rPr>
              <a:t>2</a:t>
            </a: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 potenciales de un proyecto</a:t>
            </a:r>
            <a:endParaRPr b="0" lang="en-US" sz="26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Aft>
                <a:spcPts val="649"/>
              </a:spcAft>
              <a:buClr>
                <a:srgbClr val="cc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Aft>
                <a:spcPts val="649"/>
              </a:spcAft>
              <a:buClr>
                <a:srgbClr val="cc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Tabulación de datos y proyección sobre de resultados sobre el mercado total</a:t>
            </a:r>
            <a:endParaRPr b="0" lang="en-US" sz="26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Aft>
                <a:spcPts val="451"/>
              </a:spcAft>
              <a:buClr>
                <a:srgbClr val="cc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Aft>
                <a:spcPts val="601"/>
              </a:spcAft>
              <a:buClr>
                <a:srgbClr val="cc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Análisis: el método estadístico más típicamente utilizado es la regresión lineal</a:t>
            </a:r>
            <a:r>
              <a:rPr b="0" lang="es-ES_tradnl" sz="2400" spc="-1" strike="noStrike" baseline="30000">
                <a:solidFill>
                  <a:srgbClr val="4d4d4d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03280" y="5832360"/>
            <a:ext cx="640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1. Ver “Metodología para estudiar necesidades” IN 42 A Sesión 6 de Marzo 2007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2. Ingresos (I) = Precio del producto/servicio (P) * Cantidad de personas que compran (Q)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3. Ver Capítulo 5. Preparación y Evaluación de Proyectos, Sapag.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Diseño del estudio de mercad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7272360" cy="52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Tabul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419640" y="1341360"/>
            <a:ext cx="2592360" cy="1044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419640" y="2565360"/>
            <a:ext cx="5473440" cy="38210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755640" y="1197000"/>
            <a:ext cx="197172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cc3300"/>
                </a:solidFill>
                <a:latin typeface="Verdana"/>
              </a:rPr>
              <a:t>Análisis por regresión lineal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55280" y="1125000"/>
            <a:ext cx="806292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spcAft>
                <a:spcPts val="550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Método econométrico </a:t>
            </a:r>
            <a:r>
              <a:rPr b="0" lang="es-ES_tradnl" sz="1800" spc="-1" strike="noStrike" baseline="30000">
                <a:solidFill>
                  <a:srgbClr val="4d4d4d"/>
                </a:solidFill>
                <a:latin typeface="Verdana"/>
              </a:rPr>
              <a:t>1</a:t>
            </a: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 de estimación de demanda, asumiendo comportamiento lineal: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spcAft>
                <a:spcPts val="550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donde: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57200" algn="just">
              <a:spcAft>
                <a:spcPts val="550"/>
              </a:spcAft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P: preci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57200" algn="just">
              <a:spcAft>
                <a:spcPts val="550"/>
              </a:spcAft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Q: número de persona que pagarían el precio y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0" algn="just">
              <a:spcAft>
                <a:spcPts val="34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spcAft>
                <a:spcPts val="550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e asume que las “n” </a:t>
            </a:r>
            <a:r>
              <a:rPr b="0" lang="es-ES_tradnl" sz="1800" spc="-1" strike="noStrike" baseline="30000">
                <a:solidFill>
                  <a:srgbClr val="4d4d4d"/>
                </a:solidFill>
                <a:latin typeface="Verdana"/>
              </a:rPr>
              <a:t>2</a:t>
            </a: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 personas entrevistadas son representativas del mercad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3635280" y="1990800"/>
                <a:ext cx="17906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∗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539640" y="4941720"/>
            <a:ext cx="8064720" cy="16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1. Método también es conocido como “mínimos cuadrados” , dado que los parámetros de la recta (a,b) son estimados al </a:t>
            </a:r>
            <a:r>
              <a:rPr b="0" lang="es-ES" sz="1000" spc="-1" strike="noStrike">
                <a:solidFill>
                  <a:srgbClr val="4d4d4d"/>
                </a:solidFill>
                <a:latin typeface="Verdana"/>
              </a:rPr>
              <a:t>minimiza la distancia al cuadrado entre los puntos observados y la recta de la ecuación.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2. </a:t>
            </a:r>
            <a:r>
              <a:rPr b="0" lang="es-ES" sz="1000" spc="-1" strike="noStrike">
                <a:solidFill>
                  <a:srgbClr val="4d4d4d"/>
                </a:solidFill>
                <a:latin typeface="Verdana"/>
              </a:rPr>
              <a:t>El coeficiente de determinación (R2) indica cuan bueno es el ajuste de la ecuación estimada a los datos reales. Así por ejemplo, R2=0,9 indica que la variable independiente explica un 90% del comportamiento de la variable dependiente</a:t>
            </a: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3. El número de personas a entrevistar se determina según la significación estadística requerida. Por ejemplo si se asume que la decisión sigue una distribución Normal (0,1), entonces con un n= 33 se alcanza un 99% de intervalo de confianza 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– </a:t>
            </a: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Ver literatura de Estadísticas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cc3300"/>
                </a:solidFill>
                <a:latin typeface="Verdana"/>
              </a:rPr>
              <a:t>Ingresos potenciales dada la demanda estimada por regresión lineal</a:t>
            </a:r>
            <a:endParaRPr b="1" lang="en-US" sz="2500" spc="-1" strike="noStrike">
              <a:solidFill>
                <a:srgbClr val="cc33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627280" y="6308640"/>
                <a:ext cx="2451240" cy="2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lasticidad</m:t>
                    </m:r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</m:den>
                    </m:f>
                    <m:f>
                      <m:fPr>
                        <m:type m:val="lin"/>
                      </m:fPr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676520" y="1052640"/>
            <a:ext cx="512748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cc3300"/>
                </a:solidFill>
                <a:latin typeface="Verdana"/>
              </a:rPr>
              <a:t>Información de costos para tomar: Conceptos básicos </a:t>
            </a:r>
            <a:r>
              <a:rPr b="1" lang="es-ES_tradnl" sz="2400" spc="-1" strike="noStrike" baseline="30000">
                <a:solidFill>
                  <a:srgbClr val="cc3300"/>
                </a:solidFill>
                <a:latin typeface="Verdana"/>
              </a:rPr>
              <a:t>1 2</a:t>
            </a:r>
            <a:endParaRPr b="1" lang="en-US" sz="2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10900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ostos fijo versus variable y punto de equlibrio 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ostos directos versus costos indirectos (ejemplo: “ABC </a:t>
            </a:r>
            <a:r>
              <a:rPr b="0" lang="es-ES_tradnl" sz="1800" spc="-1" strike="noStrike" baseline="30000">
                <a:solidFill>
                  <a:srgbClr val="4d4d4d"/>
                </a:solidFill>
                <a:latin typeface="Verdana"/>
              </a:rPr>
              <a:t>3</a:t>
            </a: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 Costing” para Servipag)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osto marginal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Inversión (costo hundido y de oportunidad), capital de trabajo (operación) y costo salida (provisiones empleados)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osto (valor) mercado versus costo contable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556000" y="1828800"/>
            <a:ext cx="1873080" cy="12412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788000" y="1830240"/>
            <a:ext cx="1800000" cy="12207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39760" y="5967360"/>
            <a:ext cx="9085320" cy="7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1. Ver Capítulo 6. Preparación y Evaluación de Proyectos, Sapag.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1. Ver Capítulo 2. Ingeniería Económica, Sullivan.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4d4d4d"/>
                </a:solidFill>
                <a:latin typeface="Verdana"/>
              </a:rPr>
              <a:t>3. ABC (Activity Based Costing) puede ser una complejidad virtuosa... si puedo separar mercados… discriminar por precio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cc3300"/>
                </a:solidFill>
                <a:latin typeface="Verdana"/>
              </a:rPr>
              <a:t>Caso: Activo fijo y su depreciación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1187280" y="1406520"/>
            <a:ext cx="0" cy="4608360"/>
          </a:xfrm>
          <a:prstGeom prst="line">
            <a:avLst/>
          </a:prstGeom>
          <a:ln w="28440">
            <a:solidFill>
              <a:srgbClr val="4d4d4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1187280" y="6014880"/>
            <a:ext cx="6624720" cy="0"/>
          </a:xfrm>
          <a:prstGeom prst="line">
            <a:avLst/>
          </a:prstGeom>
          <a:ln w="28440">
            <a:solidFill>
              <a:srgbClr val="4d4d4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858800" y="5734080"/>
            <a:ext cx="94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Años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tiempo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1040" y="1052640"/>
            <a:ext cx="9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$ Costo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47640" y="1695600"/>
            <a:ext cx="0" cy="4176720"/>
          </a:xfrm>
          <a:prstGeom prst="line">
            <a:avLst/>
          </a:prstGeom>
          <a:ln w="9360">
            <a:solidFill>
              <a:srgbClr val="4d4d4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359000" y="3344760"/>
            <a:ext cx="326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236000" y="4653000"/>
            <a:ext cx="0" cy="1219320"/>
          </a:xfrm>
          <a:prstGeom prst="line">
            <a:avLst/>
          </a:prstGeom>
          <a:ln w="9360">
            <a:solidFill>
              <a:srgbClr val="4d4d4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097760" y="5149800"/>
            <a:ext cx="330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1547640" y="6230880"/>
            <a:ext cx="5329440" cy="6480"/>
          </a:xfrm>
          <a:prstGeom prst="line">
            <a:avLst/>
          </a:prstGeom>
          <a:ln w="9360">
            <a:solidFill>
              <a:srgbClr val="4d4d4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437000" y="6086520"/>
            <a:ext cx="325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971040" y="6006960"/>
            <a:ext cx="572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vida 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útil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356960" y="4221000"/>
            <a:ext cx="851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valor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residual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47640" y="1557360"/>
            <a:ext cx="5688360" cy="2951280"/>
          </a:xfrm>
          <a:prstGeom prst="line">
            <a:avLst/>
          </a:prstGeom>
          <a:ln w="2844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47640" y="1628640"/>
            <a:ext cx="5616720" cy="3024360"/>
          </a:xfrm>
          <a:custGeom>
            <a:avLst/>
            <a:gdLst/>
            <a:ahLst/>
            <a:rect l="l" t="t" r="r" b="b"/>
            <a:pathLst>
              <a:path w="3538" h="1905">
                <a:moveTo>
                  <a:pt x="0" y="0"/>
                </a:moveTo>
                <a:cubicBezTo>
                  <a:pt x="498" y="566"/>
                  <a:pt x="997" y="1133"/>
                  <a:pt x="1587" y="1451"/>
                </a:cubicBezTo>
                <a:cubicBezTo>
                  <a:pt x="2177" y="1769"/>
                  <a:pt x="2857" y="1837"/>
                  <a:pt x="3538" y="1905"/>
                </a:cubicBezTo>
              </a:path>
            </a:pathLst>
          </a:custGeom>
          <a:noFill/>
          <a:ln w="28440">
            <a:solidFill>
              <a:srgbClr val="0033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26240" y="2852640"/>
            <a:ext cx="1157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d4d4d"/>
                </a:solidFill>
                <a:latin typeface="Verdana"/>
              </a:rPr>
              <a:t>Depreciación 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d4d4d"/>
                </a:solidFill>
                <a:latin typeface="Verdana"/>
              </a:rPr>
              <a:t>linear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54960" y="3835440"/>
            <a:ext cx="1157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d4d4d"/>
                </a:solidFill>
                <a:latin typeface="Verdana"/>
              </a:rPr>
              <a:t>Depreciación 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d4d4d"/>
                </a:solidFill>
                <a:latin typeface="Verdana"/>
              </a:rPr>
              <a:t>acelerada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272200" y="1355760"/>
            <a:ext cx="3260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d4d4d"/>
                </a:solidFill>
                <a:latin typeface="Verdana"/>
              </a:rPr>
              <a:t>Depreciación es el cargo por utilización de un activo para producción, no representa flujo de efectivo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03280" y="6280200"/>
            <a:ext cx="640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1. The Meaning of company accounts, Walter Reid and DR Myddelton, 1997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682308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6157800" y="2133720"/>
            <a:ext cx="719280" cy="28872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56360" y="3213000"/>
            <a:ext cx="719280" cy="28908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156360" y="6381720"/>
            <a:ext cx="719280" cy="28908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Ustedes son …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704000" cy="2000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900000" y="3429000"/>
            <a:ext cx="777564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aso: Impuesto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4d4d4d"/>
                </a:solidFill>
                <a:latin typeface="Verdana"/>
              </a:rPr>
              <a:t>Impuestos son recaudados para pagar el gasto del gobierno, luego son territoriales</a:t>
            </a: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4d4d4d"/>
                </a:solidFill>
                <a:latin typeface="Verdana"/>
              </a:rPr>
              <a:t>Los principales tipos de impuestos en Chile son</a:t>
            </a: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Verdana"/>
              </a:rPr>
              <a:t>Impuesto a la Renta*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8000"/>
                </a:solidFill>
                <a:latin typeface="Verdana"/>
              </a:rPr>
              <a:t>Primera categoría:</a:t>
            </a:r>
            <a:r>
              <a:rPr b="0" lang="es-ES" sz="1400" spc="-1" strike="noStrike">
                <a:solidFill>
                  <a:srgbClr val="4d4d4d"/>
                </a:solidFill>
                <a:latin typeface="Verdana"/>
              </a:rPr>
              <a:t> grava las rentas del capital (utilidades de empresas, rentas de capitales mobiliarios, rentas de bienes raíces, etc.) – régimen de renta presunta.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8000"/>
                </a:solidFill>
                <a:latin typeface="Verdana"/>
              </a:rPr>
              <a:t>Segunda Categoría:</a:t>
            </a:r>
            <a:r>
              <a:rPr b="0" lang="es-ES" sz="1400" spc="-1" strike="noStrike">
                <a:solidFill>
                  <a:srgbClr val="4d4d4d"/>
                </a:solidFill>
                <a:latin typeface="Verdana"/>
              </a:rPr>
              <a:t> Grava las rentas del trabajo y es progresivo (porcentaje a pagar aumenta con el monto de la renta).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8000"/>
                </a:solidFill>
                <a:latin typeface="Verdana"/>
              </a:rPr>
              <a:t>Global Complementario:</a:t>
            </a:r>
            <a:r>
              <a:rPr b="0" lang="es-ES" sz="1400" spc="-1" strike="noStrike">
                <a:solidFill>
                  <a:srgbClr val="4d4d4d"/>
                </a:solidFill>
                <a:latin typeface="Verdana"/>
              </a:rPr>
              <a:t> grava el total de las rentas obtenidas (consolidadas) por personas naturales y es progresivo. Dadas las provisiones mensuales realizadas por los impuestos de 1ra y 2da categoría es necesario realizar una re-liquidación anual (mes de Abril), tomando la 1ra categoría como crédito (para evitar doble tributación).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8000"/>
                </a:solidFill>
                <a:latin typeface="Verdana"/>
              </a:rPr>
              <a:t>Adicional:</a:t>
            </a:r>
            <a:r>
              <a:rPr b="0" lang="es-ES" sz="1400" spc="-1" strike="noStrike">
                <a:solidFill>
                  <a:srgbClr val="4d4d4d"/>
                </a:solidFill>
                <a:latin typeface="Verdana"/>
              </a:rPr>
              <a:t> Grava las rentas de fuente chilena obtenidas por personas extranjeras.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Verdana"/>
              </a:rPr>
              <a:t>Impuesto al consumo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8000"/>
                </a:solidFill>
                <a:latin typeface="Verdana"/>
              </a:rPr>
              <a:t>Impuesto al Valor Agregado</a:t>
            </a:r>
            <a:r>
              <a:rPr b="0" lang="es-ES_tradnl" sz="1400" spc="-1" strike="noStrike">
                <a:solidFill>
                  <a:srgbClr val="4d4d4d"/>
                </a:solidFill>
                <a:latin typeface="Verdana"/>
              </a:rPr>
              <a:t> (19% IVA) calculado sobre la diferencia entre las ventas (débito fiscal) y las compras (crédito fiscal)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8000"/>
                </a:solidFill>
                <a:latin typeface="Verdana"/>
              </a:rPr>
              <a:t>Impuesto de timbres y estampillas</a:t>
            </a:r>
            <a:r>
              <a:rPr b="0" lang="es-ES_tradnl" sz="1400" spc="-1" strike="noStrike">
                <a:solidFill>
                  <a:srgbClr val="4d4d4d"/>
                </a:solidFill>
                <a:latin typeface="Verdana"/>
              </a:rPr>
              <a:t>, graba las operaciones de crédito y movimientos de dinero (ex: cheque o retiro del cajero automático $ 129)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Verdana"/>
              </a:rPr>
              <a:t>Otros: Combustible, Aranceles o Comercio exterior, Tabaco,…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682560" y="6021360"/>
            <a:ext cx="792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d4d4d"/>
                </a:solidFill>
                <a:latin typeface="Verdana"/>
              </a:rPr>
              <a:t>*Se realiza una declaración en Abril de cada año, donde se calcula pago o devolución según los PPM enterados mensualmente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aso: Infl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13940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Inflación es términos simples es “mucho dinero persiguiendo muy pocos bienes”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La inflación es un problema para la contabilidad dado que “cambia la unidad de medida” utilizada (dinero)  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Para solucionar este problema se puede ajustar la unidad de medida utilizada (dinero) según su variación en la capacidad de compra (IPC) de cada año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4d4d4d"/>
                </a:solidFill>
                <a:latin typeface="Verdana"/>
              </a:rPr>
              <a:t>Activos monetarios no están afectos a corrección por paridad de compra, luego “pierden valor”</a:t>
            </a: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4d4d4d"/>
                </a:solidFill>
                <a:latin typeface="Verdana"/>
              </a:rPr>
              <a:t>Activos No monetarios si son corregidos para mantener su “valor”</a:t>
            </a: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4d4d4d"/>
                </a:solidFill>
                <a:latin typeface="Verdana"/>
              </a:rPr>
              <a:t>Esta cuenta se incorpora en el EERR como Corrección Monetaria  </a:t>
            </a: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1403280" y="6208560"/>
            <a:ext cx="640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1. The Meaning of company accounts, Walter Reid and DR Myddelton, 1997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223920"/>
            <a:ext cx="9144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cc3300"/>
                </a:solidFill>
                <a:latin typeface="Verdana"/>
              </a:rPr>
              <a:t>Newscorporation: Interesante y controversial</a:t>
            </a:r>
            <a:br>
              <a:rPr sz="2600"/>
            </a:br>
            <a:r>
              <a:rPr b="1" lang="es-CL" sz="2600" spc="-1" strike="noStrike">
                <a:solidFill>
                  <a:srgbClr val="cc3300"/>
                </a:solidFill>
                <a:latin typeface="Verdana"/>
              </a:rPr>
              <a:t>(Tax Havens) </a:t>
            </a:r>
            <a:r>
              <a:rPr b="1" lang="es-ES_tradnl" sz="2400" spc="-1" strike="noStrike" baseline="30000">
                <a:solidFill>
                  <a:srgbClr val="cc3300"/>
                </a:solidFill>
                <a:latin typeface="Verdana"/>
              </a:rPr>
              <a:t>1</a:t>
            </a:r>
            <a:endParaRPr b="1" lang="en-US" sz="2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4d4d4d"/>
                </a:solidFill>
                <a:latin typeface="Verdana"/>
              </a:rPr>
              <a:t>Ruppert Murdoch es presidente de News Corporation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4d4d4d"/>
                </a:solidFill>
                <a:latin typeface="Verdana"/>
              </a:rPr>
              <a:t>News Corporation tiene aproximadamente un 70% de sus operaciones en USA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4d4d4d"/>
                </a:solidFill>
                <a:latin typeface="Verdana"/>
              </a:rPr>
              <a:t>USA tiene impuestos significativamente mayores que países como: Bahamas, Islas Caimán, Antillas Holandesas … (paraísos fiscales)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4d4d4d"/>
                </a:solidFill>
                <a:latin typeface="Verdana"/>
              </a:rPr>
              <a:t>News Corporation (USA) ha transferido sus utilidades a News Corporation (Antillas) logrando prácticamente NO pagar impuestos en USA y reduciendo de manera notable el total de impuestos pagados por el Grupo Newscorporation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4d4d4d"/>
                </a:solidFill>
                <a:latin typeface="Verdana"/>
              </a:rPr>
              <a:t>Murdoch dice, “mover activos de esta forma es uno de los beneficios de ser global…” ; si bien esta actividad es legal, otros cuestionan la ética… 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CL" sz="1900" spc="-1" strike="noStrike">
                <a:solidFill>
                  <a:srgbClr val="4d4d4d"/>
                </a:solidFill>
                <a:latin typeface="Verdana"/>
              </a:rPr>
              <a:t>quien gana??? quien pierde??? que políticas sobre inversiones se pueden tomar???...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1403280" y="6280200"/>
            <a:ext cx="640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1. Fundamentals of Financial Management, Brigham &amp; Houston, 1998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258920" y="1557360"/>
            <a:ext cx="6591240" cy="4248000"/>
          </a:xfrm>
          <a:prstGeom prst="ellipse">
            <a:avLst/>
          </a:prstGeom>
          <a:noFill/>
          <a:ln cap="rnd" w="936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7720" y="357336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Operacione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024440" y="1333440"/>
            <a:ext cx="90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Venta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685200" y="4365720"/>
            <a:ext cx="186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Verdana"/>
              </a:rPr>
              <a:t>Contabilidad</a:t>
            </a:r>
            <a:r>
              <a:rPr b="1" lang="es-CL" sz="2000" spc="-1" strike="noStrike">
                <a:solidFill>
                  <a:srgbClr val="4d4d4d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08760" y="493380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Tecnología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30360" y="198900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12760" y="363852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Finanza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35440" y="3208320"/>
            <a:ext cx="15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d4d4d"/>
                </a:solidFill>
                <a:latin typeface="Verdana"/>
              </a:rPr>
              <a:t>Cliente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938920" y="501336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Recursos humano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61160" y="1916280"/>
            <a:ext cx="154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Compras 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Proveedore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49680" y="5445000"/>
            <a:ext cx="12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Aspectos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legale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1280" y="1557360"/>
            <a:ext cx="3492720" cy="4464000"/>
          </a:xfrm>
          <a:prstGeom prst="ellipse">
            <a:avLst/>
          </a:prstGeom>
          <a:gradFill rotWithShape="0">
            <a:gsLst>
              <a:gs pos="0">
                <a:srgbClr val="ffff66">
                  <a:alpha val="50196"/>
                </a:srgbClr>
              </a:gs>
              <a:gs pos="100000">
                <a:srgbClr val="75752f">
                  <a:alpha val="50196"/>
                </a:srgbClr>
              </a:gs>
            </a:gsLst>
            <a:lin ang="5400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7214600">
            <a:off x="4607640" y="-278280"/>
            <a:ext cx="1944720" cy="4464000"/>
          </a:xfrm>
          <a:prstGeom prst="ellipse">
            <a:avLst/>
          </a:prstGeom>
          <a:gradFill rotWithShape="0">
            <a:gsLst>
              <a:gs pos="0">
                <a:srgbClr val="ffff66">
                  <a:alpha val="50196"/>
                </a:srgbClr>
              </a:gs>
              <a:gs pos="100000">
                <a:srgbClr val="75752f">
                  <a:alpha val="50196"/>
                </a:srgbClr>
              </a:gs>
            </a:gsLst>
            <a:lin ang="9786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5016200">
            <a:off x="5058360" y="1933920"/>
            <a:ext cx="2448000" cy="5580360"/>
          </a:xfrm>
          <a:prstGeom prst="ellipse">
            <a:avLst/>
          </a:prstGeom>
          <a:gradFill rotWithShape="0">
            <a:gsLst>
              <a:gs pos="0">
                <a:srgbClr val="ffff66">
                  <a:alpha val="50196"/>
                </a:srgbClr>
              </a:gs>
              <a:gs pos="100000">
                <a:srgbClr val="75752f">
                  <a:alpha val="50196"/>
                </a:srgbClr>
              </a:gs>
            </a:gsLst>
            <a:lin ang="11982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6120" y="1341360"/>
            <a:ext cx="13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Operación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69240" y="1125360"/>
            <a:ext cx="19954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Comercial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(quedo pendiente de clase anterior Proyección de Beneficios)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10760" y="5805360"/>
            <a:ext cx="22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Financiamiento y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Administración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320" y="404640"/>
            <a:ext cx="89596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cc3300"/>
                </a:solidFill>
                <a:latin typeface="Verdana"/>
              </a:rPr>
              <a:t>Especialidades de una Empresas</a:t>
            </a:r>
            <a:endParaRPr b="0" lang="en-US" sz="26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Contabilidad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560" y="1296720"/>
            <a:ext cx="8785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d4d4d"/>
                </a:solidFill>
                <a:latin typeface="Verdana"/>
              </a:rPr>
              <a:t>Contabilidad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Principios contables fundamental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Estados contabl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Modelo de operación contable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d4d4d"/>
                </a:solidFill>
                <a:latin typeface="Verdana"/>
              </a:rPr>
              <a:t>Cálculo de ingresos potencial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d4d4d"/>
                </a:solidFill>
                <a:latin typeface="Verdana"/>
              </a:rPr>
              <a:t>Información de Costos para tomar decision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Conceptos básico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Casos: Activo fijo (depreciación), Impuestos e Inflación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Casos: News Corporation (Interesante y controversial)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Balance General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1258920" y="1989000"/>
            <a:ext cx="648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9647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cc3300"/>
                </a:solidFill>
                <a:latin typeface="Verdana"/>
              </a:rPr>
              <a:t>Principios contables fundamentales </a:t>
            </a:r>
            <a:r>
              <a:rPr b="1" lang="es-ES_tradnl" sz="2400" spc="-1" strike="noStrike" baseline="30000">
                <a:solidFill>
                  <a:srgbClr val="cc3300"/>
                </a:solidFill>
                <a:latin typeface="Verdana"/>
              </a:rPr>
              <a:t>1 2</a:t>
            </a:r>
            <a:endParaRPr b="1" lang="en-US" sz="2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e asume que la empresa se mantiene en funcionamiento (“going concern concept”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e reconocen los ingresos y costos cuando los eventos ocurren, no cuando se realiza el flujo monetario (devengado o “accuals concept”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e requiere consistencia, de un periodo a otro, en el tratamiento de los ítems similares (“consistency concept”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e requiere ser conservador, contabilizar ingresos sólo cuando estos han sido realizados y hacer provisiones para los gastos o perdidas aún si no son totalmente seguras (“prudence concept”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1403280" y="6093000"/>
            <a:ext cx="640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1. The Meaning of company accounts, Walter Reid and DR Myddelton, 1997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2. Apéndice A, Ingeniería Económica, Sullivan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stados contables </a:t>
            </a:r>
            <a:r>
              <a:rPr b="1" lang="es-ES_tradnl" sz="2800" spc="-1" strike="noStrike" baseline="30000">
                <a:solidFill>
                  <a:srgbClr val="cc3300"/>
                </a:solidFill>
                <a:latin typeface="Verdana"/>
              </a:rPr>
              <a:t>1 2</a:t>
            </a:r>
            <a:endParaRPr b="1" lang="en-US" sz="28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l menos una vez al año las empresas deben emitir: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stado de resultados (“profit and loss statement” o “P&amp;L” o EE.RR.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600" spc="-1" strike="noStrike">
                <a:solidFill>
                  <a:srgbClr val="4d4d4d"/>
                </a:solidFill>
                <a:latin typeface="Verdana"/>
              </a:rPr>
              <a:t>Resumen de las ventas, gastos y utilidad para un periodo con contable (ex: Q4 2006 – cuarto trimestre del año 2006)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d4d4d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Balance (“ balance sheet”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600" spc="-1" strike="noStrike">
                <a:solidFill>
                  <a:srgbClr val="4d4d4d"/>
                </a:solidFill>
                <a:latin typeface="Verdana"/>
              </a:rPr>
              <a:t>Resumen a una fecha (ex: 31-12-2006) de la acumulación de recursos que han sido provistos por terceros a una empresa y como estos han sido utilizados en activo fijo y capital de trabajo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600" spc="-1" strike="noStrike">
                <a:solidFill>
                  <a:srgbClr val="4d4d4d"/>
                </a:solidFill>
                <a:latin typeface="Verdana"/>
              </a:rPr>
              <a:t>Presentación de la posición financiera de una empresa en un momento del tiempo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lujo de caja (“cash flow statement”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d4d4d"/>
                </a:solidFill>
                <a:latin typeface="Verdana"/>
              </a:rPr>
              <a:t>Cá</a:t>
            </a:r>
            <a:r>
              <a:rPr b="0" lang="es-ES_tradnl" sz="1400" spc="-1" strike="noStrike">
                <a:solidFill>
                  <a:srgbClr val="4d4d4d"/>
                </a:solidFill>
                <a:latin typeface="Verdana"/>
              </a:rPr>
              <a:t>lculo de diferencia de activos entre periodos contables consecutivos, que muestra las fuentes de efectivo y como esta ha sido utilizado para el período contable (ex: año 2006 vs. 2005)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Verdana"/>
              </a:rPr>
              <a:t>Resumen del impacto, en la caja ($) de una empresa durante un periodo, de las actividades de la operación, inversiones y financiamiento; en oposición al estado de resultados. 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1403280" y="6093000"/>
            <a:ext cx="640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1. The Meaning of company accounts, Walter Reid and DR Myddelton, 1997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2. Apéndice A, Ingeniería Económica, Sullivan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Balance General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1258920" y="1989000"/>
            <a:ext cx="648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-7920" y="-27000"/>
            <a:ext cx="915192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Balance General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1258920" y="1989000"/>
            <a:ext cx="648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76360" y="0"/>
            <a:ext cx="838836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Anita Ramírez</dc:creator>
  <dc:description/>
  <dc:language>en-US</dc:language>
  <cp:lastModifiedBy>Cristian Palacios Aguirre</cp:lastModifiedBy>
  <cp:lastPrinted>2002-11-13T13:47:55Z</cp:lastPrinted>
  <dcterms:modified xsi:type="dcterms:W3CDTF">2007-03-08T12:19:34Z</dcterms:modified>
  <cp:revision>413</cp:revision>
  <dc:subject/>
  <dc:title>Formulación de Proyectos</dc:title>
</cp:coreProperties>
</file>