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10.wmf" ContentType="image/x-wmf"/>
  <Override PartName="/ppt/media/image16.png" ContentType="image/png"/>
  <Override PartName="/ppt/media/image15.png" ContentType="image/png"/>
  <Override PartName="/ppt/media/image1.jpeg" ContentType="image/jpeg"/>
  <Override PartName="/ppt/media/image2.wmf" ContentType="image/x-wmf"/>
  <Override PartName="/ppt/media/image3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png" ContentType="image/png"/>
  <Override PartName="/ppt/media/image4.png" ContentType="image/png"/>
  <Override PartName="/ppt/media/image12.wmf" ContentType="image/x-wmf"/>
  <Override PartName="/ppt/media/image9.wmf" ContentType="image/x-wmf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3300"/>
                </a:solidFill>
                <a:latin typeface="Verdana"/>
              </a:rPr>
              <a:t>Click to move the slide</a:t>
            </a:r>
            <a:endParaRPr b="1" i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EBBA9-3274-412E-B88C-06016C56E2A3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04520-5C50-4A3C-B737-9DF7CC251DDF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E6167-CC39-4B3B-90D0-99B1085BF73F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69A8A-D33D-4395-B23D-E37678BC0D3D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D9B0B-2ACC-4C39-ADA5-7CD6EDD90078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99D8E-5875-48E0-B01A-8D62C92D7A4B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9A4E5-A3D1-4E0A-8440-6EDF07B72901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430431-DA7F-499C-8953-40F5BEE1D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EC888F-858E-4D61-8A07-4F6738C2C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89C354-C4EA-4B1B-BAC1-8A3941F4D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E01669-0E8A-4BD5-A7D2-207098A17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F5D7AE-70C0-48F7-9A46-37E7893D9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99FB72-6E3F-4D07-BC87-6481582A8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D232DC-DF75-4312-A2C2-925C69F6F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823644-035F-479A-85B5-4D895302C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7EC7CF-A5BB-4081-B442-0A0C7691B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060C44-070C-4350-9294-AC5653408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830FF6-056A-4431-8459-34C6F10DD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B8D864-EE92-46D3-96DD-2FCCC0CD1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6524640"/>
            <a:ext cx="7925040" cy="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11280" y="6524280"/>
            <a:ext cx="79214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969696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Verdana"/>
              </a:rPr>
              <a:t>IN42A – EVALUACIÓN DE PROYEC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55640" y="105264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2205000"/>
            <a:ext cx="7632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i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d4d4d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9028A-C725-4C58-9088-235CB8069371}" type="slidenum">
              <a:rPr b="0" lang="es-ES" sz="12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771640" y="189000"/>
            <a:ext cx="3745080" cy="857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755640" y="364500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99640" y="2204640"/>
            <a:ext cx="748836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cc3300"/>
                </a:solidFill>
                <a:latin typeface="Verdana"/>
              </a:rPr>
              <a:t>IN42A</a:t>
            </a:r>
            <a:br>
              <a:rPr sz="3600"/>
            </a:br>
            <a:r>
              <a:rPr b="1" i="1" lang="es-ES_tradnl" sz="3200" spc="-1" strike="noStrike">
                <a:solidFill>
                  <a:srgbClr val="cc3300"/>
                </a:solidFill>
                <a:latin typeface="Verdana"/>
              </a:rPr>
              <a:t>Evaluación de Proyectos</a:t>
            </a:r>
            <a:endParaRPr b="1" i="1" lang="en-US" sz="32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92" name=""/>
          <p:cNvSpPr/>
          <p:nvPr/>
        </p:nvSpPr>
        <p:spPr>
          <a:xfrm>
            <a:off x="826920" y="4078440"/>
            <a:ext cx="748836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cc3300"/>
                </a:solidFill>
                <a:latin typeface="Verdana"/>
              </a:rPr>
              <a:t>Contabilidad, ingresos potenciales y costos</a:t>
            </a:r>
            <a:br>
              <a:rPr sz="3600"/>
            </a:br>
            <a:br>
              <a:rPr sz="3600"/>
            </a:br>
            <a:r>
              <a:rPr b="1" i="1" lang="es-ES_tradnl" sz="3600" spc="-1" strike="noStrike">
                <a:solidFill>
                  <a:srgbClr val="cc3300"/>
                </a:solidFill>
                <a:latin typeface="Verdana"/>
              </a:rPr>
              <a:t>Sesión # 2</a:t>
            </a:r>
            <a:endParaRPr b="0" lang="en-US" sz="36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Modelo de operación contable </a:t>
            </a:r>
            <a:r>
              <a:rPr b="1" lang="es-ES_tradnl" sz="2800" spc="-1" strike="noStrike" baseline="30000">
                <a:solidFill>
                  <a:srgbClr val="cc3300"/>
                </a:solidFill>
                <a:latin typeface="Verdana"/>
              </a:rPr>
              <a:t>1</a:t>
            </a:r>
            <a:endParaRPr b="1" lang="en-US" sz="28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4d4d4d"/>
                </a:solidFill>
                <a:latin typeface="Verdana"/>
              </a:rPr>
              <a:t>Registrar los asientos contables (libros de doble entrada o cuentas T)</a:t>
            </a:r>
            <a:endParaRPr b="0" lang="en-US" sz="2500" spc="-1" strike="noStrike">
              <a:solidFill>
                <a:srgbClr val="4d4d4d"/>
              </a:solidFill>
              <a:latin typeface="Verdana"/>
            </a:endParaRPr>
          </a:p>
          <a:p>
            <a:pPr marL="5716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d4d4d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4d4d4d"/>
                </a:solidFill>
                <a:latin typeface="Verdana"/>
              </a:rPr>
              <a:t>Acumular los ingresos y gastos en el Estado de Resultados</a:t>
            </a:r>
            <a:endParaRPr b="0" lang="en-US" sz="2500" spc="-1" strike="noStrike">
              <a:solidFill>
                <a:srgbClr val="4d4d4d"/>
              </a:solidFill>
              <a:latin typeface="Verdana"/>
            </a:endParaRPr>
          </a:p>
          <a:p>
            <a:pPr marL="5716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d4d4d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4d4d4d"/>
                </a:solidFill>
                <a:latin typeface="Verdana"/>
              </a:rPr>
              <a:t>Analizar “otros ítems” que no han sido ya considerados en el P&amp;L (ex: depreciación, impuestos, corrección monetaria,…)</a:t>
            </a:r>
            <a:endParaRPr b="0" lang="en-US" sz="2500" spc="-1" strike="noStrike">
              <a:solidFill>
                <a:srgbClr val="4d4d4d"/>
              </a:solidFill>
              <a:latin typeface="Verdana"/>
            </a:endParaRPr>
          </a:p>
          <a:p>
            <a:pPr marL="5716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d4d4d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4d4d4d"/>
                </a:solidFill>
                <a:latin typeface="Verdana"/>
              </a:rPr>
              <a:t>Preparar el Balance de cierre</a:t>
            </a:r>
            <a:endParaRPr b="0" lang="en-US" sz="2500" spc="-1" strike="noStrike">
              <a:solidFill>
                <a:srgbClr val="4d4d4d"/>
              </a:solidFill>
              <a:latin typeface="Verdana"/>
            </a:endParaRPr>
          </a:p>
          <a:p>
            <a:pPr marL="5716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d4d4d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4d4d4d"/>
                </a:solidFill>
                <a:latin typeface="Verdana"/>
              </a:rPr>
              <a:t>Preparar el Estado de fuentes y usos</a:t>
            </a:r>
            <a:endParaRPr b="0" lang="en-US" sz="25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1403280" y="6208560"/>
            <a:ext cx="640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4d4d4d"/>
                </a:solidFill>
                <a:latin typeface="Verdana"/>
              </a:rPr>
              <a:t>1. The Meaning of company accounts, Walter Reid and DR Myddelton, 1997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cc3300"/>
                </a:solidFill>
                <a:latin typeface="Verdana"/>
              </a:rPr>
              <a:t>Fuentes y usos de efectiv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79280" y="1197000"/>
            <a:ext cx="4969080" cy="23432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4500720" y="3521160"/>
            <a:ext cx="4643280" cy="32925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614880" y="4292640"/>
            <a:ext cx="336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d4d4d"/>
                </a:solidFill>
                <a:latin typeface="Verdana"/>
              </a:rPr>
              <a:t>Unos US$ 32 millones 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d4d4d"/>
                </a:solidFill>
                <a:latin typeface="Verdana"/>
              </a:rPr>
              <a:t>por cada avión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9280" y="576360"/>
            <a:ext cx="80010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000" spc="-1" strike="noStrike">
                <a:solidFill>
                  <a:srgbClr val="cc3300"/>
                </a:solidFill>
                <a:latin typeface="Verdana"/>
              </a:rPr>
              <a:t>Metodología para calcular ingresos potenciales</a:t>
            </a:r>
            <a:endParaRPr b="1" lang="en-US" sz="30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838080" y="1197000"/>
            <a:ext cx="755028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609480" indent="-609480">
              <a:lnSpc>
                <a:spcPct val="100000"/>
              </a:lnSpc>
              <a:spcAft>
                <a:spcPts val="649"/>
              </a:spcAft>
              <a:buClr>
                <a:srgbClr val="cc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4d4d4d"/>
                </a:solidFill>
                <a:latin typeface="Verdana"/>
              </a:rPr>
              <a:t>Diseño y aplicación del estudio de mercado</a:t>
            </a:r>
            <a:r>
              <a:rPr b="0" lang="es-ES_tradnl" sz="2400" spc="-1" strike="noStrike" baseline="30000">
                <a:solidFill>
                  <a:srgbClr val="4d4d4d"/>
                </a:solidFill>
                <a:latin typeface="Verdana"/>
              </a:rPr>
              <a:t>1 </a:t>
            </a:r>
            <a:r>
              <a:rPr b="0" lang="es-ES" sz="2600" spc="-1" strike="noStrike">
                <a:solidFill>
                  <a:srgbClr val="4d4d4d"/>
                </a:solidFill>
                <a:latin typeface="Verdana"/>
              </a:rPr>
              <a:t>para determinar los ingresos </a:t>
            </a:r>
            <a:r>
              <a:rPr b="0" lang="es-ES_tradnl" sz="2400" spc="-1" strike="noStrike" baseline="30000">
                <a:solidFill>
                  <a:srgbClr val="4d4d4d"/>
                </a:solidFill>
                <a:latin typeface="Verdana"/>
              </a:rPr>
              <a:t>2</a:t>
            </a:r>
            <a:r>
              <a:rPr b="0" lang="es-ES" sz="2600" spc="-1" strike="noStrike">
                <a:solidFill>
                  <a:srgbClr val="4d4d4d"/>
                </a:solidFill>
                <a:latin typeface="Verdana"/>
              </a:rPr>
              <a:t> potenciales de un proyecto</a:t>
            </a:r>
            <a:endParaRPr b="0" lang="en-US" sz="2600" spc="-1" strike="noStrike">
              <a:solidFill>
                <a:srgbClr val="4d4d4d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Aft>
                <a:spcPts val="649"/>
              </a:spcAft>
              <a:buClr>
                <a:srgbClr val="cc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Aft>
                <a:spcPts val="649"/>
              </a:spcAft>
              <a:buClr>
                <a:srgbClr val="cc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4d4d4d"/>
                </a:solidFill>
                <a:latin typeface="Verdana"/>
              </a:rPr>
              <a:t>Tabulación de datos y proyección sobre de resultados sobre el mercado total</a:t>
            </a:r>
            <a:endParaRPr b="0" lang="en-US" sz="2600" spc="-1" strike="noStrike">
              <a:solidFill>
                <a:srgbClr val="4d4d4d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Aft>
                <a:spcPts val="451"/>
              </a:spcAft>
              <a:buClr>
                <a:srgbClr val="cc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Aft>
                <a:spcPts val="601"/>
              </a:spcAft>
              <a:buClr>
                <a:srgbClr val="cc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4d4d4d"/>
                </a:solidFill>
                <a:latin typeface="Verdana"/>
              </a:rPr>
              <a:t>Análisis: el método estadístico más típicamente utilizado es la regresión lineal</a:t>
            </a:r>
            <a:r>
              <a:rPr b="0" lang="es-ES_tradnl" sz="2400" spc="-1" strike="noStrike" baseline="30000">
                <a:solidFill>
                  <a:srgbClr val="4d4d4d"/>
                </a:solidFill>
                <a:latin typeface="Verdana"/>
              </a:rPr>
              <a:t>3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403280" y="5832360"/>
            <a:ext cx="6408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4d4d4d"/>
                </a:solidFill>
                <a:latin typeface="Verdana"/>
              </a:rPr>
              <a:t>1. Ver “Metodología para estudiar necesidades” IN 42 A Sesión 6 de Marzo 2007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4d4d4d"/>
                </a:solidFill>
                <a:latin typeface="Verdana"/>
              </a:rPr>
              <a:t>2. Ingresos (I) = Precio del producto/servicio (P) * Cantidad de personas que compran (Q)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4d4d4d"/>
                </a:solidFill>
                <a:latin typeface="Verdana"/>
              </a:rPr>
              <a:t>3. Ver Capítulo 5. Preparación y Evaluación de Proyectos, Sapag.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cc3300"/>
                </a:solidFill>
                <a:latin typeface="Verdana"/>
              </a:rPr>
              <a:t>Diseño del estudio de mercad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900000" y="1197000"/>
            <a:ext cx="7272360" cy="528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cc3300"/>
                </a:solidFill>
                <a:latin typeface="Verdana"/>
              </a:rPr>
              <a:t>Tabulación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419640" y="1341360"/>
            <a:ext cx="2592360" cy="10447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3419640" y="2565360"/>
            <a:ext cx="5473440" cy="38210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755640" y="1197000"/>
            <a:ext cx="1971720" cy="53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cc3300"/>
                </a:solidFill>
                <a:latin typeface="Verdana"/>
              </a:rPr>
              <a:t>Análisis por regresión lineal</a:t>
            </a:r>
            <a:endParaRPr b="1" lang="en-US" sz="30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55280" y="1125000"/>
            <a:ext cx="806292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 algn="just">
              <a:spcAft>
                <a:spcPts val="550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Método econométrico </a:t>
            </a:r>
            <a:r>
              <a:rPr b="0" lang="es-ES_tradnl" sz="1800" spc="-1" strike="noStrike" baseline="30000">
                <a:solidFill>
                  <a:srgbClr val="4d4d4d"/>
                </a:solidFill>
                <a:latin typeface="Verdana"/>
              </a:rPr>
              <a:t>1</a:t>
            </a: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 de estimación de demanda, asumiendo comportamiento lineal: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533520" indent="0" algn="just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533520" indent="0" algn="just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spcAft>
                <a:spcPts val="550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donde: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914400" indent="-457200" algn="just">
              <a:spcAft>
                <a:spcPts val="550"/>
              </a:spcAft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P: precio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914400" indent="-457200" algn="just">
              <a:spcAft>
                <a:spcPts val="550"/>
              </a:spcAft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Q: número de persona que pagarían el precio y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914400" indent="0" algn="just">
              <a:spcAft>
                <a:spcPts val="34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spcAft>
                <a:spcPts val="550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Se asume que las “n” </a:t>
            </a:r>
            <a:r>
              <a:rPr b="0" lang="es-ES_tradnl" sz="1800" spc="-1" strike="noStrike" baseline="30000">
                <a:solidFill>
                  <a:srgbClr val="4d4d4d"/>
                </a:solidFill>
                <a:latin typeface="Verdana"/>
              </a:rPr>
              <a:t>2</a:t>
            </a: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 personas entrevistadas son representativas del mercado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3635280" y="1990800"/>
                <a:ext cx="179064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∗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0" name=""/>
          <p:cNvSpPr/>
          <p:nvPr/>
        </p:nvSpPr>
        <p:spPr>
          <a:xfrm>
            <a:off x="539640" y="4941720"/>
            <a:ext cx="8064720" cy="16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4d4d4d"/>
                </a:solidFill>
                <a:latin typeface="Verdana"/>
              </a:rPr>
              <a:t>1. Método también es conocido como “mínimos cuadrados” , dado que los parámetros de la recta (a,b) son estimados al </a:t>
            </a:r>
            <a:r>
              <a:rPr b="0" lang="es-ES" sz="1000" spc="-1" strike="noStrike">
                <a:solidFill>
                  <a:srgbClr val="4d4d4d"/>
                </a:solidFill>
                <a:latin typeface="Verdana"/>
              </a:rPr>
              <a:t>minimiza la distancia al cuadrado entre los puntos observados y la recta de la ecuación.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4d4d4d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4d4d4d"/>
                </a:solidFill>
                <a:latin typeface="Verdana"/>
              </a:rPr>
              <a:t>2. </a:t>
            </a:r>
            <a:r>
              <a:rPr b="0" lang="es-ES" sz="1000" spc="-1" strike="noStrike">
                <a:solidFill>
                  <a:srgbClr val="4d4d4d"/>
                </a:solidFill>
                <a:latin typeface="Verdana"/>
              </a:rPr>
              <a:t>El coeficiente de determinación (R2) indica cuan bueno es el ajuste de la ecuación estimada a los datos reales. Así por ejemplo, R2=0,9 indica que la variable independiente explica un 90% del comportamiento de la variable dependiente</a:t>
            </a:r>
            <a:r>
              <a:rPr b="0" lang="es-CL" sz="1000" spc="-1" strike="noStrike">
                <a:solidFill>
                  <a:srgbClr val="4d4d4d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4d4d4d"/>
                </a:solidFill>
                <a:latin typeface="Verdana"/>
              </a:rPr>
              <a:t>3. El número de personas a entrevistar se determina según la significación estadística requerida. Por ejemplo si se asume que la decisión sigue una distribución Normal (0,1), entonces con un n= 33 se alcanza un 99% de intervalo de confianza 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4d4d4d"/>
                </a:solidFill>
                <a:latin typeface="Verdana"/>
              </a:rPr>
              <a:t>– </a:t>
            </a:r>
            <a:r>
              <a:rPr b="0" lang="es-CL" sz="1000" spc="-1" strike="noStrike">
                <a:solidFill>
                  <a:srgbClr val="4d4d4d"/>
                </a:solidFill>
                <a:latin typeface="Verdana"/>
              </a:rPr>
              <a:t>Ver literatura de Estadísticas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cc3300"/>
                </a:solidFill>
                <a:latin typeface="Verdana"/>
              </a:rPr>
              <a:t>Ingresos potenciales dada la demanda estimada por regresión lineal</a:t>
            </a:r>
            <a:endParaRPr b="1" lang="en-US" sz="2500" spc="-1" strike="noStrike">
              <a:solidFill>
                <a:srgbClr val="cc33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2627280" y="6308640"/>
                <a:ext cx="2451240" cy="24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lasticidad</m:t>
                    </m:r>
                    <m:r>
                      <m:t xml:space="preserve">=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ΔQ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  <m:f>
                      <m:fPr>
                        <m:type m:val="lin"/>
                      </m:fPr>
                      <m:num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</m:den>
                    </m:f>
                    <m:f>
                      <m:fPr>
                        <m:type m:val="lin"/>
                      </m:fPr>
                      <m:num>
                        <m:r>
                          <m:t xml:space="preserve">ΔP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676520" y="1052640"/>
            <a:ext cx="512748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cc3300"/>
                </a:solidFill>
                <a:latin typeface="Verdana"/>
              </a:rPr>
              <a:t>Información de costos para tomar: Conceptos básicos </a:t>
            </a:r>
            <a:r>
              <a:rPr b="1" lang="es-ES_tradnl" sz="2400" spc="-1" strike="noStrike" baseline="30000">
                <a:solidFill>
                  <a:srgbClr val="cc3300"/>
                </a:solidFill>
                <a:latin typeface="Verdana"/>
              </a:rPr>
              <a:t>1 2</a:t>
            </a:r>
            <a:endParaRPr b="1" lang="en-US" sz="2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109000" cy="504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 algn="just">
              <a:lnSpc>
                <a:spcPct val="90000"/>
              </a:lnSpc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Costos fijo versus variable y punto de equlibrio 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533520"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533520"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533520"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533520"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533520"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Costos directos versus costos indirectos (ejemplo: “ABC </a:t>
            </a:r>
            <a:r>
              <a:rPr b="0" lang="es-ES_tradnl" sz="1800" spc="-1" strike="noStrike" baseline="30000">
                <a:solidFill>
                  <a:srgbClr val="4d4d4d"/>
                </a:solidFill>
                <a:latin typeface="Verdana"/>
              </a:rPr>
              <a:t>3</a:t>
            </a: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 Costing” para Servipag)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533520"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Costo marginal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533520"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Inversión (costo hundido y de oportunidad), capital de trabajo (operación) y costo salida (provisiones empleados)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533520"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Costo (valor) mercado versus costo contable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2556000" y="1828800"/>
            <a:ext cx="1873080" cy="12412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4788000" y="1830240"/>
            <a:ext cx="1800000" cy="122076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239760" y="5967360"/>
            <a:ext cx="9085320" cy="70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4d4d4d"/>
                </a:solidFill>
                <a:latin typeface="Verdana"/>
              </a:rPr>
              <a:t>1. Ver Capítulo 6. Preparación y Evaluación de Proyectos, Sapag.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4d4d4d"/>
                </a:solidFill>
                <a:latin typeface="Verdana"/>
              </a:rPr>
              <a:t>1. Ver Capítulo 2. Ingeniería Económica, Sullivan.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4d4d4d"/>
                </a:solidFill>
                <a:latin typeface="Verdana"/>
              </a:rPr>
              <a:t>3. ABC (Activity Based Costing) puede ser una complejidad virtuosa... si puedo separar mercados… discriminar por precio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cc3300"/>
                </a:solidFill>
                <a:latin typeface="Verdana"/>
              </a:rPr>
              <a:t>Caso: Activo fijo y su depreciación</a:t>
            </a:r>
            <a:endParaRPr b="1" lang="en-US" sz="30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1187280" y="1406520"/>
            <a:ext cx="0" cy="4608360"/>
          </a:xfrm>
          <a:prstGeom prst="line">
            <a:avLst/>
          </a:prstGeom>
          <a:ln w="28440">
            <a:solidFill>
              <a:srgbClr val="4d4d4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1187280" y="6014880"/>
            <a:ext cx="6624720" cy="0"/>
          </a:xfrm>
          <a:prstGeom prst="line">
            <a:avLst/>
          </a:prstGeom>
          <a:ln w="28440">
            <a:solidFill>
              <a:srgbClr val="4d4d4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858800" y="5734080"/>
            <a:ext cx="94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Años 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tiempo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71040" y="1052640"/>
            <a:ext cx="98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$ Costo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547640" y="1695600"/>
            <a:ext cx="0" cy="4176720"/>
          </a:xfrm>
          <a:prstGeom prst="line">
            <a:avLst/>
          </a:prstGeom>
          <a:ln w="9360">
            <a:solidFill>
              <a:srgbClr val="4d4d4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359000" y="3344760"/>
            <a:ext cx="3268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Verdana"/>
              </a:rPr>
              <a:t>A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236000" y="4653000"/>
            <a:ext cx="0" cy="1219320"/>
          </a:xfrm>
          <a:prstGeom prst="line">
            <a:avLst/>
          </a:prstGeom>
          <a:ln w="9360">
            <a:solidFill>
              <a:srgbClr val="4d4d4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097760" y="5149800"/>
            <a:ext cx="3301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Verdana"/>
              </a:rPr>
              <a:t>B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 flipV="1">
            <a:off x="1547640" y="6230880"/>
            <a:ext cx="5329440" cy="6480"/>
          </a:xfrm>
          <a:prstGeom prst="line">
            <a:avLst/>
          </a:prstGeom>
          <a:ln w="9360">
            <a:solidFill>
              <a:srgbClr val="4d4d4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437000" y="6086520"/>
            <a:ext cx="3254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Verdana"/>
              </a:rPr>
              <a:t>C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971040" y="6006960"/>
            <a:ext cx="572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4d4d4d"/>
                </a:solidFill>
                <a:latin typeface="Verdana"/>
              </a:rPr>
              <a:t>vida 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4d4d4d"/>
                </a:solidFill>
                <a:latin typeface="Verdana"/>
              </a:rPr>
              <a:t>útil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356960" y="4221000"/>
            <a:ext cx="851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4d4d4d"/>
                </a:solidFill>
                <a:latin typeface="Verdana"/>
              </a:rPr>
              <a:t>valor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4d4d4d"/>
                </a:solidFill>
                <a:latin typeface="Verdana"/>
              </a:rPr>
              <a:t>residual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547640" y="1557360"/>
            <a:ext cx="5688360" cy="2951280"/>
          </a:xfrm>
          <a:prstGeom prst="line">
            <a:avLst/>
          </a:prstGeom>
          <a:ln w="2844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47640" y="1628640"/>
            <a:ext cx="5616720" cy="3024360"/>
          </a:xfrm>
          <a:custGeom>
            <a:avLst/>
            <a:gdLst/>
            <a:ahLst/>
            <a:rect l="l" t="t" r="r" b="b"/>
            <a:pathLst>
              <a:path w="3538" h="1905">
                <a:moveTo>
                  <a:pt x="0" y="0"/>
                </a:moveTo>
                <a:cubicBezTo>
                  <a:pt x="498" y="566"/>
                  <a:pt x="997" y="1133"/>
                  <a:pt x="1587" y="1451"/>
                </a:cubicBezTo>
                <a:cubicBezTo>
                  <a:pt x="2177" y="1769"/>
                  <a:pt x="2857" y="1837"/>
                  <a:pt x="3538" y="1905"/>
                </a:cubicBezTo>
              </a:path>
            </a:pathLst>
          </a:custGeom>
          <a:noFill/>
          <a:ln w="28440">
            <a:solidFill>
              <a:srgbClr val="003366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026240" y="2852640"/>
            <a:ext cx="115776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4d4d4d"/>
                </a:solidFill>
                <a:latin typeface="Verdana"/>
              </a:rPr>
              <a:t>Depreciación </a:t>
            </a:r>
            <a:endParaRPr b="0" lang="en-US" sz="12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4d4d4d"/>
                </a:solidFill>
                <a:latin typeface="Verdana"/>
              </a:rPr>
              <a:t>linear</a:t>
            </a:r>
            <a:endParaRPr b="0" lang="en-US" sz="1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954960" y="3835440"/>
            <a:ext cx="115776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4d4d4d"/>
                </a:solidFill>
                <a:latin typeface="Verdana"/>
              </a:rPr>
              <a:t>Depreciación </a:t>
            </a:r>
            <a:endParaRPr b="0" lang="en-US" sz="12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4d4d4d"/>
                </a:solidFill>
                <a:latin typeface="Verdana"/>
              </a:rPr>
              <a:t>acelerada</a:t>
            </a:r>
            <a:endParaRPr b="0" lang="en-US" sz="1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272200" y="1355760"/>
            <a:ext cx="32605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4d4d4d"/>
                </a:solidFill>
                <a:latin typeface="Verdana"/>
              </a:rPr>
              <a:t>Depreciación es el cargo por utilización de un activo para producción, no representa flujo de efectivo</a:t>
            </a:r>
            <a:endParaRPr b="0" lang="en-US" sz="16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403280" y="6280200"/>
            <a:ext cx="640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4d4d4d"/>
                </a:solidFill>
                <a:latin typeface="Verdana"/>
              </a:rPr>
              <a:t>1. The Meaning of company accounts, Walter Reid and DR Myddelton, 1997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971640" y="0"/>
            <a:ext cx="682308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6157800" y="2133720"/>
            <a:ext cx="719280" cy="288720"/>
          </a:xfrm>
          <a:prstGeom prst="ellipse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156360" y="3213000"/>
            <a:ext cx="719280" cy="289080"/>
          </a:xfrm>
          <a:prstGeom prst="ellipse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156360" y="6381720"/>
            <a:ext cx="719280" cy="289080"/>
          </a:xfrm>
          <a:prstGeom prst="ellipse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cc3300"/>
                </a:solidFill>
                <a:latin typeface="Verdana"/>
              </a:rPr>
              <a:t>Ustedes son …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755640" y="1197000"/>
            <a:ext cx="7704000" cy="2000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900000" y="3429000"/>
            <a:ext cx="7775640" cy="22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280" y="260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Caso: Impuestos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4d4d4d"/>
                </a:solidFill>
                <a:latin typeface="Verdana"/>
              </a:rPr>
              <a:t>Impuestos son recaudados para pagar el gasto del gobierno, luego son territoriales</a:t>
            </a:r>
            <a:endParaRPr b="0" lang="en-US" sz="1700" spc="-1" strike="noStrike">
              <a:solidFill>
                <a:srgbClr val="4d4d4d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d4d4d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4d4d4d"/>
                </a:solidFill>
                <a:latin typeface="Verdana"/>
              </a:rPr>
              <a:t>Los principales tipos de impuestos en Chile son</a:t>
            </a:r>
            <a:endParaRPr b="0" lang="en-US" sz="17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d4d4d"/>
                </a:solidFill>
                <a:latin typeface="Verdana"/>
              </a:rPr>
              <a:t>Impuesto a la Renta*</a:t>
            </a:r>
            <a:endParaRPr b="0" lang="en-US" sz="1400" spc="-1" strike="noStrike">
              <a:solidFill>
                <a:srgbClr val="4d4d4d"/>
              </a:solidFill>
              <a:latin typeface="Verdana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8000"/>
                </a:solidFill>
                <a:latin typeface="Verdana"/>
              </a:rPr>
              <a:t>Primera categoría:</a:t>
            </a:r>
            <a:r>
              <a:rPr b="0" lang="es-ES" sz="1400" spc="-1" strike="noStrike">
                <a:solidFill>
                  <a:srgbClr val="4d4d4d"/>
                </a:solidFill>
                <a:latin typeface="Verdana"/>
              </a:rPr>
              <a:t> grava las rentas del capital (utilidades de empresas, rentas de capitales mobiliarios, rentas de bienes raíces, etc.) – régimen de renta presunta.</a:t>
            </a:r>
            <a:endParaRPr b="0" lang="en-US" sz="1400" spc="-1" strike="noStrike">
              <a:solidFill>
                <a:srgbClr val="4d4d4d"/>
              </a:solidFill>
              <a:latin typeface="Verdana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8000"/>
                </a:solidFill>
                <a:latin typeface="Verdana"/>
              </a:rPr>
              <a:t>Segunda Categoría:</a:t>
            </a:r>
            <a:r>
              <a:rPr b="0" lang="es-ES" sz="1400" spc="-1" strike="noStrike">
                <a:solidFill>
                  <a:srgbClr val="4d4d4d"/>
                </a:solidFill>
                <a:latin typeface="Verdana"/>
              </a:rPr>
              <a:t> Grava las rentas del trabajo y es progresivo (porcentaje a pagar aumenta con el monto de la renta).</a:t>
            </a:r>
            <a:endParaRPr b="0" lang="en-US" sz="1400" spc="-1" strike="noStrike">
              <a:solidFill>
                <a:srgbClr val="4d4d4d"/>
              </a:solidFill>
              <a:latin typeface="Verdana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8000"/>
                </a:solidFill>
                <a:latin typeface="Verdana"/>
              </a:rPr>
              <a:t>Global Complementario:</a:t>
            </a:r>
            <a:r>
              <a:rPr b="0" lang="es-ES" sz="1400" spc="-1" strike="noStrike">
                <a:solidFill>
                  <a:srgbClr val="4d4d4d"/>
                </a:solidFill>
                <a:latin typeface="Verdana"/>
              </a:rPr>
              <a:t> grava el total de las rentas obtenidas (consolidadas) por personas naturales y es progresivo. Dadas las provisiones mensuales realizadas por los impuestos de 1ra y 2da categoría es necesario realizar una re-liquidación anual (mes de Abril), tomando la 1ra categoría como crédito (para evitar doble tributación).</a:t>
            </a:r>
            <a:endParaRPr b="0" lang="en-US" sz="1400" spc="-1" strike="noStrike">
              <a:solidFill>
                <a:srgbClr val="4d4d4d"/>
              </a:solidFill>
              <a:latin typeface="Verdana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8000"/>
                </a:solidFill>
                <a:latin typeface="Verdana"/>
              </a:rPr>
              <a:t>Adicional:</a:t>
            </a:r>
            <a:r>
              <a:rPr b="0" lang="es-ES" sz="1400" spc="-1" strike="noStrike">
                <a:solidFill>
                  <a:srgbClr val="4d4d4d"/>
                </a:solidFill>
                <a:latin typeface="Verdana"/>
              </a:rPr>
              <a:t> Grava las rentas de fuente chilena obtenidas por personas extranjeras.</a:t>
            </a:r>
            <a:endParaRPr b="0" lang="en-US" sz="14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d4d4d"/>
                </a:solidFill>
                <a:latin typeface="Verdana"/>
              </a:rPr>
              <a:t>Impuesto al consumo</a:t>
            </a:r>
            <a:endParaRPr b="0" lang="en-US" sz="1400" spc="-1" strike="noStrike">
              <a:solidFill>
                <a:srgbClr val="4d4d4d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8000"/>
                </a:solidFill>
                <a:latin typeface="Verdana"/>
              </a:rPr>
              <a:t>Impuesto al Valor Agregado</a:t>
            </a:r>
            <a:r>
              <a:rPr b="0" lang="es-ES_tradnl" sz="1400" spc="-1" strike="noStrike">
                <a:solidFill>
                  <a:srgbClr val="4d4d4d"/>
                </a:solidFill>
                <a:latin typeface="Verdana"/>
              </a:rPr>
              <a:t> (19% IVA) calculado sobre la diferencia entre las ventas (débito fiscal) y las compras (crédito fiscal)</a:t>
            </a:r>
            <a:endParaRPr b="0" lang="en-US" sz="1400" spc="-1" strike="noStrike">
              <a:solidFill>
                <a:srgbClr val="4d4d4d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8000"/>
                </a:solidFill>
                <a:latin typeface="Verdana"/>
              </a:rPr>
              <a:t>Impuesto de timbres y estampillas</a:t>
            </a:r>
            <a:r>
              <a:rPr b="0" lang="es-ES_tradnl" sz="1400" spc="-1" strike="noStrike">
                <a:solidFill>
                  <a:srgbClr val="4d4d4d"/>
                </a:solidFill>
                <a:latin typeface="Verdana"/>
              </a:rPr>
              <a:t>, graba las operaciones de crédito y movimientos de dinero (ex: cheque o retiro del cajero automático $ 129)</a:t>
            </a:r>
            <a:endParaRPr b="0" lang="en-US" sz="14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d4d4d"/>
                </a:solidFill>
                <a:latin typeface="Verdana"/>
              </a:rPr>
              <a:t>Otros: Combustible, Aranceles o Comercio exterior, Tabaco,…</a:t>
            </a:r>
            <a:endParaRPr b="0" lang="en-US" sz="1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682560" y="6021360"/>
            <a:ext cx="792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4d4d4d"/>
                </a:solidFill>
                <a:latin typeface="Verdana"/>
              </a:rPr>
              <a:t>*Se realiza una declaración en Abril de cada año, donde se calcula pago o devolución según los PPM enterados mensualmente</a:t>
            </a:r>
            <a:endParaRPr b="0" lang="en-US" sz="12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9280" y="260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Caso: Inflación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13940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4d4d4d"/>
                </a:solidFill>
                <a:latin typeface="Verdana"/>
              </a:rPr>
              <a:t>Inflación es términos simples es “mucho dinero persiguiendo muy pocos bienes”</a:t>
            </a: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4d4d4d"/>
                </a:solidFill>
                <a:latin typeface="Verdana"/>
              </a:rPr>
              <a:t>La inflación es un problema para la contabilidad dado que “cambia la unidad de medida” utilizada (dinero)  </a:t>
            </a: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4d4d4d"/>
                </a:solidFill>
                <a:latin typeface="Verdana"/>
              </a:rPr>
              <a:t>Para solucionar este problema se puede ajustar la unidad de medida utilizada (dinero) según su variación en la capacidad de compra (IPC) de cada año</a:t>
            </a: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4d4d4d"/>
                </a:solidFill>
                <a:latin typeface="Verdana"/>
              </a:rPr>
              <a:t>Activos monetarios no están afectos a corrección por paridad de compra, luego “pierden valor”</a:t>
            </a:r>
            <a:endParaRPr b="0" lang="en-US" sz="17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4d4d4d"/>
                </a:solidFill>
                <a:latin typeface="Verdana"/>
              </a:rPr>
              <a:t>Activos No monetarios si son corregidos para mantener su “valor”</a:t>
            </a:r>
            <a:endParaRPr b="0" lang="en-US" sz="17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4d4d4d"/>
                </a:solidFill>
                <a:latin typeface="Verdana"/>
              </a:rPr>
              <a:t>Esta cuenta se incorpora en el EERR como Corrección Monetaria  </a:t>
            </a:r>
            <a:endParaRPr b="0" lang="en-US" sz="17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1403280" y="6208560"/>
            <a:ext cx="640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4d4d4d"/>
                </a:solidFill>
                <a:latin typeface="Verdana"/>
              </a:rPr>
              <a:t>1. The Meaning of company accounts, Walter Reid and DR Myddelton, 1997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223920"/>
            <a:ext cx="9144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cc3300"/>
                </a:solidFill>
                <a:latin typeface="Verdana"/>
              </a:rPr>
              <a:t>Newscorporation: Interesante y controversial</a:t>
            </a:r>
            <a:br>
              <a:rPr sz="2600"/>
            </a:br>
            <a:r>
              <a:rPr b="1" lang="es-CL" sz="2600" spc="-1" strike="noStrike">
                <a:solidFill>
                  <a:srgbClr val="cc3300"/>
                </a:solidFill>
                <a:latin typeface="Verdana"/>
              </a:rPr>
              <a:t>(Tax Havens) </a:t>
            </a:r>
            <a:r>
              <a:rPr b="1" lang="es-ES_tradnl" sz="2400" spc="-1" strike="noStrike" baseline="30000">
                <a:solidFill>
                  <a:srgbClr val="cc3300"/>
                </a:solidFill>
                <a:latin typeface="Verdana"/>
              </a:rPr>
              <a:t>1</a:t>
            </a:r>
            <a:endParaRPr b="1" lang="en-US" sz="2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4d4d4d"/>
                </a:solidFill>
                <a:latin typeface="Verdana"/>
              </a:rPr>
              <a:t>Ruppert Murdoch es presidente de News Corporation</a:t>
            </a: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4d4d4d"/>
                </a:solidFill>
                <a:latin typeface="Verdana"/>
              </a:rPr>
              <a:t>News Corporation tiene aproximadamente un 70% de sus operaciones en USA</a:t>
            </a: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4d4d4d"/>
                </a:solidFill>
                <a:latin typeface="Verdana"/>
              </a:rPr>
              <a:t>USA tiene impuestos significativamente mayores que países como: Bahamas, Islas Caimán, Antillas Holandesas … (paraísos fiscales)</a:t>
            </a: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4d4d4d"/>
                </a:solidFill>
                <a:latin typeface="Verdana"/>
              </a:rPr>
              <a:t>News Corporation (USA) ha transferido sus utilidades a News Corporation (Antillas) logrando prácticamente NO pagar impuestos en USA y reduciendo de manera notable el total de impuestos pagados por el Grupo Newscorporation</a:t>
            </a: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4d4d4d"/>
                </a:solidFill>
                <a:latin typeface="Verdana"/>
              </a:rPr>
              <a:t>Murdoch dice, “mover activos de esta forma es uno de los beneficios de ser global…” ; si bien esta actividad es legal, otros cuestionan la ética… </a:t>
            </a: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CL" sz="1900" spc="-1" strike="noStrike">
                <a:solidFill>
                  <a:srgbClr val="4d4d4d"/>
                </a:solidFill>
                <a:latin typeface="Verdana"/>
              </a:rPr>
              <a:t>quien gana??? quien pierde??? que políticas sobre inversiones se pueden tomar???...</a:t>
            </a: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91" name=""/>
          <p:cNvSpPr/>
          <p:nvPr/>
        </p:nvSpPr>
        <p:spPr>
          <a:xfrm>
            <a:off x="1403280" y="6280200"/>
            <a:ext cx="640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4d4d4d"/>
                </a:solidFill>
                <a:latin typeface="Verdana"/>
              </a:rPr>
              <a:t>1. Fundamentals of Financial Management, Brigham &amp; Houston, 1998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258920" y="1557360"/>
            <a:ext cx="6591240" cy="4248000"/>
          </a:xfrm>
          <a:prstGeom prst="ellipse">
            <a:avLst/>
          </a:prstGeom>
          <a:noFill/>
          <a:ln cap="rnd" w="9360">
            <a:solidFill>
              <a:srgbClr val="4d4d4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07720" y="3573360"/>
            <a:ext cx="154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Operaciones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024440" y="1333440"/>
            <a:ext cx="90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Ventas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685200" y="4365720"/>
            <a:ext cx="186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0000"/>
                </a:solidFill>
                <a:latin typeface="Verdana"/>
              </a:rPr>
              <a:t>Contabilidad</a:t>
            </a:r>
            <a:r>
              <a:rPr b="1" lang="es-CL" sz="2000" spc="-1" strike="noStrike">
                <a:solidFill>
                  <a:srgbClr val="4d4d4d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08760" y="4933800"/>
            <a:ext cx="14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Tecnologías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30360" y="1989000"/>
            <a:ext cx="128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Marketing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412760" y="3638520"/>
            <a:ext cx="11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Finanzas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835440" y="3208320"/>
            <a:ext cx="150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d4d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4d4d4d"/>
                </a:solidFill>
                <a:latin typeface="Verdana"/>
              </a:rPr>
              <a:t>Cliente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938920" y="501336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Recursos humanos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361160" y="1916280"/>
            <a:ext cx="154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Compras a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Proveedores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549680" y="5445000"/>
            <a:ext cx="120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Aspectos 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legales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1280" y="1557360"/>
            <a:ext cx="3492720" cy="4464000"/>
          </a:xfrm>
          <a:prstGeom prst="ellipse">
            <a:avLst/>
          </a:prstGeom>
          <a:gradFill rotWithShape="0">
            <a:gsLst>
              <a:gs pos="0">
                <a:srgbClr val="ffff66">
                  <a:alpha val="50196"/>
                </a:srgbClr>
              </a:gs>
              <a:gs pos="100000">
                <a:srgbClr val="75752f">
                  <a:alpha val="50196"/>
                </a:srgbClr>
              </a:gs>
            </a:gsLst>
            <a:lin ang="5400000"/>
          </a:gra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17214600">
            <a:off x="4607640" y="-278280"/>
            <a:ext cx="1944720" cy="4464000"/>
          </a:xfrm>
          <a:prstGeom prst="ellipse">
            <a:avLst/>
          </a:prstGeom>
          <a:gradFill rotWithShape="0">
            <a:gsLst>
              <a:gs pos="0">
                <a:srgbClr val="ffff66">
                  <a:alpha val="50196"/>
                </a:srgbClr>
              </a:gs>
              <a:gs pos="100000">
                <a:srgbClr val="75752f">
                  <a:alpha val="50196"/>
                </a:srgbClr>
              </a:gs>
            </a:gsLst>
            <a:lin ang="9786000"/>
          </a:gra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15016200">
            <a:off x="5058360" y="1933920"/>
            <a:ext cx="2448000" cy="5580360"/>
          </a:xfrm>
          <a:prstGeom prst="ellipse">
            <a:avLst/>
          </a:prstGeom>
          <a:gradFill rotWithShape="0">
            <a:gsLst>
              <a:gs pos="0">
                <a:srgbClr val="ffff66">
                  <a:alpha val="50196"/>
                </a:srgbClr>
              </a:gs>
              <a:gs pos="100000">
                <a:srgbClr val="75752f">
                  <a:alpha val="50196"/>
                </a:srgbClr>
              </a:gs>
            </a:gsLst>
            <a:lin ang="11982000"/>
          </a:gra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66120" y="1341360"/>
            <a:ext cx="136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4d4d4d"/>
                </a:solidFill>
                <a:latin typeface="Verdana"/>
              </a:rPr>
              <a:t>Operación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969240" y="1125360"/>
            <a:ext cx="199548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4d4d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4d4d4d"/>
                </a:solidFill>
                <a:latin typeface="Verdana"/>
              </a:rPr>
              <a:t>Comercial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4d4d4d"/>
                </a:solidFill>
                <a:latin typeface="Verdana"/>
              </a:rPr>
              <a:t>(quedo pendiente de clase anterior Proyección de Beneficios)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710760" y="5805360"/>
            <a:ext cx="22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4d4d4d"/>
                </a:solidFill>
                <a:latin typeface="Verdana"/>
              </a:rPr>
              <a:t>Financiamiento y 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4d4d4d"/>
                </a:solidFill>
                <a:latin typeface="Verdana"/>
              </a:rPr>
              <a:t>Administración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6320" y="404640"/>
            <a:ext cx="89596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cc3300"/>
                </a:solidFill>
                <a:latin typeface="Verdana"/>
              </a:rPr>
              <a:t>Especialidades de una Empresas</a:t>
            </a:r>
            <a:endParaRPr b="0" lang="en-US" sz="26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cc3300"/>
                </a:solidFill>
                <a:latin typeface="Verdana"/>
              </a:rPr>
              <a:t>Contabilidad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50560" y="1296720"/>
            <a:ext cx="8785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4d4d4d"/>
                </a:solidFill>
                <a:latin typeface="Verdana"/>
              </a:rPr>
              <a:t>Contabilidad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d4d4d"/>
                </a:solidFill>
                <a:latin typeface="Verdana"/>
              </a:rPr>
              <a:t>Principios contables fundamentales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d4d4d"/>
                </a:solidFill>
                <a:latin typeface="Verdana"/>
              </a:rPr>
              <a:t>Estados contables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d4d4d"/>
                </a:solidFill>
                <a:latin typeface="Verdana"/>
              </a:rPr>
              <a:t>Modelo de operación contable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4d4d4d"/>
                </a:solidFill>
                <a:latin typeface="Verdana"/>
              </a:rPr>
              <a:t>Cálculo de ingresos potenciale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4d4d4d"/>
                </a:solidFill>
                <a:latin typeface="Verdana"/>
              </a:rPr>
              <a:t>Información de Costos para tomar decisione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d4d4d"/>
                </a:solidFill>
                <a:latin typeface="Verdana"/>
              </a:rPr>
              <a:t>Conceptos básicos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d4d4d"/>
                </a:solidFill>
                <a:latin typeface="Verdana"/>
              </a:rPr>
              <a:t>Casos: Activo fijo (depreciación), Impuestos e Inflación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d4d4d"/>
                </a:solidFill>
                <a:latin typeface="Verdana"/>
              </a:rPr>
              <a:t>Casos: News Corporation (Interesante y controversial)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cc3300"/>
                </a:solidFill>
                <a:latin typeface="Verdana"/>
              </a:rPr>
              <a:t>Balance General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17" name=""/>
          <p:cNvSpPr/>
          <p:nvPr/>
        </p:nvSpPr>
        <p:spPr>
          <a:xfrm>
            <a:off x="1258920" y="1989000"/>
            <a:ext cx="648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96472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cc3300"/>
                </a:solidFill>
                <a:latin typeface="Verdana"/>
              </a:rPr>
              <a:t>Principios contables fundamentales </a:t>
            </a:r>
            <a:r>
              <a:rPr b="1" lang="es-ES_tradnl" sz="2400" spc="-1" strike="noStrike" baseline="30000">
                <a:solidFill>
                  <a:srgbClr val="cc3300"/>
                </a:solidFill>
                <a:latin typeface="Verdana"/>
              </a:rPr>
              <a:t>1 2</a:t>
            </a:r>
            <a:endParaRPr b="1" lang="en-US" sz="2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Se asume que la empresa se mantiene en funcionamiento (“going concern concept”)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Se reconocen los ingresos y costos cuando los eventos ocurren, no cuando se realiza el flujo monetario (devengado o “accuals concept”)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Se requiere consistencia, de un periodo a otro, en el tratamiento de los ítems similares (“consistency concept”)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Se requiere ser conservador, contabilizar ingresos sólo cuando estos han sido realizados y hacer provisiones para los gastos o perdidas aún si no son totalmente seguras (“prudence concept”)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1" name=""/>
          <p:cNvSpPr/>
          <p:nvPr/>
        </p:nvSpPr>
        <p:spPr>
          <a:xfrm>
            <a:off x="1403280" y="6093000"/>
            <a:ext cx="6408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4d4d4d"/>
                </a:solidFill>
                <a:latin typeface="Verdana"/>
              </a:rPr>
              <a:t>1. The Meaning of company accounts, Walter Reid and DR Myddelton, 1997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4d4d4d"/>
                </a:solidFill>
                <a:latin typeface="Verdana"/>
              </a:rPr>
              <a:t>2. Apéndice A, Ingeniería Económica, Sullivan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Estados contables </a:t>
            </a:r>
            <a:r>
              <a:rPr b="1" lang="es-ES_tradnl" sz="2800" spc="-1" strike="noStrike" baseline="30000">
                <a:solidFill>
                  <a:srgbClr val="cc3300"/>
                </a:solidFill>
                <a:latin typeface="Verdana"/>
              </a:rPr>
              <a:t>1 2</a:t>
            </a:r>
            <a:endParaRPr b="1" lang="en-US" sz="28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197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l menos una vez al año las empresas deben emitir: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stado de resultados (“profit and loss statement” o “P&amp;L” o EE.RR.)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1600" spc="-1" strike="noStrike">
                <a:solidFill>
                  <a:srgbClr val="4d4d4d"/>
                </a:solidFill>
                <a:latin typeface="Verdana"/>
              </a:rPr>
              <a:t>Resumen de las ventas, gastos y utilidad para un periodo con contable (ex: Q4 2006 – cuarto trimestre del año 2006)</a:t>
            </a:r>
            <a:endParaRPr b="0" lang="en-US" sz="16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d4d4d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4d4d4d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Balance (“ balance sheet”)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1600" spc="-1" strike="noStrike">
                <a:solidFill>
                  <a:srgbClr val="4d4d4d"/>
                </a:solidFill>
                <a:latin typeface="Verdana"/>
              </a:rPr>
              <a:t>Resumen a una fecha (ex: 31-12-2006) de la acumulación de recursos que han sido provistos por terceros a una empresa y como estos han sido utilizados en activo fijo y capital de trabajo</a:t>
            </a:r>
            <a:endParaRPr b="0" lang="en-US" sz="16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1600" spc="-1" strike="noStrike">
                <a:solidFill>
                  <a:srgbClr val="4d4d4d"/>
                </a:solidFill>
                <a:latin typeface="Verdana"/>
              </a:rPr>
              <a:t>Presentación de la posición financiera de una empresa en un momento del tiempo</a:t>
            </a:r>
            <a:endParaRPr b="0" lang="en-US" sz="16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Flujo de caja (“cash flow statement”)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d4d4d"/>
                </a:solidFill>
                <a:latin typeface="Verdana"/>
              </a:rPr>
              <a:t>Cá</a:t>
            </a:r>
            <a:r>
              <a:rPr b="0" lang="es-ES_tradnl" sz="1400" spc="-1" strike="noStrike">
                <a:solidFill>
                  <a:srgbClr val="4d4d4d"/>
                </a:solidFill>
                <a:latin typeface="Verdana"/>
              </a:rPr>
              <a:t>lculo de diferencia de activos entre periodos contables consecutivos, que muestra las fuentes de efectivo y como esta ha sido utilizado para el período contable (ex: año 2006 vs. 2005)</a:t>
            </a:r>
            <a:endParaRPr b="0" lang="en-US" sz="14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d4d4d"/>
                </a:solidFill>
                <a:latin typeface="Verdana"/>
              </a:rPr>
              <a:t>Resumen del impacto, en la caja ($) de una empresa durante un periodo, de las actividades de la operación, inversiones y financiamiento; en oposición al estado de resultados. </a:t>
            </a:r>
            <a:endParaRPr b="0" lang="en-US" sz="1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1403280" y="6093000"/>
            <a:ext cx="6408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4d4d4d"/>
                </a:solidFill>
                <a:latin typeface="Verdana"/>
              </a:rPr>
              <a:t>1. The Meaning of company accounts, Walter Reid and DR Myddelton, 1997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4d4d4d"/>
                </a:solidFill>
                <a:latin typeface="Verdana"/>
              </a:rPr>
              <a:t>2. Apéndice A, Ingeniería Económica, Sullivan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cc3300"/>
                </a:solidFill>
                <a:latin typeface="Verdana"/>
              </a:rPr>
              <a:t>Balance General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1258920" y="1989000"/>
            <a:ext cx="648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-7920" y="-27000"/>
            <a:ext cx="9151920" cy="68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cc3300"/>
                </a:solidFill>
                <a:latin typeface="Verdana"/>
              </a:rPr>
              <a:t>Balance General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1258920" y="1989000"/>
            <a:ext cx="648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576360" y="0"/>
            <a:ext cx="838836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3T04:43:44Z</dcterms:created>
  <dc:creator>Anita Ramírez</dc:creator>
  <dc:description/>
  <dc:language>en-US</dc:language>
  <cp:lastModifiedBy>Cristian Palacios Aguirre</cp:lastModifiedBy>
  <cp:lastPrinted>2002-11-13T13:47:55Z</cp:lastPrinted>
  <dcterms:modified xsi:type="dcterms:W3CDTF">2007-03-08T12:19:34Z</dcterms:modified>
  <cp:revision>413</cp:revision>
  <dc:subject/>
  <dc:title>Formulación de Proyectos</dc:title>
</cp:coreProperties>
</file>