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C360-9EF3-473F-B2E2-F512501F53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5C66-42B5-473A-9C9A-FD72491E6E2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8507-9E50-4C76-9F4E-F1FE88069A6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2721-1202-4DF1-B9BD-411A40AC80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E39B-2038-4A8C-975D-6F14D21EED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CFE6-3C75-4FA6-B46E-EC51DE7BA8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DF3A-326A-4C87-A4CF-EA6E9FA5A4C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04DE3-D677-4945-A4BA-9F8EFF27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482FF-D664-4018-B0C9-D5D533D1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4B024-C175-4016-A469-7E39C2540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ED046-65EA-4BB2-9CAB-C41F14DE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AF9ED-DABC-4E7A-990E-2EF885622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CAA8D-88C5-43D6-82F0-CF809804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D9C32-05DA-4BD4-A492-62F19089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195B7-5F44-497F-B285-C6DAC561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52A52-A191-45B7-B0B4-3B33E99E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9A53B-0794-4495-B088-5D4B5340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CC2BA-CE46-466F-9F52-3D825BC4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7B9D3-46AA-47A3-97BB-93990924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5314-0D16-42E3-A292-BD8E58D29F44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078440"/>
            <a:ext cx="7488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Contabilidad, ingresos potenciales y costos</a:t>
            </a:r>
            <a:br>
              <a:rPr sz="3600"/>
            </a:b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2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Modelo de operación contable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Registrar los asientos contables (libros de doble entrada o cuentas T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cumular los ingresos y gastos en el Estado de Resultad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Analizar “otros ítems” que no han sido ya considerados en el P&amp;L (ex: depreciación, impuestos, corrección monetaria,…)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Balance de cierre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  <a:p>
            <a:pPr marL="571680" indent="-5716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4d4d4d"/>
                </a:solidFill>
                <a:latin typeface="Verdana"/>
              </a:rPr>
              <a:t>Preparar el Estado de fuentes y usos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Fuentes y usos de efectiv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969080" cy="234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00720" y="3521160"/>
            <a:ext cx="4643280" cy="3292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4880" y="4292640"/>
            <a:ext cx="33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Unos US$ 32 millones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d4d4d"/>
                </a:solidFill>
                <a:latin typeface="Verdana"/>
              </a:rPr>
              <a:t>por cada av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576360"/>
            <a:ext cx="80010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Metodología para calcular ingresos potenciale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197000"/>
            <a:ext cx="75502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Diseño y aplicación del estudio de mercado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1 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para determinar los ingresos 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 potenciales de un proyecto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49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Tabulación de datos y proyección sobre de resultados sobre el mercado total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45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Aft>
                <a:spcPts val="601"/>
              </a:spcAft>
              <a:buClr>
                <a:srgbClr val="cc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4d4d4d"/>
                </a:solidFill>
                <a:latin typeface="Verdana"/>
              </a:rPr>
              <a:t>Análisis: el método estadístico más típicamente utilizado es la regresión lineal</a:t>
            </a:r>
            <a:r>
              <a:rPr b="0" lang="es-ES_tradnl" sz="24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03280" y="583236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“Metodología para estudiar necesidades” IN 42 A Sesión 6 de Marzo 200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Ingresos (I) = Precio del producto/servicio (P) * Cantidad de personas que compran (Q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Ver Capítulo 5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Diseño del estudio de mercad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727236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abu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19640" y="1341360"/>
            <a:ext cx="2592360" cy="104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419640" y="2565360"/>
            <a:ext cx="5473440" cy="38210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55640" y="1197000"/>
            <a:ext cx="19717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Análisis por regresión lineal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Método econométrico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1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de estimación de demanda, asumiendo comportamiento lineal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donde: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P: preci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-457200" algn="just">
              <a:spcAft>
                <a:spcPts val="550"/>
              </a:spcAft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Q: número de persona que pagarían el precio y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914400" indent="0" algn="just">
              <a:spcAft>
                <a:spcPts val="34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spcAft>
                <a:spcPts val="550"/>
              </a:spcAft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Se asume que las “n”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2</a:t>
            </a:r>
            <a:r>
              <a:rPr b="0" lang="es-ES" sz="2200" spc="-1" strike="noStrike">
                <a:solidFill>
                  <a:srgbClr val="4d4d4d"/>
                </a:solidFill>
                <a:latin typeface="Verdana"/>
              </a:rPr>
              <a:t> personas entrevistadas son representativas del mercad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635280" y="1990800"/>
                <a:ext cx="17906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39640" y="4941720"/>
            <a:ext cx="80647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Método también es conocido como “mínimos cuadrados” , dado que los parámetros de la recta (a,b) son estimados al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minimiza la distancia al cuadrado entre los puntos observados y la recta de la ecuació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</a:t>
            </a:r>
            <a:r>
              <a:rPr b="0" lang="es-ES" sz="1000" spc="-1" strike="noStrike">
                <a:solidFill>
                  <a:srgbClr val="4d4d4d"/>
                </a:solidFill>
                <a:latin typeface="Verdana"/>
              </a:rPr>
              <a:t>El coeficiente de determinación (R2) indica cuan bueno es el ajuste de la ecuación estimada a los datos reales. Así por ejemplo, R2=0,9 indica que la variable independiente explica un 90% del comportamiento de la variable dependiente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3. El número de personas a entrevistar se determina según la significación estadística requerida. Por ejemplo si se asume que la decisión sigue una distribución Normal (0,1), entonces con un n= 33 se alcanza un 99% de intervalo de confianza 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– </a:t>
            </a: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Ver literatura de Estadísticas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cc3300"/>
                </a:solidFill>
                <a:latin typeface="Verdana"/>
              </a:rPr>
              <a:t>Ingresos potenciales dada la demanda estimada por regresión lineal</a:t>
            </a:r>
            <a:endParaRPr b="1" lang="en-US" sz="25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627280" y="6308640"/>
                <a:ext cx="2451240" cy="2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asticidad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76520" y="1052640"/>
            <a:ext cx="51274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Información de costos para tomar: Conceptos básico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1090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fijo versus variable y punto de equlibrio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s directos versus costos indirectos (ejemplo: “ABC </a:t>
            </a:r>
            <a:r>
              <a:rPr b="0" lang="es-ES_tradnl" sz="1800" spc="-1" strike="noStrike" baseline="30000">
                <a:solidFill>
                  <a:srgbClr val="4d4d4d"/>
                </a:solidFill>
                <a:latin typeface="Verdana"/>
              </a:rPr>
              <a:t>3</a:t>
            </a: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 Costing” para Servipag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marginal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Inversión (costo hundido y de oportunidad), capital de trabajo (operación) y costo salida (provisiones empleados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533520" indent="0" algn="just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533520" indent="-533520" algn="just">
              <a:lnSpc>
                <a:spcPct val="90000"/>
              </a:lnSpc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osto (valor) mercado versus costo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56000" y="1828800"/>
            <a:ext cx="1873080" cy="12412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788000" y="1830240"/>
            <a:ext cx="1800000" cy="12207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39760" y="5967360"/>
            <a:ext cx="908532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6. Preparación y Evaluación de Proyectos, Sapag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Ver Capítulo 2. Ingeniería Económica, Sullivan.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4d4d4d"/>
                </a:solidFill>
                <a:latin typeface="Verdana"/>
              </a:rPr>
              <a:t>3. ABC (Activity Based Costing) puede ser una complejidad virtuosa... si puedo separar mercados… discriminar por precio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aso: Activo fijo y su depreciación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406520"/>
            <a:ext cx="0" cy="460836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187280" y="6014880"/>
            <a:ext cx="6624720" cy="0"/>
          </a:xfrm>
          <a:prstGeom prst="line">
            <a:avLst/>
          </a:prstGeom>
          <a:ln w="2844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58800" y="57340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ñ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emp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1040" y="105264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$ Cos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1695600"/>
            <a:ext cx="0" cy="41767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359000" y="3344760"/>
            <a:ext cx="326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0" cy="121932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097760" y="5149800"/>
            <a:ext cx="330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1547640" y="6230880"/>
            <a:ext cx="5329440" cy="648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37000" y="6086520"/>
            <a:ext cx="32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971040" y="6006960"/>
            <a:ext cx="57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id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úti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56960" y="422100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valor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residual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1557360"/>
            <a:ext cx="5688360" cy="2951280"/>
          </a:xfrm>
          <a:prstGeom prst="line">
            <a:avLst/>
          </a:prstGeom>
          <a:ln w="2844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1628640"/>
            <a:ext cx="5616720" cy="3024360"/>
          </a:xfrm>
          <a:custGeom>
            <a:avLst/>
            <a:gdLst/>
            <a:ahLst/>
            <a:rect l="l" t="t" r="r" b="b"/>
            <a:pathLst>
              <a:path w="3538" h="1905">
                <a:moveTo>
                  <a:pt x="0" y="0"/>
                </a:moveTo>
                <a:cubicBezTo>
                  <a:pt x="498" y="566"/>
                  <a:pt x="997" y="1133"/>
                  <a:pt x="1587" y="1451"/>
                </a:cubicBezTo>
                <a:cubicBezTo>
                  <a:pt x="2177" y="1769"/>
                  <a:pt x="2857" y="1837"/>
                  <a:pt x="3538" y="1905"/>
                </a:cubicBezTo>
              </a:path>
            </a:pathLst>
          </a:custGeom>
          <a:noFill/>
          <a:ln w="28440">
            <a:solidFill>
              <a:srgbClr val="0033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26240" y="28526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linear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4960" y="3835440"/>
            <a:ext cx="1157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Depreciación 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acelerada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72200" y="1355760"/>
            <a:ext cx="326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Verdana"/>
              </a:rPr>
              <a:t>Depreciación es el cargo por utilización de un activo para producción, no representa flujo de efectivo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8230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157800" y="2133720"/>
            <a:ext cx="719280" cy="2887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56360" y="321300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6381720"/>
            <a:ext cx="719280" cy="2890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Ustedes son …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4000" cy="2000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777564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mpues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Impuestos son recaudados para pagar el gasto del gobierno, luego son territoriales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Los principales tipos de impuestos en Chile son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 la Renta*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Primer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capital (utilidades de empresas, rentas de capitales mobiliarios, rentas de bienes raíces, etc.) – régimen de renta presunta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Segunda Categoría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l trabajo y es progresivo (porcentaje a pagar aumenta con el monto de la renta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Global Complementario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el total de las rentas obtenidas (consolidadas) por personas naturales y es progresivo. Dadas las provisiones mensuales realizadas por los impuestos de 1ra y 2da categoría es necesario realizar una re-liquidación anual (mes de Abril), tomando la 1ra categoría como crédito (para evitar doble tributación)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8000"/>
                </a:solidFill>
                <a:latin typeface="Verdana"/>
              </a:rPr>
              <a:t>Adicional:</a:t>
            </a:r>
            <a:r>
              <a:rPr b="0" lang="es-ES" sz="1400" spc="-1" strike="noStrike">
                <a:solidFill>
                  <a:srgbClr val="4d4d4d"/>
                </a:solidFill>
                <a:latin typeface="Verdana"/>
              </a:rPr>
              <a:t> Grava las rentas de fuente chilena obtenidas por personas extranjeras.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Impuesto al consumo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al Valor Agregado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 (19% IVA) calculado sobre la diferencia entre las ventas (débito fiscal) y las compras (crédito fiscal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00"/>
                </a:solidFill>
                <a:latin typeface="Verdana"/>
              </a:rPr>
              <a:t>Impuesto de timbres y estampillas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, graba las operaciones de crédito y movimientos de dinero (ex: cheque o retiro del cajero automático $ 129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Otros: Combustible, Aranceles o Comercio exterior, Tabaco,…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682560" y="6021360"/>
            <a:ext cx="792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*Se realiza una declaración en Abril de cada año, donde se calcula pago o devolución según los PPM enterados mensualmente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Caso: Inflación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394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Inflación es términos simples es “mucho dinero persiguiendo muy pocos bienes”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La inflación es un problema para la contabilidad dado que “cambia la unidad de medida” utilizada (dinero) 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4d4d4d"/>
                </a:solidFill>
                <a:latin typeface="Verdana"/>
              </a:rPr>
              <a:t>Para solucionar este problema se puede ajustar la unidad de medida utilizada (dinero) según su variación en la capacidad de compra (IPC) de cada año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monetarios no están afectos a corrección por paridad de compra, luego “pierden 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Activos No monetarios si son corregidos para mantener su “valor”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d4d4d"/>
                </a:solidFill>
                <a:latin typeface="Verdana"/>
              </a:rPr>
              <a:t>Esta cuenta se incorpora en el EERR como Corrección Monetaria  </a:t>
            </a:r>
            <a:endParaRPr b="0" lang="en-US" sz="17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403280" y="620856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2392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Newscorporation: Interesante y controversial</a:t>
            </a:r>
            <a:br>
              <a:rPr sz="2600"/>
            </a:b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(Tax Havens)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Ruppert Murdoch es presidente de News 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tiene aproximadamente un 70% de sus operaciones en USA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USA tiene impuestos significativamente mayores que países como: Bahamas, Islas Caimán, Antillas Holandesas … (paraísos fiscales)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News Corporation (USA) ha transferido sus utilidades a News Corporation (Antillas) logrando prácticamente NO pagar impuestos en USA y reduciendo de manera notable el total de impuestos pagados por el Grupo Newscorporation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Murdoch dice, “mover activos de esta forma es uno de los beneficios de ser global…” ; si bien esta actividad es legal, otros cuestionan la ética… 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900" spc="-1" strike="noStrike">
                <a:solidFill>
                  <a:srgbClr val="4d4d4d"/>
                </a:solidFill>
                <a:latin typeface="Verdana"/>
              </a:rPr>
              <a:t>quien gana??? quien pierde??? que políticas sobre inversiones se pueden tomar???...</a:t>
            </a: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62802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Fundamentals of Financial Management, Brigham &amp; Houston, 1998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85200" y="4365720"/>
            <a:ext cx="186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Verdana"/>
              </a:rPr>
              <a:t>Contabilidad</a:t>
            </a:r>
            <a:r>
              <a:rPr b="1" lang="es-CL" sz="2000" spc="-1" strike="noStrike">
                <a:solidFill>
                  <a:srgbClr val="4d4d4d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12760" y="363852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inanz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35440" y="320832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8920" y="5013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49680" y="544500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5016200">
            <a:off x="5058360" y="1933920"/>
            <a:ext cx="2448000" cy="558036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69240" y="1125360"/>
            <a:ext cx="19954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(quedo pendiente de clase anterior Proyección de Beneficios)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Contabilidad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296720"/>
            <a:ext cx="8785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ontabil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Principios contables fundamen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Estados contab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Modelo de operación contable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Cálculo de ingresos potenc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d4d4d"/>
                </a:solidFill>
                <a:latin typeface="Verdana"/>
              </a:rPr>
              <a:t>Información de Costos para tomar dec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onceptos básico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Activo fijo (depreciación), Impuestos e Inflació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d4d4d"/>
                </a:solidFill>
                <a:latin typeface="Verdana"/>
              </a:rPr>
              <a:t>Casos: News Corporation (Interesante y controversial)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Principios contables fundamentale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asume que la empresa se mantiene en funcionamiento (“going concern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conocen los ingresos y costos cuando los eventos ocurren, no cuando se realiza el flujo monetario (devengado o “accuals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consistencia, de un periodo a otro, en el tratamiento de los ítems similares (“consistency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quiere ser conservador, contabilizar ingresos sólo cuando estos han sido realizados y hacer provisiones para los gastos o perdidas aún si no son totalmente seguras (“prudence concept”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Estados contables </a:t>
            </a:r>
            <a:r>
              <a:rPr b="1" lang="es-ES_tradnl" sz="2800" spc="-1" strike="noStrike" baseline="30000">
                <a:solidFill>
                  <a:srgbClr val="cc3300"/>
                </a:solidFill>
                <a:latin typeface="Verdana"/>
              </a:rPr>
              <a:t>1 2</a:t>
            </a:r>
            <a:endParaRPr b="1" lang="en-US" sz="28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l menos una vez al año las empresas deben emitir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stado de resultados (“profit and loss statement” o “P&amp;L” o EE.RR.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de las ventas, gastos y utilidad para un periodo con contable (ex: Q4 2006 – cuarto trimestre del año 2006)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lance (“ balance shee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Resumen a una fecha (ex: 31-12-2006) de la acumulación de recursos que han sido provistos por terceros a una empresa y como estos han sido utilizados en activo fijo y capital de trabaj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Presentación de la posición financiera de una empresa en un momento del tiempo</a:t>
            </a: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lujo de caja (“cash flow statement”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d4d4d"/>
                </a:solidFill>
                <a:latin typeface="Verdana"/>
              </a:rPr>
              <a:t>Cá</a:t>
            </a: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lculo de diferencia de activos entre periodos contables consecutivos, que muestra las fuentes de efectivo y como esta ha sido utilizado para el período contable (ex: año 2006 vs. 2005)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d4d4d"/>
                </a:solidFill>
                <a:latin typeface="Verdana"/>
              </a:rPr>
              <a:t>Resumen del impacto, en la caja ($) de una empresa durante un periodo, de las actividades de la operación, inversiones y financiamiento; en oposición al estado de resultados. </a:t>
            </a:r>
            <a:endParaRPr b="0" lang="en-US" sz="1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403280" y="6093000"/>
            <a:ext cx="640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The Meaning of company accounts, Walter Reid and DR Myddelton, 199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2. Apéndice A, Ingeniería Económica, Sullivan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-7920" y="-27000"/>
            <a:ext cx="915192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alance General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58920" y="1989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76360" y="0"/>
            <a:ext cx="838836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08T12:19:34Z</dcterms:modified>
  <cp:revision>413</cp:revision>
  <dc:subject/>
  <dc:title>Formulación de Proyectos</dc:title>
</cp:coreProperties>
</file>