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D7C1-B9C2-4DF0-BF38-DA3F1AD5D3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F5EB-8120-42A0-A569-1102770A60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3119-8017-4F9A-800D-B61A2A42CB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4160" y="696960"/>
            <a:ext cx="4548240" cy="341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F5F-EA5F-489E-853E-F7D49ECDCE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30F3-F24A-4D59-AE1F-39F0648E86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2EEC-EEEF-420D-B7F5-63F6C5082C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9B2B0-962E-4491-B54A-0A28E697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5CEB5-BC72-4F08-B137-D4D57DB0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94C6C-6BB2-4776-8924-E5F1EAB2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5373E-A929-4F47-ACD0-9A903A5E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E076D-CB26-4BD2-8533-F9512E14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8C614-DBF3-4FFC-AF1B-D02260D8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9A74A-6DA1-4092-973D-73A27242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6EFF2-0FDC-42E8-A98B-40ECBC27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779B0-3096-4251-A22A-A861537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BC4DB-3CB3-469D-8B90-8F17D6AF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AC864-2BDD-43E6-9F70-703E6E2F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E71F9-0F35-4162-8703-BF0522B8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7DB9-0DA1-49EE-835C-DBE26B5FA1B0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nford_University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-cursos.cl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860640"/>
            <a:ext cx="74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troducción</a:t>
            </a: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1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33360"/>
            <a:ext cx="8959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lementos básicos de un proyecto Empresarial o Soci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3720" y="126828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estor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 la Idea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1120" y="34941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Ánge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69680" y="494172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apital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 riesg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60960" y="537372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erci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93280" y="4005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Incubador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3040" y="45086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rf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3500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6680" y="24210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lianza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 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9520" y="35733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pecialist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écnic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1628640"/>
            <a:ext cx="3492360" cy="4464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7214600">
            <a:off x="5184000" y="-62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5016200">
            <a:off x="5267880" y="2216880"/>
            <a:ext cx="2232000" cy="511344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3680" y="126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82320" y="5877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Agend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alidad de los negocios hoy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Que es marketing??? Cuales son sus metodologías??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udiar necesidades 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todos para hacer proyección de benefici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4 P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gmentación y posicionamiento 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todología CRM … Ejemplo Entel PC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Que es estrategia???  Cuales son sus metodologías??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dena de valor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Análisis de Porter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FODA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El Escenario De Negocios De Hoy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menazas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Mercado altamente competitiv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Productos </a:t>
            </a:r>
            <a:r>
              <a:rPr b="0" i="1" lang="es-ES_tradnl" sz="1500" spc="-1" strike="noStrike">
                <a:solidFill>
                  <a:srgbClr val="4d4d4d"/>
                </a:solidFill>
                <a:latin typeface="Verdana"/>
              </a:rPr>
              <a:t>comoditizados</a:t>
            </a: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 – cada vez menos productos exclusiv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Los clientes tienen cada vez más opcione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La competencia está enfocada en preci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ambios en el mercad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Ineficiencias operacional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Necesidad de mejorar la gerencia de cost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Desperdicio de recursos con envío de mensajes sin destino especifico – “</a:t>
            </a:r>
            <a:r>
              <a:rPr b="0" i="1" lang="es-ES_tradnl" sz="1500" spc="-1" strike="noStrike">
                <a:solidFill>
                  <a:srgbClr val="4d4d4d"/>
                </a:solidFill>
                <a:latin typeface="Verdana"/>
              </a:rPr>
              <a:t>spray and pray</a:t>
            </a: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” – “pulverizar y rezar”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ortunidades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Las empresas pierden entre 15 y 35% de sus clientes por año</a:t>
            </a:r>
            <a:r>
              <a:rPr b="0" lang="es-ES_tradnl" sz="16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Un aumento de solamente 5% en la retención de clientes puede aumentar la rentabilidad de la empresa entre 25% y 85%</a:t>
            </a:r>
            <a:r>
              <a:rPr b="0" lang="es-ES_tradnl" sz="16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" y="5791320"/>
            <a:ext cx="285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 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um Corpo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arvard Business Review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cc3300"/>
                </a:solidFill>
                <a:latin typeface="Verdana"/>
              </a:rPr>
              <a:t>Ventaja Competitiva...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3840" y="1476360"/>
            <a:ext cx="457524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90000" indent="0">
              <a:spcBef>
                <a:spcPts val="649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PE" sz="26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PE" sz="2600" spc="-1" strike="noStrike">
                <a:solidFill>
                  <a:srgbClr val="4d4d4d"/>
                </a:solidFill>
                <a:latin typeface="Verdana"/>
              </a:rPr>
              <a:t>Nosotros tenemos solamente dos fuentes de ventaja competitiva:</a:t>
            </a:r>
            <a:br>
              <a:rPr sz="2600"/>
            </a:b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56920" indent="-280080">
              <a:spcBef>
                <a:spcPts val="550"/>
              </a:spcBef>
              <a:buClr>
                <a:srgbClr val="cc0000"/>
              </a:buClr>
              <a:buSzPct val="70000"/>
              <a:buFont typeface="Verdana"/>
              <a:buAutoNum type="arabicPeriod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La capacidad de </a:t>
            </a:r>
            <a:r>
              <a:rPr b="0" lang="es-PE" sz="2200" spc="-1" strike="noStrike">
                <a:solidFill>
                  <a:srgbClr val="ff0000"/>
                </a:solidFill>
                <a:latin typeface="Verdana"/>
              </a:rPr>
              <a:t>aprender más sobre nuestros </a:t>
            </a:r>
            <a:r>
              <a:rPr b="0" i="1" lang="es-PE" sz="2200" spc="-1" strike="noStrike">
                <a:solidFill>
                  <a:srgbClr val="ff0000"/>
                </a:solidFill>
                <a:latin typeface="Verdana"/>
              </a:rPr>
              <a:t>clientes</a:t>
            </a: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, más rápido que nuestros competidores</a:t>
            </a:r>
            <a:br>
              <a:rPr sz="2200"/>
            </a:b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556920" indent="-280080">
              <a:spcBef>
                <a:spcPts val="550"/>
              </a:spcBef>
              <a:buClr>
                <a:srgbClr val="cc0000"/>
              </a:buClr>
              <a:buSzPct val="70000"/>
              <a:buFont typeface="Verdana"/>
              <a:buAutoNum type="arabicPeriod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La capacidad de </a:t>
            </a:r>
            <a:r>
              <a:rPr b="0" lang="es-PE" sz="2200" spc="-1" strike="noStrike">
                <a:solidFill>
                  <a:srgbClr val="ff0000"/>
                </a:solidFill>
                <a:latin typeface="Verdana"/>
              </a:rPr>
              <a:t>convertir ese conocimiento en </a:t>
            </a:r>
            <a:r>
              <a:rPr b="0" i="1" lang="es-PE" sz="2200" spc="-1" strike="noStrike">
                <a:solidFill>
                  <a:srgbClr val="ff0000"/>
                </a:solidFill>
                <a:latin typeface="Verdana"/>
              </a:rPr>
              <a:t>acciones</a:t>
            </a: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, más rápido que nuestros competidores”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11840" y="1398600"/>
            <a:ext cx="3789360" cy="3030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846680" y="4503600"/>
            <a:ext cx="379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2120" indent="-22212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-- 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Jack Welch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, sobre la estrategia competitiva de GE para el próximo siglo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2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Market y Marketing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43066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La presentación de una proposición en la forma en que es más probable de ser aceptad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1484280"/>
            <a:ext cx="243828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4842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Desarrollar productos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484280"/>
            <a:ext cx="251460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560600"/>
            <a:ext cx="251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udiar necesidades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Times New Roman"/>
              </a:rPr>
              <a:t>(segmentación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1484280"/>
            <a:ext cx="297180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1523880"/>
            <a:ext cx="2895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Comunicación con clientes </a:t>
            </a:r>
            <a:r>
              <a:rPr b="0" lang="es-CL" sz="2800" spc="-1" strike="noStrike">
                <a:solidFill>
                  <a:srgbClr val="000066"/>
                </a:solidFill>
                <a:latin typeface="Times New Roman"/>
              </a:rPr>
              <a:t>(posicionamiento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8006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017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017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78720" y="6093000"/>
            <a:ext cx="695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arc Vanhuelen – Bernard Dubois / HEC Pari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Ciertas empresas están más orientadas al concepto comercial (ej: Microsoft en sus inicios) otras más al productiv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66600" y="260280"/>
            <a:ext cx="929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Teorías del comportamiento del consumidor:</a:t>
            </a:r>
            <a:br>
              <a:rPr sz="2200"/>
            </a:b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necesidades</a:t>
            </a: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, deseos, motivaciones, personalidad, percepción, formación de preferencias, lideres de opinión,…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36360" y="1197000"/>
            <a:ext cx="6696000" cy="4766040"/>
            <a:chOff x="-36360" y="1197000"/>
            <a:chExt cx="6696000" cy="4766040"/>
          </a:xfrm>
        </p:grpSpPr>
        <p:sp>
          <p:nvSpPr>
            <p:cNvPr id="189" name=""/>
            <p:cNvSpPr/>
            <p:nvPr/>
          </p:nvSpPr>
          <p:spPr>
            <a:xfrm flipV="1">
              <a:off x="-36360" y="1197000"/>
              <a:ext cx="3240000" cy="43927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203640" y="1197000"/>
              <a:ext cx="3456000" cy="43927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-36360" y="5589720"/>
              <a:ext cx="6696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9280" y="4797360"/>
              <a:ext cx="54723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690560" y="3284640"/>
              <a:ext cx="316872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115640" y="4076640"/>
              <a:ext cx="431964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339640" y="2421000"/>
              <a:ext cx="18003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2720" y="5149800"/>
              <a:ext cx="58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Necesidades Sicológicas (hambre, sed, descansar,…)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37560" y="4292640"/>
              <a:ext cx="38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Seguridad (abrigo, protección, …)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3880" y="350028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Pertenencia y afectiva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07960" y="2637000"/>
              <a:ext cx="19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Reconocimi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5200" y="170028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Logr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9240" y="5686560"/>
              <a:ext cx="381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1.Teoría de “Escala de necesidades” de MASLOW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219640" y="1125360"/>
            <a:ext cx="3816360" cy="3527640"/>
          </a:xfrm>
          <a:prstGeom prst="ellipse">
            <a:avLst/>
          </a:prstGeom>
          <a:gradFill rotWithShape="0">
            <a:gsLst>
              <a:gs pos="0">
                <a:srgbClr val="ffff66">
                  <a:alpha val="15294"/>
                </a:srgbClr>
              </a:gs>
              <a:gs pos="100000">
                <a:srgbClr val="75752f">
                  <a:alpha val="15294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651640" y="1695600"/>
            <a:ext cx="3528720" cy="3573360"/>
            <a:chOff x="5651640" y="1695600"/>
            <a:chExt cx="3528720" cy="3573360"/>
          </a:xfrm>
        </p:grpSpPr>
        <p:sp>
          <p:nvSpPr>
            <p:cNvPr id="204" name=""/>
            <p:cNvSpPr/>
            <p:nvPr/>
          </p:nvSpPr>
          <p:spPr>
            <a:xfrm>
              <a:off x="6372360" y="2925720"/>
              <a:ext cx="1800000" cy="151128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50196"/>
                  </a:srgbClr>
                </a:gs>
                <a:gs pos="100000">
                  <a:srgbClr val="75752f">
                    <a:alpha val="50196"/>
                  </a:srgbClr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Individ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1640" y="1989000"/>
              <a:ext cx="3024000" cy="259236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35294"/>
                  </a:srgbClr>
                </a:gs>
                <a:gs pos="100000">
                  <a:srgbClr val="75752f">
                    <a:alpha val="35294"/>
                  </a:srgbClr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Interperson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0400" y="1695600"/>
              <a:ext cx="18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Sociocultur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4280" y="4627440"/>
              <a:ext cx="301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2.Niveles del comportamiento del consumidor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BERNARD DUBOI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855080" y="6067440"/>
            <a:ext cx="60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3.Pequeñas oportunidades son a menudo el comienzo de grandes proyectos.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DEMOSTHEN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7840" y="76320"/>
            <a:ext cx="87501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Metodología para estudiar las necesidade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efinición de tema y objetivos en estud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r participantes de estudi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r al moder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Generar y testear pauta de Focus Group/Entrevistas/Encue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efinir participan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ducción de grupos y rol del moder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nalizar, interpretar y transcribir result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08760" y="6200640"/>
            <a:ext cx="494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Focus Group, Theory and practice – David W. Stewart &amp; Prem. N. Shamdsani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Applied Social Research Methods Series Volume 20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7840" y="76320"/>
            <a:ext cx="87501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Metodolos para hacer proyección de beneficios…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róxima clas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Plan de marketing (4Ps)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Físicos o servicios + Experiencia de compra (procesos de decisión, calidad, 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Producto ampliado (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razón de fondo por que se compra dicho producto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 … verse bien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productos con atributos singulares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joyas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 abogados, zapatillas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ecio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Costo monetarios ($ 50 mil por una chaqueta,…) y no monetarios (tiempo de traslado,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Complejidad es virtuosa... Si puedo separar mercados (discriminar por precio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lasticidad de curvas de demanda (ingresos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tarificaciones complejas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DHL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omoción/ Publicidad – imagen de marca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Inversión o gasto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Producto (Carguita feliz…) -&gt; Diseño piezas publicitarias (agencia publicitaria/mensaje Vivir primeros el Futuro…) -&gt; Plan de medios (agencia de medios/Noticiero canales TV abierta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marcas que generan diferencia de precio 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Entel PCS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 Coca Cola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laza/ Ubicación – canal de distrib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Definición y administración de los lugares donde puedo adquirir o consumir el producto: físicos, virtuales, despacho a domicilio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s de canales de distribución novedosos: Dell USA en los 80’s (arma tu computador y te lo enviamos a domicilio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016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cc3300"/>
                </a:solidFill>
                <a:latin typeface="Verdana"/>
              </a:rPr>
              <a:t>Participación En El Mercado</a:t>
            </a:r>
            <a:br>
              <a:rPr sz="2200"/>
            </a:br>
            <a:r>
              <a:rPr b="1" lang="es-PE" sz="2200" spc="-1" strike="noStrike">
                <a:solidFill>
                  <a:srgbClr val="cc3300"/>
                </a:solidFill>
                <a:latin typeface="Verdana"/>
              </a:rPr>
              <a:t>Vs. Participación En El Cliente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55640" y="3949560"/>
            <a:ext cx="5411880" cy="763560"/>
            <a:chOff x="755640" y="3949560"/>
            <a:chExt cx="5411880" cy="763560"/>
          </a:xfrm>
        </p:grpSpPr>
        <p:sp>
          <p:nvSpPr>
            <p:cNvPr id="219" name=""/>
            <p:cNvSpPr/>
            <p:nvPr/>
          </p:nvSpPr>
          <p:spPr>
            <a:xfrm>
              <a:off x="755640" y="4101840"/>
              <a:ext cx="5181840" cy="45720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3680" y="4101840"/>
              <a:ext cx="4033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Arial"/>
                </a:rPr>
                <a:t>Marketing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s-ES_tradnl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de masa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37480" y="3949560"/>
              <a:ext cx="230040" cy="763560"/>
            </a:xfrm>
            <a:custGeom>
              <a:avLst/>
              <a:gdLst/>
              <a:ahLst/>
              <a:rect l="l" t="t" r="r" b="b"/>
              <a:pathLst>
                <a:path w="145" h="481">
                  <a:moveTo>
                    <a:pt x="0" y="480"/>
                  </a:moveTo>
                  <a:lnTo>
                    <a:pt x="0" y="0"/>
                  </a:lnTo>
                  <a:lnTo>
                    <a:pt x="144" y="240"/>
                  </a:lnTo>
                  <a:lnTo>
                    <a:pt x="0" y="480"/>
                  </a:lnTo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03280" y="4884840"/>
            <a:ext cx="1865520" cy="611640"/>
          </a:xfrm>
          <a:prstGeom prst="borderCallout2">
            <a:avLst>
              <a:gd name="adj1" fmla="val 18750"/>
              <a:gd name="adj2" fmla="val -8333"/>
              <a:gd name="adj3" fmla="val 18180"/>
              <a:gd name="adj4" fmla="val -14129"/>
              <a:gd name="adj5" fmla="val -57527"/>
              <a:gd name="adj6" fmla="val -24500"/>
            </a:avLst>
          </a:prstGeom>
          <a:solidFill>
            <a:srgbClr val="ffff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Captur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más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2160" y="2422440"/>
            <a:ext cx="3184560" cy="611640"/>
          </a:xfrm>
          <a:prstGeom prst="borderCallout2">
            <a:avLst>
              <a:gd name="adj1" fmla="val 18750"/>
              <a:gd name="adj2" fmla="val -8333"/>
              <a:gd name="adj3" fmla="val 18180"/>
              <a:gd name="adj4" fmla="val -4138"/>
              <a:gd name="adj5" fmla="val 94231"/>
              <a:gd name="adj6" fmla="val -24513"/>
            </a:avLst>
          </a:prstGeom>
          <a:solidFill>
            <a:srgbClr val="ffff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Conserv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y  </a:t>
            </a: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Desarroll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los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247920" y="1913040"/>
            <a:ext cx="1068480" cy="4249440"/>
            <a:chOff x="3247920" y="1913040"/>
            <a:chExt cx="1068480" cy="4249440"/>
          </a:xfrm>
        </p:grpSpPr>
        <p:sp>
          <p:nvSpPr>
            <p:cNvPr id="225" name=""/>
            <p:cNvSpPr/>
            <p:nvPr/>
          </p:nvSpPr>
          <p:spPr>
            <a:xfrm>
              <a:off x="3498840" y="2453400"/>
              <a:ext cx="571680" cy="3709080"/>
            </a:xfrm>
            <a:prstGeom prst="rect">
              <a:avLst/>
            </a:prstGeom>
            <a:solidFill>
              <a:srgbClr val="f70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47920" y="1913040"/>
              <a:ext cx="1068480" cy="542160"/>
            </a:xfrm>
            <a:custGeom>
              <a:avLst/>
              <a:gdLst/>
              <a:ahLst/>
              <a:rect l="l" t="t" r="r" b="b"/>
              <a:pathLst>
                <a:path w="673" h="337">
                  <a:moveTo>
                    <a:pt x="0" y="336"/>
                  </a:moveTo>
                  <a:lnTo>
                    <a:pt x="672" y="336"/>
                  </a:lnTo>
                  <a:lnTo>
                    <a:pt x="336" y="0"/>
                  </a:lnTo>
                  <a:lnTo>
                    <a:pt x="0" y="336"/>
                  </a:lnTo>
                </a:path>
              </a:pathLst>
            </a:custGeom>
            <a:solidFill>
              <a:srgbClr val="f70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58880" y="1778040"/>
            <a:ext cx="5989680" cy="4421160"/>
          </a:xfrm>
          <a:custGeom>
            <a:avLst/>
            <a:gdLst/>
            <a:ahLst/>
            <a:rect l="l" t="t" r="r" b="b"/>
            <a:pathLst>
              <a:path w="3773" h="2785">
                <a:moveTo>
                  <a:pt x="0" y="0"/>
                </a:moveTo>
                <a:lnTo>
                  <a:pt x="0" y="2784"/>
                </a:lnTo>
                <a:lnTo>
                  <a:pt x="3772" y="2784"/>
                </a:lnTo>
              </a:path>
            </a:pathLst>
          </a:custGeom>
          <a:noFill/>
          <a:ln cap="rnd" w="76320">
            <a:solidFill>
              <a:srgbClr val="00008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094360" y="3879720"/>
            <a:ext cx="3654000" cy="1490040"/>
            <a:chOff x="5094360" y="3879720"/>
            <a:chExt cx="3654000" cy="1490040"/>
          </a:xfrm>
        </p:grpSpPr>
        <p:sp>
          <p:nvSpPr>
            <p:cNvPr id="229" name=""/>
            <p:cNvSpPr/>
            <p:nvPr/>
          </p:nvSpPr>
          <p:spPr>
            <a:xfrm>
              <a:off x="6864120" y="4811400"/>
              <a:ext cx="188424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Alto costo de increm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94360" y="3879720"/>
              <a:ext cx="823680" cy="911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4520" y="4437000"/>
              <a:ext cx="1012320" cy="4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346040" y="1932120"/>
            <a:ext cx="2847960" cy="1826280"/>
            <a:chOff x="1346040" y="1932120"/>
            <a:chExt cx="2847960" cy="1826280"/>
          </a:xfrm>
        </p:grpSpPr>
        <p:sp>
          <p:nvSpPr>
            <p:cNvPr id="233" name=""/>
            <p:cNvSpPr/>
            <p:nvPr/>
          </p:nvSpPr>
          <p:spPr>
            <a:xfrm>
              <a:off x="1346040" y="2967120"/>
              <a:ext cx="1628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Bajo costo de increm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69960" y="1932120"/>
              <a:ext cx="824040" cy="911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097000" y="2421000"/>
              <a:ext cx="1288800" cy="62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04000" y="562284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Número de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88920" y="1644480"/>
            <a:ext cx="24656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Arial"/>
              </a:rPr>
              <a:t>Necesidades que pueden ser satisfech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9680" y="6237360"/>
            <a:ext cx="428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Interactive Marketing, Don Peppers &amp; Martha Roggers - 1994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0464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c3300"/>
                </a:solidFill>
                <a:latin typeface="Verdana"/>
              </a:rPr>
              <a:t>Trate Clientes Distintos de Forma Distint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39960" y="3124080"/>
            <a:ext cx="7315200" cy="1466640"/>
            <a:chOff x="939960" y="3124080"/>
            <a:chExt cx="7315200" cy="1466640"/>
          </a:xfrm>
        </p:grpSpPr>
        <p:sp>
          <p:nvSpPr>
            <p:cNvPr id="241" name=""/>
            <p:cNvSpPr/>
            <p:nvPr/>
          </p:nvSpPr>
          <p:spPr>
            <a:xfrm>
              <a:off x="4265280" y="4032000"/>
              <a:ext cx="39585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99"/>
                  </a:solidFill>
                  <a:latin typeface="Arial Narrow"/>
                </a:rPr>
                <a:t>Aunque no la tengan...</a:t>
              </a:r>
              <a:endParaRPr b="0" lang="en-US" sz="3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9960" y="3124080"/>
              <a:ext cx="7315200" cy="82728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ahoma"/>
                </a:rPr>
                <a:t>¡Algunos clientes siempre tienen la razón!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14400" y="4724280"/>
            <a:ext cx="7315200" cy="1417320"/>
            <a:chOff x="914400" y="4724280"/>
            <a:chExt cx="7315200" cy="1417320"/>
          </a:xfrm>
        </p:grpSpPr>
        <p:sp>
          <p:nvSpPr>
            <p:cNvPr id="244" name=""/>
            <p:cNvSpPr/>
            <p:nvPr/>
          </p:nvSpPr>
          <p:spPr>
            <a:xfrm>
              <a:off x="4265280" y="5582880"/>
              <a:ext cx="3437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99"/>
                  </a:solidFill>
                  <a:latin typeface="Arial Narrow"/>
                </a:rPr>
                <a:t>Aunque la tengan...</a:t>
              </a:r>
              <a:endParaRPr b="0" lang="en-US" sz="3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4724280"/>
              <a:ext cx="7315200" cy="77760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ahoma"/>
                </a:rPr>
                <a:t>¡Algunos clientes nunca tienen la razón!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" y="1846440"/>
            <a:ext cx="7346880" cy="83808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ahoma"/>
              </a:rPr>
              <a:t>¡El cliente siempre tiene la razón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1398600"/>
            <a:ext cx="563868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600" spc="-1" strike="noStrike">
                <a:solidFill>
                  <a:srgbClr val="006699"/>
                </a:solidFill>
                <a:latin typeface="Arial Narrow"/>
              </a:rPr>
              <a:t>?</a:t>
            </a:r>
            <a:endParaRPr b="0" lang="en-US" sz="1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3840" y="6568920"/>
            <a:ext cx="21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Peppers&amp;Roggers Group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Metodología</a:t>
            </a: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 CRM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12800" y="1676520"/>
            <a:ext cx="7746120" cy="3896640"/>
            <a:chOff x="712800" y="1676520"/>
            <a:chExt cx="7746120" cy="3896640"/>
          </a:xfrm>
        </p:grpSpPr>
        <p:grpSp>
          <p:nvGrpSpPr>
            <p:cNvPr id="251" name=""/>
            <p:cNvGrpSpPr/>
            <p:nvPr/>
          </p:nvGrpSpPr>
          <p:grpSpPr>
            <a:xfrm>
              <a:off x="712800" y="1704960"/>
              <a:ext cx="3006720" cy="1150200"/>
              <a:chOff x="712800" y="1704960"/>
              <a:chExt cx="3006720" cy="1150200"/>
            </a:xfrm>
          </p:grpSpPr>
          <p:sp>
            <p:nvSpPr>
              <p:cNvPr id="252" name=""/>
              <p:cNvSpPr/>
              <p:nvPr/>
            </p:nvSpPr>
            <p:spPr>
              <a:xfrm>
                <a:off x="880560" y="1796400"/>
                <a:ext cx="2838960" cy="105876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Identific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Al cliente</a:t>
                </a:r>
                <a:br>
                  <a:rPr sz="1800"/>
                </a:b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Individualmente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2800" y="1704960"/>
                <a:ext cx="30924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504040" y="1676520"/>
              <a:ext cx="2874240" cy="1226520"/>
              <a:chOff x="5504040" y="1676520"/>
              <a:chExt cx="2874240" cy="1226520"/>
            </a:xfrm>
          </p:grpSpPr>
          <p:sp>
            <p:nvSpPr>
              <p:cNvPr id="255" name=""/>
              <p:cNvSpPr/>
              <p:nvPr/>
            </p:nvSpPr>
            <p:spPr>
              <a:xfrm>
                <a:off x="5631120" y="1785600"/>
                <a:ext cx="2747160" cy="11174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Diferenci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or valor y después</a:t>
                </a:r>
                <a:br>
                  <a:rPr sz="1800"/>
                </a:b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or necesidades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04040" y="1676520"/>
                <a:ext cx="309240" cy="27504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46280" y="4431960"/>
              <a:ext cx="2923200" cy="1141200"/>
              <a:chOff x="746280" y="4431960"/>
              <a:chExt cx="2923200" cy="1141200"/>
            </a:xfrm>
          </p:grpSpPr>
          <p:sp>
            <p:nvSpPr>
              <p:cNvPr id="258" name=""/>
              <p:cNvSpPr/>
              <p:nvPr/>
            </p:nvSpPr>
            <p:spPr>
              <a:xfrm>
                <a:off x="920880" y="4579920"/>
                <a:ext cx="2748600" cy="9932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Personaliz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roducto y/o Servicio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6280" y="4431960"/>
                <a:ext cx="30960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899880" y="2045520"/>
              <a:ext cx="1549440" cy="488160"/>
            </a:xfrm>
            <a:custGeom>
              <a:avLst/>
              <a:gdLst>
                <a:gd name="textAreaLeft" fmla="*/ 241920 w 1549440"/>
                <a:gd name="textAreaRight" fmla="*/ 1355760 w 1549440"/>
                <a:gd name="textAreaTop" fmla="*/ 122040 h 488160"/>
                <a:gd name="textAreaBottom" fmla="*/ 366120 h 48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756628"/>
                </a:gs>
                <a:gs pos="100000">
                  <a:srgbClr val="ffdf57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839040" y="4599360"/>
              <a:ext cx="1670400" cy="892080"/>
              <a:chOff x="3839040" y="4599360"/>
              <a:chExt cx="1670400" cy="892080"/>
            </a:xfrm>
          </p:grpSpPr>
          <p:sp>
            <p:nvSpPr>
              <p:cNvPr id="262" name=""/>
              <p:cNvSpPr/>
              <p:nvPr/>
            </p:nvSpPr>
            <p:spPr>
              <a:xfrm>
                <a:off x="3916800" y="4924440"/>
                <a:ext cx="147852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4d4d4d"/>
                    </a:solidFill>
                    <a:latin typeface="Arial Narrow"/>
                  </a:rPr>
                  <a:t>Retroalimentación</a:t>
                </a:r>
                <a:br>
                  <a:rPr sz="1400"/>
                </a:br>
                <a:r>
                  <a:rPr b="1" i="1" lang="es-ES_tradnl" sz="1400" spc="-1" strike="noStrike">
                    <a:solidFill>
                      <a:srgbClr val="4d4d4d"/>
                    </a:solidFill>
                    <a:latin typeface="Arial Narrow"/>
                  </a:rPr>
                  <a:t>continua</a:t>
                </a:r>
                <a:endParaRPr b="0" lang="en-US" sz="1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798080" y="4599000"/>
                <a:ext cx="711000" cy="820440"/>
              </a:xfrm>
              <a:custGeom>
                <a:avLst/>
                <a:gdLst>
                  <a:gd name="textAreaLeft" fmla="*/ 95040 w 711000"/>
                  <a:gd name="textAreaRight" fmla="*/ 615960 w 711000"/>
                  <a:gd name="textAreaTop" fmla="*/ 143280 h 820440"/>
                  <a:gd name="textAreaBottom" fmla="*/ 59472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756628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39040" y="4681800"/>
                <a:ext cx="676440" cy="809640"/>
              </a:xfrm>
              <a:custGeom>
                <a:avLst/>
                <a:gdLst>
                  <a:gd name="textAreaLeft" fmla="*/ 90360 w 676440"/>
                  <a:gd name="textAreaRight" fmla="*/ 586080 w 676440"/>
                  <a:gd name="textAreaTop" fmla="*/ 141480 h 809640"/>
                  <a:gd name="textAreaBottom" fmla="*/ 587160 h 80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756628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036120" y="2988000"/>
              <a:ext cx="1811520" cy="1564560"/>
              <a:chOff x="6036120" y="2988000"/>
              <a:chExt cx="1811520" cy="1564560"/>
            </a:xfrm>
          </p:grpSpPr>
          <p:sp>
            <p:nvSpPr>
              <p:cNvPr id="266" name=""/>
              <p:cNvSpPr/>
              <p:nvPr/>
            </p:nvSpPr>
            <p:spPr>
              <a:xfrm>
                <a:off x="6036120" y="3305520"/>
                <a:ext cx="1811520" cy="91584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d4d4d"/>
                    </a:solidFill>
                    <a:latin typeface="Arial"/>
                  </a:rPr>
                  <a:t>Cliente de Valor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 rot="5400000">
                <a:off x="6702480" y="4240080"/>
                <a:ext cx="478440" cy="145800"/>
              </a:xfrm>
              <a:custGeom>
                <a:avLst/>
                <a:gdLst>
                  <a:gd name="textAreaLeft" fmla="*/ 59760 w 478440"/>
                  <a:gd name="textAreaRight" fmla="*/ 418680 w 478440"/>
                  <a:gd name="textAreaTop" fmla="*/ 36360 h 145800"/>
                  <a:gd name="textAreaBottom" fmla="*/ 109440 h 14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6701400" y="3153240"/>
                <a:ext cx="478080" cy="147240"/>
              </a:xfrm>
              <a:custGeom>
                <a:avLst/>
                <a:gdLst>
                  <a:gd name="textAreaLeft" fmla="*/ 59760 w 478080"/>
                  <a:gd name="textAreaRight" fmla="*/ 418320 w 478080"/>
                  <a:gd name="textAreaTop" fmla="*/ 36720 h 147240"/>
                  <a:gd name="textAreaBottom" fmla="*/ 110520 h 14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562000" y="4431960"/>
              <a:ext cx="2896920" cy="1141200"/>
              <a:chOff x="5562000" y="4431960"/>
              <a:chExt cx="2896920" cy="1141200"/>
            </a:xfrm>
          </p:grpSpPr>
          <p:sp>
            <p:nvSpPr>
              <p:cNvPr id="270" name=""/>
              <p:cNvSpPr/>
              <p:nvPr/>
            </p:nvSpPr>
            <p:spPr>
              <a:xfrm>
                <a:off x="5712120" y="4579920"/>
                <a:ext cx="2746800" cy="9932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Interactu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(Acción y Puntos de contacto)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62000" y="4431960"/>
                <a:ext cx="30888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864960" y="2810880"/>
              <a:ext cx="1734840" cy="2025360"/>
              <a:chOff x="3864960" y="2810880"/>
              <a:chExt cx="1734840" cy="202536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864960" y="2875320"/>
                <a:ext cx="1665360" cy="1551960"/>
                <a:chOff x="3864960" y="2875320"/>
                <a:chExt cx="1665360" cy="155196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3864960" y="3004560"/>
                  <a:ext cx="1665360" cy="1422720"/>
                  <a:chOff x="3864960" y="3004560"/>
                  <a:chExt cx="1665360" cy="14227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3864960" y="3004560"/>
                    <a:ext cx="832680" cy="71136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697640" y="3004560"/>
                    <a:ext cx="832680" cy="7113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864960" y="3715920"/>
                    <a:ext cx="832680" cy="711360"/>
                  </a:xfrm>
                  <a:prstGeom prst="rect">
                    <a:avLst/>
                  </a:pr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97640" y="3715920"/>
                    <a:ext cx="832680" cy="71136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4767120" y="3069360"/>
                  <a:ext cx="693360" cy="5821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34440" y="3781080"/>
                  <a:ext cx="693360" cy="58212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7120" y="3781080"/>
                  <a:ext cx="693360" cy="5821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934440" y="3069360"/>
                  <a:ext cx="693360" cy="58212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35520" y="2875320"/>
                  <a:ext cx="6231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1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66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66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4767120" y="2810880"/>
                <a:ext cx="76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72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36240" y="3522240"/>
                <a:ext cx="763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6600" spc="-1" strike="noStrike">
                    <a:solidFill>
                      <a:srgbClr val="ffffff"/>
                    </a:solidFill>
                    <a:latin typeface="Book Antiqua"/>
                  </a:rPr>
                  <a:t>p</a:t>
                </a:r>
                <a:endParaRPr b="0" lang="en-US" sz="6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74480" y="3523320"/>
                <a:ext cx="97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8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705960" y="6237360"/>
            <a:ext cx="28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Peppers&amp;Roggers Consulting Group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Caso Entel PCS 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4173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Zona Entel PC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arantía Entel PC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iferencia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tipo de tráfico y antigüe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2897280" y="2819520"/>
            <a:ext cx="459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4869000"/>
            <a:ext cx="380988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TV =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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(1 + d)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i="1" lang="es-ES_tradnl" sz="24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donde: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d = tasa de descuento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Symbol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Symbol"/>
                <a:ea typeface="Symbol"/>
              </a:rPr>
              <a:t>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rentabilidad     </a:t>
            </a:r>
            <a:r>
              <a:rPr b="0" i="1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99"/>
                </a:solidFill>
                <a:latin typeface="Arial"/>
              </a:rPr>
              <a:t>i  = 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período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6160" y="2666880"/>
            <a:ext cx="657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7280" y="3809880"/>
            <a:ext cx="657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1268280"/>
            <a:ext cx="47498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nteractuar (marketing de la interacción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all center con marca por segmento client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tenciones en servicio técnico por segmento client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 de productos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ersonalizar (masivamente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tarifa: Frecuente, AutorecargAló, Aló Noch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recargas: CRM, RAC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intensidad de uso: GrandeAló, Bolsa SMS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servicio: Cobro revertido, LDI, Carguita Feliz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rzas competi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910080" y="6237360"/>
            <a:ext cx="45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Michael E. Porter/ How Competitive Forces Shape Strategy - 1979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38360" y="1197000"/>
            <a:ext cx="7434000" cy="3456000"/>
            <a:chOff x="738360" y="1197000"/>
            <a:chExt cx="7434000" cy="3456000"/>
          </a:xfrm>
        </p:grpSpPr>
        <p:sp>
          <p:nvSpPr>
            <p:cNvPr id="298" name=""/>
            <p:cNvSpPr/>
            <p:nvPr/>
          </p:nvSpPr>
          <p:spPr>
            <a:xfrm>
              <a:off x="3689280" y="1197000"/>
              <a:ext cx="160200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NUEVOS ENTRANT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8360" y="2708280"/>
              <a:ext cx="158400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Century Gothic"/>
                </a:rPr>
                <a:t>PROVEEDOR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73280" y="2563920"/>
              <a:ext cx="19321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4d4d4d"/>
                  </a:solidFill>
                  <a:latin typeface="Century Gothic"/>
                </a:rPr>
                <a:t>COMPETIDORES de la INDUSTRIA</a:t>
              </a:r>
              <a:endParaRPr b="0" lang="en-US" sz="1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4d4d4d"/>
                  </a:solidFill>
                  <a:latin typeface="Century Gothic"/>
                </a:rPr>
                <a:t>(rivalidad)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5640" y="1673280"/>
              <a:ext cx="399960" cy="890640"/>
            </a:xfrm>
            <a:prstGeom prst="downArrow">
              <a:avLst>
                <a:gd name="adj1" fmla="val 50000"/>
                <a:gd name="adj2" fmla="val 55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72000" y="4186440"/>
              <a:ext cx="1601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SUSTITUTO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1360" y="3213360"/>
              <a:ext cx="126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Poder 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egociación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2719800" y="2386800"/>
              <a:ext cx="400320" cy="1106280"/>
            </a:xfrm>
            <a:prstGeom prst="downArrow">
              <a:avLst>
                <a:gd name="adj1" fmla="val 50000"/>
                <a:gd name="adj2" fmla="val 690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66560" y="1773360"/>
              <a:ext cx="166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Amenaza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uevos entrant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70720" y="2708280"/>
              <a:ext cx="1601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COMPRADOR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5771160" y="2386800"/>
              <a:ext cx="400320" cy="1106640"/>
            </a:xfrm>
            <a:prstGeom prst="downArrow">
              <a:avLst>
                <a:gd name="adj1" fmla="val 50000"/>
                <a:gd name="adj2" fmla="val 691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8600" y="3068640"/>
              <a:ext cx="126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Poder 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egociación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0000">
              <a:off x="4265280" y="3257640"/>
              <a:ext cx="399960" cy="890640"/>
            </a:xfrm>
            <a:prstGeom prst="downArrow">
              <a:avLst>
                <a:gd name="adj1" fmla="val 50000"/>
                <a:gd name="adj2" fmla="val 55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65240" y="3716280"/>
              <a:ext cx="111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Amenaza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Sustituto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46480" y="4797360"/>
            <a:ext cx="54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Barreras de ent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conomías de escala (ej: Ropa hecha en China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iferenciación de producto (ej: Lealtad a Coca Cola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Requerimientos de capital (ej: Inversión en R&amp;D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sventajas de costos independientes del tamaño (ej: Patentes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ceso a canales de distribución (ej: Concentración D&amp;S, Cencosud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oliticas de gobierno (ej: Consercación del medio ambiente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9280" y="184320"/>
            <a:ext cx="89647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x: Cadena de valor de una fábrica de cecina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1241280" y="2887560"/>
            <a:ext cx="1773360" cy="8827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7120" y="3152880"/>
            <a:ext cx="13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oveedores de cerdo, ave y vacun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27360" y="288756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6320" y="3149640"/>
            <a:ext cx="986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Fábrica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de Cecin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16640" y="288756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48200" y="3176640"/>
            <a:ext cx="133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mercial y Distribució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02360" y="288756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72360" y="3252960"/>
            <a:ext cx="134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nsumidor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7360" y="320040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Actor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22720" y="2887560"/>
            <a:ext cx="1679760" cy="88272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41680" y="3265560"/>
            <a:ext cx="98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36600" y="1403280"/>
            <a:ext cx="1773360" cy="8827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55920" y="1595520"/>
            <a:ext cx="130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Asegurar abastecimiento estratégic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22680" y="140328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11960" y="140328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97680" y="140328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51840" y="1543320"/>
            <a:ext cx="134928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Rico Sabor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nfiable/Saludabl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acticidad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9120" y="1565280"/>
            <a:ext cx="123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Pilar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estratégic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8040" y="140328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95560" y="1685880"/>
            <a:ext cx="13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ximizar eficiencia organizacional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81280" y="2330280"/>
            <a:ext cx="4316400" cy="495360"/>
          </a:xfrm>
          <a:custGeom>
            <a:avLst/>
            <a:gdLst>
              <a:gd name="textAreaLeft" fmla="*/ 0 w 4316400"/>
              <a:gd name="textAreaRight" fmla="*/ 4316760 w 43164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9160" y="2494080"/>
            <a:ext cx="332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Impulsar cultura de alto desempeñ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86280" y="1685880"/>
            <a:ext cx="130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Fortalecer Liderazgo en todos los canal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02000" y="1415880"/>
            <a:ext cx="1306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ximizar el valor del portfolio a través de la construcción de vínculos Emocionales y Racionale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21960" y="6237360"/>
            <a:ext cx="480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Michael E. Porter/ The Value Chain and Competitive Advantage  - 1985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98560" y="3882960"/>
            <a:ext cx="7418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Cadena de valor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 una serie de actividades que se desarrollan para diseñar, producir,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comercializar, distribuir y dar soporte a un producto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Eslabones de la cadena de valor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son los sistemas de actividades interdependientes qu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ueden conducir a ventajas competitivas a través de optimización o coordinación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Integración vertical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son oportunidades de optimizar la cadena de valor o gener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iferenciación, reemplazando o modificando las relaciones con proveedores o clientes, y l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tructura organizacional de la empresa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Diferenciación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 una forma de ventaja competitiva que se logra cuando los comprador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erciben un valor relevante y único en la oferta de la empresa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980640"/>
            <a:ext cx="434340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ahoma"/>
              </a:rPr>
              <a:t>FORTALEZ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00" y="3499920"/>
            <a:ext cx="434340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</a:rPr>
              <a:t>DEBILIDADE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980640"/>
            <a:ext cx="472428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ahoma"/>
              </a:rPr>
              <a:t>OPORTUNIDADE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33760" y="3499920"/>
            <a:ext cx="472464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</a:rPr>
              <a:t>AMENAZ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733320"/>
            <a:ext cx="0" cy="612468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719280"/>
            <a:ext cx="0" cy="61387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481040"/>
            <a:ext cx="426708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Ventajas que tenemos como empresa, Ejemplos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Equipo human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Sólido plan de negocios basado en amplios estudios y análisis del mercad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Alianz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Respaldo financier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1494000"/>
            <a:ext cx="46483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Eventos que favorecen a todos los productores, Ejemplos: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TLC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Que el producto No exista en el mercad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111560"/>
            <a:ext cx="4343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Desventajas de nuestra empresa frente a la competencia o sustitutos Ejemplos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Falta de experienci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4114800"/>
            <a:ext cx="45720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4111560"/>
            <a:ext cx="4343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Eventos desfavorables para todos los productores, Ejemplo;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Crisis energétic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Tiempo necesario para alcanzar punto de equilibri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40" y="44280"/>
            <a:ext cx="875016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Análisis FOD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36640"/>
            <a:ext cx="4356000" cy="568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27640" y="836640"/>
            <a:ext cx="4716360" cy="568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36760" y="4046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Verdana"/>
              </a:rPr>
              <a:t>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32760" y="4046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Verdana"/>
              </a:rPr>
              <a:t>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57720" y="6165720"/>
            <a:ext cx="62204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en disputa entre Albert Humphrey, </a:t>
            </a:r>
            <a:r>
              <a:rPr b="0" lang="es-CL" sz="1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Stanford University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1960s y  “Harvard Policy Model” 1920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ecturas y estudio (previo a cada clase)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er calculadoras …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5119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2 controles y un examen*.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-511920" algn="just">
              <a:spcAft>
                <a:spcPts val="7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-511920" algn="just">
              <a:spcAft>
                <a:spcPts val="7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**. 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 INASISTENCIAS JUSTIFICADAS EN DOCENCIA, CON CERTIFICADO DEL DEPARTAMENTO 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41600" y="618012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*salvo el última tarea de evaluación so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4720" y="3789360"/>
            <a:ext cx="6912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*Eximi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Control ≥ 5,5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Tareas ≥ 5,0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Controles de Lectura ≥ 5,0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Apuntes de IN42A publicados en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u-cursos.c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Brealy y Myers, Fundamentos de Financiación Empresar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apag Nassir, Proyectos de Inversión Formulación y Evalu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ullivan, Ingeniería Económica de DeGarm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(Comercial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 (Contabilidad y Finanza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234160" y="1528920"/>
            <a:ext cx="3965040" cy="4112640"/>
            <a:chOff x="2234160" y="1528920"/>
            <a:chExt cx="3965040" cy="4112640"/>
          </a:xfrm>
        </p:grpSpPr>
        <p:sp>
          <p:nvSpPr>
            <p:cNvPr id="106" name=""/>
            <p:cNvSpPr/>
            <p:nvPr/>
          </p:nvSpPr>
          <p:spPr>
            <a:xfrm rot="352200">
              <a:off x="4091040" y="5424120"/>
              <a:ext cx="455040" cy="194760"/>
            </a:xfrm>
            <a:custGeom>
              <a:avLst/>
              <a:gdLst/>
              <a:ahLst/>
              <a:rect l="l" t="t" r="r" b="b"/>
              <a:pathLst>
                <a:path w="175" h="74">
                  <a:moveTo>
                    <a:pt x="175" y="27"/>
                  </a:moveTo>
                  <a:lnTo>
                    <a:pt x="174" y="34"/>
                  </a:lnTo>
                  <a:lnTo>
                    <a:pt x="171" y="42"/>
                  </a:lnTo>
                  <a:lnTo>
                    <a:pt x="163" y="49"/>
                  </a:lnTo>
                  <a:lnTo>
                    <a:pt x="154" y="55"/>
                  </a:lnTo>
                  <a:lnTo>
                    <a:pt x="141" y="62"/>
                  </a:lnTo>
                  <a:lnTo>
                    <a:pt x="126" y="66"/>
                  </a:lnTo>
                  <a:lnTo>
                    <a:pt x="110" y="71"/>
                  </a:lnTo>
                  <a:lnTo>
                    <a:pt x="93" y="73"/>
                  </a:lnTo>
                  <a:lnTo>
                    <a:pt x="75" y="74"/>
                  </a:lnTo>
                  <a:lnTo>
                    <a:pt x="58" y="74"/>
                  </a:lnTo>
                  <a:lnTo>
                    <a:pt x="43" y="73"/>
                  </a:lnTo>
                  <a:lnTo>
                    <a:pt x="29" y="71"/>
                  </a:lnTo>
                  <a:lnTo>
                    <a:pt x="18" y="66"/>
                  </a:lnTo>
                  <a:lnTo>
                    <a:pt x="8" y="62"/>
                  </a:lnTo>
                  <a:lnTo>
                    <a:pt x="3" y="56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6" y="34"/>
                  </a:lnTo>
                  <a:lnTo>
                    <a:pt x="13" y="27"/>
                  </a:lnTo>
                  <a:lnTo>
                    <a:pt x="23" y="20"/>
                  </a:lnTo>
                  <a:lnTo>
                    <a:pt x="36" y="14"/>
                  </a:lnTo>
                  <a:lnTo>
                    <a:pt x="50" y="9"/>
                  </a:lnTo>
                  <a:lnTo>
                    <a:pt x="66" y="4"/>
                  </a:lnTo>
                  <a:lnTo>
                    <a:pt x="83" y="2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3" y="2"/>
                  </a:lnTo>
                  <a:lnTo>
                    <a:pt x="147" y="4"/>
                  </a:lnTo>
                  <a:lnTo>
                    <a:pt x="158" y="9"/>
                  </a:lnTo>
                  <a:lnTo>
                    <a:pt x="167" y="13"/>
                  </a:lnTo>
                  <a:lnTo>
                    <a:pt x="173" y="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352200">
              <a:off x="2352960" y="1719720"/>
              <a:ext cx="3796200" cy="1164240"/>
            </a:xfrm>
            <a:custGeom>
              <a:avLst/>
              <a:gdLst/>
              <a:ahLst/>
              <a:rect l="l" t="t" r="r" b="b"/>
              <a:pathLst>
                <a:path w="1449" h="443">
                  <a:moveTo>
                    <a:pt x="1449" y="131"/>
                  </a:moveTo>
                  <a:lnTo>
                    <a:pt x="1447" y="152"/>
                  </a:lnTo>
                  <a:lnTo>
                    <a:pt x="1439" y="174"/>
                  </a:lnTo>
                  <a:lnTo>
                    <a:pt x="1423" y="196"/>
                  </a:lnTo>
                  <a:lnTo>
                    <a:pt x="1401" y="218"/>
                  </a:lnTo>
                  <a:lnTo>
                    <a:pt x="1373" y="238"/>
                  </a:lnTo>
                  <a:lnTo>
                    <a:pt x="1339" y="260"/>
                  </a:lnTo>
                  <a:lnTo>
                    <a:pt x="1299" y="281"/>
                  </a:lnTo>
                  <a:lnTo>
                    <a:pt x="1254" y="301"/>
                  </a:lnTo>
                  <a:lnTo>
                    <a:pt x="1204" y="320"/>
                  </a:lnTo>
                  <a:lnTo>
                    <a:pt x="1150" y="339"/>
                  </a:lnTo>
                  <a:lnTo>
                    <a:pt x="1092" y="357"/>
                  </a:lnTo>
                  <a:lnTo>
                    <a:pt x="1029" y="373"/>
                  </a:lnTo>
                  <a:lnTo>
                    <a:pt x="964" y="388"/>
                  </a:lnTo>
                  <a:lnTo>
                    <a:pt x="895" y="402"/>
                  </a:lnTo>
                  <a:lnTo>
                    <a:pt x="823" y="413"/>
                  </a:lnTo>
                  <a:lnTo>
                    <a:pt x="749" y="424"/>
                  </a:lnTo>
                  <a:lnTo>
                    <a:pt x="712" y="428"/>
                  </a:lnTo>
                  <a:lnTo>
                    <a:pt x="676" y="432"/>
                  </a:lnTo>
                  <a:lnTo>
                    <a:pt x="639" y="435"/>
                  </a:lnTo>
                  <a:lnTo>
                    <a:pt x="603" y="438"/>
                  </a:lnTo>
                  <a:lnTo>
                    <a:pt x="567" y="440"/>
                  </a:lnTo>
                  <a:lnTo>
                    <a:pt x="533" y="442"/>
                  </a:lnTo>
                  <a:lnTo>
                    <a:pt x="499" y="443"/>
                  </a:lnTo>
                  <a:lnTo>
                    <a:pt x="466" y="443"/>
                  </a:lnTo>
                  <a:lnTo>
                    <a:pt x="433" y="443"/>
                  </a:lnTo>
                  <a:lnTo>
                    <a:pt x="401" y="443"/>
                  </a:lnTo>
                  <a:lnTo>
                    <a:pt x="370" y="442"/>
                  </a:lnTo>
                  <a:lnTo>
                    <a:pt x="340" y="440"/>
                  </a:lnTo>
                  <a:lnTo>
                    <a:pt x="312" y="438"/>
                  </a:lnTo>
                  <a:lnTo>
                    <a:pt x="283" y="435"/>
                  </a:lnTo>
                  <a:lnTo>
                    <a:pt x="256" y="432"/>
                  </a:lnTo>
                  <a:lnTo>
                    <a:pt x="230" y="428"/>
                  </a:lnTo>
                  <a:lnTo>
                    <a:pt x="206" y="425"/>
                  </a:lnTo>
                  <a:lnTo>
                    <a:pt x="181" y="420"/>
                  </a:lnTo>
                  <a:lnTo>
                    <a:pt x="159" y="416"/>
                  </a:lnTo>
                  <a:lnTo>
                    <a:pt x="138" y="410"/>
                  </a:lnTo>
                  <a:lnTo>
                    <a:pt x="118" y="404"/>
                  </a:lnTo>
                  <a:lnTo>
                    <a:pt x="100" y="397"/>
                  </a:lnTo>
                  <a:lnTo>
                    <a:pt x="82" y="390"/>
                  </a:lnTo>
                  <a:lnTo>
                    <a:pt x="67" y="383"/>
                  </a:lnTo>
                  <a:lnTo>
                    <a:pt x="53" y="377"/>
                  </a:lnTo>
                  <a:lnTo>
                    <a:pt x="41" y="368"/>
                  </a:lnTo>
                  <a:lnTo>
                    <a:pt x="29" y="359"/>
                  </a:lnTo>
                  <a:lnTo>
                    <a:pt x="20" y="351"/>
                  </a:lnTo>
                  <a:lnTo>
                    <a:pt x="13" y="342"/>
                  </a:lnTo>
                  <a:lnTo>
                    <a:pt x="6" y="333"/>
                  </a:lnTo>
                  <a:lnTo>
                    <a:pt x="3" y="322"/>
                  </a:lnTo>
                  <a:lnTo>
                    <a:pt x="0" y="312"/>
                  </a:lnTo>
                  <a:lnTo>
                    <a:pt x="2" y="291"/>
                  </a:lnTo>
                  <a:lnTo>
                    <a:pt x="10" y="269"/>
                  </a:lnTo>
                  <a:lnTo>
                    <a:pt x="26" y="249"/>
                  </a:lnTo>
                  <a:lnTo>
                    <a:pt x="48" y="227"/>
                  </a:lnTo>
                  <a:lnTo>
                    <a:pt x="75" y="205"/>
                  </a:lnTo>
                  <a:lnTo>
                    <a:pt x="110" y="184"/>
                  </a:lnTo>
                  <a:lnTo>
                    <a:pt x="149" y="163"/>
                  </a:lnTo>
                  <a:lnTo>
                    <a:pt x="194" y="143"/>
                  </a:lnTo>
                  <a:lnTo>
                    <a:pt x="245" y="124"/>
                  </a:lnTo>
                  <a:lnTo>
                    <a:pt x="299" y="105"/>
                  </a:lnTo>
                  <a:lnTo>
                    <a:pt x="356" y="87"/>
                  </a:lnTo>
                  <a:lnTo>
                    <a:pt x="419" y="71"/>
                  </a:lnTo>
                  <a:lnTo>
                    <a:pt x="484" y="56"/>
                  </a:lnTo>
                  <a:lnTo>
                    <a:pt x="553" y="42"/>
                  </a:lnTo>
                  <a:lnTo>
                    <a:pt x="625" y="30"/>
                  </a:lnTo>
                  <a:lnTo>
                    <a:pt x="699" y="19"/>
                  </a:lnTo>
                  <a:lnTo>
                    <a:pt x="736" y="15"/>
                  </a:lnTo>
                  <a:lnTo>
                    <a:pt x="772" y="11"/>
                  </a:lnTo>
                  <a:lnTo>
                    <a:pt x="809" y="8"/>
                  </a:lnTo>
                  <a:lnTo>
                    <a:pt x="845" y="6"/>
                  </a:lnTo>
                  <a:lnTo>
                    <a:pt x="881" y="3"/>
                  </a:lnTo>
                  <a:lnTo>
                    <a:pt x="915" y="2"/>
                  </a:lnTo>
                  <a:lnTo>
                    <a:pt x="949" y="1"/>
                  </a:lnTo>
                  <a:lnTo>
                    <a:pt x="982" y="0"/>
                  </a:lnTo>
                  <a:lnTo>
                    <a:pt x="1015" y="0"/>
                  </a:lnTo>
                  <a:lnTo>
                    <a:pt x="1047" y="1"/>
                  </a:lnTo>
                  <a:lnTo>
                    <a:pt x="1078" y="2"/>
                  </a:lnTo>
                  <a:lnTo>
                    <a:pt x="1108" y="3"/>
                  </a:lnTo>
                  <a:lnTo>
                    <a:pt x="1138" y="6"/>
                  </a:lnTo>
                  <a:lnTo>
                    <a:pt x="1165" y="8"/>
                  </a:lnTo>
                  <a:lnTo>
                    <a:pt x="1193" y="11"/>
                  </a:lnTo>
                  <a:lnTo>
                    <a:pt x="1218" y="15"/>
                  </a:lnTo>
                  <a:lnTo>
                    <a:pt x="1244" y="18"/>
                  </a:lnTo>
                  <a:lnTo>
                    <a:pt x="1267" y="23"/>
                  </a:lnTo>
                  <a:lnTo>
                    <a:pt x="1290" y="29"/>
                  </a:lnTo>
                  <a:lnTo>
                    <a:pt x="1310" y="33"/>
                  </a:lnTo>
                  <a:lnTo>
                    <a:pt x="1331" y="39"/>
                  </a:lnTo>
                  <a:lnTo>
                    <a:pt x="1350" y="46"/>
                  </a:lnTo>
                  <a:lnTo>
                    <a:pt x="1366" y="53"/>
                  </a:lnTo>
                  <a:lnTo>
                    <a:pt x="1382" y="60"/>
                  </a:lnTo>
                  <a:lnTo>
                    <a:pt x="1396" y="67"/>
                  </a:lnTo>
                  <a:lnTo>
                    <a:pt x="1408" y="75"/>
                  </a:lnTo>
                  <a:lnTo>
                    <a:pt x="1420" y="84"/>
                  </a:lnTo>
                  <a:lnTo>
                    <a:pt x="1429" y="92"/>
                  </a:lnTo>
                  <a:lnTo>
                    <a:pt x="1436" y="101"/>
                  </a:lnTo>
                  <a:lnTo>
                    <a:pt x="1443" y="110"/>
                  </a:lnTo>
                  <a:lnTo>
                    <a:pt x="1446" y="121"/>
                  </a:lnTo>
                  <a:lnTo>
                    <a:pt x="1449" y="13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352200">
              <a:off x="2325960" y="2183400"/>
              <a:ext cx="3706920" cy="1992960"/>
            </a:xfrm>
            <a:custGeom>
              <a:avLst/>
              <a:gdLst/>
              <a:ahLst/>
              <a:rect l="l" t="t" r="r" b="b"/>
              <a:pathLst>
                <a:path w="1412" h="761">
                  <a:moveTo>
                    <a:pt x="0" y="177"/>
                  </a:moveTo>
                  <a:lnTo>
                    <a:pt x="789" y="761"/>
                  </a:lnTo>
                  <a:lnTo>
                    <a:pt x="1412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352200">
              <a:off x="3972240" y="3908160"/>
              <a:ext cx="654840" cy="1636200"/>
            </a:xfrm>
            <a:custGeom>
              <a:avLst/>
              <a:gdLst/>
              <a:ahLst/>
              <a:rect l="l" t="t" r="r" b="b"/>
              <a:pathLst>
                <a:path w="250" h="626">
                  <a:moveTo>
                    <a:pt x="250" y="604"/>
                  </a:moveTo>
                  <a:lnTo>
                    <a:pt x="75" y="626"/>
                  </a:lnTo>
                  <a:lnTo>
                    <a:pt x="0" y="22"/>
                  </a:lnTo>
                  <a:lnTo>
                    <a:pt x="176" y="0"/>
                  </a:lnTo>
                  <a:lnTo>
                    <a:pt x="250" y="604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352200">
              <a:off x="2437920" y="1766160"/>
              <a:ext cx="3633480" cy="1065600"/>
            </a:xfrm>
            <a:custGeom>
              <a:avLst/>
              <a:gdLst/>
              <a:ahLst/>
              <a:rect l="l" t="t" r="r" b="b"/>
              <a:pathLst>
                <a:path w="1386" h="407">
                  <a:moveTo>
                    <a:pt x="1386" y="118"/>
                  </a:moveTo>
                  <a:lnTo>
                    <a:pt x="1384" y="137"/>
                  </a:lnTo>
                  <a:lnTo>
                    <a:pt x="1376" y="157"/>
                  </a:lnTo>
                  <a:lnTo>
                    <a:pt x="1361" y="176"/>
                  </a:lnTo>
                  <a:lnTo>
                    <a:pt x="1339" y="196"/>
                  </a:lnTo>
                  <a:lnTo>
                    <a:pt x="1313" y="216"/>
                  </a:lnTo>
                  <a:lnTo>
                    <a:pt x="1280" y="235"/>
                  </a:lnTo>
                  <a:lnTo>
                    <a:pt x="1242" y="255"/>
                  </a:lnTo>
                  <a:lnTo>
                    <a:pt x="1199" y="273"/>
                  </a:lnTo>
                  <a:lnTo>
                    <a:pt x="1151" y="291"/>
                  </a:lnTo>
                  <a:lnTo>
                    <a:pt x="1099" y="308"/>
                  </a:lnTo>
                  <a:lnTo>
                    <a:pt x="1042" y="325"/>
                  </a:lnTo>
                  <a:lnTo>
                    <a:pt x="983" y="340"/>
                  </a:lnTo>
                  <a:lnTo>
                    <a:pt x="920" y="354"/>
                  </a:lnTo>
                  <a:lnTo>
                    <a:pt x="854" y="367"/>
                  </a:lnTo>
                  <a:lnTo>
                    <a:pt x="785" y="378"/>
                  </a:lnTo>
                  <a:lnTo>
                    <a:pt x="715" y="389"/>
                  </a:lnTo>
                  <a:lnTo>
                    <a:pt x="645" y="397"/>
                  </a:lnTo>
                  <a:lnTo>
                    <a:pt x="576" y="402"/>
                  </a:lnTo>
                  <a:lnTo>
                    <a:pt x="509" y="406"/>
                  </a:lnTo>
                  <a:lnTo>
                    <a:pt x="444" y="407"/>
                  </a:lnTo>
                  <a:lnTo>
                    <a:pt x="383" y="407"/>
                  </a:lnTo>
                  <a:lnTo>
                    <a:pt x="324" y="405"/>
                  </a:lnTo>
                  <a:lnTo>
                    <a:pt x="270" y="401"/>
                  </a:lnTo>
                  <a:lnTo>
                    <a:pt x="220" y="395"/>
                  </a:lnTo>
                  <a:lnTo>
                    <a:pt x="172" y="387"/>
                  </a:lnTo>
                  <a:lnTo>
                    <a:pt x="131" y="378"/>
                  </a:lnTo>
                  <a:lnTo>
                    <a:pt x="94" y="368"/>
                  </a:lnTo>
                  <a:lnTo>
                    <a:pt x="63" y="355"/>
                  </a:lnTo>
                  <a:lnTo>
                    <a:pt x="38" y="341"/>
                  </a:lnTo>
                  <a:lnTo>
                    <a:pt x="18" y="326"/>
                  </a:lnTo>
                  <a:lnTo>
                    <a:pt x="5" y="309"/>
                  </a:lnTo>
                  <a:lnTo>
                    <a:pt x="0" y="291"/>
                  </a:lnTo>
                  <a:lnTo>
                    <a:pt x="1" y="271"/>
                  </a:lnTo>
                  <a:lnTo>
                    <a:pt x="9" y="251"/>
                  </a:lnTo>
                  <a:lnTo>
                    <a:pt x="24" y="232"/>
                  </a:lnTo>
                  <a:lnTo>
                    <a:pt x="45" y="212"/>
                  </a:lnTo>
                  <a:lnTo>
                    <a:pt x="72" y="193"/>
                  </a:lnTo>
                  <a:lnTo>
                    <a:pt x="104" y="173"/>
                  </a:lnTo>
                  <a:lnTo>
                    <a:pt x="144" y="153"/>
                  </a:lnTo>
                  <a:lnTo>
                    <a:pt x="186" y="135"/>
                  </a:lnTo>
                  <a:lnTo>
                    <a:pt x="233" y="117"/>
                  </a:lnTo>
                  <a:lnTo>
                    <a:pt x="285" y="99"/>
                  </a:lnTo>
                  <a:lnTo>
                    <a:pt x="342" y="83"/>
                  </a:lnTo>
                  <a:lnTo>
                    <a:pt x="402" y="68"/>
                  </a:lnTo>
                  <a:lnTo>
                    <a:pt x="464" y="53"/>
                  </a:lnTo>
                  <a:lnTo>
                    <a:pt x="530" y="41"/>
                  </a:lnTo>
                  <a:lnTo>
                    <a:pt x="599" y="29"/>
                  </a:lnTo>
                  <a:lnTo>
                    <a:pt x="669" y="20"/>
                  </a:lnTo>
                  <a:lnTo>
                    <a:pt x="740" y="12"/>
                  </a:lnTo>
                  <a:lnTo>
                    <a:pt x="810" y="6"/>
                  </a:lnTo>
                  <a:lnTo>
                    <a:pt x="876" y="2"/>
                  </a:lnTo>
                  <a:lnTo>
                    <a:pt x="941" y="0"/>
                  </a:lnTo>
                  <a:lnTo>
                    <a:pt x="1002" y="0"/>
                  </a:lnTo>
                  <a:lnTo>
                    <a:pt x="1061" y="2"/>
                  </a:lnTo>
                  <a:lnTo>
                    <a:pt x="1115" y="6"/>
                  </a:lnTo>
                  <a:lnTo>
                    <a:pt x="1165" y="12"/>
                  </a:lnTo>
                  <a:lnTo>
                    <a:pt x="1213" y="20"/>
                  </a:lnTo>
                  <a:lnTo>
                    <a:pt x="1254" y="29"/>
                  </a:lnTo>
                  <a:lnTo>
                    <a:pt x="1291" y="39"/>
                  </a:lnTo>
                  <a:lnTo>
                    <a:pt x="1322" y="52"/>
                  </a:lnTo>
                  <a:lnTo>
                    <a:pt x="1348" y="67"/>
                  </a:lnTo>
                  <a:lnTo>
                    <a:pt x="1367" y="82"/>
                  </a:lnTo>
                  <a:lnTo>
                    <a:pt x="1380" y="99"/>
                  </a:lnTo>
                  <a:lnTo>
                    <a:pt x="1386" y="118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352200">
              <a:off x="4376880" y="2536560"/>
              <a:ext cx="1363680" cy="1556640"/>
            </a:xfrm>
            <a:custGeom>
              <a:avLst/>
              <a:gdLst/>
              <a:ahLst/>
              <a:rect l="l" t="t" r="r" b="b"/>
              <a:pathLst>
                <a:path w="521" h="593">
                  <a:moveTo>
                    <a:pt x="521" y="0"/>
                  </a:moveTo>
                  <a:lnTo>
                    <a:pt x="53" y="573"/>
                  </a:lnTo>
                  <a:lnTo>
                    <a:pt x="52" y="575"/>
                  </a:lnTo>
                  <a:lnTo>
                    <a:pt x="50" y="576"/>
                  </a:lnTo>
                  <a:lnTo>
                    <a:pt x="46" y="578"/>
                  </a:lnTo>
                  <a:lnTo>
                    <a:pt x="41" y="582"/>
                  </a:lnTo>
                  <a:lnTo>
                    <a:pt x="34" y="585"/>
                  </a:lnTo>
                  <a:lnTo>
                    <a:pt x="24" y="588"/>
                  </a:lnTo>
                  <a:lnTo>
                    <a:pt x="13" y="591"/>
                  </a:lnTo>
                  <a:lnTo>
                    <a:pt x="0" y="593"/>
                  </a:lnTo>
                  <a:lnTo>
                    <a:pt x="193" y="134"/>
                  </a:lnTo>
                  <a:lnTo>
                    <a:pt x="195" y="134"/>
                  </a:lnTo>
                  <a:lnTo>
                    <a:pt x="202" y="132"/>
                  </a:lnTo>
                  <a:lnTo>
                    <a:pt x="212" y="130"/>
                  </a:lnTo>
                  <a:lnTo>
                    <a:pt x="226" y="128"/>
                  </a:lnTo>
                  <a:lnTo>
                    <a:pt x="243" y="123"/>
                  </a:lnTo>
                  <a:lnTo>
                    <a:pt x="263" y="117"/>
                  </a:lnTo>
                  <a:lnTo>
                    <a:pt x="285" y="111"/>
                  </a:lnTo>
                  <a:lnTo>
                    <a:pt x="309" y="103"/>
                  </a:lnTo>
                  <a:lnTo>
                    <a:pt x="334" y="94"/>
                  </a:lnTo>
                  <a:lnTo>
                    <a:pt x="361" y="85"/>
                  </a:lnTo>
                  <a:lnTo>
                    <a:pt x="388" y="73"/>
                  </a:lnTo>
                  <a:lnTo>
                    <a:pt x="416" y="62"/>
                  </a:lnTo>
                  <a:lnTo>
                    <a:pt x="444" y="48"/>
                  </a:lnTo>
                  <a:lnTo>
                    <a:pt x="470" y="33"/>
                  </a:lnTo>
                  <a:lnTo>
                    <a:pt x="497" y="17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52200">
              <a:off x="2702520" y="2794680"/>
              <a:ext cx="1452600" cy="1116720"/>
            </a:xfrm>
            <a:custGeom>
              <a:avLst/>
              <a:gdLst/>
              <a:ahLst/>
              <a:rect l="l" t="t" r="r" b="b"/>
              <a:pathLst>
                <a:path w="555" h="42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9" y="5"/>
                  </a:lnTo>
                  <a:lnTo>
                    <a:pt x="16" y="8"/>
                  </a:lnTo>
                  <a:lnTo>
                    <a:pt x="26" y="11"/>
                  </a:lnTo>
                  <a:lnTo>
                    <a:pt x="39" y="15"/>
                  </a:lnTo>
                  <a:lnTo>
                    <a:pt x="55" y="20"/>
                  </a:lnTo>
                  <a:lnTo>
                    <a:pt x="74" y="23"/>
                  </a:lnTo>
                  <a:lnTo>
                    <a:pt x="98" y="26"/>
                  </a:lnTo>
                  <a:lnTo>
                    <a:pt x="124" y="30"/>
                  </a:lnTo>
                  <a:lnTo>
                    <a:pt x="154" y="33"/>
                  </a:lnTo>
                  <a:lnTo>
                    <a:pt x="189" y="35"/>
                  </a:lnTo>
                  <a:lnTo>
                    <a:pt x="228" y="36"/>
                  </a:lnTo>
                  <a:lnTo>
                    <a:pt x="270" y="36"/>
                  </a:lnTo>
                  <a:lnTo>
                    <a:pt x="319" y="35"/>
                  </a:lnTo>
                  <a:lnTo>
                    <a:pt x="372" y="31"/>
                  </a:lnTo>
                  <a:lnTo>
                    <a:pt x="555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352200">
              <a:off x="4242960" y="4044960"/>
              <a:ext cx="319680" cy="1521000"/>
            </a:xfrm>
            <a:custGeom>
              <a:avLst/>
              <a:gdLst/>
              <a:ahLst/>
              <a:rect l="l" t="t" r="r" b="b"/>
              <a:pathLst>
                <a:path w="123" h="580">
                  <a:moveTo>
                    <a:pt x="0" y="19"/>
                  </a:moveTo>
                  <a:lnTo>
                    <a:pt x="71" y="580"/>
                  </a:lnTo>
                  <a:lnTo>
                    <a:pt x="72" y="580"/>
                  </a:lnTo>
                  <a:lnTo>
                    <a:pt x="75" y="580"/>
                  </a:lnTo>
                  <a:lnTo>
                    <a:pt x="81" y="579"/>
                  </a:lnTo>
                  <a:lnTo>
                    <a:pt x="88" y="577"/>
                  </a:lnTo>
                  <a:lnTo>
                    <a:pt x="96" y="575"/>
                  </a:lnTo>
                  <a:lnTo>
                    <a:pt x="105" y="570"/>
                  </a:lnTo>
                  <a:lnTo>
                    <a:pt x="115" y="563"/>
                  </a:lnTo>
                  <a:lnTo>
                    <a:pt x="123" y="555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51" y="3"/>
                  </a:lnTo>
                  <a:lnTo>
                    <a:pt x="48" y="6"/>
                  </a:lnTo>
                  <a:lnTo>
                    <a:pt x="42" y="11"/>
                  </a:lnTo>
                  <a:lnTo>
                    <a:pt x="35" y="15"/>
                  </a:lnTo>
                  <a:lnTo>
                    <a:pt x="26" y="18"/>
                  </a:lnTo>
                  <a:lnTo>
                    <a:pt x="1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352200">
              <a:off x="4026240" y="4046400"/>
              <a:ext cx="272160" cy="1516320"/>
            </a:xfrm>
            <a:custGeom>
              <a:avLst/>
              <a:gdLst/>
              <a:ahLst/>
              <a:rect l="l" t="t" r="r" b="b"/>
              <a:pathLst>
                <a:path w="103" h="577">
                  <a:moveTo>
                    <a:pt x="0" y="0"/>
                  </a:moveTo>
                  <a:lnTo>
                    <a:pt x="71" y="566"/>
                  </a:lnTo>
                  <a:lnTo>
                    <a:pt x="73" y="568"/>
                  </a:lnTo>
                  <a:lnTo>
                    <a:pt x="80" y="573"/>
                  </a:lnTo>
                  <a:lnTo>
                    <a:pt x="91" y="577"/>
                  </a:lnTo>
                  <a:lnTo>
                    <a:pt x="103" y="576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2" y="3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352200">
              <a:off x="2757600" y="2717280"/>
              <a:ext cx="2344680" cy="252000"/>
            </a:xfrm>
            <a:custGeom>
              <a:avLst/>
              <a:gdLst/>
              <a:ahLst/>
              <a:rect l="l" t="t" r="r" b="b"/>
              <a:pathLst>
                <a:path w="894" h="94">
                  <a:moveTo>
                    <a:pt x="0" y="47"/>
                  </a:moveTo>
                  <a:lnTo>
                    <a:pt x="1" y="47"/>
                  </a:lnTo>
                  <a:lnTo>
                    <a:pt x="2" y="48"/>
                  </a:lnTo>
                  <a:lnTo>
                    <a:pt x="5" y="49"/>
                  </a:lnTo>
                  <a:lnTo>
                    <a:pt x="10" y="50"/>
                  </a:lnTo>
                  <a:lnTo>
                    <a:pt x="16" y="53"/>
                  </a:lnTo>
                  <a:lnTo>
                    <a:pt x="23" y="55"/>
                  </a:lnTo>
                  <a:lnTo>
                    <a:pt x="32" y="57"/>
                  </a:lnTo>
                  <a:lnTo>
                    <a:pt x="42" y="60"/>
                  </a:lnTo>
                  <a:lnTo>
                    <a:pt x="54" y="62"/>
                  </a:lnTo>
                  <a:lnTo>
                    <a:pt x="68" y="64"/>
                  </a:lnTo>
                  <a:lnTo>
                    <a:pt x="84" y="67"/>
                  </a:lnTo>
                  <a:lnTo>
                    <a:pt x="101" y="69"/>
                  </a:lnTo>
                  <a:lnTo>
                    <a:pt x="119" y="71"/>
                  </a:lnTo>
                  <a:lnTo>
                    <a:pt x="140" y="72"/>
                  </a:lnTo>
                  <a:lnTo>
                    <a:pt x="163" y="75"/>
                  </a:lnTo>
                  <a:lnTo>
                    <a:pt x="187" y="76"/>
                  </a:lnTo>
                  <a:lnTo>
                    <a:pt x="215" y="77"/>
                  </a:lnTo>
                  <a:lnTo>
                    <a:pt x="244" y="77"/>
                  </a:lnTo>
                  <a:lnTo>
                    <a:pt x="274" y="77"/>
                  </a:lnTo>
                  <a:lnTo>
                    <a:pt x="307" y="76"/>
                  </a:lnTo>
                  <a:lnTo>
                    <a:pt x="343" y="75"/>
                  </a:lnTo>
                  <a:lnTo>
                    <a:pt x="381" y="72"/>
                  </a:lnTo>
                  <a:lnTo>
                    <a:pt x="420" y="70"/>
                  </a:lnTo>
                  <a:lnTo>
                    <a:pt x="463" y="65"/>
                  </a:lnTo>
                  <a:lnTo>
                    <a:pt x="508" y="61"/>
                  </a:lnTo>
                  <a:lnTo>
                    <a:pt x="555" y="56"/>
                  </a:lnTo>
                  <a:lnTo>
                    <a:pt x="604" y="49"/>
                  </a:lnTo>
                  <a:lnTo>
                    <a:pt x="657" y="42"/>
                  </a:lnTo>
                  <a:lnTo>
                    <a:pt x="712" y="33"/>
                  </a:lnTo>
                  <a:lnTo>
                    <a:pt x="770" y="23"/>
                  </a:lnTo>
                  <a:lnTo>
                    <a:pt x="830" y="12"/>
                  </a:lnTo>
                  <a:lnTo>
                    <a:pt x="894" y="0"/>
                  </a:lnTo>
                  <a:lnTo>
                    <a:pt x="891" y="0"/>
                  </a:lnTo>
                  <a:lnTo>
                    <a:pt x="886" y="2"/>
                  </a:lnTo>
                  <a:lnTo>
                    <a:pt x="876" y="4"/>
                  </a:lnTo>
                  <a:lnTo>
                    <a:pt x="863" y="7"/>
                  </a:lnTo>
                  <a:lnTo>
                    <a:pt x="846" y="11"/>
                  </a:lnTo>
                  <a:lnTo>
                    <a:pt x="828" y="15"/>
                  </a:lnTo>
                  <a:lnTo>
                    <a:pt x="805" y="20"/>
                  </a:lnTo>
                  <a:lnTo>
                    <a:pt x="781" y="25"/>
                  </a:lnTo>
                  <a:lnTo>
                    <a:pt x="754" y="31"/>
                  </a:lnTo>
                  <a:lnTo>
                    <a:pt x="724" y="37"/>
                  </a:lnTo>
                  <a:lnTo>
                    <a:pt x="694" y="42"/>
                  </a:lnTo>
                  <a:lnTo>
                    <a:pt x="661" y="49"/>
                  </a:lnTo>
                  <a:lnTo>
                    <a:pt x="627" y="55"/>
                  </a:lnTo>
                  <a:lnTo>
                    <a:pt x="592" y="61"/>
                  </a:lnTo>
                  <a:lnTo>
                    <a:pt x="555" y="67"/>
                  </a:lnTo>
                  <a:lnTo>
                    <a:pt x="518" y="71"/>
                  </a:lnTo>
                  <a:lnTo>
                    <a:pt x="481" y="77"/>
                  </a:lnTo>
                  <a:lnTo>
                    <a:pt x="443" y="82"/>
                  </a:lnTo>
                  <a:lnTo>
                    <a:pt x="404" y="85"/>
                  </a:lnTo>
                  <a:lnTo>
                    <a:pt x="366" y="88"/>
                  </a:lnTo>
                  <a:lnTo>
                    <a:pt x="329" y="92"/>
                  </a:lnTo>
                  <a:lnTo>
                    <a:pt x="292" y="93"/>
                  </a:lnTo>
                  <a:lnTo>
                    <a:pt x="255" y="94"/>
                  </a:lnTo>
                  <a:lnTo>
                    <a:pt x="220" y="94"/>
                  </a:lnTo>
                  <a:lnTo>
                    <a:pt x="186" y="93"/>
                  </a:lnTo>
                  <a:lnTo>
                    <a:pt x="153" y="91"/>
                  </a:lnTo>
                  <a:lnTo>
                    <a:pt x="122" y="87"/>
                  </a:lnTo>
                  <a:lnTo>
                    <a:pt x="93" y="82"/>
                  </a:lnTo>
                  <a:lnTo>
                    <a:pt x="66" y="76"/>
                  </a:lnTo>
                  <a:lnTo>
                    <a:pt x="41" y="68"/>
                  </a:lnTo>
                  <a:lnTo>
                    <a:pt x="19" y="5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352200">
              <a:off x="2945520" y="2383560"/>
              <a:ext cx="2836800" cy="466200"/>
            </a:xfrm>
            <a:custGeom>
              <a:avLst/>
              <a:gdLst/>
              <a:ahLst/>
              <a:rect l="l" t="t" r="r" b="b"/>
              <a:pathLst>
                <a:path w="1082" h="179">
                  <a:moveTo>
                    <a:pt x="0" y="164"/>
                  </a:moveTo>
                  <a:lnTo>
                    <a:pt x="1" y="164"/>
                  </a:lnTo>
                  <a:lnTo>
                    <a:pt x="6" y="165"/>
                  </a:lnTo>
                  <a:lnTo>
                    <a:pt x="14" y="166"/>
                  </a:lnTo>
                  <a:lnTo>
                    <a:pt x="24" y="168"/>
                  </a:lnTo>
                  <a:lnTo>
                    <a:pt x="38" y="169"/>
                  </a:lnTo>
                  <a:lnTo>
                    <a:pt x="54" y="171"/>
                  </a:lnTo>
                  <a:lnTo>
                    <a:pt x="74" y="172"/>
                  </a:lnTo>
                  <a:lnTo>
                    <a:pt x="94" y="173"/>
                  </a:lnTo>
                  <a:lnTo>
                    <a:pt x="118" y="176"/>
                  </a:lnTo>
                  <a:lnTo>
                    <a:pt x="144" y="177"/>
                  </a:lnTo>
                  <a:lnTo>
                    <a:pt x="173" y="178"/>
                  </a:lnTo>
                  <a:lnTo>
                    <a:pt x="203" y="179"/>
                  </a:lnTo>
                  <a:lnTo>
                    <a:pt x="235" y="179"/>
                  </a:lnTo>
                  <a:lnTo>
                    <a:pt x="268" y="179"/>
                  </a:lnTo>
                  <a:lnTo>
                    <a:pt x="304" y="178"/>
                  </a:lnTo>
                  <a:lnTo>
                    <a:pt x="342" y="177"/>
                  </a:lnTo>
                  <a:lnTo>
                    <a:pt x="381" y="175"/>
                  </a:lnTo>
                  <a:lnTo>
                    <a:pt x="421" y="171"/>
                  </a:lnTo>
                  <a:lnTo>
                    <a:pt x="463" y="168"/>
                  </a:lnTo>
                  <a:lnTo>
                    <a:pt x="507" y="163"/>
                  </a:lnTo>
                  <a:lnTo>
                    <a:pt x="551" y="157"/>
                  </a:lnTo>
                  <a:lnTo>
                    <a:pt x="595" y="150"/>
                  </a:lnTo>
                  <a:lnTo>
                    <a:pt x="642" y="141"/>
                  </a:lnTo>
                  <a:lnTo>
                    <a:pt x="689" y="132"/>
                  </a:lnTo>
                  <a:lnTo>
                    <a:pt x="737" y="121"/>
                  </a:lnTo>
                  <a:lnTo>
                    <a:pt x="786" y="109"/>
                  </a:lnTo>
                  <a:lnTo>
                    <a:pt x="834" y="95"/>
                  </a:lnTo>
                  <a:lnTo>
                    <a:pt x="883" y="80"/>
                  </a:lnTo>
                  <a:lnTo>
                    <a:pt x="933" y="63"/>
                  </a:lnTo>
                  <a:lnTo>
                    <a:pt x="983" y="44"/>
                  </a:lnTo>
                  <a:lnTo>
                    <a:pt x="1032" y="24"/>
                  </a:lnTo>
                  <a:lnTo>
                    <a:pt x="1082" y="0"/>
                  </a:lnTo>
                  <a:lnTo>
                    <a:pt x="1079" y="2"/>
                  </a:lnTo>
                  <a:lnTo>
                    <a:pt x="1071" y="4"/>
                  </a:lnTo>
                  <a:lnTo>
                    <a:pt x="1059" y="9"/>
                  </a:lnTo>
                  <a:lnTo>
                    <a:pt x="1041" y="14"/>
                  </a:lnTo>
                  <a:lnTo>
                    <a:pt x="1022" y="21"/>
                  </a:lnTo>
                  <a:lnTo>
                    <a:pt x="1000" y="28"/>
                  </a:lnTo>
                  <a:lnTo>
                    <a:pt x="974" y="37"/>
                  </a:lnTo>
                  <a:lnTo>
                    <a:pt x="948" y="45"/>
                  </a:lnTo>
                  <a:lnTo>
                    <a:pt x="921" y="55"/>
                  </a:lnTo>
                  <a:lnTo>
                    <a:pt x="894" y="63"/>
                  </a:lnTo>
                  <a:lnTo>
                    <a:pt x="867" y="72"/>
                  </a:lnTo>
                  <a:lnTo>
                    <a:pt x="841" y="80"/>
                  </a:lnTo>
                  <a:lnTo>
                    <a:pt x="817" y="87"/>
                  </a:lnTo>
                  <a:lnTo>
                    <a:pt x="795" y="93"/>
                  </a:lnTo>
                  <a:lnTo>
                    <a:pt x="775" y="98"/>
                  </a:lnTo>
                  <a:lnTo>
                    <a:pt x="759" y="102"/>
                  </a:lnTo>
                  <a:lnTo>
                    <a:pt x="756" y="102"/>
                  </a:lnTo>
                  <a:lnTo>
                    <a:pt x="748" y="101"/>
                  </a:lnTo>
                  <a:lnTo>
                    <a:pt x="733" y="100"/>
                  </a:lnTo>
                  <a:lnTo>
                    <a:pt x="714" y="97"/>
                  </a:lnTo>
                  <a:lnTo>
                    <a:pt x="690" y="96"/>
                  </a:lnTo>
                  <a:lnTo>
                    <a:pt x="663" y="96"/>
                  </a:lnTo>
                  <a:lnTo>
                    <a:pt x="632" y="96"/>
                  </a:lnTo>
                  <a:lnTo>
                    <a:pt x="598" y="96"/>
                  </a:lnTo>
                  <a:lnTo>
                    <a:pt x="561" y="98"/>
                  </a:lnTo>
                  <a:lnTo>
                    <a:pt x="523" y="102"/>
                  </a:lnTo>
                  <a:lnTo>
                    <a:pt x="483" y="108"/>
                  </a:lnTo>
                  <a:lnTo>
                    <a:pt x="441" y="115"/>
                  </a:lnTo>
                  <a:lnTo>
                    <a:pt x="398" y="125"/>
                  </a:lnTo>
                  <a:lnTo>
                    <a:pt x="356" y="136"/>
                  </a:lnTo>
                  <a:lnTo>
                    <a:pt x="313" y="151"/>
                  </a:lnTo>
                  <a:lnTo>
                    <a:pt x="272" y="170"/>
                  </a:lnTo>
                  <a:lnTo>
                    <a:pt x="271" y="170"/>
                  </a:lnTo>
                  <a:lnTo>
                    <a:pt x="265" y="170"/>
                  </a:lnTo>
                  <a:lnTo>
                    <a:pt x="257" y="170"/>
                  </a:lnTo>
                  <a:lnTo>
                    <a:pt x="246" y="170"/>
                  </a:lnTo>
                  <a:lnTo>
                    <a:pt x="234" y="170"/>
                  </a:lnTo>
                  <a:lnTo>
                    <a:pt x="219" y="170"/>
                  </a:lnTo>
                  <a:lnTo>
                    <a:pt x="201" y="170"/>
                  </a:lnTo>
                  <a:lnTo>
                    <a:pt x="183" y="170"/>
                  </a:lnTo>
                  <a:lnTo>
                    <a:pt x="162" y="170"/>
                  </a:lnTo>
                  <a:lnTo>
                    <a:pt x="140" y="170"/>
                  </a:lnTo>
                  <a:lnTo>
                    <a:pt x="118" y="169"/>
                  </a:lnTo>
                  <a:lnTo>
                    <a:pt x="94" y="169"/>
                  </a:lnTo>
                  <a:lnTo>
                    <a:pt x="71" y="168"/>
                  </a:lnTo>
                  <a:lnTo>
                    <a:pt x="47" y="166"/>
                  </a:lnTo>
                  <a:lnTo>
                    <a:pt x="23" y="165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352200">
              <a:off x="2587320" y="1737000"/>
              <a:ext cx="2275560" cy="608760"/>
            </a:xfrm>
            <a:custGeom>
              <a:avLst/>
              <a:gdLst/>
              <a:ahLst/>
              <a:rect l="l" t="t" r="r" b="b"/>
              <a:pathLst>
                <a:path w="867" h="231">
                  <a:moveTo>
                    <a:pt x="0" y="231"/>
                  </a:moveTo>
                  <a:lnTo>
                    <a:pt x="0" y="231"/>
                  </a:lnTo>
                  <a:lnTo>
                    <a:pt x="2" y="229"/>
                  </a:lnTo>
                  <a:lnTo>
                    <a:pt x="5" y="227"/>
                  </a:lnTo>
                  <a:lnTo>
                    <a:pt x="7" y="223"/>
                  </a:lnTo>
                  <a:lnTo>
                    <a:pt x="12" y="218"/>
                  </a:lnTo>
                  <a:lnTo>
                    <a:pt x="17" y="214"/>
                  </a:lnTo>
                  <a:lnTo>
                    <a:pt x="25" y="208"/>
                  </a:lnTo>
                  <a:lnTo>
                    <a:pt x="33" y="201"/>
                  </a:lnTo>
                  <a:lnTo>
                    <a:pt x="44" y="194"/>
                  </a:lnTo>
                  <a:lnTo>
                    <a:pt x="55" y="187"/>
                  </a:lnTo>
                  <a:lnTo>
                    <a:pt x="68" y="179"/>
                  </a:lnTo>
                  <a:lnTo>
                    <a:pt x="83" y="170"/>
                  </a:lnTo>
                  <a:lnTo>
                    <a:pt x="99" y="162"/>
                  </a:lnTo>
                  <a:lnTo>
                    <a:pt x="118" y="153"/>
                  </a:lnTo>
                  <a:lnTo>
                    <a:pt x="138" y="144"/>
                  </a:lnTo>
                  <a:lnTo>
                    <a:pt x="161" y="133"/>
                  </a:lnTo>
                  <a:lnTo>
                    <a:pt x="185" y="124"/>
                  </a:lnTo>
                  <a:lnTo>
                    <a:pt x="213" y="114"/>
                  </a:lnTo>
                  <a:lnTo>
                    <a:pt x="242" y="104"/>
                  </a:lnTo>
                  <a:lnTo>
                    <a:pt x="273" y="94"/>
                  </a:lnTo>
                  <a:lnTo>
                    <a:pt x="308" y="85"/>
                  </a:lnTo>
                  <a:lnTo>
                    <a:pt x="344" y="74"/>
                  </a:lnTo>
                  <a:lnTo>
                    <a:pt x="384" y="65"/>
                  </a:lnTo>
                  <a:lnTo>
                    <a:pt x="425" y="56"/>
                  </a:lnTo>
                  <a:lnTo>
                    <a:pt x="470" y="47"/>
                  </a:lnTo>
                  <a:lnTo>
                    <a:pt x="517" y="39"/>
                  </a:lnTo>
                  <a:lnTo>
                    <a:pt x="568" y="31"/>
                  </a:lnTo>
                  <a:lnTo>
                    <a:pt x="621" y="24"/>
                  </a:lnTo>
                  <a:lnTo>
                    <a:pt x="679" y="17"/>
                  </a:lnTo>
                  <a:lnTo>
                    <a:pt x="738" y="10"/>
                  </a:lnTo>
                  <a:lnTo>
                    <a:pt x="801" y="4"/>
                  </a:lnTo>
                  <a:lnTo>
                    <a:pt x="867" y="0"/>
                  </a:lnTo>
                  <a:lnTo>
                    <a:pt x="865" y="0"/>
                  </a:lnTo>
                  <a:lnTo>
                    <a:pt x="861" y="1"/>
                  </a:lnTo>
                  <a:lnTo>
                    <a:pt x="851" y="1"/>
                  </a:lnTo>
                  <a:lnTo>
                    <a:pt x="839" y="3"/>
                  </a:lnTo>
                  <a:lnTo>
                    <a:pt x="824" y="4"/>
                  </a:lnTo>
                  <a:lnTo>
                    <a:pt x="806" y="6"/>
                  </a:lnTo>
                  <a:lnTo>
                    <a:pt x="786" y="9"/>
                  </a:lnTo>
                  <a:lnTo>
                    <a:pt x="763" y="12"/>
                  </a:lnTo>
                  <a:lnTo>
                    <a:pt x="737" y="16"/>
                  </a:lnTo>
                  <a:lnTo>
                    <a:pt x="711" y="19"/>
                  </a:lnTo>
                  <a:lnTo>
                    <a:pt x="682" y="24"/>
                  </a:lnTo>
                  <a:lnTo>
                    <a:pt x="651" y="28"/>
                  </a:lnTo>
                  <a:lnTo>
                    <a:pt x="619" y="34"/>
                  </a:lnTo>
                  <a:lnTo>
                    <a:pt x="585" y="40"/>
                  </a:lnTo>
                  <a:lnTo>
                    <a:pt x="552" y="46"/>
                  </a:lnTo>
                  <a:lnTo>
                    <a:pt x="516" y="53"/>
                  </a:lnTo>
                  <a:lnTo>
                    <a:pt x="480" y="59"/>
                  </a:lnTo>
                  <a:lnTo>
                    <a:pt x="445" y="68"/>
                  </a:lnTo>
                  <a:lnTo>
                    <a:pt x="408" y="76"/>
                  </a:lnTo>
                  <a:lnTo>
                    <a:pt x="371" y="84"/>
                  </a:lnTo>
                  <a:lnTo>
                    <a:pt x="335" y="93"/>
                  </a:lnTo>
                  <a:lnTo>
                    <a:pt x="298" y="103"/>
                  </a:lnTo>
                  <a:lnTo>
                    <a:pt x="263" y="114"/>
                  </a:lnTo>
                  <a:lnTo>
                    <a:pt x="228" y="124"/>
                  </a:lnTo>
                  <a:lnTo>
                    <a:pt x="195" y="136"/>
                  </a:lnTo>
                  <a:lnTo>
                    <a:pt x="161" y="147"/>
                  </a:lnTo>
                  <a:lnTo>
                    <a:pt x="130" y="160"/>
                  </a:lnTo>
                  <a:lnTo>
                    <a:pt x="100" y="172"/>
                  </a:lnTo>
                  <a:lnTo>
                    <a:pt x="73" y="186"/>
                  </a:lnTo>
                  <a:lnTo>
                    <a:pt x="46" y="201"/>
                  </a:lnTo>
                  <a:lnTo>
                    <a:pt x="22" y="216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352200">
              <a:off x="4508640" y="2712960"/>
              <a:ext cx="1053360" cy="1305720"/>
            </a:xfrm>
            <a:custGeom>
              <a:avLst/>
              <a:gdLst/>
              <a:ahLst/>
              <a:rect l="l" t="t" r="r" b="b"/>
              <a:pathLst>
                <a:path w="403" h="496">
                  <a:moveTo>
                    <a:pt x="403" y="0"/>
                  </a:moveTo>
                  <a:lnTo>
                    <a:pt x="0" y="496"/>
                  </a:lnTo>
                  <a:lnTo>
                    <a:pt x="379" y="3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52200">
              <a:off x="4341600" y="4107960"/>
              <a:ext cx="219960" cy="1420920"/>
            </a:xfrm>
            <a:custGeom>
              <a:avLst/>
              <a:gdLst/>
              <a:ahLst/>
              <a:rect l="l" t="t" r="r" b="b"/>
              <a:pathLst>
                <a:path w="85" h="542">
                  <a:moveTo>
                    <a:pt x="12" y="0"/>
                  </a:moveTo>
                  <a:lnTo>
                    <a:pt x="85" y="534"/>
                  </a:lnTo>
                  <a:lnTo>
                    <a:pt x="71" y="542"/>
                  </a:lnTo>
                  <a:lnTo>
                    <a:pt x="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170160" y="1892160"/>
            <a:ext cx="21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NECESIDAD (ideas de producto o servicio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92480" y="2936880"/>
            <a:ext cx="210024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ROYECTOS (evaluación de viabilidad*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4659480"/>
            <a:ext cx="216036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EMPRESA (implementación y operación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3336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3300"/>
                </a:solidFill>
                <a:latin typeface="Verdana"/>
              </a:rPr>
              <a:t>Etapa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6200" y="6093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Máxima: Necesidad son infinitas y recursos son escas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179640" y="4006440"/>
            <a:ext cx="511164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ERSONAL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Que carrera estudi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on quien me voy a cas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En que voy a trabaj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5690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Ejemplos de proyecto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3789360"/>
            <a:ext cx="38862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14400" indent="-44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EMPRESARIAL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Invertir en accion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Comprar una cas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Iniciar una empres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Lanzar un nuevo product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1197000"/>
            <a:ext cx="554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14400" indent="-44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SOCIAL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Transantiag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Disminuir emisiones de carbono*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Mejoramiento de una carreter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Poner un semáfor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4160" y="623088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*An inconvenient truth. Al Go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31920" y="4724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ntabilidad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429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Cliente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530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3040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5016200">
            <a:off x="4769640" y="2079000"/>
            <a:ext cx="2448000" cy="5580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33680" y="126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6T12:34:41Z</dcterms:modified>
  <cp:revision>416</cp:revision>
  <dc:subject/>
  <dc:title>Formulación de Proyectos</dc:title>
</cp:coreProperties>
</file>