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826-2BA7-4136-80D7-34F58FB3E5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069A-E59F-4598-8A0C-C6407AC420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9052-731B-45E7-9A74-1E11E8455E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4160" y="696960"/>
            <a:ext cx="4548240" cy="341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2F59-991C-4BCD-AF74-ADE77B174D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A0E-A2D1-48C8-9EF5-51882B3256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244-67EC-4F20-B756-D2CF987E8F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F372-9410-4C33-97EF-240395B4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73598-CE71-4809-98B2-92564C3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ABDA-74B1-4083-9914-8E55923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50D63-2D8F-43FA-9EE6-507B592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BB05-A2F0-4ADE-B663-D0C3C37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37E81-82E7-40DC-BFCC-18FAA37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62770-BD96-4254-8C72-5DAF4682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9094-B12F-4472-A185-409EA92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89107-DD61-44B1-8770-AE6C30E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C2BB2-50CD-482E-A8AD-D61D85B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C87FB-151E-449A-86E5-7629391D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9E1C3-ADF9-456C-A4CF-11B5C7FC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F8CD-5958-49FD-B453-F22F85D637CB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nford_University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-cursos.cl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860640"/>
            <a:ext cx="74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troducción</a:t>
            </a: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1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33360"/>
            <a:ext cx="8959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lementos básicos de un proyecto Empresarial o Soci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3720" y="126828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stor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la Idea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1120" y="3494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Ánge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69680" y="494172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pital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riesg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0960" y="537372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erci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3280" y="4005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Incubador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3040" y="4508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rf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500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6680" y="2421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lianza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 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9520" y="3573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pecialis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écnic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1628640"/>
            <a:ext cx="3492360" cy="4464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7214600">
            <a:off x="5184000" y="-62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016200">
            <a:off x="5267880" y="2216880"/>
            <a:ext cx="2232000" cy="511344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2320" y="5877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alidad de los negocios ho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marketing???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udiar necesidades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s para hacer proyección de benefici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4 P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gmentación y posicionamiento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logía CRM … Ejemplo Entel PC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estrategia??? 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dena de valor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Análisis de Porter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FODA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El Escenario De Negocios De Hoy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menaza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Mercado altamente competitiv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Productos 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comoditizados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 – cada vez menos productos exclusiv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os clientes tienen cada vez más opcione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a competencia está enfocada en preci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ambios en el mercad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Ineficiencias operaci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Necesidad de mejorar la gerencia de cost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Desperdicio de recursos con envío de mensajes sin destino especifico – “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spray and pray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” – “pulverizar y rezar”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ortunidade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Las empresas pierden entre 15 y 35% de sus clientes por año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Un aumento de solamente 5% en la retención de clientes puede aumentar la rentabilidad de la empresa entre 25% y 85%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" y="5791320"/>
            <a:ext cx="285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um Corpo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arvard Business Revie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cc3300"/>
                </a:solidFill>
                <a:latin typeface="Verdana"/>
              </a:rPr>
              <a:t>Ventaja Competitiva...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3840" y="1476360"/>
            <a:ext cx="457524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0000" indent="0">
              <a:spcBef>
                <a:spcPts val="649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Nosotros tenemos solamente dos fuentes de ventaja competitiva:</a:t>
            </a:r>
            <a:br>
              <a:rPr sz="2600"/>
            </a:b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aprender más sobre nuestros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client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</a:t>
            </a:r>
            <a:br>
              <a:rPr sz="2200"/>
            </a:b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convertir ese conocimiento en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accion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”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11840" y="1398600"/>
            <a:ext cx="3789360" cy="3030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46680" y="4503600"/>
            <a:ext cx="37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2120" indent="-22212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-- 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Jack Welch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, sobre la estrategia competitiva de GE para el próximo siglo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2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arket y Marketing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43066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La presentación de una proposición en la forma en que es más probable de ser aceptad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1484280"/>
            <a:ext cx="243828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484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Desarrollar producto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484280"/>
            <a:ext cx="25146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0600"/>
            <a:ext cx="251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udiar necesidade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segmentación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1484280"/>
            <a:ext cx="29718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52388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Comunicación con clientes </a:t>
            </a: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posicionamiento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8006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78720" y="6093000"/>
            <a:ext cx="695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arc Vanhuelen – Bernard Dubois / HEC Pari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Ciertas empresas están más orientadas al concepto comercial (ej: Microsoft en sus inicios) otras más al productiv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66600" y="260280"/>
            <a:ext cx="929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Teorías del comportamiento del consumidor:</a:t>
            </a:r>
            <a:br>
              <a:rPr sz="2200"/>
            </a:b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necesidades</a:t>
            </a: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, deseos, motivaciones, personalidad, percepción, formación de preferencias, lideres de opinión,…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36360" y="1197000"/>
            <a:ext cx="6696000" cy="4766040"/>
            <a:chOff x="-36360" y="1197000"/>
            <a:chExt cx="6696000" cy="4766040"/>
          </a:xfrm>
        </p:grpSpPr>
        <p:sp>
          <p:nvSpPr>
            <p:cNvPr id="189" name=""/>
            <p:cNvSpPr/>
            <p:nvPr/>
          </p:nvSpPr>
          <p:spPr>
            <a:xfrm flipV="1">
              <a:off x="-36360" y="1197000"/>
              <a:ext cx="3240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203640" y="1197000"/>
              <a:ext cx="3456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36360" y="5589720"/>
              <a:ext cx="6696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9280" y="4797360"/>
              <a:ext cx="5472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690560" y="3284640"/>
              <a:ext cx="316872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15640" y="4076640"/>
              <a:ext cx="43196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39640" y="2421000"/>
              <a:ext cx="1800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2720" y="5149800"/>
              <a:ext cx="58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Necesidades Sicológicas (hambre, sed, descansar,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7560" y="4292640"/>
              <a:ext cx="38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eguridad (abrigo, protección, 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880" y="35002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Pertenencia y afectiva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7960" y="2637000"/>
              <a:ext cx="19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Reconocimi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5200" y="17002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Logr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40" y="5686560"/>
              <a:ext cx="381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1.Teoría de “Escala de necesidades” de MASLOW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219640" y="1125360"/>
            <a:ext cx="3816360" cy="3527640"/>
          </a:xfrm>
          <a:prstGeom prst="ellipse">
            <a:avLst/>
          </a:prstGeom>
          <a:gradFill rotWithShape="0">
            <a:gsLst>
              <a:gs pos="0">
                <a:srgbClr val="ffff66">
                  <a:alpha val="15294"/>
                </a:srgbClr>
              </a:gs>
              <a:gs pos="100000">
                <a:srgbClr val="75752f">
                  <a:alpha val="15294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1640" y="1695600"/>
            <a:ext cx="3528720" cy="3573360"/>
            <a:chOff x="5651640" y="1695600"/>
            <a:chExt cx="3528720" cy="3573360"/>
          </a:xfrm>
        </p:grpSpPr>
        <p:sp>
          <p:nvSpPr>
            <p:cNvPr id="204" name=""/>
            <p:cNvSpPr/>
            <p:nvPr/>
          </p:nvSpPr>
          <p:spPr>
            <a:xfrm>
              <a:off x="6372360" y="2925720"/>
              <a:ext cx="1800000" cy="151128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50196"/>
                  </a:srgbClr>
                </a:gs>
                <a:gs pos="100000">
                  <a:srgbClr val="75752f">
                    <a:alpha val="50196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divid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989000"/>
              <a:ext cx="3024000" cy="259236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35294"/>
                  </a:srgbClr>
                </a:gs>
                <a:gs pos="100000">
                  <a:srgbClr val="75752f">
                    <a:alpha val="35294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terperson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16956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ociocultur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4280" y="4627440"/>
              <a:ext cx="301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2.Niveles del comportamiento del consumido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BERNARD DUBOI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855080" y="6067440"/>
            <a:ext cx="60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3.Pequeñas oportunidades son a menudo el comienzo de grandes proyectos.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EMOSTHEN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todología para estudiar las necesidade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ción de tema y objetivos en estud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participantes de estudi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a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Generar y testear pauta de Focus Group/Entrevistas/Encue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r participan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ducción de grupos y rol de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nalizar, interpretar y transcribir resul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08760" y="6200640"/>
            <a:ext cx="494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Focus Group, Theory and practice – David W. Stewart &amp; Prem. N. Shamdsani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Applied Social Research Methods Series Volume 20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etodolos para hacer proyección de beneficios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óxima clas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Plan de marketing (4Ps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Físicos o servicios + Experiencia de compra (procesos de decisión, calidad, 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ampliado (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razón de fondo por que se compra dicho producto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 … verse bien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productos con atributos singulare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joya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abogados, zapatillas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ecio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Costo monetarios ($ 50 mil por una chaqueta,…) y no monetarios (tiempo de traslado,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Complejidad es virtuosa... Si puedo separar mercados (discriminar por prec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lasticidad de curvas de demanda (ingresos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tarificaciones compleja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DHL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moción/ Publicidad – imagen de marca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Inversión o gasto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(Carguita feliz…) -&gt; Diseño piezas publicitarias (agencia publicitaria/mensaje Vivir primeros el Futuro…) -&gt; Plan de medios (agencia de medios/Noticiero canales TV abierta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marcas que generan diferencia de precio 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Entel PC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Coca Cola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laza/ Ubicación – canal de distrib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Definición y administración de los lugares donde puedo adquirir o consumir el producto: físicos, virtuales, despacho a domicilio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s de canales de distribución novedosos: Dell USA en los 80’s (arma tu computador y te lo enviamos a domicil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016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Participación En El Mercado</a:t>
            </a:r>
            <a:br>
              <a:rPr sz="2200"/>
            </a:b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Vs. Participación En El Cliente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55640" y="3949560"/>
            <a:ext cx="5411880" cy="763560"/>
            <a:chOff x="755640" y="3949560"/>
            <a:chExt cx="5411880" cy="763560"/>
          </a:xfrm>
        </p:grpSpPr>
        <p:sp>
          <p:nvSpPr>
            <p:cNvPr id="219" name=""/>
            <p:cNvSpPr/>
            <p:nvPr/>
          </p:nvSpPr>
          <p:spPr>
            <a:xfrm>
              <a:off x="755640" y="4101840"/>
              <a:ext cx="5181840" cy="45720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3680" y="4101840"/>
              <a:ext cx="4033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de masa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7480" y="3949560"/>
              <a:ext cx="230040" cy="76356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0" y="480"/>
                  </a:moveTo>
                  <a:lnTo>
                    <a:pt x="0" y="0"/>
                  </a:lnTo>
                  <a:lnTo>
                    <a:pt x="144" y="240"/>
                  </a:lnTo>
                  <a:lnTo>
                    <a:pt x="0" y="480"/>
                  </a:lnTo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03280" y="4884840"/>
            <a:ext cx="186552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14129"/>
              <a:gd name="adj5" fmla="val -57527"/>
              <a:gd name="adj6" fmla="val -24500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aptur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má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2422440"/>
            <a:ext cx="318456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4138"/>
              <a:gd name="adj5" fmla="val 94231"/>
              <a:gd name="adj6" fmla="val -24513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onserv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y  </a:t>
            </a: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Desarroll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lo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247920" y="1913040"/>
            <a:ext cx="1068480" cy="4249440"/>
            <a:chOff x="3247920" y="1913040"/>
            <a:chExt cx="1068480" cy="4249440"/>
          </a:xfrm>
        </p:grpSpPr>
        <p:sp>
          <p:nvSpPr>
            <p:cNvPr id="225" name=""/>
            <p:cNvSpPr/>
            <p:nvPr/>
          </p:nvSpPr>
          <p:spPr>
            <a:xfrm>
              <a:off x="3498840" y="2453400"/>
              <a:ext cx="571680" cy="3709080"/>
            </a:xfrm>
            <a:prstGeom prst="rect">
              <a:avLst/>
            </a:pr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7920" y="1913040"/>
              <a:ext cx="1068480" cy="5421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0" y="336"/>
                  </a:moveTo>
                  <a:lnTo>
                    <a:pt x="672" y="336"/>
                  </a:lnTo>
                  <a:lnTo>
                    <a:pt x="336" y="0"/>
                  </a:lnTo>
                  <a:lnTo>
                    <a:pt x="0" y="336"/>
                  </a:lnTo>
                </a:path>
              </a:pathLst>
            </a:cu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58880" y="1778040"/>
            <a:ext cx="5989680" cy="4421160"/>
          </a:xfrm>
          <a:custGeom>
            <a:avLst/>
            <a:gdLst/>
            <a:ahLst/>
            <a:rect l="l" t="t" r="r" b="b"/>
            <a:pathLst>
              <a:path w="3773" h="2785">
                <a:moveTo>
                  <a:pt x="0" y="0"/>
                </a:moveTo>
                <a:lnTo>
                  <a:pt x="0" y="2784"/>
                </a:lnTo>
                <a:lnTo>
                  <a:pt x="3772" y="2784"/>
                </a:lnTo>
              </a:path>
            </a:pathLst>
          </a:custGeom>
          <a:noFill/>
          <a:ln cap="rnd" w="76320">
            <a:solidFill>
              <a:srgbClr val="00008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3879720"/>
            <a:ext cx="3654000" cy="1490040"/>
            <a:chOff x="5094360" y="3879720"/>
            <a:chExt cx="3654000" cy="1490040"/>
          </a:xfrm>
        </p:grpSpPr>
        <p:sp>
          <p:nvSpPr>
            <p:cNvPr id="229" name=""/>
            <p:cNvSpPr/>
            <p:nvPr/>
          </p:nvSpPr>
          <p:spPr>
            <a:xfrm>
              <a:off x="6864120" y="4811400"/>
              <a:ext cx="18842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lt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94360" y="3879720"/>
              <a:ext cx="82368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4520" y="4437000"/>
              <a:ext cx="101232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346040" y="1932120"/>
            <a:ext cx="2847960" cy="1826280"/>
            <a:chOff x="1346040" y="1932120"/>
            <a:chExt cx="2847960" cy="1826280"/>
          </a:xfrm>
        </p:grpSpPr>
        <p:sp>
          <p:nvSpPr>
            <p:cNvPr id="233" name=""/>
            <p:cNvSpPr/>
            <p:nvPr/>
          </p:nvSpPr>
          <p:spPr>
            <a:xfrm>
              <a:off x="1346040" y="2967120"/>
              <a:ext cx="1628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Baj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69960" y="1932120"/>
              <a:ext cx="82404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97000" y="2421000"/>
              <a:ext cx="1288800" cy="62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000" y="562284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Número de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88920" y="1644480"/>
            <a:ext cx="2465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Arial"/>
              </a:rPr>
              <a:t>Necesidades que pueden ser satisfech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80" y="6237360"/>
            <a:ext cx="428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Interactive Marketing, Don Peppers &amp; Martha Roggers - 199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Trate Clientes Distintos de Forma Distint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39960" y="3124080"/>
            <a:ext cx="7315200" cy="1466640"/>
            <a:chOff x="939960" y="3124080"/>
            <a:chExt cx="7315200" cy="1466640"/>
          </a:xfrm>
        </p:grpSpPr>
        <p:sp>
          <p:nvSpPr>
            <p:cNvPr id="241" name=""/>
            <p:cNvSpPr/>
            <p:nvPr/>
          </p:nvSpPr>
          <p:spPr>
            <a:xfrm>
              <a:off x="4265280" y="4032000"/>
              <a:ext cx="39585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no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9960" y="3124080"/>
              <a:ext cx="7315200" cy="82728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siempre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4400" y="4724280"/>
            <a:ext cx="7315200" cy="1417320"/>
            <a:chOff x="914400" y="4724280"/>
            <a:chExt cx="7315200" cy="1417320"/>
          </a:xfrm>
        </p:grpSpPr>
        <p:sp>
          <p:nvSpPr>
            <p:cNvPr id="244" name=""/>
            <p:cNvSpPr/>
            <p:nvPr/>
          </p:nvSpPr>
          <p:spPr>
            <a:xfrm>
              <a:off x="4265280" y="5582880"/>
              <a:ext cx="343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4724280"/>
              <a:ext cx="7315200" cy="77760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nunca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846440"/>
            <a:ext cx="7346880" cy="8380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l cliente siempre tiene la razón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3986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840" y="656892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Metodología</a:t>
            </a: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 CRM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12800" y="1676520"/>
            <a:ext cx="7746120" cy="3896640"/>
            <a:chOff x="712800" y="1676520"/>
            <a:chExt cx="7746120" cy="3896640"/>
          </a:xfrm>
        </p:grpSpPr>
        <p:grpSp>
          <p:nvGrpSpPr>
            <p:cNvPr id="251" name=""/>
            <p:cNvGrpSpPr/>
            <p:nvPr/>
          </p:nvGrpSpPr>
          <p:grpSpPr>
            <a:xfrm>
              <a:off x="712800" y="1704960"/>
              <a:ext cx="3006720" cy="1150200"/>
              <a:chOff x="712800" y="1704960"/>
              <a:chExt cx="3006720" cy="115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880560" y="1796400"/>
                <a:ext cx="2838960" cy="105876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dentific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Al cliente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Individualmente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2800" y="1704960"/>
                <a:ext cx="30924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504040" y="1676520"/>
              <a:ext cx="2874240" cy="1226520"/>
              <a:chOff x="5504040" y="1676520"/>
              <a:chExt cx="2874240" cy="1226520"/>
            </a:xfrm>
          </p:grpSpPr>
          <p:sp>
            <p:nvSpPr>
              <p:cNvPr id="255" name=""/>
              <p:cNvSpPr/>
              <p:nvPr/>
            </p:nvSpPr>
            <p:spPr>
              <a:xfrm>
                <a:off x="5631120" y="1785600"/>
                <a:ext cx="2747160" cy="11174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Diferenci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valor y después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necesidades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04040" y="1676520"/>
                <a:ext cx="309240" cy="27504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46280" y="4431960"/>
              <a:ext cx="2923200" cy="1141200"/>
              <a:chOff x="746280" y="4431960"/>
              <a:chExt cx="2923200" cy="1141200"/>
            </a:xfrm>
          </p:grpSpPr>
          <p:sp>
            <p:nvSpPr>
              <p:cNvPr id="258" name=""/>
              <p:cNvSpPr/>
              <p:nvPr/>
            </p:nvSpPr>
            <p:spPr>
              <a:xfrm>
                <a:off x="920880" y="4579920"/>
                <a:ext cx="27486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Personaliz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roducto y/o Servicio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" y="4431960"/>
                <a:ext cx="30960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899880" y="2045520"/>
              <a:ext cx="1549440" cy="488160"/>
            </a:xfrm>
            <a:custGeom>
              <a:avLst/>
              <a:gdLst>
                <a:gd name="textAreaLeft" fmla="*/ 241920 w 1549440"/>
                <a:gd name="textAreaRight" fmla="*/ 1355760 w 1549440"/>
                <a:gd name="textAreaTop" fmla="*/ 122040 h 488160"/>
                <a:gd name="textAreaBottom" fmla="*/ 366120 h 48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6628"/>
                </a:gs>
                <a:gs pos="100000">
                  <a:srgbClr val="ffdf57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839040" y="4599360"/>
              <a:ext cx="1670400" cy="892080"/>
              <a:chOff x="3839040" y="4599360"/>
              <a:chExt cx="1670400" cy="892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916800" y="4924440"/>
                <a:ext cx="147852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Retroalimentación</a:t>
                </a:r>
                <a:br>
                  <a:rPr sz="1400"/>
                </a:b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continua</a:t>
                </a:r>
                <a:endParaRPr b="0" lang="en-US" sz="1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798080" y="4599000"/>
                <a:ext cx="711000" cy="820440"/>
              </a:xfrm>
              <a:custGeom>
                <a:avLst/>
                <a:gdLst>
                  <a:gd name="textAreaLeft" fmla="*/ 95040 w 711000"/>
                  <a:gd name="textAreaRight" fmla="*/ 615960 w 711000"/>
                  <a:gd name="textAreaTop" fmla="*/ 143280 h 820440"/>
                  <a:gd name="textAreaBottom" fmla="*/ 59472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39040" y="4681800"/>
                <a:ext cx="676440" cy="809640"/>
              </a:xfrm>
              <a:custGeom>
                <a:avLst/>
                <a:gdLst>
                  <a:gd name="textAreaLeft" fmla="*/ 90360 w 676440"/>
                  <a:gd name="textAreaRight" fmla="*/ 586080 w 676440"/>
                  <a:gd name="textAreaTop" fmla="*/ 141480 h 809640"/>
                  <a:gd name="textAreaBottom" fmla="*/ 58716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036120" y="2988000"/>
              <a:ext cx="1811520" cy="1564560"/>
              <a:chOff x="6036120" y="2988000"/>
              <a:chExt cx="1811520" cy="1564560"/>
            </a:xfrm>
          </p:grpSpPr>
          <p:sp>
            <p:nvSpPr>
              <p:cNvPr id="266" name=""/>
              <p:cNvSpPr/>
              <p:nvPr/>
            </p:nvSpPr>
            <p:spPr>
              <a:xfrm>
                <a:off x="6036120" y="3305520"/>
                <a:ext cx="1811520" cy="91584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d4d4d"/>
                    </a:solidFill>
                    <a:latin typeface="Arial"/>
                  </a:rPr>
                  <a:t>Cliente de Valor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5400000">
                <a:off x="6702480" y="4240080"/>
                <a:ext cx="478440" cy="145800"/>
              </a:xfrm>
              <a:custGeom>
                <a:avLst/>
                <a:gdLst>
                  <a:gd name="textAreaLeft" fmla="*/ 59760 w 478440"/>
                  <a:gd name="textAreaRight" fmla="*/ 418680 w 478440"/>
                  <a:gd name="textAreaTop" fmla="*/ 36360 h 145800"/>
                  <a:gd name="textAreaBottom" fmla="*/ 1094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6701400" y="3153240"/>
                <a:ext cx="478080" cy="147240"/>
              </a:xfrm>
              <a:custGeom>
                <a:avLst/>
                <a:gdLst>
                  <a:gd name="textAreaLeft" fmla="*/ 59760 w 478080"/>
                  <a:gd name="textAreaRight" fmla="*/ 418320 w 478080"/>
                  <a:gd name="textAreaTop" fmla="*/ 36720 h 147240"/>
                  <a:gd name="textAreaBottom" fmla="*/ 11052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562000" y="4431960"/>
              <a:ext cx="2896920" cy="1141200"/>
              <a:chOff x="5562000" y="4431960"/>
              <a:chExt cx="2896920" cy="1141200"/>
            </a:xfrm>
          </p:grpSpPr>
          <p:sp>
            <p:nvSpPr>
              <p:cNvPr id="270" name=""/>
              <p:cNvSpPr/>
              <p:nvPr/>
            </p:nvSpPr>
            <p:spPr>
              <a:xfrm>
                <a:off x="5712120" y="4579920"/>
                <a:ext cx="27468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nteractu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(Acción y Puntos de contacto)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2000" y="4431960"/>
                <a:ext cx="30888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864960" y="2810880"/>
              <a:ext cx="1734840" cy="2025360"/>
              <a:chOff x="3864960" y="2810880"/>
              <a:chExt cx="1734840" cy="2025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864960" y="2875320"/>
                <a:ext cx="1665360" cy="1551960"/>
                <a:chOff x="3864960" y="2875320"/>
                <a:chExt cx="1665360" cy="15519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3864960" y="3004560"/>
                  <a:ext cx="1665360" cy="1422720"/>
                  <a:chOff x="3864960" y="3004560"/>
                  <a:chExt cx="1665360" cy="14227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864960" y="3004560"/>
                    <a:ext cx="832680" cy="71136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697640" y="3004560"/>
                    <a:ext cx="832680" cy="7113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864960" y="3715920"/>
                    <a:ext cx="832680" cy="711360"/>
                  </a:xfrm>
                  <a:prstGeom prst="rect">
                    <a:avLst/>
                  </a:pr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97640" y="3715920"/>
                    <a:ext cx="832680" cy="7113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4767120" y="3069360"/>
                  <a:ext cx="693360" cy="5821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34440" y="3781080"/>
                  <a:ext cx="693360" cy="58212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7120" y="3781080"/>
                  <a:ext cx="693360" cy="582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34440" y="3069360"/>
                  <a:ext cx="693360" cy="58212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35520" y="2875320"/>
                  <a:ext cx="62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6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66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4767120" y="2810880"/>
                <a:ext cx="76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72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36240" y="3522240"/>
                <a:ext cx="763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600" spc="-1" strike="noStrike">
                    <a:solidFill>
                      <a:srgbClr val="ffffff"/>
                    </a:solidFill>
                    <a:latin typeface="Book Antiqua"/>
                  </a:rPr>
                  <a:t>p</a:t>
                </a:r>
                <a:endParaRPr b="0" lang="en-US" sz="6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4480" y="3523320"/>
                <a:ext cx="97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8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5960" y="623736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Consulting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Caso Entel PCS 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4173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Zon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arantí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iferencia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ipo de tráfico y antigüe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2897280" y="2819520"/>
            <a:ext cx="459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4869000"/>
            <a:ext cx="380988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TV =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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(1 + d)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i="1" lang="es-ES_tradnl" sz="24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onde: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 = tasa de descuento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Symbol"/>
                <a:ea typeface="Symbol"/>
              </a:rPr>
              <a:t>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rentabilidad     </a:t>
            </a: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período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6160" y="2666880"/>
            <a:ext cx="657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809880"/>
            <a:ext cx="65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1268280"/>
            <a:ext cx="474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actuar (marketing de la interacción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ll center con marca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tenciones en servicio técnico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 de producto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ersonalizar (masivamente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arifa: Frecuente, AutorecargAló, Aló Noch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recargas: CRM, RAC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intensidad de uso: GrandeAló, Bolsa SM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servicio: Cobro revertido, LDI, Carguita Feliz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rzas competi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10080" y="623736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How Competitive Forces Shape Strategy - 1979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8360" y="1197000"/>
            <a:ext cx="7434000" cy="3456000"/>
            <a:chOff x="738360" y="1197000"/>
            <a:chExt cx="7434000" cy="3456000"/>
          </a:xfrm>
        </p:grpSpPr>
        <p:sp>
          <p:nvSpPr>
            <p:cNvPr id="298" name=""/>
            <p:cNvSpPr/>
            <p:nvPr/>
          </p:nvSpPr>
          <p:spPr>
            <a:xfrm>
              <a:off x="3689280" y="1197000"/>
              <a:ext cx="1602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360" y="2708280"/>
              <a:ext cx="1584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Century Gothic"/>
                </a:rPr>
                <a:t>PROVEE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3280" y="2563920"/>
              <a:ext cx="19321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4d4d4d"/>
                  </a:solidFill>
                  <a:latin typeface="Century Gothic"/>
                </a:rPr>
                <a:t>COMPETIDORES de la INDUSTR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4d4d4d"/>
                  </a:solidFill>
                  <a:latin typeface="Century Gothic"/>
                </a:rPr>
                <a:t>(rivalidad)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5640" y="167328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2000" y="4186440"/>
              <a:ext cx="1601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1360" y="321336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2719800" y="2386800"/>
              <a:ext cx="400320" cy="1106280"/>
            </a:xfrm>
            <a:prstGeom prst="downArrow">
              <a:avLst>
                <a:gd name="adj1" fmla="val 50000"/>
                <a:gd name="adj2" fmla="val 690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66560" y="1773360"/>
              <a:ext cx="166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0720" y="2708280"/>
              <a:ext cx="1601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COMPRA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5771160" y="2386800"/>
              <a:ext cx="400320" cy="1106640"/>
            </a:xfrm>
            <a:prstGeom prst="downArrow">
              <a:avLst>
                <a:gd name="adj1" fmla="val 50000"/>
                <a:gd name="adj2" fmla="val 691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8600" y="306864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265280" y="325764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5240" y="3716280"/>
              <a:ext cx="111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6480" y="4797360"/>
            <a:ext cx="54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Barreras de ent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conomías de escala (ej: Ropa hecha en Chin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 de producto (ej: Lealtad a Coca Col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Requerimientos de capital (ej: Inversión en R&amp;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sventajas de costos independientes del tamaño (ej: Patentes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ceso a canales de distribución (ej: Concentración D&amp;S, Cencosu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oliticas de gobierno (ej: Consercación del medio ambiente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280" y="184320"/>
            <a:ext cx="89647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x: Cadena de valor de una fábrica de cecin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241280" y="288756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7120" y="3152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veedores de cerdo, ave y vacun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27360" y="288756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6320" y="3149640"/>
            <a:ext cx="986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ábrica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de Cecin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664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8200" y="3176640"/>
            <a:ext cx="13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mercial y Distribució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0236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72360" y="3252960"/>
            <a:ext cx="134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360" y="32004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2720" y="2887560"/>
            <a:ext cx="1679760" cy="88272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1680" y="3265560"/>
            <a:ext cx="98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36600" y="140328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55920" y="1595520"/>
            <a:ext cx="13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Asegurar abastecimiento estratégic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2268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1196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9768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51840" y="1543320"/>
            <a:ext cx="13492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Rico Sabor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fiable/Saludabl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acticidad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120" y="1565280"/>
            <a:ext cx="12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Pilar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estratégic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804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5560" y="1685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ficiencia organizacional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1280" y="2330280"/>
            <a:ext cx="4316400" cy="495360"/>
          </a:xfrm>
          <a:custGeom>
            <a:avLst/>
            <a:gdLst>
              <a:gd name="textAreaLeft" fmla="*/ 0 w 4316400"/>
              <a:gd name="textAreaRight" fmla="*/ 4316760 w 4316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9160" y="2494080"/>
            <a:ext cx="33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Impulsar cultura de alto desempeñ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86280" y="1685880"/>
            <a:ext cx="130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ortalecer Liderazgo en todos los canal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02000" y="1415880"/>
            <a:ext cx="1306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l valor del portfolio a través de la construcción de vínculos Emocionales y Racionale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1960" y="6237360"/>
            <a:ext cx="480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The Value Chain and Competitive Advantage  - 198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3882960"/>
            <a:ext cx="741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serie de actividades que se desarrollan para diseñar, producir,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comercializar, distribuir y dar soporte a un producto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Eslabones de la 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los sistemas de actividades interdependientes qu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ueden conducir a ventajas competitivas a través de optimización o coordinación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Integración vertical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oportunidades de optimizar la cadena de valor o gener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, reemplazando o modificando las relaciones con proveedores o clientes, y l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tructura organizacional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iferenciación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forma de ventaja competitiva que se logra cuando los comprador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erciben un valor relevante y único en la oferta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064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FORTALE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00" y="349992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DEBIL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980640"/>
            <a:ext cx="472428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OPORTUN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3760" y="3499920"/>
            <a:ext cx="472464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AMENA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733320"/>
            <a:ext cx="0" cy="612468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719280"/>
            <a:ext cx="0" cy="61387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81040"/>
            <a:ext cx="426708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Ventajas que tenemos como empresa,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Equipo human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Sólido plan de negocios basado en amplios estudios y análisis d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Alianz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Respaldo financier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1494000"/>
            <a:ext cx="46483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que favorecen a todos los productores, Ejemplo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TLC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Que el producto No exista en 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Desventajas de nuestra empresa frente a la competencia o sustitutos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Falta de experienci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4114800"/>
            <a:ext cx="45720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desfavorables para todos los productores, Ejemplo;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Crisis energétic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Tiempo necesario para alcanzar punto de equilibri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40" y="44280"/>
            <a:ext cx="87501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Análisis FOD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36640"/>
            <a:ext cx="435600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836640"/>
            <a:ext cx="471636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6760" y="404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32760" y="404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57720" y="6165720"/>
            <a:ext cx="6220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en disputa entre Albert Humphrey, </a:t>
            </a:r>
            <a:r>
              <a:rPr b="0" lang="es-CL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tanford University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1960s y  “Harvard Policy Model” 1920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ecturas y estudio (previo a cada clase)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er calculadoras …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2 controles y un examen*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**. 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 INASISTENCIAS JUSTIFICADAS EN DOCENCIA, CON CERTIFICADO DEL DEPARTAMENTO 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41600" y="618012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*salvo el última tarea de evaluación so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4720" y="3789360"/>
            <a:ext cx="6912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*Eximi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 ≥ 5,5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Tareas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es de Lectura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Apuntes de IN42A publicados en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u-cursos.c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Brealy y Myers, Fundamentos de Financiación Empresar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apag Nassir, Proyectos de Inversión Formulación y Evalu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ullivan, Ingeniería Económica de DeGarm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(Comercial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 (Contabilidad y Finanza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34160" y="1528920"/>
            <a:ext cx="3965040" cy="4112640"/>
            <a:chOff x="2234160" y="1528920"/>
            <a:chExt cx="3965040" cy="4112640"/>
          </a:xfrm>
        </p:grpSpPr>
        <p:sp>
          <p:nvSpPr>
            <p:cNvPr id="106" name=""/>
            <p:cNvSpPr/>
            <p:nvPr/>
          </p:nvSpPr>
          <p:spPr>
            <a:xfrm rot="352200">
              <a:off x="4091040" y="5424120"/>
              <a:ext cx="455040" cy="194760"/>
            </a:xfrm>
            <a:custGeom>
              <a:avLst/>
              <a:gdLst/>
              <a:ahLst/>
              <a:rect l="l" t="t" r="r" b="b"/>
              <a:pathLst>
                <a:path w="175" h="74">
                  <a:moveTo>
                    <a:pt x="175" y="27"/>
                  </a:moveTo>
                  <a:lnTo>
                    <a:pt x="174" y="34"/>
                  </a:lnTo>
                  <a:lnTo>
                    <a:pt x="171" y="42"/>
                  </a:lnTo>
                  <a:lnTo>
                    <a:pt x="163" y="49"/>
                  </a:lnTo>
                  <a:lnTo>
                    <a:pt x="154" y="55"/>
                  </a:lnTo>
                  <a:lnTo>
                    <a:pt x="141" y="62"/>
                  </a:lnTo>
                  <a:lnTo>
                    <a:pt x="126" y="66"/>
                  </a:lnTo>
                  <a:lnTo>
                    <a:pt x="110" y="71"/>
                  </a:lnTo>
                  <a:lnTo>
                    <a:pt x="93" y="73"/>
                  </a:lnTo>
                  <a:lnTo>
                    <a:pt x="75" y="74"/>
                  </a:lnTo>
                  <a:lnTo>
                    <a:pt x="58" y="74"/>
                  </a:lnTo>
                  <a:lnTo>
                    <a:pt x="43" y="73"/>
                  </a:lnTo>
                  <a:lnTo>
                    <a:pt x="29" y="71"/>
                  </a:lnTo>
                  <a:lnTo>
                    <a:pt x="18" y="66"/>
                  </a:lnTo>
                  <a:lnTo>
                    <a:pt x="8" y="62"/>
                  </a:lnTo>
                  <a:lnTo>
                    <a:pt x="3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6" y="34"/>
                  </a:lnTo>
                  <a:lnTo>
                    <a:pt x="13" y="27"/>
                  </a:lnTo>
                  <a:lnTo>
                    <a:pt x="23" y="20"/>
                  </a:lnTo>
                  <a:lnTo>
                    <a:pt x="36" y="14"/>
                  </a:lnTo>
                  <a:lnTo>
                    <a:pt x="50" y="9"/>
                  </a:lnTo>
                  <a:lnTo>
                    <a:pt x="66" y="4"/>
                  </a:lnTo>
                  <a:lnTo>
                    <a:pt x="83" y="2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3" y="2"/>
                  </a:lnTo>
                  <a:lnTo>
                    <a:pt x="147" y="4"/>
                  </a:lnTo>
                  <a:lnTo>
                    <a:pt x="158" y="9"/>
                  </a:lnTo>
                  <a:lnTo>
                    <a:pt x="167" y="13"/>
                  </a:lnTo>
                  <a:lnTo>
                    <a:pt x="173" y="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52200">
              <a:off x="2352960" y="1719720"/>
              <a:ext cx="3796200" cy="1164240"/>
            </a:xfrm>
            <a:custGeom>
              <a:avLst/>
              <a:gdLst/>
              <a:ahLst/>
              <a:rect l="l" t="t" r="r" b="b"/>
              <a:pathLst>
                <a:path w="1449" h="443">
                  <a:moveTo>
                    <a:pt x="1449" y="131"/>
                  </a:moveTo>
                  <a:lnTo>
                    <a:pt x="1447" y="152"/>
                  </a:lnTo>
                  <a:lnTo>
                    <a:pt x="1439" y="174"/>
                  </a:lnTo>
                  <a:lnTo>
                    <a:pt x="1423" y="196"/>
                  </a:lnTo>
                  <a:lnTo>
                    <a:pt x="1401" y="218"/>
                  </a:lnTo>
                  <a:lnTo>
                    <a:pt x="1373" y="238"/>
                  </a:lnTo>
                  <a:lnTo>
                    <a:pt x="1339" y="260"/>
                  </a:lnTo>
                  <a:lnTo>
                    <a:pt x="1299" y="281"/>
                  </a:lnTo>
                  <a:lnTo>
                    <a:pt x="1254" y="301"/>
                  </a:lnTo>
                  <a:lnTo>
                    <a:pt x="1204" y="320"/>
                  </a:lnTo>
                  <a:lnTo>
                    <a:pt x="1150" y="339"/>
                  </a:lnTo>
                  <a:lnTo>
                    <a:pt x="1092" y="357"/>
                  </a:lnTo>
                  <a:lnTo>
                    <a:pt x="1029" y="373"/>
                  </a:lnTo>
                  <a:lnTo>
                    <a:pt x="964" y="388"/>
                  </a:lnTo>
                  <a:lnTo>
                    <a:pt x="895" y="402"/>
                  </a:lnTo>
                  <a:lnTo>
                    <a:pt x="823" y="413"/>
                  </a:lnTo>
                  <a:lnTo>
                    <a:pt x="749" y="424"/>
                  </a:lnTo>
                  <a:lnTo>
                    <a:pt x="712" y="428"/>
                  </a:lnTo>
                  <a:lnTo>
                    <a:pt x="676" y="432"/>
                  </a:lnTo>
                  <a:lnTo>
                    <a:pt x="639" y="435"/>
                  </a:lnTo>
                  <a:lnTo>
                    <a:pt x="603" y="438"/>
                  </a:lnTo>
                  <a:lnTo>
                    <a:pt x="567" y="440"/>
                  </a:lnTo>
                  <a:lnTo>
                    <a:pt x="533" y="442"/>
                  </a:lnTo>
                  <a:lnTo>
                    <a:pt x="499" y="443"/>
                  </a:lnTo>
                  <a:lnTo>
                    <a:pt x="466" y="443"/>
                  </a:lnTo>
                  <a:lnTo>
                    <a:pt x="433" y="443"/>
                  </a:lnTo>
                  <a:lnTo>
                    <a:pt x="401" y="443"/>
                  </a:lnTo>
                  <a:lnTo>
                    <a:pt x="370" y="442"/>
                  </a:lnTo>
                  <a:lnTo>
                    <a:pt x="340" y="440"/>
                  </a:lnTo>
                  <a:lnTo>
                    <a:pt x="312" y="438"/>
                  </a:lnTo>
                  <a:lnTo>
                    <a:pt x="283" y="435"/>
                  </a:lnTo>
                  <a:lnTo>
                    <a:pt x="256" y="432"/>
                  </a:lnTo>
                  <a:lnTo>
                    <a:pt x="230" y="428"/>
                  </a:lnTo>
                  <a:lnTo>
                    <a:pt x="206" y="425"/>
                  </a:lnTo>
                  <a:lnTo>
                    <a:pt x="181" y="420"/>
                  </a:lnTo>
                  <a:lnTo>
                    <a:pt x="159" y="416"/>
                  </a:lnTo>
                  <a:lnTo>
                    <a:pt x="138" y="410"/>
                  </a:lnTo>
                  <a:lnTo>
                    <a:pt x="118" y="404"/>
                  </a:lnTo>
                  <a:lnTo>
                    <a:pt x="100" y="397"/>
                  </a:lnTo>
                  <a:lnTo>
                    <a:pt x="82" y="390"/>
                  </a:lnTo>
                  <a:lnTo>
                    <a:pt x="67" y="383"/>
                  </a:lnTo>
                  <a:lnTo>
                    <a:pt x="53" y="377"/>
                  </a:lnTo>
                  <a:lnTo>
                    <a:pt x="41" y="368"/>
                  </a:lnTo>
                  <a:lnTo>
                    <a:pt x="29" y="359"/>
                  </a:lnTo>
                  <a:lnTo>
                    <a:pt x="20" y="351"/>
                  </a:lnTo>
                  <a:lnTo>
                    <a:pt x="13" y="342"/>
                  </a:lnTo>
                  <a:lnTo>
                    <a:pt x="6" y="333"/>
                  </a:lnTo>
                  <a:lnTo>
                    <a:pt x="3" y="322"/>
                  </a:lnTo>
                  <a:lnTo>
                    <a:pt x="0" y="312"/>
                  </a:lnTo>
                  <a:lnTo>
                    <a:pt x="2" y="291"/>
                  </a:lnTo>
                  <a:lnTo>
                    <a:pt x="10" y="269"/>
                  </a:lnTo>
                  <a:lnTo>
                    <a:pt x="26" y="249"/>
                  </a:lnTo>
                  <a:lnTo>
                    <a:pt x="48" y="227"/>
                  </a:lnTo>
                  <a:lnTo>
                    <a:pt x="75" y="205"/>
                  </a:lnTo>
                  <a:lnTo>
                    <a:pt x="110" y="184"/>
                  </a:lnTo>
                  <a:lnTo>
                    <a:pt x="149" y="163"/>
                  </a:lnTo>
                  <a:lnTo>
                    <a:pt x="194" y="143"/>
                  </a:lnTo>
                  <a:lnTo>
                    <a:pt x="245" y="124"/>
                  </a:lnTo>
                  <a:lnTo>
                    <a:pt x="299" y="105"/>
                  </a:lnTo>
                  <a:lnTo>
                    <a:pt x="356" y="87"/>
                  </a:lnTo>
                  <a:lnTo>
                    <a:pt x="419" y="71"/>
                  </a:lnTo>
                  <a:lnTo>
                    <a:pt x="484" y="56"/>
                  </a:lnTo>
                  <a:lnTo>
                    <a:pt x="553" y="42"/>
                  </a:lnTo>
                  <a:lnTo>
                    <a:pt x="625" y="30"/>
                  </a:lnTo>
                  <a:lnTo>
                    <a:pt x="699" y="19"/>
                  </a:lnTo>
                  <a:lnTo>
                    <a:pt x="736" y="15"/>
                  </a:lnTo>
                  <a:lnTo>
                    <a:pt x="772" y="11"/>
                  </a:lnTo>
                  <a:lnTo>
                    <a:pt x="809" y="8"/>
                  </a:lnTo>
                  <a:lnTo>
                    <a:pt x="845" y="6"/>
                  </a:lnTo>
                  <a:lnTo>
                    <a:pt x="881" y="3"/>
                  </a:lnTo>
                  <a:lnTo>
                    <a:pt x="915" y="2"/>
                  </a:lnTo>
                  <a:lnTo>
                    <a:pt x="949" y="1"/>
                  </a:lnTo>
                  <a:lnTo>
                    <a:pt x="982" y="0"/>
                  </a:lnTo>
                  <a:lnTo>
                    <a:pt x="1015" y="0"/>
                  </a:lnTo>
                  <a:lnTo>
                    <a:pt x="1047" y="1"/>
                  </a:lnTo>
                  <a:lnTo>
                    <a:pt x="1078" y="2"/>
                  </a:lnTo>
                  <a:lnTo>
                    <a:pt x="1108" y="3"/>
                  </a:lnTo>
                  <a:lnTo>
                    <a:pt x="1138" y="6"/>
                  </a:lnTo>
                  <a:lnTo>
                    <a:pt x="1165" y="8"/>
                  </a:lnTo>
                  <a:lnTo>
                    <a:pt x="1193" y="11"/>
                  </a:lnTo>
                  <a:lnTo>
                    <a:pt x="1218" y="15"/>
                  </a:lnTo>
                  <a:lnTo>
                    <a:pt x="1244" y="18"/>
                  </a:lnTo>
                  <a:lnTo>
                    <a:pt x="1267" y="23"/>
                  </a:lnTo>
                  <a:lnTo>
                    <a:pt x="1290" y="29"/>
                  </a:lnTo>
                  <a:lnTo>
                    <a:pt x="1310" y="33"/>
                  </a:lnTo>
                  <a:lnTo>
                    <a:pt x="1331" y="39"/>
                  </a:lnTo>
                  <a:lnTo>
                    <a:pt x="1350" y="46"/>
                  </a:lnTo>
                  <a:lnTo>
                    <a:pt x="1366" y="53"/>
                  </a:lnTo>
                  <a:lnTo>
                    <a:pt x="1382" y="60"/>
                  </a:lnTo>
                  <a:lnTo>
                    <a:pt x="1396" y="67"/>
                  </a:lnTo>
                  <a:lnTo>
                    <a:pt x="1408" y="75"/>
                  </a:lnTo>
                  <a:lnTo>
                    <a:pt x="1420" y="84"/>
                  </a:lnTo>
                  <a:lnTo>
                    <a:pt x="1429" y="92"/>
                  </a:lnTo>
                  <a:lnTo>
                    <a:pt x="1436" y="101"/>
                  </a:lnTo>
                  <a:lnTo>
                    <a:pt x="1443" y="110"/>
                  </a:lnTo>
                  <a:lnTo>
                    <a:pt x="1446" y="121"/>
                  </a:lnTo>
                  <a:lnTo>
                    <a:pt x="1449" y="13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52200">
              <a:off x="2325960" y="2183400"/>
              <a:ext cx="3706920" cy="1992960"/>
            </a:xfrm>
            <a:custGeom>
              <a:avLst/>
              <a:gdLst/>
              <a:ahLst/>
              <a:rect l="l" t="t" r="r" b="b"/>
              <a:pathLst>
                <a:path w="1412" h="761">
                  <a:moveTo>
                    <a:pt x="0" y="177"/>
                  </a:moveTo>
                  <a:lnTo>
                    <a:pt x="789" y="761"/>
                  </a:lnTo>
                  <a:lnTo>
                    <a:pt x="1412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52200">
              <a:off x="3972240" y="3908160"/>
              <a:ext cx="654840" cy="1636200"/>
            </a:xfrm>
            <a:custGeom>
              <a:avLst/>
              <a:gdLst/>
              <a:ahLst/>
              <a:rect l="l" t="t" r="r" b="b"/>
              <a:pathLst>
                <a:path w="250" h="626">
                  <a:moveTo>
                    <a:pt x="250" y="604"/>
                  </a:moveTo>
                  <a:lnTo>
                    <a:pt x="75" y="626"/>
                  </a:lnTo>
                  <a:lnTo>
                    <a:pt x="0" y="22"/>
                  </a:lnTo>
                  <a:lnTo>
                    <a:pt x="176" y="0"/>
                  </a:lnTo>
                  <a:lnTo>
                    <a:pt x="250" y="604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52200">
              <a:off x="2437920" y="1766160"/>
              <a:ext cx="3633480" cy="1065600"/>
            </a:xfrm>
            <a:custGeom>
              <a:avLst/>
              <a:gdLst/>
              <a:ahLst/>
              <a:rect l="l" t="t" r="r" b="b"/>
              <a:pathLst>
                <a:path w="1386" h="407">
                  <a:moveTo>
                    <a:pt x="1386" y="118"/>
                  </a:moveTo>
                  <a:lnTo>
                    <a:pt x="1384" y="137"/>
                  </a:lnTo>
                  <a:lnTo>
                    <a:pt x="1376" y="157"/>
                  </a:lnTo>
                  <a:lnTo>
                    <a:pt x="1361" y="176"/>
                  </a:lnTo>
                  <a:lnTo>
                    <a:pt x="1339" y="196"/>
                  </a:lnTo>
                  <a:lnTo>
                    <a:pt x="1313" y="216"/>
                  </a:lnTo>
                  <a:lnTo>
                    <a:pt x="1280" y="235"/>
                  </a:lnTo>
                  <a:lnTo>
                    <a:pt x="1242" y="255"/>
                  </a:lnTo>
                  <a:lnTo>
                    <a:pt x="1199" y="273"/>
                  </a:lnTo>
                  <a:lnTo>
                    <a:pt x="1151" y="291"/>
                  </a:lnTo>
                  <a:lnTo>
                    <a:pt x="1099" y="308"/>
                  </a:lnTo>
                  <a:lnTo>
                    <a:pt x="1042" y="325"/>
                  </a:lnTo>
                  <a:lnTo>
                    <a:pt x="983" y="340"/>
                  </a:lnTo>
                  <a:lnTo>
                    <a:pt x="920" y="354"/>
                  </a:lnTo>
                  <a:lnTo>
                    <a:pt x="854" y="367"/>
                  </a:lnTo>
                  <a:lnTo>
                    <a:pt x="785" y="378"/>
                  </a:lnTo>
                  <a:lnTo>
                    <a:pt x="715" y="389"/>
                  </a:lnTo>
                  <a:lnTo>
                    <a:pt x="645" y="397"/>
                  </a:lnTo>
                  <a:lnTo>
                    <a:pt x="576" y="402"/>
                  </a:lnTo>
                  <a:lnTo>
                    <a:pt x="509" y="406"/>
                  </a:lnTo>
                  <a:lnTo>
                    <a:pt x="444" y="407"/>
                  </a:lnTo>
                  <a:lnTo>
                    <a:pt x="383" y="407"/>
                  </a:lnTo>
                  <a:lnTo>
                    <a:pt x="324" y="405"/>
                  </a:lnTo>
                  <a:lnTo>
                    <a:pt x="270" y="401"/>
                  </a:lnTo>
                  <a:lnTo>
                    <a:pt x="220" y="395"/>
                  </a:lnTo>
                  <a:lnTo>
                    <a:pt x="172" y="387"/>
                  </a:lnTo>
                  <a:lnTo>
                    <a:pt x="131" y="378"/>
                  </a:lnTo>
                  <a:lnTo>
                    <a:pt x="94" y="368"/>
                  </a:lnTo>
                  <a:lnTo>
                    <a:pt x="63" y="355"/>
                  </a:lnTo>
                  <a:lnTo>
                    <a:pt x="38" y="341"/>
                  </a:lnTo>
                  <a:lnTo>
                    <a:pt x="18" y="326"/>
                  </a:lnTo>
                  <a:lnTo>
                    <a:pt x="5" y="309"/>
                  </a:lnTo>
                  <a:lnTo>
                    <a:pt x="0" y="291"/>
                  </a:lnTo>
                  <a:lnTo>
                    <a:pt x="1" y="271"/>
                  </a:lnTo>
                  <a:lnTo>
                    <a:pt x="9" y="251"/>
                  </a:lnTo>
                  <a:lnTo>
                    <a:pt x="24" y="232"/>
                  </a:lnTo>
                  <a:lnTo>
                    <a:pt x="45" y="212"/>
                  </a:lnTo>
                  <a:lnTo>
                    <a:pt x="72" y="193"/>
                  </a:lnTo>
                  <a:lnTo>
                    <a:pt x="104" y="173"/>
                  </a:lnTo>
                  <a:lnTo>
                    <a:pt x="144" y="153"/>
                  </a:lnTo>
                  <a:lnTo>
                    <a:pt x="186" y="135"/>
                  </a:lnTo>
                  <a:lnTo>
                    <a:pt x="233" y="117"/>
                  </a:lnTo>
                  <a:lnTo>
                    <a:pt x="285" y="99"/>
                  </a:lnTo>
                  <a:lnTo>
                    <a:pt x="342" y="83"/>
                  </a:lnTo>
                  <a:lnTo>
                    <a:pt x="402" y="68"/>
                  </a:lnTo>
                  <a:lnTo>
                    <a:pt x="464" y="53"/>
                  </a:lnTo>
                  <a:lnTo>
                    <a:pt x="530" y="41"/>
                  </a:lnTo>
                  <a:lnTo>
                    <a:pt x="599" y="29"/>
                  </a:lnTo>
                  <a:lnTo>
                    <a:pt x="669" y="20"/>
                  </a:lnTo>
                  <a:lnTo>
                    <a:pt x="740" y="12"/>
                  </a:lnTo>
                  <a:lnTo>
                    <a:pt x="810" y="6"/>
                  </a:lnTo>
                  <a:lnTo>
                    <a:pt x="876" y="2"/>
                  </a:lnTo>
                  <a:lnTo>
                    <a:pt x="941" y="0"/>
                  </a:lnTo>
                  <a:lnTo>
                    <a:pt x="1002" y="0"/>
                  </a:lnTo>
                  <a:lnTo>
                    <a:pt x="1061" y="2"/>
                  </a:lnTo>
                  <a:lnTo>
                    <a:pt x="1115" y="6"/>
                  </a:lnTo>
                  <a:lnTo>
                    <a:pt x="1165" y="12"/>
                  </a:lnTo>
                  <a:lnTo>
                    <a:pt x="1213" y="20"/>
                  </a:lnTo>
                  <a:lnTo>
                    <a:pt x="1254" y="29"/>
                  </a:lnTo>
                  <a:lnTo>
                    <a:pt x="1291" y="39"/>
                  </a:lnTo>
                  <a:lnTo>
                    <a:pt x="1322" y="52"/>
                  </a:lnTo>
                  <a:lnTo>
                    <a:pt x="1348" y="67"/>
                  </a:lnTo>
                  <a:lnTo>
                    <a:pt x="1367" y="82"/>
                  </a:lnTo>
                  <a:lnTo>
                    <a:pt x="1380" y="99"/>
                  </a:lnTo>
                  <a:lnTo>
                    <a:pt x="1386" y="11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352200">
              <a:off x="4376880" y="2536560"/>
              <a:ext cx="1363680" cy="1556640"/>
            </a:xfrm>
            <a:custGeom>
              <a:avLst/>
              <a:gdLst/>
              <a:ahLst/>
              <a:rect l="l" t="t" r="r" b="b"/>
              <a:pathLst>
                <a:path w="521" h="593">
                  <a:moveTo>
                    <a:pt x="521" y="0"/>
                  </a:moveTo>
                  <a:lnTo>
                    <a:pt x="53" y="573"/>
                  </a:lnTo>
                  <a:lnTo>
                    <a:pt x="52" y="575"/>
                  </a:lnTo>
                  <a:lnTo>
                    <a:pt x="50" y="576"/>
                  </a:lnTo>
                  <a:lnTo>
                    <a:pt x="46" y="578"/>
                  </a:lnTo>
                  <a:lnTo>
                    <a:pt x="41" y="582"/>
                  </a:lnTo>
                  <a:lnTo>
                    <a:pt x="34" y="585"/>
                  </a:lnTo>
                  <a:lnTo>
                    <a:pt x="24" y="588"/>
                  </a:lnTo>
                  <a:lnTo>
                    <a:pt x="13" y="591"/>
                  </a:lnTo>
                  <a:lnTo>
                    <a:pt x="0" y="593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202" y="132"/>
                  </a:lnTo>
                  <a:lnTo>
                    <a:pt x="212" y="130"/>
                  </a:lnTo>
                  <a:lnTo>
                    <a:pt x="226" y="128"/>
                  </a:lnTo>
                  <a:lnTo>
                    <a:pt x="243" y="123"/>
                  </a:lnTo>
                  <a:lnTo>
                    <a:pt x="263" y="117"/>
                  </a:lnTo>
                  <a:lnTo>
                    <a:pt x="285" y="111"/>
                  </a:lnTo>
                  <a:lnTo>
                    <a:pt x="309" y="103"/>
                  </a:lnTo>
                  <a:lnTo>
                    <a:pt x="334" y="94"/>
                  </a:lnTo>
                  <a:lnTo>
                    <a:pt x="361" y="85"/>
                  </a:lnTo>
                  <a:lnTo>
                    <a:pt x="388" y="73"/>
                  </a:lnTo>
                  <a:lnTo>
                    <a:pt x="416" y="62"/>
                  </a:lnTo>
                  <a:lnTo>
                    <a:pt x="444" y="48"/>
                  </a:lnTo>
                  <a:lnTo>
                    <a:pt x="470" y="33"/>
                  </a:lnTo>
                  <a:lnTo>
                    <a:pt x="497" y="17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52200">
              <a:off x="2702520" y="2794680"/>
              <a:ext cx="1452600" cy="1116720"/>
            </a:xfrm>
            <a:custGeom>
              <a:avLst/>
              <a:gdLst/>
              <a:ahLst/>
              <a:rect l="l" t="t" r="r" b="b"/>
              <a:pathLst>
                <a:path w="555" h="42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9" y="5"/>
                  </a:lnTo>
                  <a:lnTo>
                    <a:pt x="16" y="8"/>
                  </a:lnTo>
                  <a:lnTo>
                    <a:pt x="26" y="11"/>
                  </a:lnTo>
                  <a:lnTo>
                    <a:pt x="39" y="15"/>
                  </a:lnTo>
                  <a:lnTo>
                    <a:pt x="55" y="20"/>
                  </a:lnTo>
                  <a:lnTo>
                    <a:pt x="74" y="23"/>
                  </a:lnTo>
                  <a:lnTo>
                    <a:pt x="98" y="26"/>
                  </a:lnTo>
                  <a:lnTo>
                    <a:pt x="124" y="30"/>
                  </a:lnTo>
                  <a:lnTo>
                    <a:pt x="154" y="33"/>
                  </a:lnTo>
                  <a:lnTo>
                    <a:pt x="189" y="35"/>
                  </a:lnTo>
                  <a:lnTo>
                    <a:pt x="228" y="36"/>
                  </a:lnTo>
                  <a:lnTo>
                    <a:pt x="270" y="36"/>
                  </a:lnTo>
                  <a:lnTo>
                    <a:pt x="319" y="35"/>
                  </a:lnTo>
                  <a:lnTo>
                    <a:pt x="372" y="31"/>
                  </a:lnTo>
                  <a:lnTo>
                    <a:pt x="555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52200">
              <a:off x="4242960" y="4044960"/>
              <a:ext cx="319680" cy="1521000"/>
            </a:xfrm>
            <a:custGeom>
              <a:avLst/>
              <a:gdLst/>
              <a:ahLst/>
              <a:rect l="l" t="t" r="r" b="b"/>
              <a:pathLst>
                <a:path w="123" h="580">
                  <a:moveTo>
                    <a:pt x="0" y="19"/>
                  </a:moveTo>
                  <a:lnTo>
                    <a:pt x="71" y="580"/>
                  </a:lnTo>
                  <a:lnTo>
                    <a:pt x="72" y="580"/>
                  </a:lnTo>
                  <a:lnTo>
                    <a:pt x="75" y="580"/>
                  </a:lnTo>
                  <a:lnTo>
                    <a:pt x="81" y="579"/>
                  </a:lnTo>
                  <a:lnTo>
                    <a:pt x="88" y="577"/>
                  </a:lnTo>
                  <a:lnTo>
                    <a:pt x="96" y="575"/>
                  </a:lnTo>
                  <a:lnTo>
                    <a:pt x="105" y="570"/>
                  </a:lnTo>
                  <a:lnTo>
                    <a:pt x="115" y="563"/>
                  </a:lnTo>
                  <a:lnTo>
                    <a:pt x="123" y="555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6" y="1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352200">
              <a:off x="4026240" y="4046400"/>
              <a:ext cx="272160" cy="1516320"/>
            </a:xfrm>
            <a:custGeom>
              <a:avLst/>
              <a:gdLst/>
              <a:ahLst/>
              <a:rect l="l" t="t" r="r" b="b"/>
              <a:pathLst>
                <a:path w="103" h="577">
                  <a:moveTo>
                    <a:pt x="0" y="0"/>
                  </a:moveTo>
                  <a:lnTo>
                    <a:pt x="71" y="566"/>
                  </a:lnTo>
                  <a:lnTo>
                    <a:pt x="73" y="568"/>
                  </a:lnTo>
                  <a:lnTo>
                    <a:pt x="80" y="573"/>
                  </a:lnTo>
                  <a:lnTo>
                    <a:pt x="91" y="577"/>
                  </a:lnTo>
                  <a:lnTo>
                    <a:pt x="103" y="576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2" y="3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52200">
              <a:off x="2757600" y="2717280"/>
              <a:ext cx="2344680" cy="252000"/>
            </a:xfrm>
            <a:custGeom>
              <a:avLst/>
              <a:gdLst/>
              <a:ahLst/>
              <a:rect l="l" t="t" r="r" b="b"/>
              <a:pathLst>
                <a:path w="894" h="94">
                  <a:moveTo>
                    <a:pt x="0" y="47"/>
                  </a:moveTo>
                  <a:lnTo>
                    <a:pt x="1" y="47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6" y="53"/>
                  </a:lnTo>
                  <a:lnTo>
                    <a:pt x="23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8" y="64"/>
                  </a:lnTo>
                  <a:lnTo>
                    <a:pt x="84" y="67"/>
                  </a:lnTo>
                  <a:lnTo>
                    <a:pt x="101" y="69"/>
                  </a:lnTo>
                  <a:lnTo>
                    <a:pt x="119" y="71"/>
                  </a:lnTo>
                  <a:lnTo>
                    <a:pt x="140" y="72"/>
                  </a:lnTo>
                  <a:lnTo>
                    <a:pt x="163" y="75"/>
                  </a:lnTo>
                  <a:lnTo>
                    <a:pt x="187" y="76"/>
                  </a:lnTo>
                  <a:lnTo>
                    <a:pt x="215" y="77"/>
                  </a:lnTo>
                  <a:lnTo>
                    <a:pt x="244" y="77"/>
                  </a:lnTo>
                  <a:lnTo>
                    <a:pt x="274" y="77"/>
                  </a:lnTo>
                  <a:lnTo>
                    <a:pt x="307" y="76"/>
                  </a:lnTo>
                  <a:lnTo>
                    <a:pt x="343" y="75"/>
                  </a:lnTo>
                  <a:lnTo>
                    <a:pt x="381" y="72"/>
                  </a:lnTo>
                  <a:lnTo>
                    <a:pt x="420" y="70"/>
                  </a:lnTo>
                  <a:lnTo>
                    <a:pt x="463" y="65"/>
                  </a:lnTo>
                  <a:lnTo>
                    <a:pt x="508" y="61"/>
                  </a:lnTo>
                  <a:lnTo>
                    <a:pt x="555" y="56"/>
                  </a:lnTo>
                  <a:lnTo>
                    <a:pt x="604" y="49"/>
                  </a:lnTo>
                  <a:lnTo>
                    <a:pt x="657" y="42"/>
                  </a:lnTo>
                  <a:lnTo>
                    <a:pt x="712" y="33"/>
                  </a:lnTo>
                  <a:lnTo>
                    <a:pt x="770" y="23"/>
                  </a:lnTo>
                  <a:lnTo>
                    <a:pt x="830" y="12"/>
                  </a:lnTo>
                  <a:lnTo>
                    <a:pt x="894" y="0"/>
                  </a:lnTo>
                  <a:lnTo>
                    <a:pt x="891" y="0"/>
                  </a:lnTo>
                  <a:lnTo>
                    <a:pt x="886" y="2"/>
                  </a:lnTo>
                  <a:lnTo>
                    <a:pt x="876" y="4"/>
                  </a:lnTo>
                  <a:lnTo>
                    <a:pt x="863" y="7"/>
                  </a:lnTo>
                  <a:lnTo>
                    <a:pt x="846" y="11"/>
                  </a:lnTo>
                  <a:lnTo>
                    <a:pt x="828" y="15"/>
                  </a:lnTo>
                  <a:lnTo>
                    <a:pt x="805" y="20"/>
                  </a:lnTo>
                  <a:lnTo>
                    <a:pt x="781" y="25"/>
                  </a:lnTo>
                  <a:lnTo>
                    <a:pt x="754" y="31"/>
                  </a:lnTo>
                  <a:lnTo>
                    <a:pt x="724" y="37"/>
                  </a:lnTo>
                  <a:lnTo>
                    <a:pt x="694" y="42"/>
                  </a:lnTo>
                  <a:lnTo>
                    <a:pt x="661" y="49"/>
                  </a:lnTo>
                  <a:lnTo>
                    <a:pt x="627" y="55"/>
                  </a:lnTo>
                  <a:lnTo>
                    <a:pt x="592" y="61"/>
                  </a:lnTo>
                  <a:lnTo>
                    <a:pt x="555" y="67"/>
                  </a:lnTo>
                  <a:lnTo>
                    <a:pt x="518" y="71"/>
                  </a:lnTo>
                  <a:lnTo>
                    <a:pt x="481" y="77"/>
                  </a:lnTo>
                  <a:lnTo>
                    <a:pt x="443" y="82"/>
                  </a:lnTo>
                  <a:lnTo>
                    <a:pt x="404" y="85"/>
                  </a:lnTo>
                  <a:lnTo>
                    <a:pt x="366" y="88"/>
                  </a:lnTo>
                  <a:lnTo>
                    <a:pt x="329" y="92"/>
                  </a:lnTo>
                  <a:lnTo>
                    <a:pt x="292" y="93"/>
                  </a:lnTo>
                  <a:lnTo>
                    <a:pt x="255" y="94"/>
                  </a:lnTo>
                  <a:lnTo>
                    <a:pt x="220" y="94"/>
                  </a:lnTo>
                  <a:lnTo>
                    <a:pt x="186" y="93"/>
                  </a:lnTo>
                  <a:lnTo>
                    <a:pt x="153" y="91"/>
                  </a:lnTo>
                  <a:lnTo>
                    <a:pt x="122" y="87"/>
                  </a:lnTo>
                  <a:lnTo>
                    <a:pt x="93" y="82"/>
                  </a:lnTo>
                  <a:lnTo>
                    <a:pt x="66" y="76"/>
                  </a:lnTo>
                  <a:lnTo>
                    <a:pt x="41" y="68"/>
                  </a:lnTo>
                  <a:lnTo>
                    <a:pt x="19" y="5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52200">
              <a:off x="2945520" y="2383560"/>
              <a:ext cx="2836800" cy="466200"/>
            </a:xfrm>
            <a:custGeom>
              <a:avLst/>
              <a:gdLst/>
              <a:ahLst/>
              <a:rect l="l" t="t" r="r" b="b"/>
              <a:pathLst>
                <a:path w="1082" h="179">
                  <a:moveTo>
                    <a:pt x="0" y="164"/>
                  </a:moveTo>
                  <a:lnTo>
                    <a:pt x="1" y="164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24" y="168"/>
                  </a:lnTo>
                  <a:lnTo>
                    <a:pt x="38" y="169"/>
                  </a:lnTo>
                  <a:lnTo>
                    <a:pt x="54" y="171"/>
                  </a:lnTo>
                  <a:lnTo>
                    <a:pt x="74" y="172"/>
                  </a:lnTo>
                  <a:lnTo>
                    <a:pt x="94" y="173"/>
                  </a:lnTo>
                  <a:lnTo>
                    <a:pt x="118" y="176"/>
                  </a:lnTo>
                  <a:lnTo>
                    <a:pt x="144" y="177"/>
                  </a:lnTo>
                  <a:lnTo>
                    <a:pt x="173" y="178"/>
                  </a:lnTo>
                  <a:lnTo>
                    <a:pt x="203" y="179"/>
                  </a:lnTo>
                  <a:lnTo>
                    <a:pt x="235" y="179"/>
                  </a:lnTo>
                  <a:lnTo>
                    <a:pt x="268" y="179"/>
                  </a:lnTo>
                  <a:lnTo>
                    <a:pt x="304" y="178"/>
                  </a:lnTo>
                  <a:lnTo>
                    <a:pt x="342" y="177"/>
                  </a:lnTo>
                  <a:lnTo>
                    <a:pt x="381" y="175"/>
                  </a:lnTo>
                  <a:lnTo>
                    <a:pt x="421" y="171"/>
                  </a:lnTo>
                  <a:lnTo>
                    <a:pt x="463" y="168"/>
                  </a:lnTo>
                  <a:lnTo>
                    <a:pt x="507" y="163"/>
                  </a:lnTo>
                  <a:lnTo>
                    <a:pt x="551" y="157"/>
                  </a:lnTo>
                  <a:lnTo>
                    <a:pt x="595" y="150"/>
                  </a:lnTo>
                  <a:lnTo>
                    <a:pt x="642" y="141"/>
                  </a:lnTo>
                  <a:lnTo>
                    <a:pt x="689" y="132"/>
                  </a:lnTo>
                  <a:lnTo>
                    <a:pt x="737" y="121"/>
                  </a:lnTo>
                  <a:lnTo>
                    <a:pt x="786" y="109"/>
                  </a:lnTo>
                  <a:lnTo>
                    <a:pt x="834" y="95"/>
                  </a:lnTo>
                  <a:lnTo>
                    <a:pt x="883" y="80"/>
                  </a:lnTo>
                  <a:lnTo>
                    <a:pt x="933" y="63"/>
                  </a:lnTo>
                  <a:lnTo>
                    <a:pt x="983" y="44"/>
                  </a:lnTo>
                  <a:lnTo>
                    <a:pt x="1032" y="24"/>
                  </a:lnTo>
                  <a:lnTo>
                    <a:pt x="1082" y="0"/>
                  </a:lnTo>
                  <a:lnTo>
                    <a:pt x="1079" y="2"/>
                  </a:lnTo>
                  <a:lnTo>
                    <a:pt x="1071" y="4"/>
                  </a:lnTo>
                  <a:lnTo>
                    <a:pt x="1059" y="9"/>
                  </a:lnTo>
                  <a:lnTo>
                    <a:pt x="1041" y="14"/>
                  </a:lnTo>
                  <a:lnTo>
                    <a:pt x="1022" y="21"/>
                  </a:lnTo>
                  <a:lnTo>
                    <a:pt x="1000" y="28"/>
                  </a:lnTo>
                  <a:lnTo>
                    <a:pt x="974" y="37"/>
                  </a:lnTo>
                  <a:lnTo>
                    <a:pt x="948" y="45"/>
                  </a:lnTo>
                  <a:lnTo>
                    <a:pt x="921" y="55"/>
                  </a:lnTo>
                  <a:lnTo>
                    <a:pt x="894" y="63"/>
                  </a:lnTo>
                  <a:lnTo>
                    <a:pt x="867" y="72"/>
                  </a:lnTo>
                  <a:lnTo>
                    <a:pt x="841" y="80"/>
                  </a:lnTo>
                  <a:lnTo>
                    <a:pt x="817" y="87"/>
                  </a:lnTo>
                  <a:lnTo>
                    <a:pt x="795" y="93"/>
                  </a:lnTo>
                  <a:lnTo>
                    <a:pt x="775" y="98"/>
                  </a:lnTo>
                  <a:lnTo>
                    <a:pt x="759" y="102"/>
                  </a:lnTo>
                  <a:lnTo>
                    <a:pt x="756" y="102"/>
                  </a:lnTo>
                  <a:lnTo>
                    <a:pt x="748" y="101"/>
                  </a:lnTo>
                  <a:lnTo>
                    <a:pt x="733" y="100"/>
                  </a:lnTo>
                  <a:lnTo>
                    <a:pt x="714" y="97"/>
                  </a:lnTo>
                  <a:lnTo>
                    <a:pt x="690" y="96"/>
                  </a:lnTo>
                  <a:lnTo>
                    <a:pt x="663" y="96"/>
                  </a:lnTo>
                  <a:lnTo>
                    <a:pt x="632" y="96"/>
                  </a:lnTo>
                  <a:lnTo>
                    <a:pt x="598" y="96"/>
                  </a:lnTo>
                  <a:lnTo>
                    <a:pt x="561" y="98"/>
                  </a:lnTo>
                  <a:lnTo>
                    <a:pt x="523" y="102"/>
                  </a:lnTo>
                  <a:lnTo>
                    <a:pt x="483" y="108"/>
                  </a:lnTo>
                  <a:lnTo>
                    <a:pt x="441" y="115"/>
                  </a:lnTo>
                  <a:lnTo>
                    <a:pt x="398" y="125"/>
                  </a:lnTo>
                  <a:lnTo>
                    <a:pt x="356" y="136"/>
                  </a:lnTo>
                  <a:lnTo>
                    <a:pt x="313" y="151"/>
                  </a:lnTo>
                  <a:lnTo>
                    <a:pt x="272" y="170"/>
                  </a:lnTo>
                  <a:lnTo>
                    <a:pt x="271" y="170"/>
                  </a:lnTo>
                  <a:lnTo>
                    <a:pt x="265" y="170"/>
                  </a:lnTo>
                  <a:lnTo>
                    <a:pt x="257" y="170"/>
                  </a:lnTo>
                  <a:lnTo>
                    <a:pt x="246" y="170"/>
                  </a:lnTo>
                  <a:lnTo>
                    <a:pt x="234" y="170"/>
                  </a:lnTo>
                  <a:lnTo>
                    <a:pt x="219" y="170"/>
                  </a:lnTo>
                  <a:lnTo>
                    <a:pt x="201" y="170"/>
                  </a:lnTo>
                  <a:lnTo>
                    <a:pt x="183" y="170"/>
                  </a:lnTo>
                  <a:lnTo>
                    <a:pt x="162" y="170"/>
                  </a:lnTo>
                  <a:lnTo>
                    <a:pt x="140" y="170"/>
                  </a:lnTo>
                  <a:lnTo>
                    <a:pt x="118" y="169"/>
                  </a:lnTo>
                  <a:lnTo>
                    <a:pt x="94" y="169"/>
                  </a:lnTo>
                  <a:lnTo>
                    <a:pt x="71" y="168"/>
                  </a:lnTo>
                  <a:lnTo>
                    <a:pt x="47" y="166"/>
                  </a:lnTo>
                  <a:lnTo>
                    <a:pt x="23" y="165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52200">
              <a:off x="2587320" y="1737000"/>
              <a:ext cx="2275560" cy="608760"/>
            </a:xfrm>
            <a:custGeom>
              <a:avLst/>
              <a:gdLst/>
              <a:ahLst/>
              <a:rect l="l" t="t" r="r" b="b"/>
              <a:pathLst>
                <a:path w="867" h="231">
                  <a:moveTo>
                    <a:pt x="0" y="231"/>
                  </a:moveTo>
                  <a:lnTo>
                    <a:pt x="0" y="231"/>
                  </a:lnTo>
                  <a:lnTo>
                    <a:pt x="2" y="229"/>
                  </a:lnTo>
                  <a:lnTo>
                    <a:pt x="5" y="227"/>
                  </a:lnTo>
                  <a:lnTo>
                    <a:pt x="7" y="223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5" y="208"/>
                  </a:lnTo>
                  <a:lnTo>
                    <a:pt x="33" y="201"/>
                  </a:lnTo>
                  <a:lnTo>
                    <a:pt x="44" y="194"/>
                  </a:lnTo>
                  <a:lnTo>
                    <a:pt x="55" y="187"/>
                  </a:lnTo>
                  <a:lnTo>
                    <a:pt x="68" y="179"/>
                  </a:lnTo>
                  <a:lnTo>
                    <a:pt x="83" y="170"/>
                  </a:lnTo>
                  <a:lnTo>
                    <a:pt x="99" y="162"/>
                  </a:lnTo>
                  <a:lnTo>
                    <a:pt x="118" y="153"/>
                  </a:lnTo>
                  <a:lnTo>
                    <a:pt x="138" y="144"/>
                  </a:lnTo>
                  <a:lnTo>
                    <a:pt x="161" y="133"/>
                  </a:lnTo>
                  <a:lnTo>
                    <a:pt x="185" y="124"/>
                  </a:lnTo>
                  <a:lnTo>
                    <a:pt x="213" y="114"/>
                  </a:lnTo>
                  <a:lnTo>
                    <a:pt x="242" y="104"/>
                  </a:lnTo>
                  <a:lnTo>
                    <a:pt x="273" y="94"/>
                  </a:lnTo>
                  <a:lnTo>
                    <a:pt x="308" y="85"/>
                  </a:lnTo>
                  <a:lnTo>
                    <a:pt x="344" y="74"/>
                  </a:lnTo>
                  <a:lnTo>
                    <a:pt x="384" y="65"/>
                  </a:lnTo>
                  <a:lnTo>
                    <a:pt x="425" y="56"/>
                  </a:lnTo>
                  <a:lnTo>
                    <a:pt x="470" y="47"/>
                  </a:lnTo>
                  <a:lnTo>
                    <a:pt x="517" y="39"/>
                  </a:lnTo>
                  <a:lnTo>
                    <a:pt x="568" y="31"/>
                  </a:lnTo>
                  <a:lnTo>
                    <a:pt x="621" y="24"/>
                  </a:lnTo>
                  <a:lnTo>
                    <a:pt x="679" y="17"/>
                  </a:lnTo>
                  <a:lnTo>
                    <a:pt x="738" y="10"/>
                  </a:lnTo>
                  <a:lnTo>
                    <a:pt x="801" y="4"/>
                  </a:lnTo>
                  <a:lnTo>
                    <a:pt x="867" y="0"/>
                  </a:lnTo>
                  <a:lnTo>
                    <a:pt x="865" y="0"/>
                  </a:lnTo>
                  <a:lnTo>
                    <a:pt x="861" y="1"/>
                  </a:lnTo>
                  <a:lnTo>
                    <a:pt x="851" y="1"/>
                  </a:lnTo>
                  <a:lnTo>
                    <a:pt x="839" y="3"/>
                  </a:lnTo>
                  <a:lnTo>
                    <a:pt x="824" y="4"/>
                  </a:lnTo>
                  <a:lnTo>
                    <a:pt x="806" y="6"/>
                  </a:lnTo>
                  <a:lnTo>
                    <a:pt x="786" y="9"/>
                  </a:lnTo>
                  <a:lnTo>
                    <a:pt x="763" y="12"/>
                  </a:lnTo>
                  <a:lnTo>
                    <a:pt x="737" y="16"/>
                  </a:lnTo>
                  <a:lnTo>
                    <a:pt x="711" y="19"/>
                  </a:lnTo>
                  <a:lnTo>
                    <a:pt x="682" y="24"/>
                  </a:lnTo>
                  <a:lnTo>
                    <a:pt x="651" y="28"/>
                  </a:lnTo>
                  <a:lnTo>
                    <a:pt x="619" y="34"/>
                  </a:lnTo>
                  <a:lnTo>
                    <a:pt x="585" y="40"/>
                  </a:lnTo>
                  <a:lnTo>
                    <a:pt x="552" y="46"/>
                  </a:lnTo>
                  <a:lnTo>
                    <a:pt x="516" y="53"/>
                  </a:lnTo>
                  <a:lnTo>
                    <a:pt x="480" y="59"/>
                  </a:lnTo>
                  <a:lnTo>
                    <a:pt x="445" y="68"/>
                  </a:lnTo>
                  <a:lnTo>
                    <a:pt x="408" y="76"/>
                  </a:lnTo>
                  <a:lnTo>
                    <a:pt x="371" y="84"/>
                  </a:lnTo>
                  <a:lnTo>
                    <a:pt x="335" y="93"/>
                  </a:lnTo>
                  <a:lnTo>
                    <a:pt x="298" y="103"/>
                  </a:lnTo>
                  <a:lnTo>
                    <a:pt x="263" y="114"/>
                  </a:lnTo>
                  <a:lnTo>
                    <a:pt x="228" y="124"/>
                  </a:lnTo>
                  <a:lnTo>
                    <a:pt x="195" y="136"/>
                  </a:lnTo>
                  <a:lnTo>
                    <a:pt x="161" y="147"/>
                  </a:lnTo>
                  <a:lnTo>
                    <a:pt x="130" y="160"/>
                  </a:lnTo>
                  <a:lnTo>
                    <a:pt x="100" y="172"/>
                  </a:lnTo>
                  <a:lnTo>
                    <a:pt x="73" y="186"/>
                  </a:lnTo>
                  <a:lnTo>
                    <a:pt x="46" y="201"/>
                  </a:lnTo>
                  <a:lnTo>
                    <a:pt x="22" y="21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52200">
              <a:off x="4508640" y="2712960"/>
              <a:ext cx="1053360" cy="1305720"/>
            </a:xfrm>
            <a:custGeom>
              <a:avLst/>
              <a:gdLst/>
              <a:ahLst/>
              <a:rect l="l" t="t" r="r" b="b"/>
              <a:pathLst>
                <a:path w="403" h="496">
                  <a:moveTo>
                    <a:pt x="403" y="0"/>
                  </a:moveTo>
                  <a:lnTo>
                    <a:pt x="0" y="496"/>
                  </a:lnTo>
                  <a:lnTo>
                    <a:pt x="379" y="3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52200">
              <a:off x="4341600" y="4107960"/>
              <a:ext cx="219960" cy="1420920"/>
            </a:xfrm>
            <a:custGeom>
              <a:avLst/>
              <a:gdLst/>
              <a:ahLst/>
              <a:rect l="l" t="t" r="r" b="b"/>
              <a:pathLst>
                <a:path w="85" h="542">
                  <a:moveTo>
                    <a:pt x="12" y="0"/>
                  </a:moveTo>
                  <a:lnTo>
                    <a:pt x="85" y="534"/>
                  </a:lnTo>
                  <a:lnTo>
                    <a:pt x="71" y="542"/>
                  </a:lnTo>
                  <a:lnTo>
                    <a:pt x="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170160" y="1892160"/>
            <a:ext cx="21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ECESIDAD (ideas de producto o servicio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936880"/>
            <a:ext cx="210024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OYECTOS (evaluación de viabilidad*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659480"/>
            <a:ext cx="216036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MPRESA (implementación y operación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3300"/>
                </a:solidFill>
                <a:latin typeface="Verdana"/>
              </a:rPr>
              <a:t>Etapa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6200" y="6093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Máxima: Necesidad son infinitas y recursos son escas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79640" y="4006440"/>
            <a:ext cx="511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ERS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Que carrera estudi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on quien me voy a cas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En que voy a trabaj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569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Ejemplos de proyecto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789360"/>
            <a:ext cx="3886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EMPRESAR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vertir en accion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Comprar una ca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iciar una empre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Lanzar un nuevo product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9700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SOC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Transantiag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Disminuir emisiones de carbono*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Mejoramiento de una carreter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Poner un semáfor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4160" y="623088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*An inconvenient truth. Al G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31920" y="4724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Cliente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530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040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5016200">
            <a:off x="4769640" y="2079000"/>
            <a:ext cx="2448000" cy="5580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6T12:34:41Z</dcterms:modified>
  <cp:revision>416</cp:revision>
  <dc:subject/>
  <dc:title>Formulación de Proyectos</dc:title>
</cp:coreProperties>
</file>