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DAE-E202-4795-ADDC-538F9382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C53-1D35-4189-BEBE-252A005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204-0CAF-474C-B067-655611F9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46A-B470-4393-9192-2A240331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45C-82CF-4931-A6BF-9B61163A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39F-A008-43AB-B37A-096DBA3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B66-347F-4E56-8985-273119EA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95A-B10B-470E-A074-9BA8C81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6CA-7550-4D83-847C-8786A31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8D8-72E5-4C1B-95AF-7F17BA18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A0B-4FEB-42C5-A978-F865EABB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D62-0B9E-47DE-981E-76DD0B2B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87A2-148C-4617-8F8E-90644F607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187280" y="1052280"/>
            <a:ext cx="0" cy="51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950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3816360" cy="108108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781360"/>
            <a:ext cx="2305080" cy="31687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628640"/>
            <a:ext cx="2305080" cy="3888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5516640"/>
            <a:ext cx="1511280" cy="4334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24000" y="5157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4076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0920" y="321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321300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71640" y="3141360"/>
            <a:ext cx="0" cy="28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637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292640"/>
            <a:ext cx="2443320" cy="4680"/>
          </a:xfrm>
          <a:custGeom>
            <a:avLst/>
            <a:gdLst/>
            <a:ahLst/>
            <a:rect l="l" t="t" r="r" b="b"/>
            <a:pathLst>
              <a:path w="1539" h="3">
                <a:moveTo>
                  <a:pt x="0" y="0"/>
                </a:moveTo>
                <a:lnTo>
                  <a:pt x="1539" y="3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3240" y="386064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g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5950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781360"/>
            <a:ext cx="1513080" cy="2087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71640" y="530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494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4869000"/>
            <a:ext cx="3095640" cy="108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29264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1844640"/>
            <a:ext cx="0" cy="41054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6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22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22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229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6360" y="2924280"/>
                <a:ext cx="252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627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84720" y="1989000"/>
                <a:ext cx="1965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12400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7:14Z</dcterms:created>
  <dc:creator> Marco Hauva</dc:creator>
  <dc:description/>
  <dc:language>en-US</dc:language>
  <cp:lastModifiedBy> Marco Hauva</cp:lastModifiedBy>
  <dcterms:modified xsi:type="dcterms:W3CDTF">2005-10-27T20:40:32Z</dcterms:modified>
  <cp:revision>7</cp:revision>
  <dc:subject/>
  <dc:title>Slide 1</dc:title>
</cp:coreProperties>
</file>