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AFF-2879-47D8-876E-B30B5A97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98C-1422-4596-94B7-08878627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ACE-5012-4AF3-8AF4-4EB2EB0A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696-A611-4862-9025-E2D9C91A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04F-C917-4A63-B308-206F1D60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E09-938C-4CA6-82C8-D0356B9B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AD0-92B9-4490-AAE5-F2D091DC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248-2B6A-4D05-9553-D6BA4341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E1F-6A69-487F-AF0D-F7BE79FB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97C-E077-4236-BE3C-1B7AE91C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B1E-FB59-4B61-8D3B-61CCF796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A27F-BDDE-464A-8D56-4D98B11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D93F-FF91-476E-B096-649BAD8BE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187280" y="1052280"/>
            <a:ext cx="0" cy="51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59500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869000"/>
            <a:ext cx="3816360" cy="108108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2781360"/>
            <a:ext cx="2305080" cy="316872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628640"/>
            <a:ext cx="2305080" cy="3888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5516640"/>
            <a:ext cx="1511280" cy="4334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124000" y="5157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24000" y="407664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050920" y="321264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124000" y="321300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71640" y="3141360"/>
            <a:ext cx="0" cy="2808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637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ón óptima de Bien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292640"/>
            <a:ext cx="2443320" cy="4680"/>
          </a:xfrm>
          <a:custGeom>
            <a:avLst/>
            <a:gdLst/>
            <a:ahLst/>
            <a:rect l="l" t="t" r="r" b="b"/>
            <a:pathLst>
              <a:path w="1539" h="3">
                <a:moveTo>
                  <a:pt x="0" y="0"/>
                </a:moveTo>
                <a:lnTo>
                  <a:pt x="1539" y="3"/>
                </a:ln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3240" y="386064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Mg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5950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781360"/>
            <a:ext cx="1513080" cy="2087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771640" y="5300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71640" y="4941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4869000"/>
            <a:ext cx="3095640" cy="10810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68360" y="429264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68360" y="1844640"/>
            <a:ext cx="0" cy="41054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16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ón óptima de Bien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5229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5229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5229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716360" y="2924280"/>
                <a:ext cx="2521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627280" y="595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284720" y="1989000"/>
                <a:ext cx="19652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M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124000" y="595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3:37:14Z</dcterms:created>
  <dc:creator> Marco Hauva</dc:creator>
  <dc:description/>
  <dc:language>en-US</dc:language>
  <cp:lastModifiedBy> Marco Hauva</cp:lastModifiedBy>
  <dcterms:modified xsi:type="dcterms:W3CDTF">2005-10-27T20:40:32Z</dcterms:modified>
  <cp:revision>7</cp:revision>
  <dc:subject/>
  <dc:title>Slide 1</dc:title>
</cp:coreProperties>
</file>