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30D-C875-4C58-9E6F-EE345040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862-EF5F-4555-B4B1-CB9E7123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7F9-1A66-4A24-A706-B08658C0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42E-EDBF-4469-A5B5-74532717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7A2-9BC3-49A3-8785-7080D2B2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AAB-B6F9-4EB3-A533-52E6A936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E60-2921-45A5-9AFD-FF2665BC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111-5260-42FA-92D2-EDD7AA9B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A51-9D87-4502-B51A-792E399D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43F-3CEC-485C-9A33-FB3CCC39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190-2648-421D-BF63-016FC4FA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730-2FF9-40F0-901B-8DA69C71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8B48-6B8C-4C59-AE79-6E726AAA6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187280" y="1052280"/>
            <a:ext cx="0" cy="51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59500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869000"/>
            <a:ext cx="3816360" cy="108108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2781360"/>
            <a:ext cx="2305080" cy="316872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628640"/>
            <a:ext cx="2305080" cy="3888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5516640"/>
            <a:ext cx="1511280" cy="4334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124000" y="5157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24000" y="407664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050920" y="321264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124000" y="321300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71640" y="3141360"/>
            <a:ext cx="0" cy="2808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637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ón óptima de Bien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292640"/>
            <a:ext cx="2443320" cy="4680"/>
          </a:xfrm>
          <a:custGeom>
            <a:avLst/>
            <a:gdLst/>
            <a:ahLst/>
            <a:rect l="l" t="t" r="r" b="b"/>
            <a:pathLst>
              <a:path w="1539" h="3">
                <a:moveTo>
                  <a:pt x="0" y="0"/>
                </a:moveTo>
                <a:lnTo>
                  <a:pt x="1539" y="3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3240" y="386064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Mg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5950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781360"/>
            <a:ext cx="1513080" cy="2087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71640" y="5300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71640" y="4941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4869000"/>
            <a:ext cx="3095640" cy="1081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68360" y="429264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68360" y="1844640"/>
            <a:ext cx="0" cy="41054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16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ón óptima de Bien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522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5229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5229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716360" y="2924280"/>
                <a:ext cx="2521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62728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284720" y="1989000"/>
                <a:ext cx="19652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12400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3:37:14Z</dcterms:created>
  <dc:creator> Marco Hauva</dc:creator>
  <dc:description/>
  <dc:language>en-US</dc:language>
  <cp:lastModifiedBy> Marco Hauva</cp:lastModifiedBy>
  <dcterms:modified xsi:type="dcterms:W3CDTF">2005-10-27T20:40:32Z</dcterms:modified>
  <cp:revision>7</cp:revision>
  <dc:subject/>
  <dc:title>Slide 1</dc:title>
</cp:coreProperties>
</file>