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0DEC-A233-4CFC-BCC5-CAF738440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2A4B-6C27-44DF-BB35-847713DA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F991-37E7-49A8-A72D-0D8263597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CD37-4AFC-4CAD-8A13-4563DC49E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520D-FC10-4F14-B232-9ADDB61F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C41E-70DA-4C91-AC95-C3161218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7327-7941-43BA-96D6-7073709C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5DF8-10AE-4503-87E1-2F9359E8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E5D4-74D2-45BB-8A81-9D194BC2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AAC4-AC7B-41C5-BCF3-CBD8399E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774D-C821-4B00-BC8C-A84ADACE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9D52-A8DE-4462-93DF-CBCBFC47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B842-83AC-4F8C-8546-729E872CB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187280" y="1052280"/>
            <a:ext cx="0" cy="51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1640" y="595008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4869000"/>
            <a:ext cx="3816360" cy="1081080"/>
          </a:xfrm>
          <a:prstGeom prst="line">
            <a:avLst/>
          </a:prstGeom>
          <a:ln cap="rnd" w="38160">
            <a:solidFill>
              <a:srgbClr val="0099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2781360"/>
            <a:ext cx="2305080" cy="3168720"/>
          </a:xfrm>
          <a:prstGeom prst="line">
            <a:avLst/>
          </a:prstGeom>
          <a:ln cap="rnd" w="3816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628640"/>
            <a:ext cx="2305080" cy="388800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92360" y="5516640"/>
            <a:ext cx="1511280" cy="43344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124000" y="51573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124000" y="407664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050920" y="3212640"/>
            <a:ext cx="0" cy="273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124000" y="3213000"/>
            <a:ext cx="0" cy="26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71640" y="3141360"/>
            <a:ext cx="0" cy="280836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26370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sión óptima de Bien Púb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292640"/>
            <a:ext cx="2443320" cy="4680"/>
          </a:xfrm>
          <a:custGeom>
            <a:avLst/>
            <a:gdLst/>
            <a:ahLst/>
            <a:rect l="l" t="t" r="r" b="b"/>
            <a:pathLst>
              <a:path w="1539" h="3">
                <a:moveTo>
                  <a:pt x="0" y="0"/>
                </a:moveTo>
                <a:lnTo>
                  <a:pt x="1539" y="3"/>
                </a:lnTo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3240" y="386064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Mg de 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595008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2781360"/>
            <a:ext cx="1513080" cy="208764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771640" y="530064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771640" y="494136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00360" y="4869000"/>
            <a:ext cx="3095640" cy="10810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268360" y="4292640"/>
            <a:ext cx="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268360" y="1844640"/>
            <a:ext cx="0" cy="410544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16286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sión óptima de Bien Priv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87280" y="5229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7280" y="5229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5229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716360" y="2924280"/>
                <a:ext cx="252108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g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∗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M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2627280" y="59500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284720" y="1989000"/>
                <a:ext cx="196524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g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Mg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2124000" y="59500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" dur="1" fill="hold">
                                    <p:stCondLst>
                                      <p:cond evt="end">
                                        <p:tn val="15"/>
                                      </p:cond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13:37:14Z</dcterms:created>
  <dc:creator> Marco Hauva</dc:creator>
  <dc:description/>
  <dc:language>en-US</dc:language>
  <cp:lastModifiedBy> Marco Hauva</cp:lastModifiedBy>
  <dcterms:modified xsi:type="dcterms:W3CDTF">2005-10-27T20:40:32Z</dcterms:modified>
  <cp:revision>7</cp:revision>
  <dc:subject/>
  <dc:title>Slide 1</dc:title>
</cp:coreProperties>
</file>