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E12-F544-406F-95E2-4846BE0C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F9C-4595-4A8E-B56C-121D17E1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0B8-BEED-4188-A438-3926F32A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0D4-B84C-4015-9C7E-EB2AE699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193B-CC4A-43FA-A52E-E7C6D6F9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1C20-DAF4-4ADC-B75A-C2B9594C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F25A-91F1-4554-82A3-B7DC2CDF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4063-48E4-47F1-962F-EF5ECD0F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CD25-F2A1-4217-BF55-8CCA9864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D7FD-AD5A-4E3F-8D3F-EE7FD7CA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1125-A014-46A9-A140-1AC98A9A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C34-4FFA-4EE2-8EF4-C73B08EC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B5C-2850-4A3C-A99D-A0509F33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6A21-6C7C-496A-847A-6D8402B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7CD2-0D3B-43B5-B3EE-767BEC79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AA35-836E-4522-9E7D-FF1FFB15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3274-5F1B-4E22-B6E7-8E599E9C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633-8A04-449E-942D-EEC7DBFB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618-0269-46AB-B566-7727137B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4D7-FDE8-4720-8AC7-5549FD32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4F0-FA63-4779-8929-A0B51245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71D-56AC-4C04-94B3-CC4D066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5EC-294C-49C1-9DC9-0270C642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7D1-7CC1-4CF5-9A8E-C5AB7496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B09D-EC00-4ECB-98DA-2843F2FB108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2063-38C9-4203-8A99-4013B41456D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3481560" y="658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4167000" y="-2394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3786480" y="65520"/>
            <a:ext cx="454572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4548240" y="-31608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70160" y="44280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80400" y="577692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7755840" y="24199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13120" y="22687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529400" y="57006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47720" y="10526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834320" y="50148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81240" y="595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" y="600228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833240" y="21096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627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130040" y="380988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95440" y="3567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910640" y="3567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43400" y="4428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9604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43000" y="990720"/>
            <a:ext cx="6707160" cy="4649760"/>
          </a:xfrm>
          <a:custGeom>
            <a:avLst/>
            <a:gdLst/>
            <a:ahLst/>
            <a:rect l="l" t="t" r="r" b="b"/>
            <a:pathLst>
              <a:path w="4225" h="2929">
                <a:moveTo>
                  <a:pt x="4224" y="0"/>
                </a:moveTo>
                <a:lnTo>
                  <a:pt x="4192" y="20"/>
                </a:lnTo>
                <a:lnTo>
                  <a:pt x="4171" y="52"/>
                </a:lnTo>
                <a:lnTo>
                  <a:pt x="4139" y="83"/>
                </a:lnTo>
                <a:lnTo>
                  <a:pt x="4118" y="115"/>
                </a:lnTo>
                <a:lnTo>
                  <a:pt x="4107" y="157"/>
                </a:lnTo>
                <a:lnTo>
                  <a:pt x="4086" y="189"/>
                </a:lnTo>
                <a:lnTo>
                  <a:pt x="4044" y="220"/>
                </a:lnTo>
                <a:lnTo>
                  <a:pt x="4023" y="252"/>
                </a:lnTo>
                <a:lnTo>
                  <a:pt x="3992" y="294"/>
                </a:lnTo>
                <a:lnTo>
                  <a:pt x="3960" y="315"/>
                </a:lnTo>
                <a:lnTo>
                  <a:pt x="3949" y="357"/>
                </a:lnTo>
                <a:lnTo>
                  <a:pt x="3907" y="389"/>
                </a:lnTo>
                <a:lnTo>
                  <a:pt x="3876" y="431"/>
                </a:lnTo>
                <a:lnTo>
                  <a:pt x="3844" y="462"/>
                </a:lnTo>
                <a:lnTo>
                  <a:pt x="3802" y="483"/>
                </a:lnTo>
                <a:lnTo>
                  <a:pt x="3781" y="515"/>
                </a:lnTo>
                <a:lnTo>
                  <a:pt x="3749" y="525"/>
                </a:lnTo>
                <a:lnTo>
                  <a:pt x="3707" y="557"/>
                </a:lnTo>
                <a:lnTo>
                  <a:pt x="3665" y="578"/>
                </a:lnTo>
                <a:lnTo>
                  <a:pt x="3613" y="599"/>
                </a:lnTo>
                <a:lnTo>
                  <a:pt x="3581" y="620"/>
                </a:lnTo>
                <a:lnTo>
                  <a:pt x="3549" y="641"/>
                </a:lnTo>
                <a:lnTo>
                  <a:pt x="3507" y="673"/>
                </a:lnTo>
                <a:lnTo>
                  <a:pt x="3465" y="715"/>
                </a:lnTo>
                <a:lnTo>
                  <a:pt x="3434" y="747"/>
                </a:lnTo>
                <a:lnTo>
                  <a:pt x="3402" y="768"/>
                </a:lnTo>
                <a:lnTo>
                  <a:pt x="3349" y="778"/>
                </a:lnTo>
                <a:lnTo>
                  <a:pt x="3318" y="810"/>
                </a:lnTo>
                <a:lnTo>
                  <a:pt x="3276" y="820"/>
                </a:lnTo>
                <a:lnTo>
                  <a:pt x="3244" y="841"/>
                </a:lnTo>
                <a:lnTo>
                  <a:pt x="3213" y="873"/>
                </a:lnTo>
                <a:lnTo>
                  <a:pt x="3181" y="894"/>
                </a:lnTo>
                <a:lnTo>
                  <a:pt x="3149" y="904"/>
                </a:lnTo>
                <a:lnTo>
                  <a:pt x="3086" y="925"/>
                </a:lnTo>
                <a:lnTo>
                  <a:pt x="3034" y="947"/>
                </a:lnTo>
                <a:lnTo>
                  <a:pt x="3002" y="947"/>
                </a:lnTo>
                <a:lnTo>
                  <a:pt x="2960" y="968"/>
                </a:lnTo>
                <a:lnTo>
                  <a:pt x="2928" y="989"/>
                </a:lnTo>
                <a:lnTo>
                  <a:pt x="2886" y="1010"/>
                </a:lnTo>
                <a:lnTo>
                  <a:pt x="2844" y="1031"/>
                </a:lnTo>
                <a:lnTo>
                  <a:pt x="2802" y="1041"/>
                </a:lnTo>
                <a:lnTo>
                  <a:pt x="2760" y="1062"/>
                </a:lnTo>
                <a:lnTo>
                  <a:pt x="2707" y="1083"/>
                </a:lnTo>
                <a:lnTo>
                  <a:pt x="2665" y="1094"/>
                </a:lnTo>
                <a:lnTo>
                  <a:pt x="2623" y="1115"/>
                </a:lnTo>
                <a:lnTo>
                  <a:pt x="2581" y="1125"/>
                </a:lnTo>
                <a:lnTo>
                  <a:pt x="2549" y="1136"/>
                </a:lnTo>
                <a:lnTo>
                  <a:pt x="2581" y="1147"/>
                </a:lnTo>
                <a:lnTo>
                  <a:pt x="2549" y="1147"/>
                </a:lnTo>
                <a:lnTo>
                  <a:pt x="2507" y="1157"/>
                </a:lnTo>
                <a:lnTo>
                  <a:pt x="2465" y="1168"/>
                </a:lnTo>
                <a:lnTo>
                  <a:pt x="2423" y="1168"/>
                </a:lnTo>
                <a:lnTo>
                  <a:pt x="2360" y="1178"/>
                </a:lnTo>
                <a:lnTo>
                  <a:pt x="2307" y="1189"/>
                </a:lnTo>
                <a:lnTo>
                  <a:pt x="2265" y="1199"/>
                </a:lnTo>
                <a:lnTo>
                  <a:pt x="2223" y="1210"/>
                </a:lnTo>
                <a:lnTo>
                  <a:pt x="2149" y="1231"/>
                </a:lnTo>
                <a:lnTo>
                  <a:pt x="2107" y="1252"/>
                </a:lnTo>
                <a:lnTo>
                  <a:pt x="2065" y="1262"/>
                </a:lnTo>
                <a:lnTo>
                  <a:pt x="2013" y="1273"/>
                </a:lnTo>
                <a:lnTo>
                  <a:pt x="1971" y="1283"/>
                </a:lnTo>
                <a:lnTo>
                  <a:pt x="1939" y="1294"/>
                </a:lnTo>
                <a:lnTo>
                  <a:pt x="1907" y="1304"/>
                </a:lnTo>
                <a:lnTo>
                  <a:pt x="1844" y="1325"/>
                </a:lnTo>
                <a:lnTo>
                  <a:pt x="1792" y="1336"/>
                </a:lnTo>
                <a:lnTo>
                  <a:pt x="1760" y="1357"/>
                </a:lnTo>
                <a:lnTo>
                  <a:pt x="1728" y="1368"/>
                </a:lnTo>
                <a:lnTo>
                  <a:pt x="1686" y="1368"/>
                </a:lnTo>
                <a:lnTo>
                  <a:pt x="1644" y="1389"/>
                </a:lnTo>
                <a:lnTo>
                  <a:pt x="1602" y="1389"/>
                </a:lnTo>
                <a:lnTo>
                  <a:pt x="1560" y="1410"/>
                </a:lnTo>
                <a:lnTo>
                  <a:pt x="1518" y="1410"/>
                </a:lnTo>
                <a:lnTo>
                  <a:pt x="1476" y="1420"/>
                </a:lnTo>
                <a:lnTo>
                  <a:pt x="1444" y="1420"/>
                </a:lnTo>
                <a:lnTo>
                  <a:pt x="1402" y="1420"/>
                </a:lnTo>
                <a:lnTo>
                  <a:pt x="1360" y="1431"/>
                </a:lnTo>
                <a:lnTo>
                  <a:pt x="1318" y="1441"/>
                </a:lnTo>
                <a:lnTo>
                  <a:pt x="1286" y="1452"/>
                </a:lnTo>
                <a:lnTo>
                  <a:pt x="1244" y="1473"/>
                </a:lnTo>
                <a:lnTo>
                  <a:pt x="1192" y="1494"/>
                </a:lnTo>
                <a:lnTo>
                  <a:pt x="1139" y="1536"/>
                </a:lnTo>
                <a:lnTo>
                  <a:pt x="1097" y="1547"/>
                </a:lnTo>
                <a:lnTo>
                  <a:pt x="1065" y="1568"/>
                </a:lnTo>
                <a:lnTo>
                  <a:pt x="1023" y="1599"/>
                </a:lnTo>
                <a:lnTo>
                  <a:pt x="992" y="1631"/>
                </a:lnTo>
                <a:lnTo>
                  <a:pt x="981" y="1673"/>
                </a:lnTo>
                <a:lnTo>
                  <a:pt x="928" y="1683"/>
                </a:lnTo>
                <a:lnTo>
                  <a:pt x="886" y="1715"/>
                </a:lnTo>
                <a:lnTo>
                  <a:pt x="844" y="1736"/>
                </a:lnTo>
                <a:lnTo>
                  <a:pt x="813" y="1768"/>
                </a:lnTo>
                <a:lnTo>
                  <a:pt x="781" y="1778"/>
                </a:lnTo>
                <a:lnTo>
                  <a:pt x="739" y="1831"/>
                </a:lnTo>
                <a:lnTo>
                  <a:pt x="697" y="1831"/>
                </a:lnTo>
                <a:lnTo>
                  <a:pt x="665" y="1873"/>
                </a:lnTo>
                <a:lnTo>
                  <a:pt x="592" y="1915"/>
                </a:lnTo>
                <a:lnTo>
                  <a:pt x="560" y="1947"/>
                </a:lnTo>
                <a:lnTo>
                  <a:pt x="528" y="1978"/>
                </a:lnTo>
                <a:lnTo>
                  <a:pt x="518" y="2020"/>
                </a:lnTo>
                <a:lnTo>
                  <a:pt x="497" y="2073"/>
                </a:lnTo>
                <a:lnTo>
                  <a:pt x="465" y="2094"/>
                </a:lnTo>
                <a:lnTo>
                  <a:pt x="455" y="2136"/>
                </a:lnTo>
                <a:lnTo>
                  <a:pt x="413" y="2147"/>
                </a:lnTo>
                <a:lnTo>
                  <a:pt x="402" y="2189"/>
                </a:lnTo>
                <a:lnTo>
                  <a:pt x="371" y="2231"/>
                </a:lnTo>
                <a:lnTo>
                  <a:pt x="349" y="2273"/>
                </a:lnTo>
                <a:lnTo>
                  <a:pt x="318" y="2315"/>
                </a:lnTo>
                <a:lnTo>
                  <a:pt x="297" y="2347"/>
                </a:lnTo>
                <a:lnTo>
                  <a:pt x="265" y="2378"/>
                </a:lnTo>
                <a:lnTo>
                  <a:pt x="255" y="2420"/>
                </a:lnTo>
                <a:lnTo>
                  <a:pt x="223" y="2441"/>
                </a:lnTo>
                <a:lnTo>
                  <a:pt x="213" y="2494"/>
                </a:lnTo>
                <a:lnTo>
                  <a:pt x="171" y="2536"/>
                </a:lnTo>
                <a:lnTo>
                  <a:pt x="171" y="2568"/>
                </a:lnTo>
                <a:lnTo>
                  <a:pt x="139" y="2599"/>
                </a:lnTo>
                <a:lnTo>
                  <a:pt x="128" y="2641"/>
                </a:lnTo>
                <a:lnTo>
                  <a:pt x="118" y="2683"/>
                </a:lnTo>
                <a:lnTo>
                  <a:pt x="97" y="2715"/>
                </a:lnTo>
                <a:lnTo>
                  <a:pt x="76" y="2747"/>
                </a:lnTo>
                <a:lnTo>
                  <a:pt x="44" y="2820"/>
                </a:lnTo>
                <a:lnTo>
                  <a:pt x="34" y="2852"/>
                </a:lnTo>
                <a:lnTo>
                  <a:pt x="13" y="2894"/>
                </a:lnTo>
                <a:lnTo>
                  <a:pt x="0" y="29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92880" y="374004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5440" y="16905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3938400" y="-108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27400" y="1231920"/>
            <a:ext cx="1803600" cy="3708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07080" y="274968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68840" y="49528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70640" y="4579920"/>
            <a:ext cx="291240" cy="7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626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6263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45040" y="4497480"/>
            <a:ext cx="1292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29040" y="61920"/>
            <a:ext cx="350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ja de Stolper-Samuel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8912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1815480" y="2224080"/>
            <a:ext cx="69840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82640" y="5638680"/>
            <a:ext cx="6693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67652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6400" y="570060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1400" y="820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3352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89120" y="1384200"/>
            <a:ext cx="5842080" cy="424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669680" y="2819520"/>
            <a:ext cx="199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25640"/>
            <a:ext cx="0" cy="2806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44440" y="2592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6760" y="564048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11600" y="2979720"/>
            <a:ext cx="166320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08240" y="4129200"/>
            <a:ext cx="1345680" cy="134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02480" y="3665520"/>
            <a:ext cx="166248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83000" y="3284640"/>
            <a:ext cx="166320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0800000">
            <a:off x="1905480" y="3596400"/>
            <a:ext cx="166248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0800000">
            <a:off x="2591280" y="2376360"/>
            <a:ext cx="166248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0800000">
            <a:off x="2134080" y="3151800"/>
            <a:ext cx="1802160" cy="134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2134080" y="3214440"/>
            <a:ext cx="166248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76520" y="2819520"/>
            <a:ext cx="1982520" cy="2820960"/>
          </a:xfrm>
          <a:custGeom>
            <a:avLst/>
            <a:gdLst/>
            <a:ahLst/>
            <a:rect l="l" t="t" r="r" b="b"/>
            <a:pathLst>
              <a:path w="1249" h="1777">
                <a:moveTo>
                  <a:pt x="1248" y="0"/>
                </a:moveTo>
                <a:lnTo>
                  <a:pt x="1212" y="37"/>
                </a:lnTo>
                <a:lnTo>
                  <a:pt x="1169" y="68"/>
                </a:lnTo>
                <a:lnTo>
                  <a:pt x="1126" y="100"/>
                </a:lnTo>
                <a:lnTo>
                  <a:pt x="1082" y="130"/>
                </a:lnTo>
                <a:lnTo>
                  <a:pt x="1050" y="162"/>
                </a:lnTo>
                <a:lnTo>
                  <a:pt x="1018" y="194"/>
                </a:lnTo>
                <a:lnTo>
                  <a:pt x="985" y="225"/>
                </a:lnTo>
                <a:lnTo>
                  <a:pt x="963" y="257"/>
                </a:lnTo>
                <a:lnTo>
                  <a:pt x="920" y="299"/>
                </a:lnTo>
                <a:lnTo>
                  <a:pt x="877" y="330"/>
                </a:lnTo>
                <a:lnTo>
                  <a:pt x="845" y="361"/>
                </a:lnTo>
                <a:lnTo>
                  <a:pt x="823" y="393"/>
                </a:lnTo>
                <a:lnTo>
                  <a:pt x="790" y="435"/>
                </a:lnTo>
                <a:lnTo>
                  <a:pt x="769" y="477"/>
                </a:lnTo>
                <a:lnTo>
                  <a:pt x="736" y="508"/>
                </a:lnTo>
                <a:lnTo>
                  <a:pt x="725" y="540"/>
                </a:lnTo>
                <a:lnTo>
                  <a:pt x="692" y="570"/>
                </a:lnTo>
                <a:lnTo>
                  <a:pt x="671" y="602"/>
                </a:lnTo>
                <a:lnTo>
                  <a:pt x="639" y="634"/>
                </a:lnTo>
                <a:lnTo>
                  <a:pt x="617" y="676"/>
                </a:lnTo>
                <a:lnTo>
                  <a:pt x="595" y="718"/>
                </a:lnTo>
                <a:lnTo>
                  <a:pt x="573" y="760"/>
                </a:lnTo>
                <a:lnTo>
                  <a:pt x="563" y="791"/>
                </a:lnTo>
                <a:lnTo>
                  <a:pt x="541" y="833"/>
                </a:lnTo>
                <a:lnTo>
                  <a:pt x="508" y="864"/>
                </a:lnTo>
                <a:lnTo>
                  <a:pt x="498" y="896"/>
                </a:lnTo>
                <a:lnTo>
                  <a:pt x="465" y="927"/>
                </a:lnTo>
                <a:lnTo>
                  <a:pt x="465" y="959"/>
                </a:lnTo>
                <a:lnTo>
                  <a:pt x="443" y="991"/>
                </a:lnTo>
                <a:lnTo>
                  <a:pt x="422" y="1032"/>
                </a:lnTo>
                <a:lnTo>
                  <a:pt x="412" y="1074"/>
                </a:lnTo>
                <a:lnTo>
                  <a:pt x="389" y="1116"/>
                </a:lnTo>
                <a:lnTo>
                  <a:pt x="367" y="1158"/>
                </a:lnTo>
                <a:lnTo>
                  <a:pt x="357" y="1190"/>
                </a:lnTo>
                <a:lnTo>
                  <a:pt x="335" y="1231"/>
                </a:lnTo>
                <a:lnTo>
                  <a:pt x="324" y="1273"/>
                </a:lnTo>
                <a:lnTo>
                  <a:pt x="314" y="1315"/>
                </a:lnTo>
                <a:lnTo>
                  <a:pt x="292" y="1357"/>
                </a:lnTo>
                <a:lnTo>
                  <a:pt x="292" y="1389"/>
                </a:lnTo>
                <a:lnTo>
                  <a:pt x="271" y="1431"/>
                </a:lnTo>
                <a:lnTo>
                  <a:pt x="259" y="1472"/>
                </a:lnTo>
                <a:lnTo>
                  <a:pt x="238" y="1514"/>
                </a:lnTo>
                <a:lnTo>
                  <a:pt x="216" y="1556"/>
                </a:lnTo>
                <a:lnTo>
                  <a:pt x="206" y="1588"/>
                </a:lnTo>
                <a:lnTo>
                  <a:pt x="173" y="1619"/>
                </a:lnTo>
                <a:lnTo>
                  <a:pt x="151" y="1651"/>
                </a:lnTo>
                <a:lnTo>
                  <a:pt x="118" y="1671"/>
                </a:lnTo>
                <a:lnTo>
                  <a:pt x="75" y="1713"/>
                </a:lnTo>
                <a:lnTo>
                  <a:pt x="32" y="1744"/>
                </a:lnTo>
                <a:lnTo>
                  <a:pt x="0" y="17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65440" y="3822840"/>
            <a:ext cx="1879560" cy="1346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4800600" y="1933560"/>
                <a:ext cx="20574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P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105520" y="3305160"/>
                <a:ext cx="20574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C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3054240" y="51814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32000" y="4884840"/>
            <a:ext cx="1393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2188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21883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431800" y="3664080"/>
            <a:ext cx="267948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733920" y="4676760"/>
                <a:ext cx="20574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6026040" y="495288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27840" y="4656240"/>
            <a:ext cx="1393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2188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21883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781680" y="4371840"/>
                <a:ext cx="20574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 flipH="1">
            <a:off x="3727440" y="2292480"/>
            <a:ext cx="1155600" cy="44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09920" y="214200"/>
            <a:ext cx="239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quilibri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-2349000" y="1538280"/>
            <a:ext cx="6984000" cy="82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81120" y="577692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213480" y="22687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29000" y="57006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6840" y="1281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0800000">
            <a:off x="4191120" y="-3021120"/>
            <a:ext cx="6984000" cy="82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49680" y="198756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11640" y="389268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0800000">
            <a:off x="2590920" y="-3021120"/>
            <a:ext cx="6984000" cy="82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16360" y="419724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-2349000" y="1538280"/>
            <a:ext cx="6984000" cy="82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81120" y="577692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213480" y="22687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29000" y="57006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6840" y="1281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4191120" y="-2715840"/>
            <a:ext cx="6831360" cy="759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749680" y="198756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64280" y="389268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362320" y="-3173040"/>
            <a:ext cx="6984000" cy="85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87760" y="434988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0800000">
            <a:off x="3429000" y="-3097440"/>
            <a:ext cx="6984000" cy="82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92680" y="320688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786480" y="65520"/>
            <a:ext cx="454572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548240" y="-31608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71600" y="442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7831440" y="37144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62560" y="3636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34320" y="5167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8600" y="5954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481560" y="658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4167000" y="-2394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71600" y="442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7831440" y="37144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1724040"/>
            <a:ext cx="1373040" cy="1782720"/>
          </a:xfrm>
          <a:custGeom>
            <a:avLst/>
            <a:gdLst/>
            <a:ahLst/>
            <a:rect l="l" t="t" r="r" b="b"/>
            <a:pathLst>
              <a:path w="865" h="1123">
                <a:moveTo>
                  <a:pt x="0" y="18"/>
                </a:moveTo>
                <a:lnTo>
                  <a:pt x="40" y="0"/>
                </a:lnTo>
                <a:lnTo>
                  <a:pt x="71" y="32"/>
                </a:lnTo>
                <a:lnTo>
                  <a:pt x="61" y="74"/>
                </a:lnTo>
                <a:lnTo>
                  <a:pt x="61" y="106"/>
                </a:lnTo>
                <a:lnTo>
                  <a:pt x="40" y="148"/>
                </a:lnTo>
                <a:lnTo>
                  <a:pt x="82" y="148"/>
                </a:lnTo>
                <a:lnTo>
                  <a:pt x="124" y="137"/>
                </a:lnTo>
                <a:lnTo>
                  <a:pt x="166" y="137"/>
                </a:lnTo>
                <a:lnTo>
                  <a:pt x="208" y="116"/>
                </a:lnTo>
                <a:lnTo>
                  <a:pt x="240" y="116"/>
                </a:lnTo>
                <a:lnTo>
                  <a:pt x="240" y="114"/>
                </a:lnTo>
                <a:lnTo>
                  <a:pt x="48" y="306"/>
                </a:lnTo>
                <a:lnTo>
                  <a:pt x="432" y="258"/>
                </a:lnTo>
                <a:lnTo>
                  <a:pt x="144" y="498"/>
                </a:lnTo>
                <a:lnTo>
                  <a:pt x="576" y="450"/>
                </a:lnTo>
                <a:lnTo>
                  <a:pt x="240" y="642"/>
                </a:lnTo>
                <a:lnTo>
                  <a:pt x="672" y="642"/>
                </a:lnTo>
                <a:lnTo>
                  <a:pt x="336" y="834"/>
                </a:lnTo>
                <a:lnTo>
                  <a:pt x="768" y="834"/>
                </a:lnTo>
                <a:lnTo>
                  <a:pt x="528" y="1026"/>
                </a:lnTo>
                <a:lnTo>
                  <a:pt x="864" y="1026"/>
                </a:lnTo>
                <a:lnTo>
                  <a:pt x="768" y="1122"/>
                </a:lnTo>
                <a:lnTo>
                  <a:pt x="864" y="11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30760" y="153036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30040" y="160020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3392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33920" y="4428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106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54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62560" y="3636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34320" y="5167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8600" y="5954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3481560" y="658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4167000" y="-2394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71600" y="442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7831440" y="37144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1724040"/>
            <a:ext cx="1373040" cy="1782720"/>
          </a:xfrm>
          <a:custGeom>
            <a:avLst/>
            <a:gdLst/>
            <a:ahLst/>
            <a:rect l="l" t="t" r="r" b="b"/>
            <a:pathLst>
              <a:path w="865" h="1123">
                <a:moveTo>
                  <a:pt x="0" y="18"/>
                </a:moveTo>
                <a:lnTo>
                  <a:pt x="40" y="0"/>
                </a:lnTo>
                <a:lnTo>
                  <a:pt x="71" y="32"/>
                </a:lnTo>
                <a:lnTo>
                  <a:pt x="61" y="74"/>
                </a:lnTo>
                <a:lnTo>
                  <a:pt x="61" y="106"/>
                </a:lnTo>
                <a:lnTo>
                  <a:pt x="40" y="148"/>
                </a:lnTo>
                <a:lnTo>
                  <a:pt x="82" y="148"/>
                </a:lnTo>
                <a:lnTo>
                  <a:pt x="124" y="137"/>
                </a:lnTo>
                <a:lnTo>
                  <a:pt x="166" y="137"/>
                </a:lnTo>
                <a:lnTo>
                  <a:pt x="208" y="116"/>
                </a:lnTo>
                <a:lnTo>
                  <a:pt x="240" y="116"/>
                </a:lnTo>
                <a:lnTo>
                  <a:pt x="240" y="114"/>
                </a:lnTo>
                <a:lnTo>
                  <a:pt x="48" y="306"/>
                </a:lnTo>
                <a:lnTo>
                  <a:pt x="432" y="258"/>
                </a:lnTo>
                <a:lnTo>
                  <a:pt x="144" y="498"/>
                </a:lnTo>
                <a:lnTo>
                  <a:pt x="576" y="450"/>
                </a:lnTo>
                <a:lnTo>
                  <a:pt x="240" y="642"/>
                </a:lnTo>
                <a:lnTo>
                  <a:pt x="672" y="642"/>
                </a:lnTo>
                <a:lnTo>
                  <a:pt x="336" y="834"/>
                </a:lnTo>
                <a:lnTo>
                  <a:pt x="768" y="834"/>
                </a:lnTo>
                <a:lnTo>
                  <a:pt x="528" y="1026"/>
                </a:lnTo>
                <a:lnTo>
                  <a:pt x="864" y="1026"/>
                </a:lnTo>
                <a:lnTo>
                  <a:pt x="768" y="1122"/>
                </a:lnTo>
                <a:lnTo>
                  <a:pt x="864" y="11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30040" y="160020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3392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33920" y="4428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106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54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990720"/>
            <a:ext cx="6707160" cy="4649760"/>
          </a:xfrm>
          <a:custGeom>
            <a:avLst/>
            <a:gdLst/>
            <a:ahLst/>
            <a:rect l="l" t="t" r="r" b="b"/>
            <a:pathLst>
              <a:path w="4225" h="2929">
                <a:moveTo>
                  <a:pt x="4224" y="0"/>
                </a:moveTo>
                <a:lnTo>
                  <a:pt x="4192" y="20"/>
                </a:lnTo>
                <a:lnTo>
                  <a:pt x="4171" y="52"/>
                </a:lnTo>
                <a:lnTo>
                  <a:pt x="4139" y="83"/>
                </a:lnTo>
                <a:lnTo>
                  <a:pt x="4118" y="115"/>
                </a:lnTo>
                <a:lnTo>
                  <a:pt x="4107" y="157"/>
                </a:lnTo>
                <a:lnTo>
                  <a:pt x="4086" y="189"/>
                </a:lnTo>
                <a:lnTo>
                  <a:pt x="4044" y="220"/>
                </a:lnTo>
                <a:lnTo>
                  <a:pt x="4023" y="252"/>
                </a:lnTo>
                <a:lnTo>
                  <a:pt x="3992" y="294"/>
                </a:lnTo>
                <a:lnTo>
                  <a:pt x="3960" y="315"/>
                </a:lnTo>
                <a:lnTo>
                  <a:pt x="3949" y="357"/>
                </a:lnTo>
                <a:lnTo>
                  <a:pt x="3907" y="389"/>
                </a:lnTo>
                <a:lnTo>
                  <a:pt x="3876" y="431"/>
                </a:lnTo>
                <a:lnTo>
                  <a:pt x="3844" y="462"/>
                </a:lnTo>
                <a:lnTo>
                  <a:pt x="3802" y="483"/>
                </a:lnTo>
                <a:lnTo>
                  <a:pt x="3781" y="515"/>
                </a:lnTo>
                <a:lnTo>
                  <a:pt x="3749" y="525"/>
                </a:lnTo>
                <a:lnTo>
                  <a:pt x="3707" y="557"/>
                </a:lnTo>
                <a:lnTo>
                  <a:pt x="3665" y="578"/>
                </a:lnTo>
                <a:lnTo>
                  <a:pt x="3613" y="599"/>
                </a:lnTo>
                <a:lnTo>
                  <a:pt x="3581" y="620"/>
                </a:lnTo>
                <a:lnTo>
                  <a:pt x="3549" y="641"/>
                </a:lnTo>
                <a:lnTo>
                  <a:pt x="3507" y="673"/>
                </a:lnTo>
                <a:lnTo>
                  <a:pt x="3465" y="715"/>
                </a:lnTo>
                <a:lnTo>
                  <a:pt x="3434" y="747"/>
                </a:lnTo>
                <a:lnTo>
                  <a:pt x="3402" y="768"/>
                </a:lnTo>
                <a:lnTo>
                  <a:pt x="3349" y="778"/>
                </a:lnTo>
                <a:lnTo>
                  <a:pt x="3318" y="810"/>
                </a:lnTo>
                <a:lnTo>
                  <a:pt x="3276" y="820"/>
                </a:lnTo>
                <a:lnTo>
                  <a:pt x="3244" y="841"/>
                </a:lnTo>
                <a:lnTo>
                  <a:pt x="3213" y="873"/>
                </a:lnTo>
                <a:lnTo>
                  <a:pt x="3181" y="894"/>
                </a:lnTo>
                <a:lnTo>
                  <a:pt x="3149" y="904"/>
                </a:lnTo>
                <a:lnTo>
                  <a:pt x="3086" y="925"/>
                </a:lnTo>
                <a:lnTo>
                  <a:pt x="3034" y="947"/>
                </a:lnTo>
                <a:lnTo>
                  <a:pt x="3002" y="947"/>
                </a:lnTo>
                <a:lnTo>
                  <a:pt x="2960" y="968"/>
                </a:lnTo>
                <a:lnTo>
                  <a:pt x="2928" y="989"/>
                </a:lnTo>
                <a:lnTo>
                  <a:pt x="2886" y="1010"/>
                </a:lnTo>
                <a:lnTo>
                  <a:pt x="2844" y="1031"/>
                </a:lnTo>
                <a:lnTo>
                  <a:pt x="2802" y="1041"/>
                </a:lnTo>
                <a:lnTo>
                  <a:pt x="2760" y="1062"/>
                </a:lnTo>
                <a:lnTo>
                  <a:pt x="2707" y="1083"/>
                </a:lnTo>
                <a:lnTo>
                  <a:pt x="2665" y="1094"/>
                </a:lnTo>
                <a:lnTo>
                  <a:pt x="2623" y="1115"/>
                </a:lnTo>
                <a:lnTo>
                  <a:pt x="2581" y="1125"/>
                </a:lnTo>
                <a:lnTo>
                  <a:pt x="2549" y="1136"/>
                </a:lnTo>
                <a:lnTo>
                  <a:pt x="2581" y="1147"/>
                </a:lnTo>
                <a:lnTo>
                  <a:pt x="2549" y="1147"/>
                </a:lnTo>
                <a:lnTo>
                  <a:pt x="2507" y="1157"/>
                </a:lnTo>
                <a:lnTo>
                  <a:pt x="2465" y="1168"/>
                </a:lnTo>
                <a:lnTo>
                  <a:pt x="2423" y="1168"/>
                </a:lnTo>
                <a:lnTo>
                  <a:pt x="2360" y="1178"/>
                </a:lnTo>
                <a:lnTo>
                  <a:pt x="2307" y="1189"/>
                </a:lnTo>
                <a:lnTo>
                  <a:pt x="2265" y="1199"/>
                </a:lnTo>
                <a:lnTo>
                  <a:pt x="2223" y="1210"/>
                </a:lnTo>
                <a:lnTo>
                  <a:pt x="2149" y="1231"/>
                </a:lnTo>
                <a:lnTo>
                  <a:pt x="2107" y="1252"/>
                </a:lnTo>
                <a:lnTo>
                  <a:pt x="2065" y="1262"/>
                </a:lnTo>
                <a:lnTo>
                  <a:pt x="2013" y="1273"/>
                </a:lnTo>
                <a:lnTo>
                  <a:pt x="1971" y="1283"/>
                </a:lnTo>
                <a:lnTo>
                  <a:pt x="1939" y="1294"/>
                </a:lnTo>
                <a:lnTo>
                  <a:pt x="1907" y="1304"/>
                </a:lnTo>
                <a:lnTo>
                  <a:pt x="1844" y="1325"/>
                </a:lnTo>
                <a:lnTo>
                  <a:pt x="1792" y="1336"/>
                </a:lnTo>
                <a:lnTo>
                  <a:pt x="1760" y="1357"/>
                </a:lnTo>
                <a:lnTo>
                  <a:pt x="1728" y="1368"/>
                </a:lnTo>
                <a:lnTo>
                  <a:pt x="1686" y="1368"/>
                </a:lnTo>
                <a:lnTo>
                  <a:pt x="1644" y="1389"/>
                </a:lnTo>
                <a:lnTo>
                  <a:pt x="1602" y="1389"/>
                </a:lnTo>
                <a:lnTo>
                  <a:pt x="1560" y="1410"/>
                </a:lnTo>
                <a:lnTo>
                  <a:pt x="1518" y="1410"/>
                </a:lnTo>
                <a:lnTo>
                  <a:pt x="1476" y="1420"/>
                </a:lnTo>
                <a:lnTo>
                  <a:pt x="1444" y="1420"/>
                </a:lnTo>
                <a:lnTo>
                  <a:pt x="1402" y="1420"/>
                </a:lnTo>
                <a:lnTo>
                  <a:pt x="1360" y="1431"/>
                </a:lnTo>
                <a:lnTo>
                  <a:pt x="1318" y="1441"/>
                </a:lnTo>
                <a:lnTo>
                  <a:pt x="1286" y="1452"/>
                </a:lnTo>
                <a:lnTo>
                  <a:pt x="1244" y="1473"/>
                </a:lnTo>
                <a:lnTo>
                  <a:pt x="1192" y="1494"/>
                </a:lnTo>
                <a:lnTo>
                  <a:pt x="1139" y="1536"/>
                </a:lnTo>
                <a:lnTo>
                  <a:pt x="1097" y="1547"/>
                </a:lnTo>
                <a:lnTo>
                  <a:pt x="1065" y="1568"/>
                </a:lnTo>
                <a:lnTo>
                  <a:pt x="1023" y="1599"/>
                </a:lnTo>
                <a:lnTo>
                  <a:pt x="992" y="1631"/>
                </a:lnTo>
                <a:lnTo>
                  <a:pt x="981" y="1673"/>
                </a:lnTo>
                <a:lnTo>
                  <a:pt x="928" y="1683"/>
                </a:lnTo>
                <a:lnTo>
                  <a:pt x="886" y="1715"/>
                </a:lnTo>
                <a:lnTo>
                  <a:pt x="844" y="1736"/>
                </a:lnTo>
                <a:lnTo>
                  <a:pt x="813" y="1768"/>
                </a:lnTo>
                <a:lnTo>
                  <a:pt x="781" y="1778"/>
                </a:lnTo>
                <a:lnTo>
                  <a:pt x="739" y="1831"/>
                </a:lnTo>
                <a:lnTo>
                  <a:pt x="697" y="1831"/>
                </a:lnTo>
                <a:lnTo>
                  <a:pt x="665" y="1873"/>
                </a:lnTo>
                <a:lnTo>
                  <a:pt x="592" y="1915"/>
                </a:lnTo>
                <a:lnTo>
                  <a:pt x="560" y="1947"/>
                </a:lnTo>
                <a:lnTo>
                  <a:pt x="528" y="1978"/>
                </a:lnTo>
                <a:lnTo>
                  <a:pt x="518" y="2020"/>
                </a:lnTo>
                <a:lnTo>
                  <a:pt x="497" y="2073"/>
                </a:lnTo>
                <a:lnTo>
                  <a:pt x="465" y="2094"/>
                </a:lnTo>
                <a:lnTo>
                  <a:pt x="455" y="2136"/>
                </a:lnTo>
                <a:lnTo>
                  <a:pt x="413" y="2147"/>
                </a:lnTo>
                <a:lnTo>
                  <a:pt x="402" y="2189"/>
                </a:lnTo>
                <a:lnTo>
                  <a:pt x="371" y="2231"/>
                </a:lnTo>
                <a:lnTo>
                  <a:pt x="349" y="2273"/>
                </a:lnTo>
                <a:lnTo>
                  <a:pt x="318" y="2315"/>
                </a:lnTo>
                <a:lnTo>
                  <a:pt x="297" y="2347"/>
                </a:lnTo>
                <a:lnTo>
                  <a:pt x="265" y="2378"/>
                </a:lnTo>
                <a:lnTo>
                  <a:pt x="255" y="2420"/>
                </a:lnTo>
                <a:lnTo>
                  <a:pt x="223" y="2441"/>
                </a:lnTo>
                <a:lnTo>
                  <a:pt x="213" y="2494"/>
                </a:lnTo>
                <a:lnTo>
                  <a:pt x="171" y="2536"/>
                </a:lnTo>
                <a:lnTo>
                  <a:pt x="171" y="2568"/>
                </a:lnTo>
                <a:lnTo>
                  <a:pt x="139" y="2599"/>
                </a:lnTo>
                <a:lnTo>
                  <a:pt x="128" y="2641"/>
                </a:lnTo>
                <a:lnTo>
                  <a:pt x="118" y="2683"/>
                </a:lnTo>
                <a:lnTo>
                  <a:pt x="97" y="2715"/>
                </a:lnTo>
                <a:lnTo>
                  <a:pt x="76" y="2747"/>
                </a:lnTo>
                <a:lnTo>
                  <a:pt x="44" y="2820"/>
                </a:lnTo>
                <a:lnTo>
                  <a:pt x="34" y="2852"/>
                </a:lnTo>
                <a:lnTo>
                  <a:pt x="13" y="2894"/>
                </a:lnTo>
                <a:lnTo>
                  <a:pt x="0" y="29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62560" y="3636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8456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548240" y="-23976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4853160" y="-39132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02360" y="335916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21480" y="244476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11640" y="274968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6560" y="259704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34320" y="5167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28600" y="5954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31920" y="12319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98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4176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1195200" y="12844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2185920" y="8269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2872080" y="522720"/>
            <a:ext cx="454572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3328920" y="44604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243320" y="-1116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3160" y="1690560"/>
            <a:ext cx="4546080" cy="469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212840" y="12193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5440" y="5867280"/>
            <a:ext cx="6693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12124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12254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47920" y="6714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38680" y="60055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7907400" y="39430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88720" y="24980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6320" y="5853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10640" y="53960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04920" y="8240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2908440"/>
            <a:ext cx="0" cy="29462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206360" y="1828800"/>
            <a:ext cx="673128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0240" y="6005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0240" y="6714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86600" y="166212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1400" y="166212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219320"/>
            <a:ext cx="6707160" cy="4649760"/>
          </a:xfrm>
          <a:custGeom>
            <a:avLst/>
            <a:gdLst/>
            <a:ahLst/>
            <a:rect l="l" t="t" r="r" b="b"/>
            <a:pathLst>
              <a:path w="4225" h="2929">
                <a:moveTo>
                  <a:pt x="4224" y="0"/>
                </a:moveTo>
                <a:lnTo>
                  <a:pt x="4192" y="20"/>
                </a:lnTo>
                <a:lnTo>
                  <a:pt x="4171" y="52"/>
                </a:lnTo>
                <a:lnTo>
                  <a:pt x="4139" y="83"/>
                </a:lnTo>
                <a:lnTo>
                  <a:pt x="4118" y="115"/>
                </a:lnTo>
                <a:lnTo>
                  <a:pt x="4107" y="157"/>
                </a:lnTo>
                <a:lnTo>
                  <a:pt x="4086" y="189"/>
                </a:lnTo>
                <a:lnTo>
                  <a:pt x="4044" y="220"/>
                </a:lnTo>
                <a:lnTo>
                  <a:pt x="4023" y="252"/>
                </a:lnTo>
                <a:lnTo>
                  <a:pt x="3992" y="294"/>
                </a:lnTo>
                <a:lnTo>
                  <a:pt x="3960" y="315"/>
                </a:lnTo>
                <a:lnTo>
                  <a:pt x="3949" y="357"/>
                </a:lnTo>
                <a:lnTo>
                  <a:pt x="3907" y="389"/>
                </a:lnTo>
                <a:lnTo>
                  <a:pt x="3876" y="431"/>
                </a:lnTo>
                <a:lnTo>
                  <a:pt x="3844" y="462"/>
                </a:lnTo>
                <a:lnTo>
                  <a:pt x="3802" y="483"/>
                </a:lnTo>
                <a:lnTo>
                  <a:pt x="3781" y="515"/>
                </a:lnTo>
                <a:lnTo>
                  <a:pt x="3749" y="525"/>
                </a:lnTo>
                <a:lnTo>
                  <a:pt x="3707" y="557"/>
                </a:lnTo>
                <a:lnTo>
                  <a:pt x="3665" y="578"/>
                </a:lnTo>
                <a:lnTo>
                  <a:pt x="3613" y="599"/>
                </a:lnTo>
                <a:lnTo>
                  <a:pt x="3581" y="620"/>
                </a:lnTo>
                <a:lnTo>
                  <a:pt x="3549" y="641"/>
                </a:lnTo>
                <a:lnTo>
                  <a:pt x="3507" y="673"/>
                </a:lnTo>
                <a:lnTo>
                  <a:pt x="3465" y="715"/>
                </a:lnTo>
                <a:lnTo>
                  <a:pt x="3434" y="747"/>
                </a:lnTo>
                <a:lnTo>
                  <a:pt x="3402" y="768"/>
                </a:lnTo>
                <a:lnTo>
                  <a:pt x="3349" y="778"/>
                </a:lnTo>
                <a:lnTo>
                  <a:pt x="3318" y="810"/>
                </a:lnTo>
                <a:lnTo>
                  <a:pt x="3276" y="820"/>
                </a:lnTo>
                <a:lnTo>
                  <a:pt x="3244" y="841"/>
                </a:lnTo>
                <a:lnTo>
                  <a:pt x="3213" y="873"/>
                </a:lnTo>
                <a:lnTo>
                  <a:pt x="3181" y="894"/>
                </a:lnTo>
                <a:lnTo>
                  <a:pt x="3149" y="904"/>
                </a:lnTo>
                <a:lnTo>
                  <a:pt x="3086" y="925"/>
                </a:lnTo>
                <a:lnTo>
                  <a:pt x="3034" y="947"/>
                </a:lnTo>
                <a:lnTo>
                  <a:pt x="3002" y="947"/>
                </a:lnTo>
                <a:lnTo>
                  <a:pt x="2960" y="968"/>
                </a:lnTo>
                <a:lnTo>
                  <a:pt x="2928" y="989"/>
                </a:lnTo>
                <a:lnTo>
                  <a:pt x="2886" y="1010"/>
                </a:lnTo>
                <a:lnTo>
                  <a:pt x="2844" y="1031"/>
                </a:lnTo>
                <a:lnTo>
                  <a:pt x="2802" y="1041"/>
                </a:lnTo>
                <a:lnTo>
                  <a:pt x="2760" y="1062"/>
                </a:lnTo>
                <a:lnTo>
                  <a:pt x="2707" y="1083"/>
                </a:lnTo>
                <a:lnTo>
                  <a:pt x="2665" y="1094"/>
                </a:lnTo>
                <a:lnTo>
                  <a:pt x="2623" y="1115"/>
                </a:lnTo>
                <a:lnTo>
                  <a:pt x="2581" y="1125"/>
                </a:lnTo>
                <a:lnTo>
                  <a:pt x="2549" y="1136"/>
                </a:lnTo>
                <a:lnTo>
                  <a:pt x="2581" y="1147"/>
                </a:lnTo>
                <a:lnTo>
                  <a:pt x="2549" y="1147"/>
                </a:lnTo>
                <a:lnTo>
                  <a:pt x="2507" y="1157"/>
                </a:lnTo>
                <a:lnTo>
                  <a:pt x="2465" y="1168"/>
                </a:lnTo>
                <a:lnTo>
                  <a:pt x="2423" y="1168"/>
                </a:lnTo>
                <a:lnTo>
                  <a:pt x="2360" y="1178"/>
                </a:lnTo>
                <a:lnTo>
                  <a:pt x="2307" y="1189"/>
                </a:lnTo>
                <a:lnTo>
                  <a:pt x="2265" y="1199"/>
                </a:lnTo>
                <a:lnTo>
                  <a:pt x="2223" y="1210"/>
                </a:lnTo>
                <a:lnTo>
                  <a:pt x="2149" y="1231"/>
                </a:lnTo>
                <a:lnTo>
                  <a:pt x="2107" y="1252"/>
                </a:lnTo>
                <a:lnTo>
                  <a:pt x="2065" y="1262"/>
                </a:lnTo>
                <a:lnTo>
                  <a:pt x="2013" y="1273"/>
                </a:lnTo>
                <a:lnTo>
                  <a:pt x="1971" y="1283"/>
                </a:lnTo>
                <a:lnTo>
                  <a:pt x="1939" y="1294"/>
                </a:lnTo>
                <a:lnTo>
                  <a:pt x="1907" y="1304"/>
                </a:lnTo>
                <a:lnTo>
                  <a:pt x="1844" y="1325"/>
                </a:lnTo>
                <a:lnTo>
                  <a:pt x="1792" y="1336"/>
                </a:lnTo>
                <a:lnTo>
                  <a:pt x="1760" y="1357"/>
                </a:lnTo>
                <a:lnTo>
                  <a:pt x="1728" y="1368"/>
                </a:lnTo>
                <a:lnTo>
                  <a:pt x="1686" y="1368"/>
                </a:lnTo>
                <a:lnTo>
                  <a:pt x="1644" y="1389"/>
                </a:lnTo>
                <a:lnTo>
                  <a:pt x="1602" y="1389"/>
                </a:lnTo>
                <a:lnTo>
                  <a:pt x="1560" y="1410"/>
                </a:lnTo>
                <a:lnTo>
                  <a:pt x="1518" y="1410"/>
                </a:lnTo>
                <a:lnTo>
                  <a:pt x="1476" y="1420"/>
                </a:lnTo>
                <a:lnTo>
                  <a:pt x="1444" y="1420"/>
                </a:lnTo>
                <a:lnTo>
                  <a:pt x="1402" y="1420"/>
                </a:lnTo>
                <a:lnTo>
                  <a:pt x="1360" y="1431"/>
                </a:lnTo>
                <a:lnTo>
                  <a:pt x="1318" y="1441"/>
                </a:lnTo>
                <a:lnTo>
                  <a:pt x="1286" y="1452"/>
                </a:lnTo>
                <a:lnTo>
                  <a:pt x="1244" y="1473"/>
                </a:lnTo>
                <a:lnTo>
                  <a:pt x="1192" y="1494"/>
                </a:lnTo>
                <a:lnTo>
                  <a:pt x="1139" y="1536"/>
                </a:lnTo>
                <a:lnTo>
                  <a:pt x="1097" y="1547"/>
                </a:lnTo>
                <a:lnTo>
                  <a:pt x="1065" y="1568"/>
                </a:lnTo>
                <a:lnTo>
                  <a:pt x="1023" y="1599"/>
                </a:lnTo>
                <a:lnTo>
                  <a:pt x="992" y="1631"/>
                </a:lnTo>
                <a:lnTo>
                  <a:pt x="981" y="1673"/>
                </a:lnTo>
                <a:lnTo>
                  <a:pt x="928" y="1683"/>
                </a:lnTo>
                <a:lnTo>
                  <a:pt x="886" y="1715"/>
                </a:lnTo>
                <a:lnTo>
                  <a:pt x="844" y="1736"/>
                </a:lnTo>
                <a:lnTo>
                  <a:pt x="813" y="1768"/>
                </a:lnTo>
                <a:lnTo>
                  <a:pt x="781" y="1778"/>
                </a:lnTo>
                <a:lnTo>
                  <a:pt x="739" y="1831"/>
                </a:lnTo>
                <a:lnTo>
                  <a:pt x="697" y="1831"/>
                </a:lnTo>
                <a:lnTo>
                  <a:pt x="665" y="1873"/>
                </a:lnTo>
                <a:lnTo>
                  <a:pt x="592" y="1915"/>
                </a:lnTo>
                <a:lnTo>
                  <a:pt x="560" y="1947"/>
                </a:lnTo>
                <a:lnTo>
                  <a:pt x="528" y="1978"/>
                </a:lnTo>
                <a:lnTo>
                  <a:pt x="518" y="2020"/>
                </a:lnTo>
                <a:lnTo>
                  <a:pt x="497" y="2073"/>
                </a:lnTo>
                <a:lnTo>
                  <a:pt x="465" y="2094"/>
                </a:lnTo>
                <a:lnTo>
                  <a:pt x="455" y="2136"/>
                </a:lnTo>
                <a:lnTo>
                  <a:pt x="413" y="2147"/>
                </a:lnTo>
                <a:lnTo>
                  <a:pt x="402" y="2189"/>
                </a:lnTo>
                <a:lnTo>
                  <a:pt x="371" y="2231"/>
                </a:lnTo>
                <a:lnTo>
                  <a:pt x="349" y="2273"/>
                </a:lnTo>
                <a:lnTo>
                  <a:pt x="318" y="2315"/>
                </a:lnTo>
                <a:lnTo>
                  <a:pt x="297" y="2347"/>
                </a:lnTo>
                <a:lnTo>
                  <a:pt x="265" y="2378"/>
                </a:lnTo>
                <a:lnTo>
                  <a:pt x="255" y="2420"/>
                </a:lnTo>
                <a:lnTo>
                  <a:pt x="223" y="2441"/>
                </a:lnTo>
                <a:lnTo>
                  <a:pt x="213" y="2494"/>
                </a:lnTo>
                <a:lnTo>
                  <a:pt x="171" y="2536"/>
                </a:lnTo>
                <a:lnTo>
                  <a:pt x="171" y="2568"/>
                </a:lnTo>
                <a:lnTo>
                  <a:pt x="139" y="2599"/>
                </a:lnTo>
                <a:lnTo>
                  <a:pt x="128" y="2641"/>
                </a:lnTo>
                <a:lnTo>
                  <a:pt x="118" y="2683"/>
                </a:lnTo>
                <a:lnTo>
                  <a:pt x="97" y="2715"/>
                </a:lnTo>
                <a:lnTo>
                  <a:pt x="76" y="2747"/>
                </a:lnTo>
                <a:lnTo>
                  <a:pt x="44" y="2820"/>
                </a:lnTo>
                <a:lnTo>
                  <a:pt x="34" y="2852"/>
                </a:lnTo>
                <a:lnTo>
                  <a:pt x="13" y="2894"/>
                </a:lnTo>
                <a:lnTo>
                  <a:pt x="0" y="29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3840" y="60786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138880" y="5922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0040" y="1231920"/>
            <a:ext cx="3555720" cy="325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5005440" y="-696240"/>
            <a:ext cx="4698360" cy="36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6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677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7080" y="175896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64280" y="221616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26040" y="282564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12319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282680" y="2895480"/>
            <a:ext cx="482616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123192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397480" y="2286000"/>
            <a:ext cx="254016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9360" y="5257800"/>
            <a:ext cx="1206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9240" y="525924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Dda.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1840" y="114444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Ofer.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946400" y="1371600"/>
            <a:ext cx="3934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40680" y="221148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Dda.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18352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20760" y="21351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Ofer.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590920" y="182196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16760" y="480060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4520" y="435132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626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6263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7680" y="4268880"/>
            <a:ext cx="1139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5440" y="11286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05720" y="5853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82040" y="824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31200" y="61920"/>
            <a:ext cx="356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ja de Edgeworth-Bow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5440" y="13860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3252600" y="2178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4167000" y="-2394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71600" y="442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7831440" y="37144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834320" y="5167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8600" y="5954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130040" y="160020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3392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33920" y="4428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106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4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990720"/>
            <a:ext cx="6707160" cy="4649760"/>
          </a:xfrm>
          <a:custGeom>
            <a:avLst/>
            <a:gdLst/>
            <a:ahLst/>
            <a:rect l="l" t="t" r="r" b="b"/>
            <a:pathLst>
              <a:path w="4225" h="2929">
                <a:moveTo>
                  <a:pt x="4224" y="0"/>
                </a:moveTo>
                <a:lnTo>
                  <a:pt x="4192" y="20"/>
                </a:lnTo>
                <a:lnTo>
                  <a:pt x="4171" y="52"/>
                </a:lnTo>
                <a:lnTo>
                  <a:pt x="4139" y="83"/>
                </a:lnTo>
                <a:lnTo>
                  <a:pt x="4118" y="115"/>
                </a:lnTo>
                <a:lnTo>
                  <a:pt x="4107" y="157"/>
                </a:lnTo>
                <a:lnTo>
                  <a:pt x="4086" y="189"/>
                </a:lnTo>
                <a:lnTo>
                  <a:pt x="4044" y="220"/>
                </a:lnTo>
                <a:lnTo>
                  <a:pt x="4023" y="252"/>
                </a:lnTo>
                <a:lnTo>
                  <a:pt x="3992" y="294"/>
                </a:lnTo>
                <a:lnTo>
                  <a:pt x="3960" y="315"/>
                </a:lnTo>
                <a:lnTo>
                  <a:pt x="3949" y="357"/>
                </a:lnTo>
                <a:lnTo>
                  <a:pt x="3907" y="389"/>
                </a:lnTo>
                <a:lnTo>
                  <a:pt x="3876" y="431"/>
                </a:lnTo>
                <a:lnTo>
                  <a:pt x="3844" y="462"/>
                </a:lnTo>
                <a:lnTo>
                  <a:pt x="3802" y="483"/>
                </a:lnTo>
                <a:lnTo>
                  <a:pt x="3781" y="515"/>
                </a:lnTo>
                <a:lnTo>
                  <a:pt x="3749" y="525"/>
                </a:lnTo>
                <a:lnTo>
                  <a:pt x="3707" y="557"/>
                </a:lnTo>
                <a:lnTo>
                  <a:pt x="3665" y="578"/>
                </a:lnTo>
                <a:lnTo>
                  <a:pt x="3613" y="599"/>
                </a:lnTo>
                <a:lnTo>
                  <a:pt x="3581" y="620"/>
                </a:lnTo>
                <a:lnTo>
                  <a:pt x="3549" y="641"/>
                </a:lnTo>
                <a:lnTo>
                  <a:pt x="3507" y="673"/>
                </a:lnTo>
                <a:lnTo>
                  <a:pt x="3465" y="715"/>
                </a:lnTo>
                <a:lnTo>
                  <a:pt x="3434" y="747"/>
                </a:lnTo>
                <a:lnTo>
                  <a:pt x="3402" y="768"/>
                </a:lnTo>
                <a:lnTo>
                  <a:pt x="3349" y="778"/>
                </a:lnTo>
                <a:lnTo>
                  <a:pt x="3318" y="810"/>
                </a:lnTo>
                <a:lnTo>
                  <a:pt x="3276" y="820"/>
                </a:lnTo>
                <a:lnTo>
                  <a:pt x="3244" y="841"/>
                </a:lnTo>
                <a:lnTo>
                  <a:pt x="3213" y="873"/>
                </a:lnTo>
                <a:lnTo>
                  <a:pt x="3181" y="894"/>
                </a:lnTo>
                <a:lnTo>
                  <a:pt x="3149" y="904"/>
                </a:lnTo>
                <a:lnTo>
                  <a:pt x="3086" y="925"/>
                </a:lnTo>
                <a:lnTo>
                  <a:pt x="3034" y="947"/>
                </a:lnTo>
                <a:lnTo>
                  <a:pt x="3002" y="947"/>
                </a:lnTo>
                <a:lnTo>
                  <a:pt x="2960" y="968"/>
                </a:lnTo>
                <a:lnTo>
                  <a:pt x="2928" y="989"/>
                </a:lnTo>
                <a:lnTo>
                  <a:pt x="2886" y="1010"/>
                </a:lnTo>
                <a:lnTo>
                  <a:pt x="2844" y="1031"/>
                </a:lnTo>
                <a:lnTo>
                  <a:pt x="2802" y="1041"/>
                </a:lnTo>
                <a:lnTo>
                  <a:pt x="2760" y="1062"/>
                </a:lnTo>
                <a:lnTo>
                  <a:pt x="2707" y="1083"/>
                </a:lnTo>
                <a:lnTo>
                  <a:pt x="2665" y="1094"/>
                </a:lnTo>
                <a:lnTo>
                  <a:pt x="2623" y="1115"/>
                </a:lnTo>
                <a:lnTo>
                  <a:pt x="2581" y="1125"/>
                </a:lnTo>
                <a:lnTo>
                  <a:pt x="2549" y="1136"/>
                </a:lnTo>
                <a:lnTo>
                  <a:pt x="2581" y="1147"/>
                </a:lnTo>
                <a:lnTo>
                  <a:pt x="2549" y="1147"/>
                </a:lnTo>
                <a:lnTo>
                  <a:pt x="2507" y="1157"/>
                </a:lnTo>
                <a:lnTo>
                  <a:pt x="2465" y="1168"/>
                </a:lnTo>
                <a:lnTo>
                  <a:pt x="2423" y="1168"/>
                </a:lnTo>
                <a:lnTo>
                  <a:pt x="2360" y="1178"/>
                </a:lnTo>
                <a:lnTo>
                  <a:pt x="2307" y="1189"/>
                </a:lnTo>
                <a:lnTo>
                  <a:pt x="2265" y="1199"/>
                </a:lnTo>
                <a:lnTo>
                  <a:pt x="2223" y="1210"/>
                </a:lnTo>
                <a:lnTo>
                  <a:pt x="2149" y="1231"/>
                </a:lnTo>
                <a:lnTo>
                  <a:pt x="2107" y="1252"/>
                </a:lnTo>
                <a:lnTo>
                  <a:pt x="2065" y="1262"/>
                </a:lnTo>
                <a:lnTo>
                  <a:pt x="2013" y="1273"/>
                </a:lnTo>
                <a:lnTo>
                  <a:pt x="1971" y="1283"/>
                </a:lnTo>
                <a:lnTo>
                  <a:pt x="1939" y="1294"/>
                </a:lnTo>
                <a:lnTo>
                  <a:pt x="1907" y="1304"/>
                </a:lnTo>
                <a:lnTo>
                  <a:pt x="1844" y="1325"/>
                </a:lnTo>
                <a:lnTo>
                  <a:pt x="1792" y="1336"/>
                </a:lnTo>
                <a:lnTo>
                  <a:pt x="1760" y="1357"/>
                </a:lnTo>
                <a:lnTo>
                  <a:pt x="1728" y="1368"/>
                </a:lnTo>
                <a:lnTo>
                  <a:pt x="1686" y="1368"/>
                </a:lnTo>
                <a:lnTo>
                  <a:pt x="1644" y="1389"/>
                </a:lnTo>
                <a:lnTo>
                  <a:pt x="1602" y="1389"/>
                </a:lnTo>
                <a:lnTo>
                  <a:pt x="1560" y="1410"/>
                </a:lnTo>
                <a:lnTo>
                  <a:pt x="1518" y="1410"/>
                </a:lnTo>
                <a:lnTo>
                  <a:pt x="1476" y="1420"/>
                </a:lnTo>
                <a:lnTo>
                  <a:pt x="1444" y="1420"/>
                </a:lnTo>
                <a:lnTo>
                  <a:pt x="1402" y="1420"/>
                </a:lnTo>
                <a:lnTo>
                  <a:pt x="1360" y="1431"/>
                </a:lnTo>
                <a:lnTo>
                  <a:pt x="1318" y="1441"/>
                </a:lnTo>
                <a:lnTo>
                  <a:pt x="1286" y="1452"/>
                </a:lnTo>
                <a:lnTo>
                  <a:pt x="1244" y="1473"/>
                </a:lnTo>
                <a:lnTo>
                  <a:pt x="1192" y="1494"/>
                </a:lnTo>
                <a:lnTo>
                  <a:pt x="1139" y="1536"/>
                </a:lnTo>
                <a:lnTo>
                  <a:pt x="1097" y="1547"/>
                </a:lnTo>
                <a:lnTo>
                  <a:pt x="1065" y="1568"/>
                </a:lnTo>
                <a:lnTo>
                  <a:pt x="1023" y="1599"/>
                </a:lnTo>
                <a:lnTo>
                  <a:pt x="992" y="1631"/>
                </a:lnTo>
                <a:lnTo>
                  <a:pt x="981" y="1673"/>
                </a:lnTo>
                <a:lnTo>
                  <a:pt x="928" y="1683"/>
                </a:lnTo>
                <a:lnTo>
                  <a:pt x="886" y="1715"/>
                </a:lnTo>
                <a:lnTo>
                  <a:pt x="844" y="1736"/>
                </a:lnTo>
                <a:lnTo>
                  <a:pt x="813" y="1768"/>
                </a:lnTo>
                <a:lnTo>
                  <a:pt x="781" y="1778"/>
                </a:lnTo>
                <a:lnTo>
                  <a:pt x="739" y="1831"/>
                </a:lnTo>
                <a:lnTo>
                  <a:pt x="697" y="1831"/>
                </a:lnTo>
                <a:lnTo>
                  <a:pt x="665" y="1873"/>
                </a:lnTo>
                <a:lnTo>
                  <a:pt x="592" y="1915"/>
                </a:lnTo>
                <a:lnTo>
                  <a:pt x="560" y="1947"/>
                </a:lnTo>
                <a:lnTo>
                  <a:pt x="528" y="1978"/>
                </a:lnTo>
                <a:lnTo>
                  <a:pt x="518" y="2020"/>
                </a:lnTo>
                <a:lnTo>
                  <a:pt x="497" y="2073"/>
                </a:lnTo>
                <a:lnTo>
                  <a:pt x="465" y="2094"/>
                </a:lnTo>
                <a:lnTo>
                  <a:pt x="455" y="2136"/>
                </a:lnTo>
                <a:lnTo>
                  <a:pt x="413" y="2147"/>
                </a:lnTo>
                <a:lnTo>
                  <a:pt x="402" y="2189"/>
                </a:lnTo>
                <a:lnTo>
                  <a:pt x="371" y="2231"/>
                </a:lnTo>
                <a:lnTo>
                  <a:pt x="349" y="2273"/>
                </a:lnTo>
                <a:lnTo>
                  <a:pt x="318" y="2315"/>
                </a:lnTo>
                <a:lnTo>
                  <a:pt x="297" y="2347"/>
                </a:lnTo>
                <a:lnTo>
                  <a:pt x="265" y="2378"/>
                </a:lnTo>
                <a:lnTo>
                  <a:pt x="255" y="2420"/>
                </a:lnTo>
                <a:lnTo>
                  <a:pt x="223" y="2441"/>
                </a:lnTo>
                <a:lnTo>
                  <a:pt x="213" y="2494"/>
                </a:lnTo>
                <a:lnTo>
                  <a:pt x="171" y="2536"/>
                </a:lnTo>
                <a:lnTo>
                  <a:pt x="171" y="2568"/>
                </a:lnTo>
                <a:lnTo>
                  <a:pt x="139" y="2599"/>
                </a:lnTo>
                <a:lnTo>
                  <a:pt x="128" y="2641"/>
                </a:lnTo>
                <a:lnTo>
                  <a:pt x="118" y="2683"/>
                </a:lnTo>
                <a:lnTo>
                  <a:pt x="97" y="2715"/>
                </a:lnTo>
                <a:lnTo>
                  <a:pt x="76" y="2747"/>
                </a:lnTo>
                <a:lnTo>
                  <a:pt x="44" y="2820"/>
                </a:lnTo>
                <a:lnTo>
                  <a:pt x="34" y="2852"/>
                </a:lnTo>
                <a:lnTo>
                  <a:pt x="13" y="2894"/>
                </a:lnTo>
                <a:lnTo>
                  <a:pt x="0" y="29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62560" y="3636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13200" y="1231920"/>
            <a:ext cx="1803600" cy="3708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30760" y="153036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130040" y="2666880"/>
            <a:ext cx="665460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870080" y="5029200"/>
            <a:ext cx="6224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2040" y="503064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Dda.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87840" y="9921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Ofer.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0080" y="1143000"/>
            <a:ext cx="6224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4360" y="21351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Dda.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86600" y="1606680"/>
            <a:ext cx="0" cy="1054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44440" y="19065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Ofer.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159336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54640" y="49528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56440" y="4579920"/>
            <a:ext cx="291240" cy="7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626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6263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54880" y="4497480"/>
            <a:ext cx="1292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74720" y="1843200"/>
            <a:ext cx="3784320" cy="606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22640" y="1614600"/>
            <a:ext cx="3631680" cy="515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4548240" y="-23976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16560" y="259704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31200" y="61920"/>
            <a:ext cx="356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ja de Edgeworth-Bow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3481560" y="658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4167000" y="-2394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71600" y="442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7831440" y="37144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1724040"/>
            <a:ext cx="1373040" cy="1782720"/>
          </a:xfrm>
          <a:custGeom>
            <a:avLst/>
            <a:gdLst/>
            <a:ahLst/>
            <a:rect l="l" t="t" r="r" b="b"/>
            <a:pathLst>
              <a:path w="865" h="1123">
                <a:moveTo>
                  <a:pt x="0" y="18"/>
                </a:moveTo>
                <a:lnTo>
                  <a:pt x="40" y="0"/>
                </a:lnTo>
                <a:lnTo>
                  <a:pt x="71" y="32"/>
                </a:lnTo>
                <a:lnTo>
                  <a:pt x="61" y="74"/>
                </a:lnTo>
                <a:lnTo>
                  <a:pt x="61" y="106"/>
                </a:lnTo>
                <a:lnTo>
                  <a:pt x="40" y="148"/>
                </a:lnTo>
                <a:lnTo>
                  <a:pt x="82" y="148"/>
                </a:lnTo>
                <a:lnTo>
                  <a:pt x="124" y="137"/>
                </a:lnTo>
                <a:lnTo>
                  <a:pt x="166" y="137"/>
                </a:lnTo>
                <a:lnTo>
                  <a:pt x="208" y="116"/>
                </a:lnTo>
                <a:lnTo>
                  <a:pt x="240" y="116"/>
                </a:lnTo>
                <a:lnTo>
                  <a:pt x="240" y="114"/>
                </a:lnTo>
                <a:lnTo>
                  <a:pt x="48" y="306"/>
                </a:lnTo>
                <a:lnTo>
                  <a:pt x="432" y="258"/>
                </a:lnTo>
                <a:lnTo>
                  <a:pt x="144" y="498"/>
                </a:lnTo>
                <a:lnTo>
                  <a:pt x="576" y="450"/>
                </a:lnTo>
                <a:lnTo>
                  <a:pt x="240" y="642"/>
                </a:lnTo>
                <a:lnTo>
                  <a:pt x="672" y="642"/>
                </a:lnTo>
                <a:lnTo>
                  <a:pt x="336" y="834"/>
                </a:lnTo>
                <a:lnTo>
                  <a:pt x="768" y="834"/>
                </a:lnTo>
                <a:lnTo>
                  <a:pt x="528" y="1026"/>
                </a:lnTo>
                <a:lnTo>
                  <a:pt x="864" y="1026"/>
                </a:lnTo>
                <a:lnTo>
                  <a:pt x="768" y="1122"/>
                </a:lnTo>
                <a:lnTo>
                  <a:pt x="864" y="112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30760" y="153036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130040" y="160020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3392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33920" y="4428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9106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54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8680" y="351144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9160" y="198756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990720"/>
            <a:ext cx="6707160" cy="4649760"/>
          </a:xfrm>
          <a:custGeom>
            <a:avLst/>
            <a:gdLst/>
            <a:ahLst/>
            <a:rect l="l" t="t" r="r" b="b"/>
            <a:pathLst>
              <a:path w="4225" h="2929">
                <a:moveTo>
                  <a:pt x="4224" y="0"/>
                </a:moveTo>
                <a:lnTo>
                  <a:pt x="4192" y="20"/>
                </a:lnTo>
                <a:lnTo>
                  <a:pt x="4171" y="52"/>
                </a:lnTo>
                <a:lnTo>
                  <a:pt x="4139" y="83"/>
                </a:lnTo>
                <a:lnTo>
                  <a:pt x="4118" y="115"/>
                </a:lnTo>
                <a:lnTo>
                  <a:pt x="4107" y="157"/>
                </a:lnTo>
                <a:lnTo>
                  <a:pt x="4086" y="189"/>
                </a:lnTo>
                <a:lnTo>
                  <a:pt x="4044" y="220"/>
                </a:lnTo>
                <a:lnTo>
                  <a:pt x="4023" y="252"/>
                </a:lnTo>
                <a:lnTo>
                  <a:pt x="3992" y="294"/>
                </a:lnTo>
                <a:lnTo>
                  <a:pt x="3960" y="315"/>
                </a:lnTo>
                <a:lnTo>
                  <a:pt x="3949" y="357"/>
                </a:lnTo>
                <a:lnTo>
                  <a:pt x="3907" y="389"/>
                </a:lnTo>
                <a:lnTo>
                  <a:pt x="3876" y="431"/>
                </a:lnTo>
                <a:lnTo>
                  <a:pt x="3844" y="462"/>
                </a:lnTo>
                <a:lnTo>
                  <a:pt x="3802" y="483"/>
                </a:lnTo>
                <a:lnTo>
                  <a:pt x="3781" y="515"/>
                </a:lnTo>
                <a:lnTo>
                  <a:pt x="3749" y="525"/>
                </a:lnTo>
                <a:lnTo>
                  <a:pt x="3707" y="557"/>
                </a:lnTo>
                <a:lnTo>
                  <a:pt x="3665" y="578"/>
                </a:lnTo>
                <a:lnTo>
                  <a:pt x="3613" y="599"/>
                </a:lnTo>
                <a:lnTo>
                  <a:pt x="3581" y="620"/>
                </a:lnTo>
                <a:lnTo>
                  <a:pt x="3549" y="641"/>
                </a:lnTo>
                <a:lnTo>
                  <a:pt x="3507" y="673"/>
                </a:lnTo>
                <a:lnTo>
                  <a:pt x="3465" y="715"/>
                </a:lnTo>
                <a:lnTo>
                  <a:pt x="3434" y="747"/>
                </a:lnTo>
                <a:lnTo>
                  <a:pt x="3402" y="768"/>
                </a:lnTo>
                <a:lnTo>
                  <a:pt x="3349" y="778"/>
                </a:lnTo>
                <a:lnTo>
                  <a:pt x="3318" y="810"/>
                </a:lnTo>
                <a:lnTo>
                  <a:pt x="3276" y="820"/>
                </a:lnTo>
                <a:lnTo>
                  <a:pt x="3244" y="841"/>
                </a:lnTo>
                <a:lnTo>
                  <a:pt x="3213" y="873"/>
                </a:lnTo>
                <a:lnTo>
                  <a:pt x="3181" y="894"/>
                </a:lnTo>
                <a:lnTo>
                  <a:pt x="3149" y="904"/>
                </a:lnTo>
                <a:lnTo>
                  <a:pt x="3086" y="925"/>
                </a:lnTo>
                <a:lnTo>
                  <a:pt x="3034" y="947"/>
                </a:lnTo>
                <a:lnTo>
                  <a:pt x="3002" y="947"/>
                </a:lnTo>
                <a:lnTo>
                  <a:pt x="2960" y="968"/>
                </a:lnTo>
                <a:lnTo>
                  <a:pt x="2928" y="989"/>
                </a:lnTo>
                <a:lnTo>
                  <a:pt x="2886" y="1010"/>
                </a:lnTo>
                <a:lnTo>
                  <a:pt x="2844" y="1031"/>
                </a:lnTo>
                <a:lnTo>
                  <a:pt x="2802" y="1041"/>
                </a:lnTo>
                <a:lnTo>
                  <a:pt x="2760" y="1062"/>
                </a:lnTo>
                <a:lnTo>
                  <a:pt x="2707" y="1083"/>
                </a:lnTo>
                <a:lnTo>
                  <a:pt x="2665" y="1094"/>
                </a:lnTo>
                <a:lnTo>
                  <a:pt x="2623" y="1115"/>
                </a:lnTo>
                <a:lnTo>
                  <a:pt x="2581" y="1125"/>
                </a:lnTo>
                <a:lnTo>
                  <a:pt x="2549" y="1136"/>
                </a:lnTo>
                <a:lnTo>
                  <a:pt x="2581" y="1147"/>
                </a:lnTo>
                <a:lnTo>
                  <a:pt x="2549" y="1147"/>
                </a:lnTo>
                <a:lnTo>
                  <a:pt x="2507" y="1157"/>
                </a:lnTo>
                <a:lnTo>
                  <a:pt x="2465" y="1168"/>
                </a:lnTo>
                <a:lnTo>
                  <a:pt x="2423" y="1168"/>
                </a:lnTo>
                <a:lnTo>
                  <a:pt x="2360" y="1178"/>
                </a:lnTo>
                <a:lnTo>
                  <a:pt x="2307" y="1189"/>
                </a:lnTo>
                <a:lnTo>
                  <a:pt x="2265" y="1199"/>
                </a:lnTo>
                <a:lnTo>
                  <a:pt x="2223" y="1210"/>
                </a:lnTo>
                <a:lnTo>
                  <a:pt x="2149" y="1231"/>
                </a:lnTo>
                <a:lnTo>
                  <a:pt x="2107" y="1252"/>
                </a:lnTo>
                <a:lnTo>
                  <a:pt x="2065" y="1262"/>
                </a:lnTo>
                <a:lnTo>
                  <a:pt x="2013" y="1273"/>
                </a:lnTo>
                <a:lnTo>
                  <a:pt x="1971" y="1283"/>
                </a:lnTo>
                <a:lnTo>
                  <a:pt x="1939" y="1294"/>
                </a:lnTo>
                <a:lnTo>
                  <a:pt x="1907" y="1304"/>
                </a:lnTo>
                <a:lnTo>
                  <a:pt x="1844" y="1325"/>
                </a:lnTo>
                <a:lnTo>
                  <a:pt x="1792" y="1336"/>
                </a:lnTo>
                <a:lnTo>
                  <a:pt x="1760" y="1357"/>
                </a:lnTo>
                <a:lnTo>
                  <a:pt x="1728" y="1368"/>
                </a:lnTo>
                <a:lnTo>
                  <a:pt x="1686" y="1368"/>
                </a:lnTo>
                <a:lnTo>
                  <a:pt x="1644" y="1389"/>
                </a:lnTo>
                <a:lnTo>
                  <a:pt x="1602" y="1389"/>
                </a:lnTo>
                <a:lnTo>
                  <a:pt x="1560" y="1410"/>
                </a:lnTo>
                <a:lnTo>
                  <a:pt x="1518" y="1410"/>
                </a:lnTo>
                <a:lnTo>
                  <a:pt x="1476" y="1420"/>
                </a:lnTo>
                <a:lnTo>
                  <a:pt x="1444" y="1420"/>
                </a:lnTo>
                <a:lnTo>
                  <a:pt x="1402" y="1420"/>
                </a:lnTo>
                <a:lnTo>
                  <a:pt x="1360" y="1431"/>
                </a:lnTo>
                <a:lnTo>
                  <a:pt x="1318" y="1441"/>
                </a:lnTo>
                <a:lnTo>
                  <a:pt x="1286" y="1452"/>
                </a:lnTo>
                <a:lnTo>
                  <a:pt x="1244" y="1473"/>
                </a:lnTo>
                <a:lnTo>
                  <a:pt x="1192" y="1494"/>
                </a:lnTo>
                <a:lnTo>
                  <a:pt x="1139" y="1536"/>
                </a:lnTo>
                <a:lnTo>
                  <a:pt x="1097" y="1547"/>
                </a:lnTo>
                <a:lnTo>
                  <a:pt x="1065" y="1568"/>
                </a:lnTo>
                <a:lnTo>
                  <a:pt x="1023" y="1599"/>
                </a:lnTo>
                <a:lnTo>
                  <a:pt x="992" y="1631"/>
                </a:lnTo>
                <a:lnTo>
                  <a:pt x="981" y="1673"/>
                </a:lnTo>
                <a:lnTo>
                  <a:pt x="928" y="1683"/>
                </a:lnTo>
                <a:lnTo>
                  <a:pt x="886" y="1715"/>
                </a:lnTo>
                <a:lnTo>
                  <a:pt x="844" y="1736"/>
                </a:lnTo>
                <a:lnTo>
                  <a:pt x="813" y="1768"/>
                </a:lnTo>
                <a:lnTo>
                  <a:pt x="781" y="1778"/>
                </a:lnTo>
                <a:lnTo>
                  <a:pt x="739" y="1831"/>
                </a:lnTo>
                <a:lnTo>
                  <a:pt x="697" y="1831"/>
                </a:lnTo>
                <a:lnTo>
                  <a:pt x="665" y="1873"/>
                </a:lnTo>
                <a:lnTo>
                  <a:pt x="592" y="1915"/>
                </a:lnTo>
                <a:lnTo>
                  <a:pt x="560" y="1947"/>
                </a:lnTo>
                <a:lnTo>
                  <a:pt x="528" y="1978"/>
                </a:lnTo>
                <a:lnTo>
                  <a:pt x="518" y="2020"/>
                </a:lnTo>
                <a:lnTo>
                  <a:pt x="497" y="2073"/>
                </a:lnTo>
                <a:lnTo>
                  <a:pt x="465" y="2094"/>
                </a:lnTo>
                <a:lnTo>
                  <a:pt x="455" y="2136"/>
                </a:lnTo>
                <a:lnTo>
                  <a:pt x="413" y="2147"/>
                </a:lnTo>
                <a:lnTo>
                  <a:pt x="402" y="2189"/>
                </a:lnTo>
                <a:lnTo>
                  <a:pt x="371" y="2231"/>
                </a:lnTo>
                <a:lnTo>
                  <a:pt x="349" y="2273"/>
                </a:lnTo>
                <a:lnTo>
                  <a:pt x="318" y="2315"/>
                </a:lnTo>
                <a:lnTo>
                  <a:pt x="297" y="2347"/>
                </a:lnTo>
                <a:lnTo>
                  <a:pt x="265" y="2378"/>
                </a:lnTo>
                <a:lnTo>
                  <a:pt x="255" y="2420"/>
                </a:lnTo>
                <a:lnTo>
                  <a:pt x="223" y="2441"/>
                </a:lnTo>
                <a:lnTo>
                  <a:pt x="213" y="2494"/>
                </a:lnTo>
                <a:lnTo>
                  <a:pt x="171" y="2536"/>
                </a:lnTo>
                <a:lnTo>
                  <a:pt x="171" y="2568"/>
                </a:lnTo>
                <a:lnTo>
                  <a:pt x="139" y="2599"/>
                </a:lnTo>
                <a:lnTo>
                  <a:pt x="128" y="2641"/>
                </a:lnTo>
                <a:lnTo>
                  <a:pt x="118" y="2683"/>
                </a:lnTo>
                <a:lnTo>
                  <a:pt x="97" y="2715"/>
                </a:lnTo>
                <a:lnTo>
                  <a:pt x="76" y="2747"/>
                </a:lnTo>
                <a:lnTo>
                  <a:pt x="44" y="2820"/>
                </a:lnTo>
                <a:lnTo>
                  <a:pt x="34" y="2852"/>
                </a:lnTo>
                <a:lnTo>
                  <a:pt x="13" y="2894"/>
                </a:lnTo>
                <a:lnTo>
                  <a:pt x="0" y="29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62560" y="3636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36840" y="153828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4624560" y="-468360"/>
            <a:ext cx="424116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2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26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92880" y="252108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34320" y="5167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3786480" y="65520"/>
            <a:ext cx="454572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4548240" y="-31608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70160" y="44280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80400" y="577692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831800" y="371556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213120" y="22687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71400" y="97632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4320" y="50911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28600" y="51912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" y="600228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833240" y="21096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3786480" y="65520"/>
            <a:ext cx="454572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4548240" y="-31608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70160" y="44280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80400" y="577692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7755840" y="24199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213120" y="22687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1400" y="11286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834320" y="50911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28600" y="51912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" y="600228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833240" y="21096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627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130040" y="380988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95440" y="3567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10640" y="3567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43400" y="4428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04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2057400"/>
            <a:ext cx="1068480" cy="1754280"/>
          </a:xfrm>
          <a:custGeom>
            <a:avLst/>
            <a:gdLst/>
            <a:ahLst/>
            <a:rect l="l" t="t" r="r" b="b"/>
            <a:pathLst>
              <a:path w="673" h="1105">
                <a:moveTo>
                  <a:pt x="0" y="0"/>
                </a:moveTo>
                <a:lnTo>
                  <a:pt x="96" y="0"/>
                </a:lnTo>
                <a:lnTo>
                  <a:pt x="0" y="96"/>
                </a:lnTo>
                <a:lnTo>
                  <a:pt x="144" y="96"/>
                </a:lnTo>
                <a:lnTo>
                  <a:pt x="48" y="192"/>
                </a:lnTo>
                <a:lnTo>
                  <a:pt x="240" y="144"/>
                </a:lnTo>
                <a:lnTo>
                  <a:pt x="48" y="288"/>
                </a:lnTo>
                <a:lnTo>
                  <a:pt x="288" y="240"/>
                </a:lnTo>
                <a:lnTo>
                  <a:pt x="96" y="384"/>
                </a:lnTo>
                <a:lnTo>
                  <a:pt x="336" y="336"/>
                </a:lnTo>
                <a:lnTo>
                  <a:pt x="144" y="480"/>
                </a:lnTo>
                <a:lnTo>
                  <a:pt x="384" y="384"/>
                </a:lnTo>
                <a:lnTo>
                  <a:pt x="192" y="576"/>
                </a:lnTo>
                <a:lnTo>
                  <a:pt x="480" y="480"/>
                </a:lnTo>
                <a:lnTo>
                  <a:pt x="240" y="720"/>
                </a:lnTo>
                <a:lnTo>
                  <a:pt x="528" y="624"/>
                </a:lnTo>
                <a:lnTo>
                  <a:pt x="336" y="816"/>
                </a:lnTo>
                <a:lnTo>
                  <a:pt x="576" y="720"/>
                </a:lnTo>
                <a:lnTo>
                  <a:pt x="384" y="912"/>
                </a:lnTo>
                <a:lnTo>
                  <a:pt x="624" y="816"/>
                </a:lnTo>
                <a:lnTo>
                  <a:pt x="480" y="960"/>
                </a:lnTo>
                <a:lnTo>
                  <a:pt x="672" y="912"/>
                </a:lnTo>
                <a:lnTo>
                  <a:pt x="528" y="1056"/>
                </a:lnTo>
                <a:lnTo>
                  <a:pt x="672" y="1008"/>
                </a:lnTo>
                <a:lnTo>
                  <a:pt x="624" y="110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92880" y="374004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1:57:21Z</dcterms:created>
  <dc:creator>Marco Hauva</dc:creator>
  <dc:description/>
  <dc:language>en-US</dc:language>
  <cp:lastModifiedBy>Marco Hauva</cp:lastModifiedBy>
  <dcterms:modified xsi:type="dcterms:W3CDTF">2007-05-07T21:58:18Z</dcterms:modified>
  <cp:revision>1</cp:revision>
  <dc:subject/>
  <dc:title>Slide 1</dc:title>
</cp:coreProperties>
</file>