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0291-8AF4-4304-B798-67A98904D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BEA9-1F4E-4B0D-8D49-6E192C02A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771B-C589-44A8-99F3-87F52A1B3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9957-9C01-483A-AD19-5B5F910F2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AC8AE-E2F6-437A-B5D2-2F22DCB94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C6794-C153-4DB7-8AFA-9B0D240C5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3675C-9099-4E3C-9BC0-C9CF13E50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4FC3E-F589-4428-9076-C584A13B9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16073-34A5-4D98-983E-98BFC1AD6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EA314-4CDF-4603-AF02-13E19B09F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0B4C9-35F5-42B9-AF32-9AC23FCC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2E13-88FC-4B0B-9A64-8F62CE9CD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182BE-6A7F-43EE-A675-A6B29026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7BAA9-B99D-4AF4-8703-30C6EE00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96143-84C7-4A5B-ABA9-A35457D30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90586-42AF-431E-BE3A-D5909D670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8FBAB-1A3D-470E-8EE2-4D8CB93AE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961A-881A-42C5-8C4A-4C862C8EA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0266-07DA-4483-B142-4630FDBA1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E0CE-7863-469F-A6C9-DE950564F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3C17-913E-4F0B-9144-D70ED0247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0116-A81B-4AF8-ADB2-58FFB174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8E15-5B73-4B9F-A381-B9C11285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ED09-77D7-46F3-8592-85B308BE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9F3CD-F2CB-4DCC-AC21-309232345A2B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E04E8-F9DC-4880-8688-EAA6E557C75B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cedente del consumidor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600" y="1981080"/>
            <a:ext cx="0" cy="2971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14600" y="4952880"/>
            <a:ext cx="4038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62480" y="2518560"/>
            <a:ext cx="3180960" cy="2202120"/>
          </a:xfrm>
          <a:prstGeom prst="line">
            <a:avLst/>
          </a:prstGeom>
          <a:ln w="572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3280" y="49528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135160" y="18288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514600" y="304812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514600" y="3733920"/>
            <a:ext cx="1828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66040" y="274320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66040" y="342900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43400" y="3733920"/>
            <a:ext cx="0" cy="1143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99760" y="4952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32720" y="4979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15720" y="419112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3048120"/>
            <a:ext cx="1828800" cy="685800"/>
          </a:xfrm>
          <a:custGeom>
            <a:avLst/>
            <a:gdLst/>
            <a:ahLst/>
            <a:rect l="l" t="t" r="r" b="b"/>
            <a:pathLst>
              <a:path w="1152" h="432">
                <a:moveTo>
                  <a:pt x="0" y="0"/>
                </a:moveTo>
                <a:lnTo>
                  <a:pt x="528" y="0"/>
                </a:lnTo>
                <a:lnTo>
                  <a:pt x="1152" y="432"/>
                </a:lnTo>
                <a:lnTo>
                  <a:pt x="0" y="432"/>
                </a:lnTo>
                <a:lnTo>
                  <a:pt x="0" y="0"/>
                </a:lnTo>
                <a:close/>
              </a:path>
            </a:pathLst>
          </a:custGeom>
          <a:solidFill>
            <a:srgbClr val="a1bd6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3048120"/>
            <a:ext cx="0" cy="1904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45360" y="3276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30800" y="3276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503960" y="1822320"/>
            <a:ext cx="4144320" cy="516600"/>
            <a:chOff x="4503960" y="1822320"/>
            <a:chExt cx="4144320" cy="516600"/>
          </a:xfrm>
        </p:grpSpPr>
        <p:sp>
          <p:nvSpPr>
            <p:cNvPr id="133" name=""/>
            <p:cNvSpPr/>
            <p:nvPr/>
          </p:nvSpPr>
          <p:spPr>
            <a:xfrm>
              <a:off x="4503960" y="182880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029200" y="20574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723280" y="182880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24480" y="20574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861240" y="1822320"/>
              <a:ext cx="178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C = +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503960" y="2508120"/>
            <a:ext cx="4073040" cy="516600"/>
            <a:chOff x="4503960" y="2508120"/>
            <a:chExt cx="4073040" cy="516600"/>
          </a:xfrm>
        </p:grpSpPr>
        <p:sp>
          <p:nvSpPr>
            <p:cNvPr id="139" name=""/>
            <p:cNvSpPr/>
            <p:nvPr/>
          </p:nvSpPr>
          <p:spPr>
            <a:xfrm>
              <a:off x="4503960" y="251460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29200" y="27432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723280" y="251460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324480" y="27432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861600" y="2508120"/>
              <a:ext cx="171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C = -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1905120" y="304812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905120" y="297144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3352680" y="3276720"/>
            <a:ext cx="0" cy="190476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2895120" y="2787480"/>
            <a:ext cx="2042640" cy="96696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438280" y="2362320"/>
            <a:ext cx="0" cy="28191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438280" y="518148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059200" y="220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86200" y="3276720"/>
            <a:ext cx="0" cy="190476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421160" y="25146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78360" y="4191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987560" y="30481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5106960" y="1600200"/>
            <a:ext cx="3668400" cy="459720"/>
            <a:chOff x="5106960" y="1600200"/>
            <a:chExt cx="3668400" cy="459720"/>
          </a:xfrm>
        </p:grpSpPr>
        <p:sp>
          <p:nvSpPr>
            <p:cNvPr id="529" name=""/>
            <p:cNvSpPr/>
            <p:nvPr/>
          </p:nvSpPr>
          <p:spPr>
            <a:xfrm>
              <a:off x="5106960" y="16002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715000" y="16002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477120" y="1828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709320" y="1600200"/>
              <a:ext cx="20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P = + C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486400" y="1828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5106960" y="1981080"/>
            <a:ext cx="3571920" cy="466200"/>
            <a:chOff x="5106960" y="1981080"/>
            <a:chExt cx="3571920" cy="466200"/>
          </a:xfrm>
        </p:grpSpPr>
        <p:sp>
          <p:nvSpPr>
            <p:cNvPr id="535" name=""/>
            <p:cNvSpPr/>
            <p:nvPr/>
          </p:nvSpPr>
          <p:spPr>
            <a:xfrm>
              <a:off x="5106960" y="19875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721840" y="1987560"/>
              <a:ext cx="77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477120" y="22161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708960" y="1981080"/>
              <a:ext cx="196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F  = - D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486400" y="22161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6860880" y="2971800"/>
            <a:ext cx="16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 = - B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934320" y="289548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87480" y="51055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438280" y="3276720"/>
            <a:ext cx="14479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2362320" y="2971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343400" y="5181480"/>
            <a:ext cx="662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583800" y="449568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600200" y="2743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438280" y="2971800"/>
            <a:ext cx="21337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572000" y="2971800"/>
            <a:ext cx="0" cy="220968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048120" y="45720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438280" y="2971800"/>
            <a:ext cx="2133720" cy="304920"/>
          </a:xfrm>
          <a:custGeom>
            <a:avLst/>
            <a:gdLst/>
            <a:ahLst/>
            <a:rect l="l" t="t" r="r" b="b"/>
            <a:pathLst>
              <a:path w="768" h="480">
                <a:moveTo>
                  <a:pt x="0" y="0"/>
                </a:moveTo>
                <a:lnTo>
                  <a:pt x="768" y="0"/>
                </a:lnTo>
                <a:lnTo>
                  <a:pt x="528" y="480"/>
                </a:lnTo>
                <a:lnTo>
                  <a:pt x="0" y="480"/>
                </a:lnTo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438280" y="2971800"/>
            <a:ext cx="2133720" cy="304920"/>
          </a:xfrm>
          <a:custGeom>
            <a:avLst/>
            <a:gdLst/>
            <a:ahLst/>
            <a:rect l="l" t="t" r="r" b="b"/>
            <a:pathLst>
              <a:path w="1344" h="192">
                <a:moveTo>
                  <a:pt x="0" y="0"/>
                </a:moveTo>
                <a:lnTo>
                  <a:pt x="1344" y="0"/>
                </a:lnTo>
                <a:lnTo>
                  <a:pt x="1344" y="19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438280" y="2971800"/>
            <a:ext cx="2133720" cy="304920"/>
          </a:xfrm>
          <a:custGeom>
            <a:avLst/>
            <a:gdLst/>
            <a:ahLst/>
            <a:rect l="l" t="t" r="r" b="b"/>
            <a:pathLst>
              <a:path w="1344" h="192">
                <a:moveTo>
                  <a:pt x="0" y="0"/>
                </a:moveTo>
                <a:lnTo>
                  <a:pt x="0" y="192"/>
                </a:lnTo>
                <a:lnTo>
                  <a:pt x="1344" y="192"/>
                </a:lnTo>
                <a:lnTo>
                  <a:pt x="134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4343400" y="3124080"/>
            <a:ext cx="76320" cy="7632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505320" y="2971800"/>
            <a:ext cx="75960" cy="22860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739320" y="5181480"/>
            <a:ext cx="43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438280" y="2971800"/>
            <a:ext cx="914400" cy="304920"/>
          </a:xfrm>
          <a:custGeom>
            <a:avLst/>
            <a:gdLst/>
            <a:ahLst/>
            <a:rect l="l" t="t" r="r" b="b"/>
            <a:pathLst>
              <a:path w="576" h="192">
                <a:moveTo>
                  <a:pt x="0" y="0"/>
                </a:moveTo>
                <a:lnTo>
                  <a:pt x="0" y="192"/>
                </a:lnTo>
                <a:lnTo>
                  <a:pt x="576" y="192"/>
                </a:lnTo>
                <a:lnTo>
                  <a:pt x="38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666880" y="3124080"/>
            <a:ext cx="76320" cy="7632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824920" y="5181480"/>
            <a:ext cx="43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3048120" y="4952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5106960" y="2438280"/>
            <a:ext cx="3410640" cy="459720"/>
            <a:chOff x="5106960" y="2438280"/>
            <a:chExt cx="3410640" cy="459720"/>
          </a:xfrm>
        </p:grpSpPr>
        <p:sp>
          <p:nvSpPr>
            <p:cNvPr id="562" name=""/>
            <p:cNvSpPr/>
            <p:nvPr/>
          </p:nvSpPr>
          <p:spPr>
            <a:xfrm>
              <a:off x="5106960" y="24382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000" y="24382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477120" y="26668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709320" y="2438280"/>
              <a:ext cx="180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C = - C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486400" y="2666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3048120" y="2971800"/>
            <a:ext cx="0" cy="220968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3124080" y="3124080"/>
            <a:ext cx="76320" cy="7632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833200" y="2799360"/>
            <a:ext cx="2102760" cy="178956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Variación de Excedentes 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Comercio Internacional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Subsidio a las exportaciones, sin importaciones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3048120" y="2971800"/>
            <a:ext cx="0" cy="220968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352680" y="3276720"/>
            <a:ext cx="0" cy="190476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2907720" y="2792160"/>
            <a:ext cx="2042640" cy="96660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438280" y="2362320"/>
            <a:ext cx="0" cy="28191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438280" y="518148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059200" y="220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886200" y="3276720"/>
            <a:ext cx="0" cy="190476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141720" y="5181480"/>
            <a:ext cx="636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/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421160" y="25146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878360" y="4191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987560" y="2666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5030640" y="1905120"/>
            <a:ext cx="3262320" cy="459720"/>
            <a:chOff x="5030640" y="1905120"/>
            <a:chExt cx="3262320" cy="459720"/>
          </a:xfrm>
        </p:grpSpPr>
        <p:sp>
          <p:nvSpPr>
            <p:cNvPr id="583" name=""/>
            <p:cNvSpPr/>
            <p:nvPr/>
          </p:nvSpPr>
          <p:spPr>
            <a:xfrm>
              <a:off x="5030640" y="19051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638680" y="19051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400800" y="21337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632640" y="1905120"/>
              <a:ext cx="166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C = +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410080" y="21337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5030640" y="1523880"/>
            <a:ext cx="3203280" cy="466200"/>
            <a:chOff x="5030640" y="1523880"/>
            <a:chExt cx="3203280" cy="466200"/>
          </a:xfrm>
        </p:grpSpPr>
        <p:sp>
          <p:nvSpPr>
            <p:cNvPr id="589" name=""/>
            <p:cNvSpPr/>
            <p:nvPr/>
          </p:nvSpPr>
          <p:spPr>
            <a:xfrm>
              <a:off x="5030640" y="15303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645520" y="1530360"/>
              <a:ext cx="74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400800" y="17589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631200" y="1523880"/>
              <a:ext cx="160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F  = +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410080" y="17589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4" name=""/>
          <p:cNvSpPr/>
          <p:nvPr/>
        </p:nvSpPr>
        <p:spPr>
          <a:xfrm>
            <a:off x="7089840" y="2895480"/>
            <a:ext cx="16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 = - 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934320" y="281952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487480" y="51055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438280" y="3276720"/>
            <a:ext cx="14479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2362320" y="2971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343400" y="5181480"/>
            <a:ext cx="66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354480" y="40384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600200" y="2971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438280" y="2971800"/>
            <a:ext cx="21337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572000" y="2971800"/>
            <a:ext cx="0" cy="220968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352680" y="4572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438280" y="2971800"/>
            <a:ext cx="2133720" cy="304920"/>
          </a:xfrm>
          <a:custGeom>
            <a:avLst/>
            <a:gdLst/>
            <a:ahLst/>
            <a:rect l="l" t="t" r="r" b="b"/>
            <a:pathLst>
              <a:path w="1344" h="192">
                <a:moveTo>
                  <a:pt x="0" y="0"/>
                </a:moveTo>
                <a:lnTo>
                  <a:pt x="1344" y="0"/>
                </a:lnTo>
                <a:lnTo>
                  <a:pt x="1344" y="19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438280" y="2971800"/>
            <a:ext cx="2133720" cy="304920"/>
          </a:xfrm>
          <a:custGeom>
            <a:avLst/>
            <a:gdLst/>
            <a:ahLst/>
            <a:rect l="l" t="t" r="r" b="b"/>
            <a:pathLst>
              <a:path w="768" h="480">
                <a:moveTo>
                  <a:pt x="0" y="0"/>
                </a:moveTo>
                <a:lnTo>
                  <a:pt x="768" y="0"/>
                </a:lnTo>
                <a:lnTo>
                  <a:pt x="528" y="480"/>
                </a:lnTo>
                <a:lnTo>
                  <a:pt x="0" y="480"/>
                </a:lnTo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352680" y="2971800"/>
            <a:ext cx="533520" cy="304920"/>
          </a:xfrm>
          <a:custGeom>
            <a:avLst/>
            <a:gdLst/>
            <a:ahLst/>
            <a:rect l="l" t="t" r="r" b="b"/>
            <a:pathLst>
              <a:path w="1344" h="192">
                <a:moveTo>
                  <a:pt x="0" y="0"/>
                </a:moveTo>
                <a:lnTo>
                  <a:pt x="0" y="192"/>
                </a:lnTo>
                <a:lnTo>
                  <a:pt x="1344" y="192"/>
                </a:lnTo>
                <a:lnTo>
                  <a:pt x="134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3504600" y="3048120"/>
            <a:ext cx="75960" cy="7596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962520" y="2971800"/>
            <a:ext cx="75960" cy="22860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753000" y="5181480"/>
            <a:ext cx="669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/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Variación de Excedentes 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Comercio Internacional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Impuesto a las Exportaciones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748600" y="5181480"/>
            <a:ext cx="43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438280" y="2971800"/>
            <a:ext cx="914400" cy="304920"/>
          </a:xfrm>
          <a:custGeom>
            <a:avLst/>
            <a:gdLst/>
            <a:ahLst/>
            <a:rect l="l" t="t" r="r" b="b"/>
            <a:pathLst>
              <a:path w="576" h="192">
                <a:moveTo>
                  <a:pt x="0" y="0"/>
                </a:moveTo>
                <a:lnTo>
                  <a:pt x="0" y="192"/>
                </a:lnTo>
                <a:lnTo>
                  <a:pt x="576" y="192"/>
                </a:lnTo>
                <a:lnTo>
                  <a:pt x="384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666880" y="2971800"/>
            <a:ext cx="76320" cy="22860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200400" y="2971800"/>
            <a:ext cx="76320" cy="15228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5030640" y="2286000"/>
            <a:ext cx="3799800" cy="459720"/>
            <a:chOff x="5030640" y="2286000"/>
            <a:chExt cx="3799800" cy="459720"/>
          </a:xfrm>
        </p:grpSpPr>
        <p:sp>
          <p:nvSpPr>
            <p:cNvPr id="617" name=""/>
            <p:cNvSpPr/>
            <p:nvPr/>
          </p:nvSpPr>
          <p:spPr>
            <a:xfrm>
              <a:off x="5030640" y="22860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638680" y="22860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400800" y="25146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633360" y="2286000"/>
              <a:ext cx="21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P = - CDB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410080" y="25146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>
            <a:off x="2833200" y="2799360"/>
            <a:ext cx="2102760" cy="178956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H="1">
            <a:off x="396216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048120" y="50292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5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0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5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7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3048120" y="2971800"/>
            <a:ext cx="0" cy="220968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352680" y="3276720"/>
            <a:ext cx="0" cy="190476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2907720" y="2792160"/>
            <a:ext cx="2042640" cy="96660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411280" y="2205000"/>
            <a:ext cx="27000" cy="29764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438280" y="518148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053080" y="2060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138840" y="5181480"/>
            <a:ext cx="604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421160" y="25146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878360" y="4191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987560" y="2666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5030640" y="1905120"/>
            <a:ext cx="3262320" cy="459720"/>
            <a:chOff x="5030640" y="1905120"/>
            <a:chExt cx="3262320" cy="459720"/>
          </a:xfrm>
        </p:grpSpPr>
        <p:sp>
          <p:nvSpPr>
            <p:cNvPr id="636" name=""/>
            <p:cNvSpPr/>
            <p:nvPr/>
          </p:nvSpPr>
          <p:spPr>
            <a:xfrm>
              <a:off x="5030640" y="19051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638680" y="19051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400800" y="21337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632640" y="1905120"/>
              <a:ext cx="166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C = +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410080" y="21337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1" name=""/>
          <p:cNvGrpSpPr/>
          <p:nvPr/>
        </p:nvGrpSpPr>
        <p:grpSpPr>
          <a:xfrm>
            <a:off x="5078160" y="2276640"/>
            <a:ext cx="3351600" cy="465840"/>
            <a:chOff x="5078160" y="2276640"/>
            <a:chExt cx="3351600" cy="465840"/>
          </a:xfrm>
        </p:grpSpPr>
        <p:sp>
          <p:nvSpPr>
            <p:cNvPr id="642" name=""/>
            <p:cNvSpPr/>
            <p:nvPr/>
          </p:nvSpPr>
          <p:spPr>
            <a:xfrm>
              <a:off x="5078160" y="22827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693040" y="228276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448320" y="25113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679440" y="2276640"/>
              <a:ext cx="175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F  = - 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457600" y="25113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7" name=""/>
          <p:cNvSpPr/>
          <p:nvPr/>
        </p:nvSpPr>
        <p:spPr>
          <a:xfrm>
            <a:off x="6806160" y="285264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 = -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934320" y="281952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487480" y="51055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438280" y="3276720"/>
            <a:ext cx="981360" cy="79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2362320" y="2971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343400" y="5181480"/>
            <a:ext cx="66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637080" y="41497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600200" y="2971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38280" y="2971800"/>
            <a:ext cx="21337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572000" y="2971800"/>
            <a:ext cx="0" cy="220968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352680" y="4572000"/>
            <a:ext cx="1219320" cy="9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438280" y="2971800"/>
            <a:ext cx="2133720" cy="304920"/>
          </a:xfrm>
          <a:custGeom>
            <a:avLst/>
            <a:gdLst/>
            <a:ahLst/>
            <a:rect l="l" t="t" r="r" b="b"/>
            <a:pathLst>
              <a:path w="1344" h="192">
                <a:moveTo>
                  <a:pt x="0" y="0"/>
                </a:moveTo>
                <a:lnTo>
                  <a:pt x="1344" y="0"/>
                </a:lnTo>
                <a:lnTo>
                  <a:pt x="1344" y="19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Variación de Excedentes 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Comercio Internacional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Subsidio al consumo de origen local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748600" y="5181480"/>
            <a:ext cx="43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438280" y="2971800"/>
            <a:ext cx="914400" cy="304920"/>
          </a:xfrm>
          <a:custGeom>
            <a:avLst/>
            <a:gdLst/>
            <a:ahLst/>
            <a:rect l="l" t="t" r="r" b="b"/>
            <a:pathLst>
              <a:path w="576" h="192">
                <a:moveTo>
                  <a:pt x="0" y="0"/>
                </a:moveTo>
                <a:lnTo>
                  <a:pt x="0" y="192"/>
                </a:lnTo>
                <a:lnTo>
                  <a:pt x="576" y="192"/>
                </a:lnTo>
                <a:lnTo>
                  <a:pt x="384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666880" y="2971800"/>
            <a:ext cx="76320" cy="22860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833200" y="2799360"/>
            <a:ext cx="2102760" cy="178956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048120" y="50292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200400" y="2971800"/>
            <a:ext cx="76320" cy="15228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411280" y="2971800"/>
            <a:ext cx="936720" cy="304920"/>
          </a:xfrm>
          <a:custGeom>
            <a:avLst/>
            <a:gdLst/>
            <a:ahLst/>
            <a:rect l="l" t="t" r="r" b="b"/>
            <a:pathLst>
              <a:path w="1344" h="192">
                <a:moveTo>
                  <a:pt x="0" y="0"/>
                </a:moveTo>
                <a:lnTo>
                  <a:pt x="0" y="192"/>
                </a:lnTo>
                <a:lnTo>
                  <a:pt x="1344" y="192"/>
                </a:lnTo>
                <a:lnTo>
                  <a:pt x="134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2" dur="2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2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2" dur="2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2" dur="2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2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514600" y="3657600"/>
            <a:ext cx="2666880" cy="685800"/>
          </a:xfrm>
          <a:custGeom>
            <a:avLst/>
            <a:gdLst/>
            <a:ahLst/>
            <a:rect l="l" t="t" r="r" b="b"/>
            <a:pathLst>
              <a:path w="1680" h="432">
                <a:moveTo>
                  <a:pt x="0" y="0"/>
                </a:moveTo>
                <a:lnTo>
                  <a:pt x="1680" y="0"/>
                </a:lnTo>
                <a:lnTo>
                  <a:pt x="1152" y="432"/>
                </a:lnTo>
                <a:lnTo>
                  <a:pt x="0" y="432"/>
                </a:lnTo>
                <a:lnTo>
                  <a:pt x="0" y="0"/>
                </a:lnTo>
                <a:close/>
              </a:path>
            </a:pathLst>
          </a:custGeom>
          <a:solidFill>
            <a:srgbClr val="a1bd6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cedente del productor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14600" y="2590920"/>
            <a:ext cx="0" cy="2971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5562720"/>
            <a:ext cx="4038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302640" y="3263760"/>
            <a:ext cx="2295000" cy="1943280"/>
          </a:xfrm>
          <a:prstGeom prst="line">
            <a:avLst/>
          </a:prstGeom>
          <a:ln w="572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73280" y="5562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35160" y="2438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514600" y="3657600"/>
            <a:ext cx="2666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514600" y="4343400"/>
            <a:ext cx="1828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66040" y="335268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66040" y="403848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343400" y="434340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61520" y="556272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23440" y="556272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10800" y="34290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e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3657600"/>
            <a:ext cx="0" cy="19051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54840" y="3733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3360960" y="1523880"/>
            <a:ext cx="3835800" cy="516600"/>
            <a:chOff x="3360960" y="1523880"/>
            <a:chExt cx="3835800" cy="516600"/>
          </a:xfrm>
        </p:grpSpPr>
        <p:sp>
          <p:nvSpPr>
            <p:cNvPr id="164" name=""/>
            <p:cNvSpPr/>
            <p:nvPr/>
          </p:nvSpPr>
          <p:spPr>
            <a:xfrm>
              <a:off x="3360960" y="153036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86200" y="17589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80280" y="153036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181480" y="1758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17520" y="1523880"/>
              <a:ext cx="147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P = -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3360960" y="2209680"/>
            <a:ext cx="3907440" cy="516600"/>
            <a:chOff x="3360960" y="2209680"/>
            <a:chExt cx="3907440" cy="516600"/>
          </a:xfrm>
        </p:grpSpPr>
        <p:sp>
          <p:nvSpPr>
            <p:cNvPr id="170" name=""/>
            <p:cNvSpPr/>
            <p:nvPr/>
          </p:nvSpPr>
          <p:spPr>
            <a:xfrm>
              <a:off x="3360960" y="221616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886200" y="24447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80280" y="221616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181480" y="2444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17520" y="2209680"/>
              <a:ext cx="155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P = +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1905120" y="36576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905120" y="365724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438280" y="3276720"/>
            <a:ext cx="1828800" cy="609480"/>
          </a:xfrm>
          <a:custGeom>
            <a:avLst/>
            <a:gdLst/>
            <a:ahLst/>
            <a:rect l="l" t="t" r="r" b="b"/>
            <a:pathLst>
              <a:path w="1152" h="384">
                <a:moveTo>
                  <a:pt x="0" y="384"/>
                </a:moveTo>
                <a:lnTo>
                  <a:pt x="1152" y="384"/>
                </a:lnTo>
                <a:lnTo>
                  <a:pt x="528" y="0"/>
                </a:lnTo>
                <a:lnTo>
                  <a:pt x="0" y="0"/>
                </a:lnTo>
                <a:lnTo>
                  <a:pt x="0" y="384"/>
                </a:lnTo>
                <a:close/>
              </a:path>
            </a:pathLst>
          </a:cu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438280" y="3886200"/>
            <a:ext cx="1828800" cy="457200"/>
          </a:xfrm>
          <a:custGeom>
            <a:avLst/>
            <a:gdLst/>
            <a:ahLst/>
            <a:rect l="l" t="t" r="r" b="b"/>
            <a:pathLst>
              <a:path w="1152" h="288">
                <a:moveTo>
                  <a:pt x="0" y="0"/>
                </a:moveTo>
                <a:lnTo>
                  <a:pt x="1152" y="0"/>
                </a:lnTo>
                <a:lnTo>
                  <a:pt x="528" y="288"/>
                </a:lnTo>
                <a:lnTo>
                  <a:pt x="0" y="288"/>
                </a:lnTo>
                <a:lnTo>
                  <a:pt x="0" y="0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438280" y="3886200"/>
            <a:ext cx="838440" cy="457200"/>
          </a:xfrm>
          <a:custGeom>
            <a:avLst/>
            <a:gdLst/>
            <a:ahLst/>
            <a:rect l="l" t="t" r="r" b="b"/>
            <a:pathLst>
              <a:path w="528" h="288">
                <a:moveTo>
                  <a:pt x="0" y="0"/>
                </a:moveTo>
                <a:lnTo>
                  <a:pt x="528" y="0"/>
                </a:lnTo>
                <a:lnTo>
                  <a:pt x="528" y="288"/>
                </a:lnTo>
                <a:lnTo>
                  <a:pt x="0" y="288"/>
                </a:lnTo>
                <a:lnTo>
                  <a:pt x="0" y="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438280" y="3276720"/>
            <a:ext cx="838440" cy="609480"/>
          </a:xfrm>
          <a:custGeom>
            <a:avLst/>
            <a:gdLst/>
            <a:ahLst/>
            <a:rect l="l" t="t" r="r" b="b"/>
            <a:pathLst>
              <a:path w="528" h="384">
                <a:moveTo>
                  <a:pt x="0" y="0"/>
                </a:moveTo>
                <a:lnTo>
                  <a:pt x="528" y="0"/>
                </a:lnTo>
                <a:lnTo>
                  <a:pt x="528" y="384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666880" y="3352680"/>
            <a:ext cx="381240" cy="45972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Variación de Excedentes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br>
              <a:rPr sz="4400"/>
            </a:br>
            <a:r>
              <a:rPr b="1" i="1" lang="en-US" sz="3600" spc="-1" strike="noStrike">
                <a:solidFill>
                  <a:srgbClr val="221304"/>
                </a:solidFill>
                <a:latin typeface="Times New Roman"/>
              </a:rPr>
              <a:t>Impuesto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38280" y="2362320"/>
            <a:ext cx="0" cy="28191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438280" y="518148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19520" y="2971800"/>
            <a:ext cx="2286000" cy="144792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971800" y="3428640"/>
            <a:ext cx="2209680" cy="106668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59200" y="220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2437920" y="3276720"/>
            <a:ext cx="8384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2362320" y="43434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62800" y="2971800"/>
            <a:ext cx="3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062800" y="4114800"/>
            <a:ext cx="3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267080" y="3962520"/>
            <a:ext cx="0" cy="12189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116240" y="5181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76720" y="4343400"/>
            <a:ext cx="0" cy="83808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985480" y="5181480"/>
            <a:ext cx="561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/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726080" y="32004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30640" y="4038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62800" y="4114800"/>
            <a:ext cx="3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58840" y="36576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2437920" y="388620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5411880" y="1523880"/>
            <a:ext cx="3165120" cy="466200"/>
            <a:chOff x="5411880" y="1523880"/>
            <a:chExt cx="3165120" cy="466200"/>
          </a:xfrm>
        </p:grpSpPr>
        <p:sp>
          <p:nvSpPr>
            <p:cNvPr id="202" name=""/>
            <p:cNvSpPr/>
            <p:nvPr/>
          </p:nvSpPr>
          <p:spPr>
            <a:xfrm>
              <a:off x="5411880" y="15303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028200" y="1523880"/>
              <a:ext cx="46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477120" y="17524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861600" y="1523880"/>
              <a:ext cx="171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C = -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91320" y="1752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411880" y="1981080"/>
            <a:ext cx="2915280" cy="466200"/>
            <a:chOff x="5411880" y="1981080"/>
            <a:chExt cx="2915280" cy="466200"/>
          </a:xfrm>
        </p:grpSpPr>
        <p:sp>
          <p:nvSpPr>
            <p:cNvPr id="208" name=""/>
            <p:cNvSpPr/>
            <p:nvPr/>
          </p:nvSpPr>
          <p:spPr>
            <a:xfrm>
              <a:off x="5411880" y="19875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028200" y="1981080"/>
              <a:ext cx="46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477120" y="22096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707880" y="1981080"/>
              <a:ext cx="161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F = +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791320" y="2209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411880" y="2362320"/>
            <a:ext cx="3224160" cy="465840"/>
            <a:chOff x="5411880" y="2362320"/>
            <a:chExt cx="3224160" cy="465840"/>
          </a:xfrm>
        </p:grpSpPr>
        <p:sp>
          <p:nvSpPr>
            <p:cNvPr id="214" name=""/>
            <p:cNvSpPr/>
            <p:nvPr/>
          </p:nvSpPr>
          <p:spPr>
            <a:xfrm>
              <a:off x="5411880" y="236844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027840" y="2362320"/>
              <a:ext cx="45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477120" y="25909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861240" y="2362320"/>
              <a:ext cx="177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P = - C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791320" y="25909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477120" y="25909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791320" y="25909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5411880" y="2743200"/>
            <a:ext cx="2991240" cy="466200"/>
            <a:chOff x="5411880" y="2743200"/>
            <a:chExt cx="2991240" cy="466200"/>
          </a:xfrm>
        </p:grpSpPr>
        <p:sp>
          <p:nvSpPr>
            <p:cNvPr id="222" name=""/>
            <p:cNvSpPr/>
            <p:nvPr/>
          </p:nvSpPr>
          <p:spPr>
            <a:xfrm>
              <a:off x="5411880" y="27496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027840" y="2743200"/>
              <a:ext cx="45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477120" y="2971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860160" y="2743200"/>
              <a:ext cx="154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F = +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791320" y="2971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6860880" y="3124080"/>
            <a:ext cx="16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 = - B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934320" y="320040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87480" y="51814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276720" y="3276720"/>
            <a:ext cx="0" cy="106668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666880" y="3886200"/>
            <a:ext cx="381240" cy="45972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76720" y="3962520"/>
            <a:ext cx="152280" cy="30456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3429000"/>
            <a:ext cx="304560" cy="45720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236232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36232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 flipH="1">
            <a:off x="2438280" y="3886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267080" y="3962520"/>
            <a:ext cx="0" cy="12189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836880" y="2729160"/>
            <a:ext cx="1013040" cy="208476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832480" y="2952000"/>
            <a:ext cx="2260080" cy="148752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438280" y="3276720"/>
            <a:ext cx="2133720" cy="838080"/>
          </a:xfrm>
          <a:custGeom>
            <a:avLst/>
            <a:gdLst/>
            <a:ahLst/>
            <a:rect l="l" t="t" r="r" b="b"/>
            <a:pathLst>
              <a:path w="1344" h="528">
                <a:moveTo>
                  <a:pt x="0" y="0"/>
                </a:moveTo>
                <a:lnTo>
                  <a:pt x="1344" y="0"/>
                </a:lnTo>
                <a:lnTo>
                  <a:pt x="1344" y="528"/>
                </a:lnTo>
                <a:lnTo>
                  <a:pt x="0" y="528"/>
                </a:lnTo>
                <a:lnTo>
                  <a:pt x="0" y="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438280" y="3276720"/>
            <a:ext cx="2133720" cy="609480"/>
          </a:xfrm>
          <a:custGeom>
            <a:avLst/>
            <a:gdLst/>
            <a:ahLst/>
            <a:rect l="l" t="t" r="r" b="b"/>
            <a:pathLst>
              <a:path w="1344" h="384">
                <a:moveTo>
                  <a:pt x="0" y="0"/>
                </a:moveTo>
                <a:lnTo>
                  <a:pt x="1344" y="0"/>
                </a:lnTo>
                <a:lnTo>
                  <a:pt x="1152" y="384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352680" y="3352680"/>
            <a:ext cx="381240" cy="45972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Variación de Excedentes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br>
              <a:rPr sz="4400"/>
            </a:br>
            <a:r>
              <a:rPr b="1" i="1" lang="en-US" sz="3600" spc="-1" strike="noStrike">
                <a:solidFill>
                  <a:srgbClr val="221304"/>
                </a:solidFill>
                <a:latin typeface="Times New Roman"/>
              </a:rPr>
              <a:t>Subsidio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438280" y="2362320"/>
            <a:ext cx="0" cy="28191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438280" y="518148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059200" y="220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2437920" y="3276720"/>
            <a:ext cx="21337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437920" y="4114800"/>
            <a:ext cx="21337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062800" y="2971800"/>
            <a:ext cx="3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062800" y="4114800"/>
            <a:ext cx="3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116240" y="5181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0" y="4114800"/>
            <a:ext cx="0" cy="106668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432320" y="5181480"/>
            <a:ext cx="554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21160" y="25146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030640" y="4038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062800" y="4114800"/>
            <a:ext cx="3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8840" y="36576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5411880" y="2590920"/>
            <a:ext cx="3109680" cy="465840"/>
            <a:chOff x="5411880" y="2590920"/>
            <a:chExt cx="3109680" cy="465840"/>
          </a:xfrm>
        </p:grpSpPr>
        <p:sp>
          <p:nvSpPr>
            <p:cNvPr id="259" name=""/>
            <p:cNvSpPr/>
            <p:nvPr/>
          </p:nvSpPr>
          <p:spPr>
            <a:xfrm>
              <a:off x="5411880" y="259704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028200" y="2590920"/>
              <a:ext cx="46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477120" y="28191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861240" y="2590920"/>
              <a:ext cx="166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C = +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791320" y="28191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5411880" y="2057400"/>
            <a:ext cx="3151800" cy="465840"/>
            <a:chOff x="5411880" y="2057400"/>
            <a:chExt cx="3151800" cy="465840"/>
          </a:xfrm>
        </p:grpSpPr>
        <p:sp>
          <p:nvSpPr>
            <p:cNvPr id="265" name=""/>
            <p:cNvSpPr/>
            <p:nvPr/>
          </p:nvSpPr>
          <p:spPr>
            <a:xfrm>
              <a:off x="5411880" y="20635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027840" y="2057400"/>
              <a:ext cx="45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477120" y="22860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860520" y="2057400"/>
              <a:ext cx="170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P = + 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791320" y="2286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477120" y="22860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791320" y="2286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5410080" y="1676520"/>
            <a:ext cx="2273760" cy="459720"/>
            <a:chOff x="5410080" y="1676520"/>
            <a:chExt cx="2273760" cy="459720"/>
          </a:xfrm>
        </p:grpSpPr>
        <p:sp>
          <p:nvSpPr>
            <p:cNvPr id="273" name=""/>
            <p:cNvSpPr/>
            <p:nvPr/>
          </p:nvSpPr>
          <p:spPr>
            <a:xfrm>
              <a:off x="5410080" y="16765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o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 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553080" y="19051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936120" y="1676520"/>
              <a:ext cx="74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7012440" y="31240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 = -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934320" y="320040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87480" y="51055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0" y="3276720"/>
            <a:ext cx="0" cy="83808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343400" y="3733920"/>
            <a:ext cx="76320" cy="22860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236232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6232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438280" y="3886200"/>
            <a:ext cx="2133720" cy="228600"/>
          </a:xfrm>
          <a:custGeom>
            <a:avLst/>
            <a:gdLst/>
            <a:ahLst/>
            <a:rect l="l" t="t" r="r" b="b"/>
            <a:pathLst>
              <a:path w="1344" h="144">
                <a:moveTo>
                  <a:pt x="0" y="0"/>
                </a:moveTo>
                <a:lnTo>
                  <a:pt x="1152" y="0"/>
                </a:lnTo>
                <a:lnTo>
                  <a:pt x="1344" y="144"/>
                </a:lnTo>
                <a:lnTo>
                  <a:pt x="0" y="144"/>
                </a:lnTo>
                <a:lnTo>
                  <a:pt x="0" y="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352680" y="3886200"/>
            <a:ext cx="76320" cy="22860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622640" y="1676520"/>
            <a:ext cx="11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-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3657600" y="3505320"/>
            <a:ext cx="0" cy="16761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438280" y="3505320"/>
            <a:ext cx="2362320" cy="761760"/>
          </a:xfrm>
          <a:custGeom>
            <a:avLst/>
            <a:gdLst/>
            <a:ahLst/>
            <a:rect l="l" t="t" r="r" b="b"/>
            <a:pathLst>
              <a:path w="1488" h="480">
                <a:moveTo>
                  <a:pt x="0" y="0"/>
                </a:moveTo>
                <a:lnTo>
                  <a:pt x="768" y="0"/>
                </a:lnTo>
                <a:lnTo>
                  <a:pt x="1488" y="480"/>
                </a:lnTo>
                <a:lnTo>
                  <a:pt x="0" y="480"/>
                </a:lnTo>
                <a:lnTo>
                  <a:pt x="0" y="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2437920" y="35053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276720" y="4267080"/>
            <a:ext cx="0" cy="91440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075120" y="2576880"/>
            <a:ext cx="1012680" cy="208476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832480" y="2952000"/>
            <a:ext cx="2260080" cy="148752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Variación de Excedentes 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Comercio Internacional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Importaciones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2362320"/>
            <a:ext cx="0" cy="28191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438280" y="518148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59200" y="220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506760" y="5181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800600" y="4267080"/>
            <a:ext cx="0" cy="91440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79920" y="5181480"/>
            <a:ext cx="4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421160" y="25146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30640" y="4038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7560" y="40384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058840" y="3352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5411880" y="1600200"/>
            <a:ext cx="3312720" cy="466200"/>
            <a:chOff x="5411880" y="1600200"/>
            <a:chExt cx="3312720" cy="466200"/>
          </a:xfrm>
        </p:grpSpPr>
        <p:sp>
          <p:nvSpPr>
            <p:cNvPr id="304" name=""/>
            <p:cNvSpPr/>
            <p:nvPr/>
          </p:nvSpPr>
          <p:spPr>
            <a:xfrm>
              <a:off x="5411880" y="16066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26760" y="16002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477120" y="1828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861600" y="1600200"/>
              <a:ext cx="186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C = + 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791320" y="1828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5411880" y="2057400"/>
            <a:ext cx="3080160" cy="465840"/>
            <a:chOff x="5411880" y="2057400"/>
            <a:chExt cx="3080160" cy="465840"/>
          </a:xfrm>
        </p:grpSpPr>
        <p:sp>
          <p:nvSpPr>
            <p:cNvPr id="310" name=""/>
            <p:cNvSpPr/>
            <p:nvPr/>
          </p:nvSpPr>
          <p:spPr>
            <a:xfrm>
              <a:off x="5411880" y="20635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26760" y="20574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477120" y="22860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860520" y="2057400"/>
              <a:ext cx="163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P = - 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91320" y="2286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77120" y="22860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791320" y="2286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7241040" y="251460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 = +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934320" y="251460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487480" y="51055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438280" y="4267080"/>
            <a:ext cx="23623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733920" y="3809880"/>
            <a:ext cx="75960" cy="22860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362320" y="3505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055680" y="5181480"/>
            <a:ext cx="4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3276720" y="4724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657600" y="4724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438280" y="3505320"/>
            <a:ext cx="1219320" cy="761760"/>
          </a:xfrm>
          <a:custGeom>
            <a:avLst/>
            <a:gdLst/>
            <a:ahLst/>
            <a:rect l="l" t="t" r="r" b="b"/>
            <a:pathLst>
              <a:path w="768" h="480">
                <a:moveTo>
                  <a:pt x="0" y="0"/>
                </a:moveTo>
                <a:lnTo>
                  <a:pt x="768" y="0"/>
                </a:lnTo>
                <a:lnTo>
                  <a:pt x="528" y="480"/>
                </a:lnTo>
                <a:lnTo>
                  <a:pt x="0" y="480"/>
                </a:lnTo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743200" y="3657600"/>
            <a:ext cx="380880" cy="45720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429720" y="43434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3505320" y="3809880"/>
            <a:ext cx="0" cy="137160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114800" y="3809880"/>
            <a:ext cx="0" cy="137160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276720" y="4267080"/>
            <a:ext cx="0" cy="914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32480" y="2952000"/>
            <a:ext cx="2260080" cy="148752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438280" y="2362320"/>
            <a:ext cx="0" cy="28191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438280" y="518148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059200" y="220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800600" y="4267080"/>
            <a:ext cx="0" cy="914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579920" y="5181480"/>
            <a:ext cx="4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735360" y="24382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030640" y="4038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11600" y="40384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4578840" y="2514600"/>
            <a:ext cx="4209480" cy="510120"/>
            <a:chOff x="4578840" y="2514600"/>
            <a:chExt cx="4209480" cy="510120"/>
          </a:xfrm>
        </p:grpSpPr>
        <p:sp>
          <p:nvSpPr>
            <p:cNvPr id="342" name=""/>
            <p:cNvSpPr/>
            <p:nvPr/>
          </p:nvSpPr>
          <p:spPr>
            <a:xfrm>
              <a:off x="4578840" y="25146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24240" y="2514600"/>
              <a:ext cx="983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019560" y="27432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557760" y="2514600"/>
              <a:ext cx="223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C = - ABC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952880" y="2743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7013520" y="3200400"/>
            <a:ext cx="16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 = - 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934320" y="312408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868360" y="51814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438280" y="4267080"/>
            <a:ext cx="23623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053520" y="5181480"/>
            <a:ext cx="43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506040" y="464832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3505320"/>
            <a:ext cx="103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438280" y="3809880"/>
            <a:ext cx="16765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236232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438280" y="3809880"/>
            <a:ext cx="2362320" cy="457200"/>
          </a:xfrm>
          <a:custGeom>
            <a:avLst/>
            <a:gdLst/>
            <a:ahLst/>
            <a:rect l="l" t="t" r="r" b="b"/>
            <a:pathLst>
              <a:path w="1488" h="288">
                <a:moveTo>
                  <a:pt x="0" y="288"/>
                </a:moveTo>
                <a:lnTo>
                  <a:pt x="1488" y="288"/>
                </a:lnTo>
                <a:lnTo>
                  <a:pt x="1056" y="0"/>
                </a:lnTo>
                <a:lnTo>
                  <a:pt x="0" y="0"/>
                </a:lnTo>
                <a:lnTo>
                  <a:pt x="0" y="288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438280" y="3809880"/>
            <a:ext cx="1067040" cy="457200"/>
          </a:xfrm>
          <a:custGeom>
            <a:avLst/>
            <a:gdLst/>
            <a:ahLst/>
            <a:rect l="l" t="t" r="r" b="b"/>
            <a:pathLst>
              <a:path w="672" h="288">
                <a:moveTo>
                  <a:pt x="0" y="0"/>
                </a:moveTo>
                <a:lnTo>
                  <a:pt x="672" y="0"/>
                </a:lnTo>
                <a:lnTo>
                  <a:pt x="528" y="288"/>
                </a:lnTo>
                <a:lnTo>
                  <a:pt x="0" y="288"/>
                </a:lnTo>
                <a:lnTo>
                  <a:pt x="0" y="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43200" y="3809880"/>
            <a:ext cx="380880" cy="45720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4578840" y="1523880"/>
            <a:ext cx="3603600" cy="586440"/>
            <a:chOff x="4578840" y="1523880"/>
            <a:chExt cx="3603600" cy="586440"/>
          </a:xfrm>
        </p:grpSpPr>
        <p:sp>
          <p:nvSpPr>
            <p:cNvPr id="360" name=""/>
            <p:cNvSpPr/>
            <p:nvPr/>
          </p:nvSpPr>
          <p:spPr>
            <a:xfrm>
              <a:off x="6555600" y="1523880"/>
              <a:ext cx="162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P = +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172200" y="1828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578840" y="16002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200560" y="1600200"/>
              <a:ext cx="983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952880" y="1828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 flipV="1">
            <a:off x="3075120" y="2576880"/>
            <a:ext cx="1012680" cy="208476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505320" y="3809880"/>
            <a:ext cx="609480" cy="457200"/>
          </a:xfrm>
          <a:custGeom>
            <a:avLst/>
            <a:gdLst/>
            <a:ahLst/>
            <a:rect l="l" t="t" r="r" b="b"/>
            <a:pathLst>
              <a:path w="384" h="288">
                <a:moveTo>
                  <a:pt x="0" y="0"/>
                </a:moveTo>
                <a:lnTo>
                  <a:pt x="384" y="0"/>
                </a:lnTo>
                <a:lnTo>
                  <a:pt x="384" y="288"/>
                </a:lnTo>
                <a:lnTo>
                  <a:pt x="0" y="288"/>
                </a:lnTo>
                <a:lnTo>
                  <a:pt x="0" y="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4578840" y="1981080"/>
            <a:ext cx="3578760" cy="586440"/>
            <a:chOff x="4578840" y="1981080"/>
            <a:chExt cx="3578760" cy="586440"/>
          </a:xfrm>
        </p:grpSpPr>
        <p:sp>
          <p:nvSpPr>
            <p:cNvPr id="368" name=""/>
            <p:cNvSpPr/>
            <p:nvPr/>
          </p:nvSpPr>
          <p:spPr>
            <a:xfrm>
              <a:off x="6554880" y="1981080"/>
              <a:ext cx="160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F  = +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172200" y="22860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578840" y="20574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200560" y="2057400"/>
              <a:ext cx="983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952880" y="2286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3657600" y="3962520"/>
            <a:ext cx="76320" cy="228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343400" y="4038480"/>
            <a:ext cx="76320" cy="152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429000" y="4114800"/>
            <a:ext cx="76320" cy="152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352680" y="5181480"/>
            <a:ext cx="79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/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5181480"/>
            <a:ext cx="79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/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4114440" y="5105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5053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Variación de Excedentes 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Comercio Internacional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Arancel a las importaciones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3505320" y="3809880"/>
            <a:ext cx="0" cy="137160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114800" y="3809880"/>
            <a:ext cx="0" cy="137160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276720" y="4267080"/>
            <a:ext cx="0" cy="914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832480" y="2952000"/>
            <a:ext cx="2260080" cy="148752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2362320"/>
            <a:ext cx="0" cy="28191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438280" y="518148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059200" y="220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00600" y="4267080"/>
            <a:ext cx="0" cy="914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579920" y="5181480"/>
            <a:ext cx="4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735360" y="24382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0640" y="4038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911600" y="40384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013520" y="3200400"/>
            <a:ext cx="16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 = - 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4807440" y="2438280"/>
            <a:ext cx="4107960" cy="609480"/>
            <a:chOff x="4807440" y="2438280"/>
            <a:chExt cx="4107960" cy="609480"/>
          </a:xfrm>
        </p:grpSpPr>
        <p:sp>
          <p:nvSpPr>
            <p:cNvPr id="396" name=""/>
            <p:cNvSpPr/>
            <p:nvPr/>
          </p:nvSpPr>
          <p:spPr>
            <a:xfrm>
              <a:off x="4807440" y="24382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496840" y="2438280"/>
              <a:ext cx="49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096240" y="26668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634080" y="2438280"/>
              <a:ext cx="223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C = - ABC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257800" y="2666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010640" y="3047760"/>
              <a:ext cx="1904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5868360" y="51814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438280" y="4267080"/>
            <a:ext cx="23623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053520" y="5181480"/>
            <a:ext cx="43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506040" y="464832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905120" y="3505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438280" y="3809880"/>
            <a:ext cx="16765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236232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438280" y="3809880"/>
            <a:ext cx="2362320" cy="457200"/>
          </a:xfrm>
          <a:custGeom>
            <a:avLst/>
            <a:gdLst/>
            <a:ahLst/>
            <a:rect l="l" t="t" r="r" b="b"/>
            <a:pathLst>
              <a:path w="1488" h="288">
                <a:moveTo>
                  <a:pt x="0" y="288"/>
                </a:moveTo>
                <a:lnTo>
                  <a:pt x="1488" y="288"/>
                </a:lnTo>
                <a:lnTo>
                  <a:pt x="1056" y="0"/>
                </a:lnTo>
                <a:lnTo>
                  <a:pt x="0" y="0"/>
                </a:lnTo>
                <a:lnTo>
                  <a:pt x="0" y="288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438280" y="3809880"/>
            <a:ext cx="1067040" cy="457200"/>
          </a:xfrm>
          <a:custGeom>
            <a:avLst/>
            <a:gdLst/>
            <a:ahLst/>
            <a:rect l="l" t="t" r="r" b="b"/>
            <a:pathLst>
              <a:path w="672" h="288">
                <a:moveTo>
                  <a:pt x="0" y="0"/>
                </a:moveTo>
                <a:lnTo>
                  <a:pt x="672" y="0"/>
                </a:lnTo>
                <a:lnTo>
                  <a:pt x="528" y="288"/>
                </a:lnTo>
                <a:lnTo>
                  <a:pt x="0" y="288"/>
                </a:lnTo>
                <a:lnTo>
                  <a:pt x="0" y="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743200" y="3809880"/>
            <a:ext cx="380880" cy="45720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3075120" y="2576880"/>
            <a:ext cx="1012680" cy="208476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505320" y="3809880"/>
            <a:ext cx="609480" cy="457200"/>
          </a:xfrm>
          <a:custGeom>
            <a:avLst/>
            <a:gdLst/>
            <a:ahLst/>
            <a:rect l="l" t="t" r="r" b="b"/>
            <a:pathLst>
              <a:path w="384" h="288">
                <a:moveTo>
                  <a:pt x="0" y="0"/>
                </a:moveTo>
                <a:lnTo>
                  <a:pt x="384" y="0"/>
                </a:lnTo>
                <a:lnTo>
                  <a:pt x="384" y="288"/>
                </a:lnTo>
                <a:lnTo>
                  <a:pt x="0" y="288"/>
                </a:lnTo>
                <a:lnTo>
                  <a:pt x="0" y="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4273920" y="1981080"/>
            <a:ext cx="3994200" cy="536040"/>
            <a:chOff x="4273920" y="1981080"/>
            <a:chExt cx="3994200" cy="536040"/>
          </a:xfrm>
        </p:grpSpPr>
        <p:sp>
          <p:nvSpPr>
            <p:cNvPr id="415" name=""/>
            <p:cNvSpPr/>
            <p:nvPr/>
          </p:nvSpPr>
          <p:spPr>
            <a:xfrm>
              <a:off x="5792400" y="1981080"/>
              <a:ext cx="247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P (imp)  = +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410080" y="22860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273920" y="20574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887360" y="2057400"/>
              <a:ext cx="49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724280" y="2286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3657600" y="3962520"/>
            <a:ext cx="76320" cy="228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343400" y="4038480"/>
            <a:ext cx="76320" cy="152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429000" y="4114800"/>
            <a:ext cx="76320" cy="152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352680" y="5181480"/>
            <a:ext cx="79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/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62520" y="5181480"/>
            <a:ext cx="79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/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27672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4114440" y="5105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5053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Variación de Excedentes 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Comercio Internacional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Restricción cuantitativa a las importaciones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5112360" y="1523880"/>
            <a:ext cx="3222360" cy="459720"/>
            <a:chOff x="5112360" y="1523880"/>
            <a:chExt cx="3222360" cy="459720"/>
          </a:xfrm>
        </p:grpSpPr>
        <p:sp>
          <p:nvSpPr>
            <p:cNvPr id="430" name=""/>
            <p:cNvSpPr/>
            <p:nvPr/>
          </p:nvSpPr>
          <p:spPr>
            <a:xfrm>
              <a:off x="6707880" y="1523880"/>
              <a:ext cx="162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P = +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324480" y="1828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12360" y="15238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562360" y="182880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801400" y="1523880"/>
              <a:ext cx="49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3048120" y="2971800"/>
            <a:ext cx="0" cy="220968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657600" y="3505320"/>
            <a:ext cx="0" cy="16761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438280" y="2971800"/>
            <a:ext cx="1219320" cy="533520"/>
          </a:xfrm>
          <a:custGeom>
            <a:avLst/>
            <a:gdLst/>
            <a:ahLst/>
            <a:rect l="l" t="t" r="r" b="b"/>
            <a:pathLst>
              <a:path w="1488" h="480">
                <a:moveTo>
                  <a:pt x="0" y="0"/>
                </a:moveTo>
                <a:lnTo>
                  <a:pt x="768" y="0"/>
                </a:lnTo>
                <a:lnTo>
                  <a:pt x="1488" y="480"/>
                </a:lnTo>
                <a:lnTo>
                  <a:pt x="0" y="480"/>
                </a:lnTo>
                <a:lnTo>
                  <a:pt x="0" y="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2437920" y="35053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2834640" y="2797920"/>
            <a:ext cx="1485360" cy="156672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438280" y="2362320"/>
            <a:ext cx="0" cy="28191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438280" y="518148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059200" y="220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506760" y="5181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191120" y="2971800"/>
            <a:ext cx="0" cy="220968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751120" y="5181480"/>
            <a:ext cx="4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21160" y="25146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030640" y="4038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987560" y="27432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058840" y="3352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5411880" y="1600200"/>
            <a:ext cx="3038040" cy="466200"/>
            <a:chOff x="5411880" y="1600200"/>
            <a:chExt cx="3038040" cy="466200"/>
          </a:xfrm>
        </p:grpSpPr>
        <p:sp>
          <p:nvSpPr>
            <p:cNvPr id="451" name=""/>
            <p:cNvSpPr/>
            <p:nvPr/>
          </p:nvSpPr>
          <p:spPr>
            <a:xfrm>
              <a:off x="5411880" y="16066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026760" y="16002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477120" y="1828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861240" y="1600200"/>
              <a:ext cx="158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C = -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791320" y="1828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5411880" y="2057400"/>
            <a:ext cx="3278520" cy="465840"/>
            <a:chOff x="5411880" y="2057400"/>
            <a:chExt cx="3278520" cy="465840"/>
          </a:xfrm>
        </p:grpSpPr>
        <p:sp>
          <p:nvSpPr>
            <p:cNvPr id="457" name=""/>
            <p:cNvSpPr/>
            <p:nvPr/>
          </p:nvSpPr>
          <p:spPr>
            <a:xfrm>
              <a:off x="5411880" y="20635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26760" y="20574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477120" y="22860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860880" y="2057400"/>
              <a:ext cx="182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P = + 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791320" y="2286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477120" y="22860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791320" y="2286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7241040" y="251460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 = +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934320" y="251460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487480" y="51055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438280" y="2971800"/>
            <a:ext cx="175284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2362320" y="2971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970080" y="5181480"/>
            <a:ext cx="4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657600" y="4724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2971440" y="4724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438280" y="2971800"/>
            <a:ext cx="1752840" cy="533520"/>
          </a:xfrm>
          <a:custGeom>
            <a:avLst/>
            <a:gdLst/>
            <a:ahLst/>
            <a:rect l="l" t="t" r="r" b="b"/>
            <a:pathLst>
              <a:path w="768" h="480">
                <a:moveTo>
                  <a:pt x="0" y="0"/>
                </a:moveTo>
                <a:lnTo>
                  <a:pt x="768" y="0"/>
                </a:lnTo>
                <a:lnTo>
                  <a:pt x="528" y="480"/>
                </a:lnTo>
                <a:lnTo>
                  <a:pt x="0" y="480"/>
                </a:lnTo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666880" y="2971800"/>
            <a:ext cx="381240" cy="45720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355200" y="464832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81280" y="3048120"/>
            <a:ext cx="76320" cy="22860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33200" y="2799360"/>
            <a:ext cx="2102760" cy="178956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Variación de Excedentes 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Comercio Internacional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Exportaciones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3352680" y="3276720"/>
            <a:ext cx="0" cy="190476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2895120" y="2787480"/>
            <a:ext cx="2042640" cy="96696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438280" y="2362320"/>
            <a:ext cx="0" cy="28191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438280" y="518148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059200" y="220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886200" y="3276720"/>
            <a:ext cx="0" cy="190476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129840" y="5181480"/>
            <a:ext cx="43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421160" y="25146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878360" y="4191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987560" y="30481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5106960" y="1600200"/>
            <a:ext cx="3228120" cy="459720"/>
            <a:chOff x="5106960" y="1600200"/>
            <a:chExt cx="3228120" cy="459720"/>
          </a:xfrm>
        </p:grpSpPr>
        <p:sp>
          <p:nvSpPr>
            <p:cNvPr id="489" name=""/>
            <p:cNvSpPr/>
            <p:nvPr/>
          </p:nvSpPr>
          <p:spPr>
            <a:xfrm>
              <a:off x="5106960" y="16002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715000" y="16002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477120" y="1828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708240" y="1600200"/>
              <a:ext cx="162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P = +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486400" y="1828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5106960" y="1981080"/>
            <a:ext cx="3351600" cy="466200"/>
            <a:chOff x="5106960" y="1981080"/>
            <a:chExt cx="3351600" cy="466200"/>
          </a:xfrm>
        </p:grpSpPr>
        <p:sp>
          <p:nvSpPr>
            <p:cNvPr id="495" name=""/>
            <p:cNvSpPr/>
            <p:nvPr/>
          </p:nvSpPr>
          <p:spPr>
            <a:xfrm>
              <a:off x="5106960" y="19875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721840" y="1987560"/>
              <a:ext cx="77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77120" y="22161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708240" y="1981080"/>
              <a:ext cx="175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F  = - 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486400" y="22161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6860160" y="251460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 = -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934320" y="251460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487480" y="51055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438280" y="3276720"/>
            <a:ext cx="14479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2362320" y="2971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3400" y="5181480"/>
            <a:ext cx="662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583800" y="449568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833200" y="2799360"/>
            <a:ext cx="2102760" cy="178956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600200" y="2743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438280" y="2971800"/>
            <a:ext cx="21337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572000" y="2971800"/>
            <a:ext cx="0" cy="220968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352680" y="45720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438280" y="2971800"/>
            <a:ext cx="2133720" cy="304920"/>
          </a:xfrm>
          <a:custGeom>
            <a:avLst/>
            <a:gdLst/>
            <a:ahLst/>
            <a:rect l="l" t="t" r="r" b="b"/>
            <a:pathLst>
              <a:path w="768" h="480">
                <a:moveTo>
                  <a:pt x="0" y="0"/>
                </a:moveTo>
                <a:lnTo>
                  <a:pt x="768" y="0"/>
                </a:lnTo>
                <a:lnTo>
                  <a:pt x="528" y="480"/>
                </a:lnTo>
                <a:lnTo>
                  <a:pt x="0" y="480"/>
                </a:lnTo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438280" y="2971800"/>
            <a:ext cx="2133720" cy="304920"/>
          </a:xfrm>
          <a:custGeom>
            <a:avLst/>
            <a:gdLst/>
            <a:ahLst/>
            <a:rect l="l" t="t" r="r" b="b"/>
            <a:pathLst>
              <a:path w="1344" h="192">
                <a:moveTo>
                  <a:pt x="0" y="0"/>
                </a:moveTo>
                <a:lnTo>
                  <a:pt x="1344" y="0"/>
                </a:lnTo>
                <a:lnTo>
                  <a:pt x="1344" y="19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438280" y="2971800"/>
            <a:ext cx="2133720" cy="304920"/>
          </a:xfrm>
          <a:custGeom>
            <a:avLst/>
            <a:gdLst/>
            <a:ahLst/>
            <a:rect l="l" t="t" r="r" b="b"/>
            <a:pathLst>
              <a:path w="1344" h="192">
                <a:moveTo>
                  <a:pt x="0" y="0"/>
                </a:moveTo>
                <a:lnTo>
                  <a:pt x="0" y="192"/>
                </a:lnTo>
                <a:lnTo>
                  <a:pt x="1344" y="192"/>
                </a:lnTo>
                <a:lnTo>
                  <a:pt x="134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4343400" y="3124080"/>
            <a:ext cx="76320" cy="7632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200400" y="2971800"/>
            <a:ext cx="76320" cy="22860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739320" y="5181480"/>
            <a:ext cx="43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Variación de Excedentes 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Comercio Internacional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Subsidio a las Exportaciones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7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4T03:24:24Z</dcterms:created>
  <dc:creator>Marco Hauva</dc:creator>
  <dc:description/>
  <dc:language>en-US</dc:language>
  <cp:lastModifiedBy>Marco Hauva</cp:lastModifiedBy>
  <dcterms:modified xsi:type="dcterms:W3CDTF">2004-10-07T13:37:40Z</dcterms:modified>
  <cp:revision>32</cp:revision>
  <dc:subject/>
  <dc:title>Análisis de Variación de Excedentes</dc:title>
</cp:coreProperties>
</file>