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66E-8EC6-48AF-A0C2-78EF3270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7CD-8E5A-4A1D-847D-51C4D743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4D0-6D3F-4D7F-9B40-A22D60CB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97F-5352-49D3-9C6A-E8EBFDDB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D13E-91E2-498C-A66E-4D7B44C3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025E-C77F-4586-9F45-C44BBE56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81DA-4F43-4006-9688-57C7D0D3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CECA-89A8-47E1-BB79-88A4132A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1DDE-09BE-420F-A1B1-3C4F591C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5D57-9E82-4735-A803-420DA3EE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08B2-F6B6-4A73-AC57-2B0E5FF9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EC3B-EE2F-4699-BDB9-CFCD235F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ABAF-A0DF-43DF-9C19-147B95E4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C836-2928-4779-8A79-D6C12004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680D-7998-45B7-B804-BA738EF9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0A36-3C5A-4B6A-8DC6-658F04B5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E840-811F-427E-90CC-EB4A8EE0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996-2564-49C2-9963-DE23FBDE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D2C2-9510-4C7C-8F8A-69E955FF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EC7-6F02-40DD-8FE5-E56B0DBE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0137-3308-43CB-AA1A-A7C9653F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4C94-087D-4660-9B7B-4F4E424C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B5E-A06E-4C03-9AB7-F55645D2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0EA-940E-4E96-9635-950B2C2C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D0D2-5145-4846-BD22-20D53B4E2790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A169-B394-4230-939F-7DE0C03E2056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cedente del consumid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198108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95288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62480" y="2518560"/>
            <a:ext cx="3180960" cy="2202120"/>
          </a:xfrm>
          <a:prstGeom prst="line">
            <a:avLst/>
          </a:prstGeom>
          <a:ln w="572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3280" y="4952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5160" y="1828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514600" y="304812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514600" y="373392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66040" y="27432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66040" y="34290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37339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9760" y="4952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32720" y="4979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720" y="41911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04812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0" y="0"/>
                </a:moveTo>
                <a:lnTo>
                  <a:pt x="528" y="0"/>
                </a:lnTo>
                <a:lnTo>
                  <a:pt x="1152" y="432"/>
                </a:lnTo>
                <a:lnTo>
                  <a:pt x="0" y="432"/>
                </a:lnTo>
                <a:lnTo>
                  <a:pt x="0" y="0"/>
                </a:lnTo>
                <a:close/>
              </a:path>
            </a:pathLst>
          </a:custGeom>
          <a:solidFill>
            <a:srgbClr val="a1bd6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048120"/>
            <a:ext cx="0" cy="19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536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30800" y="3276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03960" y="1822320"/>
            <a:ext cx="4144320" cy="516600"/>
            <a:chOff x="4503960" y="1822320"/>
            <a:chExt cx="4144320" cy="516600"/>
          </a:xfrm>
        </p:grpSpPr>
        <p:sp>
          <p:nvSpPr>
            <p:cNvPr id="133" name=""/>
            <p:cNvSpPr/>
            <p:nvPr/>
          </p:nvSpPr>
          <p:spPr>
            <a:xfrm>
              <a:off x="4503960" y="1828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29200" y="2057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23280" y="1828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2057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61240" y="1822320"/>
              <a:ext cx="17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03960" y="2508120"/>
            <a:ext cx="4073040" cy="516600"/>
            <a:chOff x="4503960" y="2508120"/>
            <a:chExt cx="4073040" cy="516600"/>
          </a:xfrm>
        </p:grpSpPr>
        <p:sp>
          <p:nvSpPr>
            <p:cNvPr id="139" name=""/>
            <p:cNvSpPr/>
            <p:nvPr/>
          </p:nvSpPr>
          <p:spPr>
            <a:xfrm>
              <a:off x="4503960" y="25146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29200" y="2743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23280" y="25146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24480" y="2743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61600" y="250812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905120" y="3048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905120" y="2971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895120" y="2787480"/>
            <a:ext cx="2042640" cy="9669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87560" y="3048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106960" y="1600200"/>
            <a:ext cx="3668400" cy="459720"/>
            <a:chOff x="5106960" y="1600200"/>
            <a:chExt cx="3668400" cy="459720"/>
          </a:xfrm>
        </p:grpSpPr>
        <p:sp>
          <p:nvSpPr>
            <p:cNvPr id="529" name=""/>
            <p:cNvSpPr/>
            <p:nvPr/>
          </p:nvSpPr>
          <p:spPr>
            <a:xfrm>
              <a:off x="5106960" y="1600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1500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09320" y="1600200"/>
              <a:ext cx="20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C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8640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106960" y="1981080"/>
            <a:ext cx="3571920" cy="466200"/>
            <a:chOff x="5106960" y="1981080"/>
            <a:chExt cx="3571920" cy="466200"/>
          </a:xfrm>
        </p:grpSpPr>
        <p:sp>
          <p:nvSpPr>
            <p:cNvPr id="535" name=""/>
            <p:cNvSpPr/>
            <p:nvPr/>
          </p:nvSpPr>
          <p:spPr>
            <a:xfrm>
              <a:off x="510696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21840" y="1987560"/>
              <a:ext cx="77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77120" y="221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08960" y="1981080"/>
              <a:ext cx="196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D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221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860880" y="29718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934320" y="28954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43400" y="5181480"/>
            <a:ext cx="66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83800" y="44956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572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34340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2971800"/>
            <a:ext cx="7596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393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66688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249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048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106960" y="2438280"/>
            <a:ext cx="3410640" cy="459720"/>
            <a:chOff x="5106960" y="2438280"/>
            <a:chExt cx="3410640" cy="459720"/>
          </a:xfrm>
        </p:grpSpPr>
        <p:sp>
          <p:nvSpPr>
            <p:cNvPr id="562" name=""/>
            <p:cNvSpPr/>
            <p:nvPr/>
          </p:nvSpPr>
          <p:spPr>
            <a:xfrm>
              <a:off x="5106960" y="2438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000" y="2438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7712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09320" y="2438280"/>
              <a:ext cx="18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2666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12408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 las exportaciones, sin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907720" y="2792160"/>
            <a:ext cx="2042640" cy="96660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141720" y="5181480"/>
            <a:ext cx="63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7560" y="2666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030640" y="1905120"/>
            <a:ext cx="3262320" cy="459720"/>
            <a:chOff x="5030640" y="1905120"/>
            <a:chExt cx="3262320" cy="459720"/>
          </a:xfrm>
        </p:grpSpPr>
        <p:sp>
          <p:nvSpPr>
            <p:cNvPr id="583" name=""/>
            <p:cNvSpPr/>
            <p:nvPr/>
          </p:nvSpPr>
          <p:spPr>
            <a:xfrm>
              <a:off x="503064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638680" y="1905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0800" y="2133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632640" y="19051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10080" y="2133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5030640" y="1523880"/>
            <a:ext cx="3203280" cy="466200"/>
            <a:chOff x="5030640" y="1523880"/>
            <a:chExt cx="3203280" cy="466200"/>
          </a:xfrm>
        </p:grpSpPr>
        <p:sp>
          <p:nvSpPr>
            <p:cNvPr id="589" name=""/>
            <p:cNvSpPr/>
            <p:nvPr/>
          </p:nvSpPr>
          <p:spPr>
            <a:xfrm>
              <a:off x="5030640" y="1530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45520" y="153036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00800" y="1758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31200" y="152388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10080" y="175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7089840" y="289548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34320" y="28195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5181480"/>
            <a:ext cx="6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5448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00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3526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352680" y="2971800"/>
            <a:ext cx="5335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3504600" y="3048120"/>
            <a:ext cx="75960" cy="759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962520" y="2971800"/>
            <a:ext cx="7596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53000" y="5181480"/>
            <a:ext cx="66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Impuesto a las 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4860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66880" y="2971800"/>
            <a:ext cx="76320" cy="2286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2971800"/>
            <a:ext cx="76320" cy="15228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030640" y="2286000"/>
            <a:ext cx="3799800" cy="459720"/>
            <a:chOff x="5030640" y="2286000"/>
            <a:chExt cx="3799800" cy="459720"/>
          </a:xfrm>
        </p:grpSpPr>
        <p:sp>
          <p:nvSpPr>
            <p:cNvPr id="617" name=""/>
            <p:cNvSpPr/>
            <p:nvPr/>
          </p:nvSpPr>
          <p:spPr>
            <a:xfrm>
              <a:off x="5030640" y="2286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38680" y="2286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00800" y="2514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633360" y="228600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CD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0080" y="2514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396216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481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2907720" y="2792160"/>
            <a:ext cx="2042640" cy="96660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411280" y="2205000"/>
            <a:ext cx="27000" cy="2976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5308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38840" y="5181480"/>
            <a:ext cx="60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87560" y="2666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30640" y="1905120"/>
            <a:ext cx="3262320" cy="459720"/>
            <a:chOff x="5030640" y="1905120"/>
            <a:chExt cx="3262320" cy="459720"/>
          </a:xfrm>
        </p:grpSpPr>
        <p:sp>
          <p:nvSpPr>
            <p:cNvPr id="636" name=""/>
            <p:cNvSpPr/>
            <p:nvPr/>
          </p:nvSpPr>
          <p:spPr>
            <a:xfrm>
              <a:off x="503064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638680" y="1905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00800" y="2133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32640" y="19051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10080" y="2133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078160" y="2276640"/>
            <a:ext cx="3351600" cy="465840"/>
            <a:chOff x="5078160" y="2276640"/>
            <a:chExt cx="3351600" cy="465840"/>
          </a:xfrm>
        </p:grpSpPr>
        <p:sp>
          <p:nvSpPr>
            <p:cNvPr id="642" name=""/>
            <p:cNvSpPr/>
            <p:nvPr/>
          </p:nvSpPr>
          <p:spPr>
            <a:xfrm>
              <a:off x="5078160" y="2282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93040" y="22827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48320" y="2511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79440" y="2276640"/>
              <a:ext cx="17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57600" y="2511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6806160" y="2852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28195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38280" y="3276720"/>
            <a:ext cx="981360" cy="7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5181480"/>
            <a:ext cx="6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637080" y="4149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00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352680" y="4572000"/>
            <a:ext cx="1219320" cy="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l consumo de origen local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74860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66880" y="2971800"/>
            <a:ext cx="76320" cy="2286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481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00400" y="2971800"/>
            <a:ext cx="76320" cy="15228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11280" y="2971800"/>
            <a:ext cx="936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14600" y="3657600"/>
            <a:ext cx="2666880" cy="685800"/>
          </a:xfrm>
          <a:custGeom>
            <a:avLst/>
            <a:gdLst/>
            <a:ahLst/>
            <a:rect l="l" t="t" r="r" b="b"/>
            <a:pathLst>
              <a:path w="1680" h="432">
                <a:moveTo>
                  <a:pt x="0" y="0"/>
                </a:moveTo>
                <a:lnTo>
                  <a:pt x="1680" y="0"/>
                </a:lnTo>
                <a:lnTo>
                  <a:pt x="1152" y="432"/>
                </a:lnTo>
                <a:lnTo>
                  <a:pt x="0" y="432"/>
                </a:lnTo>
                <a:lnTo>
                  <a:pt x="0" y="0"/>
                </a:lnTo>
                <a:close/>
              </a:path>
            </a:pathLst>
          </a:custGeom>
          <a:solidFill>
            <a:srgbClr val="a1bd6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cedente del product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25909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556272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302640" y="3263760"/>
            <a:ext cx="2295000" cy="1943280"/>
          </a:xfrm>
          <a:prstGeom prst="line">
            <a:avLst/>
          </a:prstGeom>
          <a:ln w="572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328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5160" y="243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514600" y="3657600"/>
            <a:ext cx="2666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514600" y="434340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6040" y="33526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66040" y="40384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434340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61520" y="55627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23440" y="55627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800" y="3429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3657600"/>
            <a:ext cx="0" cy="190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48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360960" y="1523880"/>
            <a:ext cx="3835800" cy="516600"/>
            <a:chOff x="3360960" y="1523880"/>
            <a:chExt cx="3835800" cy="516600"/>
          </a:xfrm>
        </p:grpSpPr>
        <p:sp>
          <p:nvSpPr>
            <p:cNvPr id="164" name=""/>
            <p:cNvSpPr/>
            <p:nvPr/>
          </p:nvSpPr>
          <p:spPr>
            <a:xfrm>
              <a:off x="3360960" y="15303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17589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80280" y="15303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81480" y="1758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7520" y="1523880"/>
              <a:ext cx="147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360960" y="2209680"/>
            <a:ext cx="3907440" cy="516600"/>
            <a:chOff x="3360960" y="2209680"/>
            <a:chExt cx="3907440" cy="516600"/>
          </a:xfrm>
        </p:grpSpPr>
        <p:sp>
          <p:nvSpPr>
            <p:cNvPr id="170" name=""/>
            <p:cNvSpPr/>
            <p:nvPr/>
          </p:nvSpPr>
          <p:spPr>
            <a:xfrm>
              <a:off x="3360960" y="2216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6200" y="2444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80280" y="2216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81480" y="2444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7520" y="220968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905120" y="3657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905120" y="36572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438280" y="3276720"/>
            <a:ext cx="1828800" cy="609480"/>
          </a:xfrm>
          <a:custGeom>
            <a:avLst/>
            <a:gdLst/>
            <a:ahLst/>
            <a:rect l="l" t="t" r="r" b="b"/>
            <a:pathLst>
              <a:path w="1152" h="384">
                <a:moveTo>
                  <a:pt x="0" y="384"/>
                </a:moveTo>
                <a:lnTo>
                  <a:pt x="1152" y="384"/>
                </a:lnTo>
                <a:lnTo>
                  <a:pt x="528" y="0"/>
                </a:lnTo>
                <a:lnTo>
                  <a:pt x="0" y="0"/>
                </a:lnTo>
                <a:lnTo>
                  <a:pt x="0" y="384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3886200"/>
            <a:ext cx="1828800" cy="457200"/>
          </a:xfrm>
          <a:custGeom>
            <a:avLst/>
            <a:gdLst/>
            <a:ahLst/>
            <a:rect l="l" t="t" r="r" b="b"/>
            <a:pathLst>
              <a:path w="1152" h="288">
                <a:moveTo>
                  <a:pt x="0" y="0"/>
                </a:moveTo>
                <a:lnTo>
                  <a:pt x="115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3886200"/>
            <a:ext cx="83844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0" y="0"/>
                </a:moveTo>
                <a:lnTo>
                  <a:pt x="528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3276720"/>
            <a:ext cx="83844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0"/>
                </a:moveTo>
                <a:lnTo>
                  <a:pt x="528" y="0"/>
                </a:lnTo>
                <a:lnTo>
                  <a:pt x="528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335268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Variación de Excedente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3600" spc="-1" strike="noStrike">
                <a:solidFill>
                  <a:srgbClr val="221304"/>
                </a:solidFill>
                <a:latin typeface="Times New Roman"/>
              </a:rPr>
              <a:t>Impuesto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2971800"/>
            <a:ext cx="2286000" cy="14479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71800" y="3428640"/>
            <a:ext cx="2209680" cy="106668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437920" y="3276720"/>
            <a:ext cx="838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362320" y="4343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62800" y="2971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3962520"/>
            <a:ext cx="0" cy="1218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624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343400"/>
            <a:ext cx="0" cy="8380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85480" y="5181480"/>
            <a:ext cx="56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6080" y="320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8840" y="365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437920" y="38862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411880" y="1523880"/>
            <a:ext cx="3165120" cy="466200"/>
            <a:chOff x="5411880" y="1523880"/>
            <a:chExt cx="3165120" cy="466200"/>
          </a:xfrm>
        </p:grpSpPr>
        <p:sp>
          <p:nvSpPr>
            <p:cNvPr id="202" name=""/>
            <p:cNvSpPr/>
            <p:nvPr/>
          </p:nvSpPr>
          <p:spPr>
            <a:xfrm>
              <a:off x="5411880" y="1530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28200" y="152388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7120" y="1752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600" y="152388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1320" y="1752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411880" y="1981080"/>
            <a:ext cx="2915280" cy="466200"/>
            <a:chOff x="5411880" y="1981080"/>
            <a:chExt cx="2915280" cy="466200"/>
          </a:xfrm>
        </p:grpSpPr>
        <p:sp>
          <p:nvSpPr>
            <p:cNvPr id="208" name=""/>
            <p:cNvSpPr/>
            <p:nvPr/>
          </p:nvSpPr>
          <p:spPr>
            <a:xfrm>
              <a:off x="541188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28200" y="198108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2209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7880" y="198108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= +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913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1880" y="2362320"/>
            <a:ext cx="3224160" cy="465840"/>
            <a:chOff x="5411880" y="2362320"/>
            <a:chExt cx="3224160" cy="465840"/>
          </a:xfrm>
        </p:grpSpPr>
        <p:sp>
          <p:nvSpPr>
            <p:cNvPr id="214" name=""/>
            <p:cNvSpPr/>
            <p:nvPr/>
          </p:nvSpPr>
          <p:spPr>
            <a:xfrm>
              <a:off x="5411880" y="2368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27840" y="23623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77120" y="2590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61240" y="236232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91320" y="259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77120" y="2590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91320" y="259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411880" y="2743200"/>
            <a:ext cx="2991240" cy="466200"/>
            <a:chOff x="5411880" y="2743200"/>
            <a:chExt cx="2991240" cy="466200"/>
          </a:xfrm>
        </p:grpSpPr>
        <p:sp>
          <p:nvSpPr>
            <p:cNvPr id="222" name=""/>
            <p:cNvSpPr/>
            <p:nvPr/>
          </p:nvSpPr>
          <p:spPr>
            <a:xfrm>
              <a:off x="5411880" y="2749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27840" y="27432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771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60160" y="2743200"/>
              <a:ext cx="15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91320" y="2971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60880" y="31240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32004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748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3276720"/>
            <a:ext cx="0" cy="10666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388620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3962520"/>
            <a:ext cx="152280" cy="3045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3429000"/>
            <a:ext cx="304560" cy="4572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36232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flipH="1">
            <a:off x="24382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3962520"/>
            <a:ext cx="0" cy="1218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836880" y="2729160"/>
            <a:ext cx="101304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3276720"/>
            <a:ext cx="2133720" cy="838080"/>
          </a:xfrm>
          <a:custGeom>
            <a:avLst/>
            <a:gdLst/>
            <a:ahLst/>
            <a:rect l="l" t="t" r="r" b="b"/>
            <a:pathLst>
              <a:path w="1344" h="528">
                <a:moveTo>
                  <a:pt x="0" y="0"/>
                </a:moveTo>
                <a:lnTo>
                  <a:pt x="1344" y="0"/>
                </a:lnTo>
                <a:lnTo>
                  <a:pt x="1344" y="528"/>
                </a:lnTo>
                <a:lnTo>
                  <a:pt x="0" y="528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276720"/>
            <a:ext cx="2133720" cy="609480"/>
          </a:xfrm>
          <a:custGeom>
            <a:avLst/>
            <a:gdLst/>
            <a:ahLst/>
            <a:rect l="l" t="t" r="r" b="b"/>
            <a:pathLst>
              <a:path w="1344" h="384">
                <a:moveTo>
                  <a:pt x="0" y="0"/>
                </a:moveTo>
                <a:lnTo>
                  <a:pt x="1344" y="0"/>
                </a:lnTo>
                <a:lnTo>
                  <a:pt x="1152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335268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Variación de Excedente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3600" spc="-1" strike="noStrike">
                <a:solidFill>
                  <a:srgbClr val="221304"/>
                </a:solidFill>
                <a:latin typeface="Times New Roman"/>
              </a:rPr>
              <a:t>Subsidio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437920" y="3276720"/>
            <a:ext cx="2133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437920" y="4114800"/>
            <a:ext cx="2133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2800" y="2971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624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4114800"/>
            <a:ext cx="0" cy="1066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32320" y="51814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8840" y="365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411880" y="2590920"/>
            <a:ext cx="3109680" cy="465840"/>
            <a:chOff x="5411880" y="2590920"/>
            <a:chExt cx="3109680" cy="465840"/>
          </a:xfrm>
        </p:grpSpPr>
        <p:sp>
          <p:nvSpPr>
            <p:cNvPr id="259" name=""/>
            <p:cNvSpPr/>
            <p:nvPr/>
          </p:nvSpPr>
          <p:spPr>
            <a:xfrm>
              <a:off x="5411880" y="25970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28200" y="259092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77120" y="2819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61240" y="25909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91320" y="2819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411880" y="2057400"/>
            <a:ext cx="3151800" cy="465840"/>
            <a:chOff x="5411880" y="2057400"/>
            <a:chExt cx="3151800" cy="465840"/>
          </a:xfrm>
        </p:grpSpPr>
        <p:sp>
          <p:nvSpPr>
            <p:cNvPr id="265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27840" y="20574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60520" y="205740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410080" y="1676520"/>
            <a:ext cx="2273760" cy="459720"/>
            <a:chOff x="5410080" y="1676520"/>
            <a:chExt cx="2273760" cy="459720"/>
          </a:xfrm>
        </p:grpSpPr>
        <p:sp>
          <p:nvSpPr>
            <p:cNvPr id="273" name=""/>
            <p:cNvSpPr/>
            <p:nvPr/>
          </p:nvSpPr>
          <p:spPr>
            <a:xfrm>
              <a:off x="5410080" y="16765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 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3080" y="1905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6120" y="1676520"/>
              <a:ext cx="7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7012440" y="31240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32004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3276720"/>
            <a:ext cx="0" cy="838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3733920"/>
            <a:ext cx="76320" cy="2286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36232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623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38280" y="3886200"/>
            <a:ext cx="2133720" cy="228600"/>
          </a:xfrm>
          <a:custGeom>
            <a:avLst/>
            <a:gdLst/>
            <a:ahLst/>
            <a:rect l="l" t="t" r="r" b="b"/>
            <a:pathLst>
              <a:path w="1344" h="144">
                <a:moveTo>
                  <a:pt x="0" y="0"/>
                </a:moveTo>
                <a:lnTo>
                  <a:pt x="1152" y="0"/>
                </a:lnTo>
                <a:lnTo>
                  <a:pt x="1344" y="144"/>
                </a:lnTo>
                <a:lnTo>
                  <a:pt x="0" y="144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3886200"/>
            <a:ext cx="76320" cy="2286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2640" y="167652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-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657600" y="3505320"/>
            <a:ext cx="0" cy="1676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3505320"/>
            <a:ext cx="2362320" cy="761760"/>
          </a:xfrm>
          <a:custGeom>
            <a:avLst/>
            <a:gdLst/>
            <a:ahLst/>
            <a:rect l="l" t="t" r="r" b="b"/>
            <a:pathLst>
              <a:path w="1488" h="480">
                <a:moveTo>
                  <a:pt x="0" y="0"/>
                </a:moveTo>
                <a:lnTo>
                  <a:pt x="768" y="0"/>
                </a:lnTo>
                <a:lnTo>
                  <a:pt x="1488" y="480"/>
                </a:lnTo>
                <a:lnTo>
                  <a:pt x="0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43792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0676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756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588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411880" y="1600200"/>
            <a:ext cx="3312720" cy="466200"/>
            <a:chOff x="5411880" y="1600200"/>
            <a:chExt cx="3312720" cy="466200"/>
          </a:xfrm>
        </p:grpSpPr>
        <p:sp>
          <p:nvSpPr>
            <p:cNvPr id="304" name=""/>
            <p:cNvSpPr/>
            <p:nvPr/>
          </p:nvSpPr>
          <p:spPr>
            <a:xfrm>
              <a:off x="5411880" y="1606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2676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61600" y="1600200"/>
              <a:ext cx="186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132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411880" y="2057400"/>
            <a:ext cx="3080160" cy="465840"/>
            <a:chOff x="5411880" y="2057400"/>
            <a:chExt cx="3080160" cy="465840"/>
          </a:xfrm>
        </p:grpSpPr>
        <p:sp>
          <p:nvSpPr>
            <p:cNvPr id="310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2676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60520" y="2057400"/>
              <a:ext cx="163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241040" y="25146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3920" y="3809880"/>
            <a:ext cx="75960" cy="2286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5568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27672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38280" y="3505320"/>
            <a:ext cx="1219320" cy="76176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3657600"/>
            <a:ext cx="380880" cy="4572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720" y="43434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50532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35360" y="2438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1160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8840" y="2514600"/>
            <a:ext cx="4209480" cy="510120"/>
            <a:chOff x="4578840" y="2514600"/>
            <a:chExt cx="4209480" cy="510120"/>
          </a:xfrm>
        </p:grpSpPr>
        <p:sp>
          <p:nvSpPr>
            <p:cNvPr id="342" name=""/>
            <p:cNvSpPr/>
            <p:nvPr/>
          </p:nvSpPr>
          <p:spPr>
            <a:xfrm>
              <a:off x="4578840" y="2514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24240" y="25146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19560" y="2743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57760" y="2514600"/>
              <a:ext cx="223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B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5288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7013520" y="32004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34320" y="31240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836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535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6040" y="4648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505320"/>
            <a:ext cx="10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38280" y="3809880"/>
            <a:ext cx="1676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362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38280" y="3809880"/>
            <a:ext cx="2362320" cy="457200"/>
          </a:xfrm>
          <a:custGeom>
            <a:avLst/>
            <a:gdLst/>
            <a:ahLst/>
            <a:rect l="l" t="t" r="r" b="b"/>
            <a:pathLst>
              <a:path w="1488" h="288">
                <a:moveTo>
                  <a:pt x="0" y="288"/>
                </a:moveTo>
                <a:lnTo>
                  <a:pt x="1488" y="288"/>
                </a:lnTo>
                <a:lnTo>
                  <a:pt x="1056" y="0"/>
                </a:lnTo>
                <a:lnTo>
                  <a:pt x="0" y="0"/>
                </a:lnTo>
                <a:lnTo>
                  <a:pt x="0" y="28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380988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3809880"/>
            <a:ext cx="380880" cy="4572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578840" y="1523880"/>
            <a:ext cx="3603600" cy="586440"/>
            <a:chOff x="4578840" y="1523880"/>
            <a:chExt cx="3603600" cy="586440"/>
          </a:xfrm>
        </p:grpSpPr>
        <p:sp>
          <p:nvSpPr>
            <p:cNvPr id="360" name=""/>
            <p:cNvSpPr/>
            <p:nvPr/>
          </p:nvSpPr>
          <p:spPr>
            <a:xfrm>
              <a:off x="6555600" y="152388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7220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7884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00560" y="16002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5288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05320" y="38098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384" y="0"/>
                </a:lnTo>
                <a:lnTo>
                  <a:pt x="384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578840" y="1981080"/>
            <a:ext cx="3578760" cy="586440"/>
            <a:chOff x="4578840" y="1981080"/>
            <a:chExt cx="3578760" cy="586440"/>
          </a:xfrm>
        </p:grpSpPr>
        <p:sp>
          <p:nvSpPr>
            <p:cNvPr id="368" name=""/>
            <p:cNvSpPr/>
            <p:nvPr/>
          </p:nvSpPr>
          <p:spPr>
            <a:xfrm>
              <a:off x="6554880" y="198108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7220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7884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0560" y="20574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5288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657600" y="3962520"/>
            <a:ext cx="76320" cy="228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43400" y="4038480"/>
            <a:ext cx="7632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4114800"/>
            <a:ext cx="7632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11444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053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Arancel a las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50532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35360" y="2438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1160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13520" y="32004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807440" y="2438280"/>
            <a:ext cx="4107960" cy="609480"/>
            <a:chOff x="4807440" y="2438280"/>
            <a:chExt cx="4107960" cy="609480"/>
          </a:xfrm>
        </p:grpSpPr>
        <p:sp>
          <p:nvSpPr>
            <p:cNvPr id="396" name=""/>
            <p:cNvSpPr/>
            <p:nvPr/>
          </p:nvSpPr>
          <p:spPr>
            <a:xfrm>
              <a:off x="4807440" y="2438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96840" y="24382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9624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34080" y="2438280"/>
              <a:ext cx="223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B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57800" y="2666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10640" y="304776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586836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535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06040" y="4648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051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38280" y="3809880"/>
            <a:ext cx="1676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362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38280" y="3809880"/>
            <a:ext cx="2362320" cy="457200"/>
          </a:xfrm>
          <a:custGeom>
            <a:avLst/>
            <a:gdLst/>
            <a:ahLst/>
            <a:rect l="l" t="t" r="r" b="b"/>
            <a:pathLst>
              <a:path w="1488" h="288">
                <a:moveTo>
                  <a:pt x="0" y="288"/>
                </a:moveTo>
                <a:lnTo>
                  <a:pt x="1488" y="288"/>
                </a:lnTo>
                <a:lnTo>
                  <a:pt x="1056" y="0"/>
                </a:lnTo>
                <a:lnTo>
                  <a:pt x="0" y="0"/>
                </a:lnTo>
                <a:lnTo>
                  <a:pt x="0" y="28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38280" y="380988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43200" y="3809880"/>
            <a:ext cx="380880" cy="4572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05320" y="38098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384" y="0"/>
                </a:lnTo>
                <a:lnTo>
                  <a:pt x="384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273920" y="1981080"/>
            <a:ext cx="3994200" cy="536040"/>
            <a:chOff x="4273920" y="1981080"/>
            <a:chExt cx="3994200" cy="536040"/>
          </a:xfrm>
        </p:grpSpPr>
        <p:sp>
          <p:nvSpPr>
            <p:cNvPr id="415" name=""/>
            <p:cNvSpPr/>
            <p:nvPr/>
          </p:nvSpPr>
          <p:spPr>
            <a:xfrm>
              <a:off x="5792400" y="1981080"/>
              <a:ext cx="247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(imp)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0080" y="2286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7392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87360" y="205740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2428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657600" y="3962520"/>
            <a:ext cx="76320" cy="228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43400" y="4038480"/>
            <a:ext cx="7632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4114800"/>
            <a:ext cx="7632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5268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6252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11444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Restricción cuantitativa a las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112360" y="1523880"/>
            <a:ext cx="3222360" cy="459720"/>
            <a:chOff x="5112360" y="1523880"/>
            <a:chExt cx="3222360" cy="459720"/>
          </a:xfrm>
        </p:grpSpPr>
        <p:sp>
          <p:nvSpPr>
            <p:cNvPr id="430" name=""/>
            <p:cNvSpPr/>
            <p:nvPr/>
          </p:nvSpPr>
          <p:spPr>
            <a:xfrm>
              <a:off x="6707880" y="152388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2448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12360" y="1523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62360" y="18288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01400" y="15238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57600" y="3505320"/>
            <a:ext cx="0" cy="1676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38280" y="2971800"/>
            <a:ext cx="1219320" cy="533520"/>
          </a:xfrm>
          <a:custGeom>
            <a:avLst/>
            <a:gdLst/>
            <a:ahLst/>
            <a:rect l="l" t="t" r="r" b="b"/>
            <a:pathLst>
              <a:path w="1488" h="480">
                <a:moveTo>
                  <a:pt x="0" y="0"/>
                </a:moveTo>
                <a:lnTo>
                  <a:pt x="768" y="0"/>
                </a:lnTo>
                <a:lnTo>
                  <a:pt x="1488" y="480"/>
                </a:lnTo>
                <a:lnTo>
                  <a:pt x="0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43792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34640" y="2797920"/>
            <a:ext cx="1485360" cy="15667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0676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511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7560" y="27432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0588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411880" y="1600200"/>
            <a:ext cx="3038040" cy="466200"/>
            <a:chOff x="5411880" y="1600200"/>
            <a:chExt cx="3038040" cy="466200"/>
          </a:xfrm>
        </p:grpSpPr>
        <p:sp>
          <p:nvSpPr>
            <p:cNvPr id="451" name=""/>
            <p:cNvSpPr/>
            <p:nvPr/>
          </p:nvSpPr>
          <p:spPr>
            <a:xfrm>
              <a:off x="5411880" y="1606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2676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61240" y="160020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9132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411880" y="2057400"/>
            <a:ext cx="3278520" cy="465840"/>
            <a:chOff x="5411880" y="2057400"/>
            <a:chExt cx="3278520" cy="465840"/>
          </a:xfrm>
        </p:grpSpPr>
        <p:sp>
          <p:nvSpPr>
            <p:cNvPr id="457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2676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60880" y="2057400"/>
              <a:ext cx="182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7241040" y="25146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2971800"/>
            <a:ext cx="1752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3623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7008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6576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97144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2971800"/>
            <a:ext cx="1752840" cy="5335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666880" y="2971800"/>
            <a:ext cx="381240" cy="4572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55200" y="4648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3048120"/>
            <a:ext cx="7632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95120" y="2787480"/>
            <a:ext cx="2042640" cy="9669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2984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87560" y="3048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106960" y="1600200"/>
            <a:ext cx="3228120" cy="459720"/>
            <a:chOff x="5106960" y="1600200"/>
            <a:chExt cx="3228120" cy="459720"/>
          </a:xfrm>
        </p:grpSpPr>
        <p:sp>
          <p:nvSpPr>
            <p:cNvPr id="489" name=""/>
            <p:cNvSpPr/>
            <p:nvPr/>
          </p:nvSpPr>
          <p:spPr>
            <a:xfrm>
              <a:off x="5106960" y="1600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1500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08240" y="160020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106960" y="1981080"/>
            <a:ext cx="3351600" cy="466200"/>
            <a:chOff x="5106960" y="1981080"/>
            <a:chExt cx="3351600" cy="466200"/>
          </a:xfrm>
        </p:grpSpPr>
        <p:sp>
          <p:nvSpPr>
            <p:cNvPr id="495" name=""/>
            <p:cNvSpPr/>
            <p:nvPr/>
          </p:nvSpPr>
          <p:spPr>
            <a:xfrm>
              <a:off x="510696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21840" y="1987560"/>
              <a:ext cx="77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77120" y="221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08240" y="1981080"/>
              <a:ext cx="17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86400" y="221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60160" y="25146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3400" y="5181480"/>
            <a:ext cx="66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83800" y="44956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00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352680" y="4572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34340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00400" y="2971800"/>
            <a:ext cx="7632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393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 las 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3:24:24Z</dcterms:created>
  <dc:creator>Marco Hauva</dc:creator>
  <dc:description/>
  <dc:language>en-US</dc:language>
  <cp:lastModifiedBy>Marco Hauva</cp:lastModifiedBy>
  <dcterms:modified xsi:type="dcterms:W3CDTF">2004-10-07T13:37:40Z</dcterms:modified>
  <cp:revision>32</cp:revision>
  <dc:subject/>
  <dc:title>Análisis de Variación de Excedentes</dc:title>
</cp:coreProperties>
</file>