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himes.wav" ContentType="audio/x-wav"/>
  <Override PartName="/ppt/media/Clic.wav" ContentType="audio/x-wav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EC2C-F3F3-4A50-AF01-2053F30A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B45C-49AE-4DB0-8E5D-0990DFC7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4CBD-C0E2-4BFE-A432-FC8C28F4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759D-0B5B-42A8-9F5C-B2CC168B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D984-99F1-416B-8E58-44E0EF86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8F9B-6C96-44C7-A7AC-99747B4D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A4E6-AF06-4B60-96DE-ABCCB511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6642-D965-40E4-AF74-BB029350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729A-C049-475A-90D4-0F708F3B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A4B7-B1CA-4E2E-8886-B217EF17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E092-C114-4E56-A425-0206B602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E174-0F18-46B8-8A8C-12A96763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03AE-3586-4D4C-83BB-683736BC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6547-C1F2-4816-B592-6A92A0E9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CC3C-A41A-4D5D-9702-CF0A9E86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C6F9-1DB8-4181-90DF-8CF552D4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32BB-F63E-4194-AA29-52993EEA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322B-3CAE-45B5-B61A-C11214ED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E2DD-E41B-4146-BE42-1DFD426D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CF82-4928-4B90-9F04-4DF525E6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6E54-BCEC-4FB0-9A80-E0221E27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EF0E-561B-4D69-ABAF-A6343C91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EA13-CBC7-4DA7-A29F-D1DEADA7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974E-EDB4-429A-ADD3-07B8979A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D74F-A370-47F6-9EFE-CE0AF0A4C4B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19E8-DBC6-4A89-AD9E-5919A05074C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himes.wav"/><Relationship Id="rId4" Type="http://schemas.openxmlformats.org/officeDocument/2006/relationships/audio" Target="../media/Clic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AS PREFERENCIAS</a:t>
            </a:r>
            <a:br>
              <a:rPr sz="3200"/>
            </a:b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Sirven para ordenar las distintas combinaciones de bienes en términos de satisfacción.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A = (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,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) ; B = (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, 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-33588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Preferencia (A </a:t>
            </a:r>
            <a:r>
              <a:rPr b="0" lang="es-ES" sz="21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B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La combinación A proporciona mayor bienestar que la B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“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Prefiere la combinación A a la B”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-33588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Indiferencia (A </a:t>
            </a:r>
            <a:r>
              <a:rPr b="0" lang="es-ES" sz="21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B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Ambas combinaciones proporcionan igual bienestar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            “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Es indiferente entre la canasta A y la B”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58680" y="1279440"/>
            <a:ext cx="6950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eca07a"/>
                </a:solidFill>
                <a:uFillTx/>
                <a:latin typeface="Times New Roman"/>
              </a:rPr>
              <a:t>Restricción presupuestari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28400" y="2049120"/>
            <a:ext cx="73278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Restricción Presupuestaria (FPC) y el Conjunto Factib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oste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Variación en Ingres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Variación en el precio de un bie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D3777-E0FC-4DE1-9CBC-F4A9A73B1C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500"/>
                            </p:stCondLst>
                            <p:childTnLst>
                              <p:par>
                                <p:cTn id="7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0"/>
                            </p:stCondLst>
                            <p:childTnLst>
                              <p:par>
                                <p:cTn id="7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7500"/>
                            </p:stCondLst>
                            <p:childTnLst>
                              <p:par>
                                <p:cTn id="7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El Conjunto Factible y la Recta presupuestaria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695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75000"/>
              </a:lnSpc>
              <a:spcBef>
                <a:spcPts val="425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Conjunto Presupuestario</a:t>
            </a:r>
            <a:r>
              <a:rPr b="0" lang="es-ES_tradnl" sz="1800" spc="-1" strike="noStrike">
                <a:solidFill>
                  <a:srgbClr val="eca07a"/>
                </a:solidFill>
                <a:latin typeface="Times New Roman"/>
              </a:rPr>
              <a:t>: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 Todas las combinaciones de bienes a los que puede acceder el individuo dada una renta monetaria disponible para el gasto y unos precios.</a:t>
            </a: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    </a:t>
            </a: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(Área OAB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I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just">
              <a:lnSpc>
                <a:spcPct val="75000"/>
              </a:lnSpc>
              <a:spcBef>
                <a:spcPts val="425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Recta presupuestaria</a:t>
            </a:r>
            <a:r>
              <a:rPr b="0" lang="es-ES_tradnl" sz="1800" spc="-1" strike="noStrike">
                <a:solidFill>
                  <a:srgbClr val="eca07a"/>
                </a:solidFill>
                <a:latin typeface="Times New Roman"/>
              </a:rPr>
              <a:t>:</a:t>
            </a: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Frontera exterior del Conjunto Factible.</a:t>
            </a: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17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lang="es-ES_tradnl" sz="2200" spc="-1" strike="noStrike">
                <a:solidFill>
                  <a:srgbClr val="ff3300"/>
                </a:solidFill>
                <a:latin typeface="Times New Roman"/>
              </a:rPr>
              <a:t>recta AB</a:t>
            </a:r>
            <a:r>
              <a:rPr b="0" lang="es-ES_tradnl" sz="17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I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724280" y="2057400"/>
          <a:ext cx="42674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2674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5486400" y="2743200"/>
            <a:ext cx="0" cy="22096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4952880"/>
            <a:ext cx="2362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86400" y="3276720"/>
            <a:ext cx="1752480" cy="1676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81680" y="4952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24280" y="3124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00600" y="4952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05520" y="25909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86400" y="3276720"/>
            <a:ext cx="1752480" cy="1676160"/>
          </a:xfrm>
          <a:custGeom>
            <a:avLst/>
            <a:gdLst/>
            <a:ahLst/>
            <a:rect l="l" t="t" r="r" b="b"/>
            <a:pathLst>
              <a:path w="1104" h="1056">
                <a:moveTo>
                  <a:pt x="0" y="0"/>
                </a:moveTo>
                <a:lnTo>
                  <a:pt x="0" y="1056"/>
                </a:lnTo>
                <a:lnTo>
                  <a:pt x="1104" y="10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43800" y="49528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9233A-FB17-4A55-84DB-7F66C9C995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18" presetSubtype="6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Costo de Oportunidad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400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ca07a"/>
                </a:solidFill>
                <a:latin typeface="Times New Roman"/>
              </a:rPr>
              <a:t>Costo de Oportunidad</a:t>
            </a:r>
            <a:r>
              <a:rPr b="0" lang="es-ES" sz="2200" spc="-1" strike="noStrike">
                <a:solidFill>
                  <a:srgbClr val="eca07a"/>
                </a:solidFill>
                <a:latin typeface="Times New Roman"/>
              </a:rPr>
              <a:t>: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Cantidad a la que se debe renunciar de un bien para incrementar la cantidad del otr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Pendiente de la FP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- 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 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2286000"/>
            <a:ext cx="0" cy="27432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38680" y="5029200"/>
            <a:ext cx="2819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2666880"/>
            <a:ext cx="1828800" cy="2362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227664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6934320" y="3961440"/>
            <a:ext cx="1512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102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91520" y="51055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 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20574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077320" y="5029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3237A-C12B-4305-BF81-8282E05471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50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Variaciones en el Ingreso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15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uando la renta monetaria aumenta (disminuye)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Conjunto Factible se amplia (contra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Recta Presupuestaria se desplaza paralelamente hacia fuera (adentro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pendiente no se alter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72200" y="2286000"/>
            <a:ext cx="0" cy="22096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72200" y="4495680"/>
            <a:ext cx="2286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72200" y="3505320"/>
            <a:ext cx="914400" cy="99036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4120" y="3276720"/>
            <a:ext cx="9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81680" y="44956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2743200"/>
            <a:ext cx="121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2895480"/>
            <a:ext cx="1447920" cy="1600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81680" y="198108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I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&gt; I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91520" y="44956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15000" y="2133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77320" y="449568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6989A-A24B-4FA3-A200-BE3111A631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500"/>
                            </p:stCondLst>
                            <p:childTnLst>
                              <p:par>
                                <p:cTn id="79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700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850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Variación en el precio de uno de los biene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82580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aumento (disminución) del precio de uno de los bienes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duce (amplia) el Conjunto Factib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Desplaza la Recta Presupuestaria hacia el interior (exterior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ltera la pendiente de la Recta Presupuestari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62720" y="1981080"/>
            <a:ext cx="0" cy="30481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62720" y="5029200"/>
            <a:ext cx="3200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62720" y="2514600"/>
            <a:ext cx="2286000" cy="251460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62720" y="2514600"/>
            <a:ext cx="990360" cy="2514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48520" y="502920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30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34320" y="228600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Tahoma"/>
              </a:rPr>
              <a:t>1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&gt; p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Tahoma"/>
              </a:rPr>
              <a:t>0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52880" y="236232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0120" y="51055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30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6248520" y="4724280"/>
            <a:ext cx="3038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391520" y="4724280"/>
            <a:ext cx="1512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43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86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86600" y="30621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 &gt; 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5520" y="19051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18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500"/>
                            </p:stCondLst>
                            <p:childTnLst>
                              <p:par>
                                <p:cTn id="80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9500"/>
                            </p:stCondLst>
                            <p:childTnLst>
                              <p:par>
                                <p:cTn id="814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45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Ejemplos de restricciones presupuestaria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1557360"/>
            <a:ext cx="75438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mpuestos Direc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mpuestos Indirec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acionamien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antidades gratuitas de un bi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Subvención para el consumo de una determinada cantidad del bi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recios distintos en función de la cantidad demand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0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2500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0"/>
                            </p:stCondLst>
                            <p:childTnLst>
                              <p:par>
                                <p:cTn id="8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7500"/>
                            </p:stCondLst>
                            <p:childTnLst>
                              <p:par>
                                <p:cTn id="8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Impuestos Directo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496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Desplazan paralelamente la Recta Presupuestaria sin alterar su pendiente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Dos tipos: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roporcionales a la renta (t) o de cuantía fija (T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+</a:t>
            </a:r>
            <a:r>
              <a:rPr b="0" lang="es-ES_tradnl" sz="4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I(1-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t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+</a:t>
            </a:r>
            <a:r>
              <a:rPr b="0" lang="es-ES_tradnl" sz="4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I -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T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3276720"/>
            <a:ext cx="914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772400" y="541008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4114800"/>
            <a:ext cx="1600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(1-t)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541008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(1-t)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72200" y="5334120"/>
            <a:ext cx="2514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72200" y="2438280"/>
            <a:ext cx="0" cy="289584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72200" y="3429000"/>
            <a:ext cx="1676520" cy="1905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4267080"/>
            <a:ext cx="914400" cy="10670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2209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05920" y="53341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300360" y="4005360"/>
            <a:ext cx="358920" cy="287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732360" y="4508640"/>
            <a:ext cx="360360" cy="288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3000"/>
                            </p:stCondLst>
                            <p:childTnLst>
                              <p:par>
                                <p:cTn id="8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Impuestos Indirecto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Actúan igual que una variación del precio del bien que gravan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Dos tipos: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unitarios sobre la cantidad (t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); ad-valorem (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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2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(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+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t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= I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(1+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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= I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62720" y="1752480"/>
            <a:ext cx="0" cy="32767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62720" y="5029200"/>
            <a:ext cx="29718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62720" y="2514600"/>
            <a:ext cx="2286000" cy="25146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2514600"/>
            <a:ext cx="990360" cy="2514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867280" y="515772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(1+ </a:t>
            </a:r>
            <a:r>
              <a:rPr b="0" lang="es-ES_tradnl" sz="1400" spc="-1" strike="noStrike">
                <a:solidFill>
                  <a:srgbClr val="402000"/>
                </a:solidFill>
                <a:latin typeface="Symbol"/>
                <a:ea typeface="Symbol"/>
              </a:rPr>
              <a:t>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)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0120" y="51055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48520" y="4724280"/>
            <a:ext cx="3038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7391520" y="4724280"/>
            <a:ext cx="1512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3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05720" y="28195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 &gt; 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1600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22960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05520" y="23623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5400000">
            <a:off x="6373080" y="4580640"/>
            <a:ext cx="287280" cy="1152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95"/>
                </a:lnTo>
                <a:cubicBezTo>
                  <a:pt x="10800" y="10495"/>
                  <a:pt x="5400" y="11395"/>
                  <a:pt x="0" y="11395"/>
                </a:cubicBezTo>
                <a:cubicBezTo>
                  <a:pt x="5400" y="11395"/>
                  <a:pt x="10800" y="12295"/>
                  <a:pt x="10800" y="1319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8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Racionamiento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94920" y="182880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Solo se puede demandar hasta  una determinada cantidad del bien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*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Nuevo Conjunto Factible: 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(I/p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)AQ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Nueva Recta de presupuesto: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(I/p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)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= I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*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10080" y="2286000"/>
            <a:ext cx="0" cy="25909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10080" y="2819520"/>
            <a:ext cx="137160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81680" y="3886200"/>
            <a:ext cx="0" cy="99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10080" y="4876920"/>
            <a:ext cx="3429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76920" y="2666880"/>
            <a:ext cx="561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5720" y="3505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29400" y="48769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*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924680" y="495288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10080" y="2819520"/>
            <a:ext cx="2667240" cy="205740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477120" y="228600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Q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Q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*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19810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534520" y="48769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500"/>
                            </p:stCondLst>
                            <p:childTnLst>
                              <p:par>
                                <p:cTn id="8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Cantidades gratuitas de un bien </a:t>
            </a:r>
            <a:br>
              <a:rPr sz="3400"/>
            </a:b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El individuo no paga nada por una determinada cantidad del bien (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0   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&gt; 0   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&gt;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/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                           si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-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) 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= I       si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&gt;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10080" y="2743200"/>
            <a:ext cx="0" cy="25909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10080" y="5334120"/>
            <a:ext cx="312444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410080" y="3276720"/>
            <a:ext cx="990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00800" y="3276720"/>
            <a:ext cx="1371600" cy="2057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6920" y="320040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3276720"/>
            <a:ext cx="0" cy="205740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5880" y="5486400"/>
            <a:ext cx="609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08720" y="5445000"/>
            <a:ext cx="1143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 + 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25909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458200" y="53341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5400000">
            <a:off x="7668360" y="486972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70920 h 1224000"/>
              <a:gd name="textAreaBottom" fmla="*/ 115308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8"/>
                  <a:pt x="10800" y="4015"/>
                </a:cubicBezTo>
                <a:lnTo>
                  <a:pt x="10800" y="6434"/>
                </a:lnTo>
                <a:cubicBezTo>
                  <a:pt x="10800" y="8442"/>
                  <a:pt x="5400" y="10449"/>
                  <a:pt x="0" y="10449"/>
                </a:cubicBezTo>
                <a:cubicBezTo>
                  <a:pt x="5400" y="10449"/>
                  <a:pt x="10800" y="12457"/>
                  <a:pt x="10800" y="14464"/>
                </a:cubicBezTo>
                <a:lnTo>
                  <a:pt x="10800" y="17585"/>
                </a:lnTo>
                <a:cubicBezTo>
                  <a:pt x="10800" y="1959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500"/>
                            </p:stCondLst>
                            <p:childTnLst>
                              <p:par>
                                <p:cTn id="916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8000"/>
                            </p:stCondLst>
                            <p:childTnLst>
                              <p:par>
                                <p:cTn id="92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92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AS PREFERENCIAS</a:t>
            </a:r>
            <a:br>
              <a:rPr sz="3200"/>
            </a:b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ropiedades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Complitud.- Todas las combinaciones pueden ordenarse 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      (A </a:t>
            </a:r>
            <a:r>
              <a:rPr b="0" lang="es-ES" sz="26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B; ó B </a:t>
            </a:r>
            <a:r>
              <a:rPr b="0" lang="es-ES" sz="26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;  ó B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     </a:t>
            </a:r>
            <a:r>
              <a:rPr b="0" lang="es-ES" sz="24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y B).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Transitividad.- Dadas tres canastas A, B, y C, se cumple que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                 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Si A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B y B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C </a:t>
            </a:r>
            <a:r>
              <a:rPr b="0" lang="es-ES" sz="2400" spc="-1" strike="noStrike">
                <a:solidFill>
                  <a:srgbClr val="402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C. 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Más es mejor.- El individuo siempre prefiere combinaciones que tienen una cantidad mayor de al menos uno de los bien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Subsidio al precio para el consumo de una determinada cantidad del bien (Q</a:t>
            </a:r>
            <a:r>
              <a:rPr b="0" lang="es-ES_tradnl" sz="3400" spc="-1" strike="noStrike" baseline="-25000">
                <a:solidFill>
                  <a:srgbClr val="eca07a"/>
                </a:solidFill>
                <a:latin typeface="Times New Roman"/>
              </a:rPr>
              <a:t>x</a:t>
            </a: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*)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 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– s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– s)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 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= (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-s)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-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)+ (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– s)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 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  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&gt;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</a:t>
            </a:r>
            <a:r>
              <a:rPr b="0" lang="es-ES_tradnl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257800" y="1981080"/>
            <a:ext cx="0" cy="312444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57800" y="5105520"/>
            <a:ext cx="3505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257800" y="2743200"/>
            <a:ext cx="99072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48520" y="3048120"/>
            <a:ext cx="1371600" cy="2057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48320" y="25909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48520" y="3048120"/>
            <a:ext cx="0" cy="205740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525780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20000" y="5229360"/>
            <a:ext cx="190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 + (I-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)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486040" y="3048120"/>
            <a:ext cx="762120" cy="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5410080" y="2819520"/>
            <a:ext cx="15264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144"/>
                </a:moveTo>
                <a:cubicBezTo>
                  <a:pt x="28" y="80"/>
                  <a:pt x="8" y="16"/>
                  <a:pt x="0" y="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7162920" y="3885120"/>
            <a:ext cx="45648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0" y="4800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10080" y="28195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00600" y="19051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6104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292720" y="2781360"/>
            <a:ext cx="1511280" cy="230328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5400000">
            <a:off x="7667280" y="443700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770"/>
                </a:lnTo>
                <a:cubicBezTo>
                  <a:pt x="10800" y="12670"/>
                  <a:pt x="5400" y="13570"/>
                  <a:pt x="0" y="13570"/>
                </a:cubicBezTo>
                <a:cubicBezTo>
                  <a:pt x="5400" y="13570"/>
                  <a:pt x="10800" y="14470"/>
                  <a:pt x="10800" y="1537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500"/>
                            </p:stCondLst>
                            <p:childTnLst>
                              <p:par>
                                <p:cTn id="940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8000"/>
                            </p:stCondLst>
                            <p:childTnLst>
                              <p:par>
                                <p:cTn id="94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951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4500"/>
                            </p:stCondLst>
                            <p:childTnLst>
                              <p:par>
                                <p:cTn id="958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96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6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9000"/>
                            </p:stCondLst>
                            <p:childTnLst>
                              <p:par>
                                <p:cTn id="972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1500"/>
                            </p:stCondLst>
                            <p:childTnLst>
                              <p:par>
                                <p:cTn id="9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2000"/>
                            </p:stCondLst>
                            <p:childTnLst>
                              <p:par>
                                <p:cTn id="97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Precios distintos en función de la cantidad demandada.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46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 &lt;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&gt;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+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 = I    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x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x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</a:t>
            </a:r>
            <a:r>
              <a:rPr b="0" lang="es-ES_tradnl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-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)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&gt;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6104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4500720" y="1989000"/>
            <a:ext cx="4114800" cy="3508200"/>
            <a:chOff x="4500720" y="1989000"/>
            <a:chExt cx="4114800" cy="3508200"/>
          </a:xfrm>
        </p:grpSpPr>
        <p:sp>
          <p:nvSpPr>
            <p:cNvPr id="411" name=""/>
            <p:cNvSpPr/>
            <p:nvPr/>
          </p:nvSpPr>
          <p:spPr>
            <a:xfrm>
              <a:off x="5034240" y="2141280"/>
              <a:ext cx="0" cy="28958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34240" y="5037120"/>
              <a:ext cx="35812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91440" y="51130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53520" y="5160960"/>
              <a:ext cx="1828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 + (I-p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)/p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1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5186520" y="3894120"/>
              <a:ext cx="533520" cy="0"/>
            </a:xfrm>
            <a:prstGeom prst="line">
              <a:avLst/>
            </a:prstGeom>
            <a:ln w="9360">
              <a:solidFill>
                <a:srgbClr val="402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15120" y="3589200"/>
              <a:ext cx="76320" cy="2286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144"/>
                  </a:moveTo>
                  <a:cubicBezTo>
                    <a:pt x="28" y="80"/>
                    <a:pt x="8" y="16"/>
                    <a:pt x="0" y="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6863040" y="4426560"/>
              <a:ext cx="3038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86520" y="358920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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558120" y="47322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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34240" y="2827080"/>
              <a:ext cx="685800" cy="1067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20040" y="3894120"/>
              <a:ext cx="1676520" cy="11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5720040" y="3893760"/>
              <a:ext cx="0" cy="1143000"/>
            </a:xfrm>
            <a:prstGeom prst="line">
              <a:avLst/>
            </a:prstGeom>
            <a:ln w="9360">
              <a:solidFill>
                <a:srgbClr val="402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957920" y="2827080"/>
              <a:ext cx="8384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402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500720" y="2674800"/>
              <a:ext cx="762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I/p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y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77040" y="198900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800" spc="-1" strike="noStrike" baseline="-25000">
                  <a:solidFill>
                    <a:srgbClr val="402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5400000">
              <a:off x="7372440" y="4296960"/>
              <a:ext cx="289080" cy="172728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45000 h 1727280"/>
                <a:gd name="textAreaBottom" fmla="*/ 168228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0330"/>
                  </a:lnTo>
                  <a:cubicBezTo>
                    <a:pt x="10800" y="11230"/>
                    <a:pt x="5400" y="12130"/>
                    <a:pt x="0" y="12130"/>
                  </a:cubicBezTo>
                  <a:cubicBezTo>
                    <a:pt x="5400" y="12130"/>
                    <a:pt x="10800" y="13030"/>
                    <a:pt x="10800" y="1393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0800000">
            <a:off x="2850840" y="-1778040"/>
            <a:ext cx="7744680" cy="667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47641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4764131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Elección óptim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003640" y="515772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10800000">
            <a:off x="2634840" y="-1715760"/>
            <a:ext cx="774468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10800000">
            <a:off x="2346120" y="-1767960"/>
            <a:ext cx="7619760" cy="708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79" y="44"/>
                </a:moveTo>
                <a:arcTo wR="10800" hR="10800" stAng="-5088027" swAng="4452156"/>
                <a:lnTo>
                  <a:pt x="10800" y="10800"/>
                </a:lnTo>
                <a:close/>
              </a:path>
              <a:path fill="none" w="21600" h="21600">
                <a:moveTo>
                  <a:pt x="11779" y="44"/>
                </a:moveTo>
                <a:arcTo wR="10800" hR="10800" stAng="-5088027" swAng="4452156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516720" y="494172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32720" y="4653000"/>
            <a:ext cx="758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74960" y="2814480"/>
            <a:ext cx="539640" cy="1800"/>
          </a:xfrm>
          <a:custGeom>
            <a:avLst/>
            <a:gdLst/>
            <a:ahLst/>
            <a:rect l="l" t="t" r="r" b="b"/>
            <a:pathLst>
              <a:path w="340" h="1">
                <a:moveTo>
                  <a:pt x="0" y="0"/>
                </a:moveTo>
                <a:lnTo>
                  <a:pt x="34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13160" y="2809800"/>
            <a:ext cx="1440" cy="789120"/>
          </a:xfrm>
          <a:custGeom>
            <a:avLst/>
            <a:gdLst/>
            <a:ahLst/>
            <a:rect l="l" t="t" r="r" b="b"/>
            <a:pathLst>
              <a:path w="1" h="497">
                <a:moveTo>
                  <a:pt x="0" y="0"/>
                </a:moveTo>
                <a:lnTo>
                  <a:pt x="1" y="497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79640" y="3213000"/>
            <a:ext cx="1057320" cy="1800"/>
          </a:xfrm>
          <a:custGeom>
            <a:avLst/>
            <a:gdLst/>
            <a:ahLst/>
            <a:rect l="l" t="t" r="r" b="b"/>
            <a:pathLst>
              <a:path w="666" h="1">
                <a:moveTo>
                  <a:pt x="0" y="0"/>
                </a:moveTo>
                <a:lnTo>
                  <a:pt x="666" y="1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670120" y="3209760"/>
            <a:ext cx="1800" cy="400320"/>
          </a:xfrm>
          <a:custGeom>
            <a:avLst/>
            <a:gdLst/>
            <a:ahLst/>
            <a:rect l="l" t="t" r="r" b="b"/>
            <a:pathLst>
              <a:path w="1" h="252">
                <a:moveTo>
                  <a:pt x="0" y="0"/>
                </a:moveTo>
                <a:lnTo>
                  <a:pt x="1" y="252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33720" y="3213000"/>
            <a:ext cx="1440" cy="411120"/>
          </a:xfrm>
          <a:custGeom>
            <a:avLst/>
            <a:gdLst/>
            <a:ahLst/>
            <a:rect l="l" t="t" r="r" b="b"/>
            <a:pathLst>
              <a:path w="1" h="259">
                <a:moveTo>
                  <a:pt x="0" y="0"/>
                </a:moveTo>
                <a:lnTo>
                  <a:pt x="0" y="259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627280" y="3179880"/>
            <a:ext cx="73080" cy="698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41440" y="2809800"/>
            <a:ext cx="1800" cy="403200"/>
          </a:xfrm>
          <a:custGeom>
            <a:avLst/>
            <a:gdLst/>
            <a:ahLst/>
            <a:rect l="l" t="t" r="r" b="b"/>
            <a:pathLst>
              <a:path w="1" h="254">
                <a:moveTo>
                  <a:pt x="1" y="0"/>
                </a:moveTo>
                <a:lnTo>
                  <a:pt x="0" y="254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13160" y="3427560"/>
            <a:ext cx="161640" cy="1440"/>
          </a:xfrm>
          <a:custGeom>
            <a:avLst/>
            <a:gdLst/>
            <a:ahLst/>
            <a:rect l="l" t="t" r="r" b="b"/>
            <a:pathLst>
              <a:path w="102" h="1">
                <a:moveTo>
                  <a:pt x="0" y="0"/>
                </a:moveTo>
                <a:lnTo>
                  <a:pt x="102" y="1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411280" y="2565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56000" y="29242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484360" y="2781360"/>
            <a:ext cx="73080" cy="73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87640" y="3178080"/>
            <a:ext cx="82440" cy="82800"/>
          </a:xfrm>
          <a:custGeom>
            <a:avLst/>
            <a:gdLst/>
            <a:ahLst/>
            <a:rect l="l" t="t" r="r" b="b"/>
            <a:pathLst>
              <a:path w="52" h="52">
                <a:moveTo>
                  <a:pt x="52" y="30"/>
                </a:moveTo>
                <a:lnTo>
                  <a:pt x="24" y="0"/>
                </a:lnTo>
                <a:lnTo>
                  <a:pt x="0" y="22"/>
                </a:lnTo>
                <a:lnTo>
                  <a:pt x="20" y="52"/>
                </a:lnTo>
                <a:lnTo>
                  <a:pt x="52" y="3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7080" bIns="370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87640" y="2997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514600" y="3571920"/>
            <a:ext cx="528480" cy="4680"/>
          </a:xfrm>
          <a:custGeom>
            <a:avLst/>
            <a:gdLst/>
            <a:ahLst/>
            <a:rect l="l" t="t" r="r" b="b"/>
            <a:pathLst>
              <a:path w="333" h="3">
                <a:moveTo>
                  <a:pt x="0" y="3"/>
                </a:moveTo>
                <a:lnTo>
                  <a:pt x="333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708360" y="4110120"/>
            <a:ext cx="539640" cy="1440"/>
          </a:xfrm>
          <a:custGeom>
            <a:avLst/>
            <a:gdLst/>
            <a:ahLst/>
            <a:rect l="l" t="t" r="r" b="b"/>
            <a:pathLst>
              <a:path w="340" h="1">
                <a:moveTo>
                  <a:pt x="0" y="0"/>
                </a:moveTo>
                <a:lnTo>
                  <a:pt x="34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260960" y="4118040"/>
            <a:ext cx="9360" cy="772920"/>
          </a:xfrm>
          <a:custGeom>
            <a:avLst/>
            <a:gdLst/>
            <a:ahLst/>
            <a:rect l="l" t="t" r="r" b="b"/>
            <a:pathLst>
              <a:path w="6" h="487">
                <a:moveTo>
                  <a:pt x="0" y="0"/>
                </a:moveTo>
                <a:lnTo>
                  <a:pt x="6" y="487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71960" y="4514760"/>
            <a:ext cx="876240" cy="1800"/>
          </a:xfrm>
          <a:custGeom>
            <a:avLst/>
            <a:gdLst/>
            <a:ahLst/>
            <a:rect l="l" t="t" r="r" b="b"/>
            <a:pathLst>
              <a:path w="552" h="1">
                <a:moveTo>
                  <a:pt x="0" y="0"/>
                </a:moveTo>
                <a:lnTo>
                  <a:pt x="552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48200" y="4513320"/>
            <a:ext cx="14400" cy="434880"/>
          </a:xfrm>
          <a:custGeom>
            <a:avLst/>
            <a:gdLst/>
            <a:ahLst/>
            <a:rect l="l" t="t" r="r" b="b"/>
            <a:pathLst>
              <a:path w="9" h="274">
                <a:moveTo>
                  <a:pt x="0" y="0"/>
                </a:moveTo>
                <a:lnTo>
                  <a:pt x="9" y="27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794120" y="4510080"/>
            <a:ext cx="11160" cy="428760"/>
          </a:xfrm>
          <a:custGeom>
            <a:avLst/>
            <a:gdLst/>
            <a:ahLst/>
            <a:rect l="l" t="t" r="r" b="b"/>
            <a:pathLst>
              <a:path w="7" h="270">
                <a:moveTo>
                  <a:pt x="0" y="0"/>
                </a:moveTo>
                <a:lnTo>
                  <a:pt x="7" y="27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075200" y="4105440"/>
            <a:ext cx="1440" cy="403200"/>
          </a:xfrm>
          <a:custGeom>
            <a:avLst/>
            <a:gdLst/>
            <a:ahLst/>
            <a:rect l="l" t="t" r="r" b="b"/>
            <a:pathLst>
              <a:path w="1" h="254">
                <a:moveTo>
                  <a:pt x="1" y="0"/>
                </a:moveTo>
                <a:lnTo>
                  <a:pt x="0" y="254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265640" y="4718160"/>
            <a:ext cx="685800" cy="4680"/>
          </a:xfrm>
          <a:custGeom>
            <a:avLst/>
            <a:gdLst/>
            <a:ahLst/>
            <a:rect l="l" t="t" r="r" b="b"/>
            <a:pathLst>
              <a:path w="432" h="3">
                <a:moveTo>
                  <a:pt x="0" y="3"/>
                </a:moveTo>
                <a:lnTo>
                  <a:pt x="432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45040" y="3860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59280" y="4292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18120" y="4076640"/>
            <a:ext cx="72720" cy="73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762440" y="4484520"/>
            <a:ext cx="50760" cy="54000"/>
          </a:xfrm>
          <a:custGeom>
            <a:avLst/>
            <a:gdLst/>
            <a:ahLst/>
            <a:rect l="l" t="t" r="r" b="b"/>
            <a:pathLst>
              <a:path w="32" h="34">
                <a:moveTo>
                  <a:pt x="32" y="21"/>
                </a:moveTo>
                <a:lnTo>
                  <a:pt x="17" y="0"/>
                </a:lnTo>
                <a:lnTo>
                  <a:pt x="0" y="13"/>
                </a:lnTo>
                <a:lnTo>
                  <a:pt x="20" y="34"/>
                </a:lnTo>
                <a:lnTo>
                  <a:pt x="32" y="21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8280" bIns="8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67080" y="4653000"/>
            <a:ext cx="528840" cy="1440"/>
          </a:xfrm>
          <a:custGeom>
            <a:avLst/>
            <a:gdLst/>
            <a:ahLst/>
            <a:rect l="l" t="t" r="r" b="b"/>
            <a:pathLst>
              <a:path w="333" h="1">
                <a:moveTo>
                  <a:pt x="0" y="0"/>
                </a:moveTo>
                <a:lnTo>
                  <a:pt x="333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10040" y="4486320"/>
            <a:ext cx="66600" cy="61920"/>
          </a:xfrm>
          <a:custGeom>
            <a:avLst/>
            <a:gdLst/>
            <a:ahLst/>
            <a:rect l="l" t="t" r="r" b="b"/>
            <a:pathLst>
              <a:path w="42" h="39">
                <a:moveTo>
                  <a:pt x="0" y="23"/>
                </a:moveTo>
                <a:lnTo>
                  <a:pt x="17" y="0"/>
                </a:lnTo>
                <a:lnTo>
                  <a:pt x="42" y="18"/>
                </a:lnTo>
                <a:lnTo>
                  <a:pt x="24" y="39"/>
                </a:lnTo>
                <a:lnTo>
                  <a:pt x="0" y="23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6200" bIns="16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0" y="4437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666880" y="3424320"/>
            <a:ext cx="352440" cy="4680"/>
          </a:xfrm>
          <a:custGeom>
            <a:avLst/>
            <a:gdLst/>
            <a:ahLst/>
            <a:rect l="l" t="t" r="r" b="b"/>
            <a:pathLst>
              <a:path w="222" h="3">
                <a:moveTo>
                  <a:pt x="0" y="3"/>
                </a:moveTo>
                <a:lnTo>
                  <a:pt x="222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3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3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3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3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3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3" dur="3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3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3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8" dur="3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3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3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3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8" dur="3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Elección óptim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94160" y="1981080"/>
            <a:ext cx="0" cy="386100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5284800" y="5854680"/>
            <a:ext cx="346536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010280" y="3962520"/>
            <a:ext cx="9720" cy="1879560"/>
          </a:xfrm>
          <a:custGeom>
            <a:avLst/>
            <a:gdLst/>
            <a:ahLst/>
            <a:rect l="l" t="t" r="r" b="b"/>
            <a:pathLst>
              <a:path w="6" h="1184">
                <a:moveTo>
                  <a:pt x="0" y="0"/>
                </a:moveTo>
                <a:lnTo>
                  <a:pt x="6" y="1184"/>
                </a:lnTo>
              </a:path>
            </a:pathLst>
          </a:custGeom>
          <a:noFill/>
          <a:ln w="25560">
            <a:solidFill>
              <a:srgbClr val="402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16360" y="1773360"/>
            <a:ext cx="525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172360" y="5856120"/>
            <a:ext cx="61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0" y="292428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67280" y="2924280"/>
            <a:ext cx="1944720" cy="172872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343640" y="4229280"/>
            <a:ext cx="5040" cy="1625400"/>
          </a:xfrm>
          <a:custGeom>
            <a:avLst/>
            <a:gdLst/>
            <a:ahLst/>
            <a:rect l="l" t="t" r="r" b="b"/>
            <a:pathLst>
              <a:path w="4" h="1024">
                <a:moveTo>
                  <a:pt x="0" y="0"/>
                </a:moveTo>
                <a:lnTo>
                  <a:pt x="4" y="102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575400" y="3556080"/>
            <a:ext cx="11160" cy="2279520"/>
          </a:xfrm>
          <a:custGeom>
            <a:avLst/>
            <a:gdLst/>
            <a:ahLst/>
            <a:rect l="l" t="t" r="r" b="b"/>
            <a:pathLst>
              <a:path w="7" h="1436">
                <a:moveTo>
                  <a:pt x="0" y="0"/>
                </a:moveTo>
                <a:lnTo>
                  <a:pt x="7" y="1436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273720" y="3294000"/>
            <a:ext cx="11160" cy="2554200"/>
          </a:xfrm>
          <a:custGeom>
            <a:avLst/>
            <a:gdLst/>
            <a:ahLst/>
            <a:rect l="l" t="t" r="r" b="b"/>
            <a:pathLst>
              <a:path w="7" h="1609">
                <a:moveTo>
                  <a:pt x="7" y="0"/>
                </a:moveTo>
                <a:lnTo>
                  <a:pt x="0" y="1609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012000" y="5877000"/>
            <a:ext cx="1728720" cy="400680"/>
            <a:chOff x="6012000" y="5877000"/>
            <a:chExt cx="1728720" cy="400680"/>
          </a:xfrm>
        </p:grpSpPr>
        <p:sp>
          <p:nvSpPr>
            <p:cNvPr id="484" name=""/>
            <p:cNvSpPr/>
            <p:nvPr/>
          </p:nvSpPr>
          <p:spPr>
            <a:xfrm>
              <a:off x="6804000" y="5877000"/>
              <a:ext cx="682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74080" y="5877000"/>
              <a:ext cx="5666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72360" y="5877000"/>
              <a:ext cx="658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12000" y="5877000"/>
              <a:ext cx="61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1638360" y="1981080"/>
            <a:ext cx="0" cy="386100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28280" y="5854680"/>
            <a:ext cx="346572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10800000">
            <a:off x="2419920" y="-1561320"/>
            <a:ext cx="5151240" cy="666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47641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4764131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46280" y="2438280"/>
            <a:ext cx="3021120" cy="336708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1628640" y="4330800"/>
            <a:ext cx="17416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362400" y="4343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042920" y="1817640"/>
            <a:ext cx="542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0" y="5856120"/>
            <a:ext cx="563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71640" y="4027320"/>
            <a:ext cx="664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52720" y="5373720"/>
            <a:ext cx="5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10800000">
            <a:off x="2226600" y="-1571400"/>
            <a:ext cx="515484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10800000">
            <a:off x="2084040" y="-1553040"/>
            <a:ext cx="5070600" cy="708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79" y="44"/>
                </a:moveTo>
                <a:arcTo wR="10800" hR="10800" stAng="-5088027" swAng="4452156"/>
                <a:lnTo>
                  <a:pt x="10800" y="10800"/>
                </a:lnTo>
                <a:close/>
              </a:path>
              <a:path fill="none" w="21600" h="21600">
                <a:moveTo>
                  <a:pt x="11779" y="44"/>
                </a:moveTo>
                <a:arcTo wR="10800" hR="10800" stAng="-5088027" swAng="4452156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56000" y="5157720"/>
            <a:ext cx="5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124000" y="1916280"/>
            <a:ext cx="5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10800000">
            <a:off x="2563200" y="-2003040"/>
            <a:ext cx="5154840" cy="68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627280" y="1916280"/>
            <a:ext cx="50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990880" y="4325760"/>
            <a:ext cx="358920" cy="1800"/>
          </a:xfrm>
          <a:custGeom>
            <a:avLst/>
            <a:gdLst/>
            <a:ahLst/>
            <a:rect l="l" t="t" r="r" b="b"/>
            <a:pathLst>
              <a:path w="340" h="1">
                <a:moveTo>
                  <a:pt x="0" y="0"/>
                </a:moveTo>
                <a:lnTo>
                  <a:pt x="34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57720" y="4334040"/>
            <a:ext cx="6120" cy="772920"/>
          </a:xfrm>
          <a:custGeom>
            <a:avLst/>
            <a:gdLst/>
            <a:ahLst/>
            <a:rect l="l" t="t" r="r" b="b"/>
            <a:pathLst>
              <a:path w="6" h="487">
                <a:moveTo>
                  <a:pt x="0" y="0"/>
                </a:moveTo>
                <a:lnTo>
                  <a:pt x="6" y="487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47720" y="2421000"/>
            <a:ext cx="2397240" cy="3311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38360" y="2413080"/>
            <a:ext cx="1879560" cy="3392280"/>
          </a:xfrm>
          <a:custGeom>
            <a:avLst/>
            <a:gdLst/>
            <a:ahLst/>
            <a:rect l="l" t="t" r="r" b="b"/>
            <a:pathLst>
              <a:path w="1779" h="2137">
                <a:moveTo>
                  <a:pt x="0" y="0"/>
                </a:moveTo>
                <a:lnTo>
                  <a:pt x="1779" y="2137"/>
                </a:lnTo>
              </a:path>
            </a:pathLst>
          </a:custGeom>
          <a:noFill/>
          <a:ln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47720" y="2421000"/>
            <a:ext cx="3211560" cy="2879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87840" y="4229280"/>
            <a:ext cx="4680" cy="1625400"/>
          </a:xfrm>
          <a:custGeom>
            <a:avLst/>
            <a:gdLst/>
            <a:ahLst/>
            <a:rect l="l" t="t" r="r" b="b"/>
            <a:pathLst>
              <a:path w="4" h="1024">
                <a:moveTo>
                  <a:pt x="0" y="0"/>
                </a:moveTo>
                <a:lnTo>
                  <a:pt x="4" y="102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957400" y="4233960"/>
            <a:ext cx="5040" cy="1623960"/>
          </a:xfrm>
          <a:custGeom>
            <a:avLst/>
            <a:gdLst/>
            <a:ahLst/>
            <a:rect l="l" t="t" r="r" b="b"/>
            <a:pathLst>
              <a:path w="3" h="1023">
                <a:moveTo>
                  <a:pt x="3" y="0"/>
                </a:moveTo>
                <a:lnTo>
                  <a:pt x="0" y="1023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600280" y="4143240"/>
            <a:ext cx="17640" cy="1704960"/>
          </a:xfrm>
          <a:custGeom>
            <a:avLst/>
            <a:gdLst/>
            <a:ahLst/>
            <a:rect l="l" t="t" r="r" b="b"/>
            <a:pathLst>
              <a:path w="11" h="1074">
                <a:moveTo>
                  <a:pt x="0" y="0"/>
                </a:moveTo>
                <a:lnTo>
                  <a:pt x="11" y="107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72200" y="3324240"/>
            <a:ext cx="1027080" cy="1440"/>
          </a:xfrm>
          <a:custGeom>
            <a:avLst/>
            <a:gdLst/>
            <a:ahLst/>
            <a:rect l="l" t="t" r="r" b="b"/>
            <a:pathLst>
              <a:path w="647" h="1">
                <a:moveTo>
                  <a:pt x="647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281560" y="3548160"/>
            <a:ext cx="1295280" cy="1440"/>
          </a:xfrm>
          <a:custGeom>
            <a:avLst/>
            <a:gdLst/>
            <a:ahLst/>
            <a:rect l="l" t="t" r="r" b="b"/>
            <a:pathLst>
              <a:path w="816" h="1">
                <a:moveTo>
                  <a:pt x="816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86240" y="3957480"/>
            <a:ext cx="1729080" cy="1800"/>
          </a:xfrm>
          <a:custGeom>
            <a:avLst/>
            <a:gdLst/>
            <a:ahLst/>
            <a:rect l="l" t="t" r="r" b="b"/>
            <a:pathLst>
              <a:path w="1089" h="1">
                <a:moveTo>
                  <a:pt x="1089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281560" y="4233960"/>
            <a:ext cx="2062080" cy="4680"/>
          </a:xfrm>
          <a:custGeom>
            <a:avLst/>
            <a:gdLst/>
            <a:ahLst/>
            <a:rect l="l" t="t" r="r" b="b"/>
            <a:pathLst>
              <a:path w="1299" h="3">
                <a:moveTo>
                  <a:pt x="1299" y="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0" y="321300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357336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0" y="393372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268360" y="5877000"/>
            <a:ext cx="1728720" cy="400680"/>
            <a:chOff x="2268360" y="5877000"/>
            <a:chExt cx="1728720" cy="400680"/>
          </a:xfrm>
        </p:grpSpPr>
        <p:sp>
          <p:nvSpPr>
            <p:cNvPr id="520" name=""/>
            <p:cNvSpPr/>
            <p:nvPr/>
          </p:nvSpPr>
          <p:spPr>
            <a:xfrm>
              <a:off x="3060360" y="5877000"/>
              <a:ext cx="682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30440" y="5877000"/>
              <a:ext cx="5666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28720" y="5877000"/>
              <a:ext cx="658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268360" y="5877000"/>
              <a:ext cx="61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2604960" y="4152960"/>
            <a:ext cx="1076400" cy="176040"/>
          </a:xfrm>
          <a:custGeom>
            <a:avLst/>
            <a:gdLst/>
            <a:ahLst/>
            <a:rect l="l" t="t" r="r" b="b"/>
            <a:pathLst>
              <a:path w="678" h="111">
                <a:moveTo>
                  <a:pt x="0" y="0"/>
                </a:moveTo>
                <a:lnTo>
                  <a:pt x="216" y="51"/>
                </a:lnTo>
                <a:lnTo>
                  <a:pt x="465" y="111"/>
                </a:lnTo>
                <a:lnTo>
                  <a:pt x="678" y="51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10800000">
            <a:off x="2820600" y="-1954080"/>
            <a:ext cx="774468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7840" y="2135160"/>
            <a:ext cx="2359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umento de precio bien X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73640" y="43448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0800000">
            <a:off x="2821320" y="-1954080"/>
            <a:ext cx="774684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64789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647892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76520" y="2209680"/>
            <a:ext cx="4649760" cy="3430800"/>
          </a:xfrm>
          <a:custGeom>
            <a:avLst/>
            <a:gdLst/>
            <a:ahLst/>
            <a:rect l="l" t="t" r="r" b="b"/>
            <a:pathLst>
              <a:path w="2929" h="2161">
                <a:moveTo>
                  <a:pt x="0" y="0"/>
                </a:moveTo>
                <a:lnTo>
                  <a:pt x="1824" y="2160"/>
                </a:lnTo>
                <a:lnTo>
                  <a:pt x="2928" y="216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30640" y="1525680"/>
            <a:ext cx="33498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Reducción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Consumo factib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Bienest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173640" y="4344840"/>
            <a:ext cx="758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8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10800000">
            <a:off x="2818440" y="-1954080"/>
            <a:ext cx="774792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927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9274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10800000">
            <a:off x="2131920" y="-1801440"/>
            <a:ext cx="7747200" cy="68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220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220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1663560" y="3657600"/>
            <a:ext cx="12448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95480" y="3670200"/>
            <a:ext cx="0" cy="19558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59236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915840" y="34304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49760" y="1525680"/>
            <a:ext cx="373068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Aument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73640" y="43448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21360" y="4954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438280" y="182736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2425680" y="570060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10800000">
            <a:off x="3582360" y="-1892160"/>
            <a:ext cx="774540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059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05932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51240" y="228456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425320" y="4176720"/>
            <a:ext cx="261612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029200" y="418932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754280" y="166356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088040" y="570240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387180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49760" y="570240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451240" y="2284560"/>
            <a:ext cx="286992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10800000">
            <a:off x="3275640" y="-1282320"/>
            <a:ext cx="7748280" cy="68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360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3601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038480" y="418932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735360" y="570240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066680" y="3871800"/>
            <a:ext cx="1597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 </a:t>
            </a: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= 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410080" y="1676520"/>
            <a:ext cx="388332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ermanec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012080" y="44830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935760" y="50925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981080" y="1841400"/>
            <a:ext cx="0" cy="386100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1968480" y="571500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10800000">
            <a:off x="3201480" y="-1954080"/>
            <a:ext cx="667836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4434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44340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994040" y="2298600"/>
            <a:ext cx="4622760" cy="34038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1968120" y="4191120"/>
            <a:ext cx="261612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72000" y="420372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297080" y="167796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630840" y="57164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19320" y="388620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92560" y="57164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94040" y="2298600"/>
            <a:ext cx="2869920" cy="34038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0800000">
            <a:off x="3427920" y="1550880"/>
            <a:ext cx="8812440" cy="408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48" y="1475"/>
                </a:moveTo>
                <a:arcTo wR="10800" hR="10800" stAng="-3582396" swAng="3227172"/>
                <a:lnTo>
                  <a:pt x="10800" y="10800"/>
                </a:lnTo>
                <a:close/>
              </a:path>
              <a:path fill="none" w="21600" h="21600">
                <a:moveTo>
                  <a:pt x="16248" y="1475"/>
                </a:moveTo>
                <a:arcTo wR="10800" hR="10800" stAng="-3582396" swAng="3227172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30440" y="57164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144440" y="37353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1968120" y="4343400"/>
            <a:ext cx="177804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733920" y="4356000"/>
            <a:ext cx="0" cy="134640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144440" y="41925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57800" y="1600200"/>
            <a:ext cx="380700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73640" y="43448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316640" y="51069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0800000">
            <a:off x="2666880" y="482760"/>
            <a:ext cx="8051400" cy="378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78" y="1114"/>
                </a:moveTo>
                <a:arcTo wR="10800" hR="10800" stAng="-3824648" swAng="3824648"/>
                <a:lnTo>
                  <a:pt x="10800" y="10800"/>
                </a:lnTo>
                <a:close/>
              </a:path>
              <a:path fill="none" w="21600" h="21600">
                <a:moveTo>
                  <a:pt x="15578" y="1114"/>
                </a:moveTo>
                <a:arcTo wR="10800" hR="10800" stAng="-3824648" swAng="3824648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1663560" y="3352680"/>
            <a:ext cx="154944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276720" y="3441600"/>
            <a:ext cx="0" cy="21844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15840" y="31258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9728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57600" y="4584600"/>
            <a:ext cx="0" cy="10414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1663560" y="4572000"/>
            <a:ext cx="200664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992160" y="42688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0676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57800" y="1523880"/>
            <a:ext cx="388296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Aument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029200" y="388620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800600" y="49528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895480" y="3429000"/>
            <a:ext cx="1879560" cy="1600200"/>
          </a:xfrm>
          <a:custGeom>
            <a:avLst/>
            <a:gdLst/>
            <a:ahLst/>
            <a:rect l="l" t="t" r="r" b="b"/>
            <a:pathLst>
              <a:path w="1136" h="984">
                <a:moveTo>
                  <a:pt x="1136" y="984"/>
                </a:moveTo>
                <a:cubicBezTo>
                  <a:pt x="912" y="936"/>
                  <a:pt x="688" y="888"/>
                  <a:pt x="512" y="744"/>
                </a:cubicBezTo>
                <a:cubicBezTo>
                  <a:pt x="336" y="600"/>
                  <a:pt x="160" y="240"/>
                  <a:pt x="80" y="120"/>
                </a:cubicBezTo>
                <a:cubicBezTo>
                  <a:pt x="0" y="0"/>
                  <a:pt x="16" y="12"/>
                  <a:pt x="32" y="2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RVAS DE INDIFERENC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ugar geométrico de todas las combinaciones de bienes que son indiferentes entre sí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57340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743200"/>
            <a:ext cx="0" cy="31240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5791320"/>
            <a:ext cx="4343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2666880"/>
            <a:ext cx="0" cy="312444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962520"/>
            <a:ext cx="41148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4952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I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4952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V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8360" y="24922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388620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1911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4876920"/>
            <a:ext cx="15264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2743200"/>
            <a:ext cx="15264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37339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2514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352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733920" y="2819160"/>
            <a:ext cx="1523880" cy="14475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886200" y="3809880"/>
            <a:ext cx="2743200" cy="457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962520" y="3962160"/>
            <a:ext cx="75960" cy="759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14800" y="3733560"/>
            <a:ext cx="15228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343400" y="3504960"/>
            <a:ext cx="22860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248160" y="3809880"/>
            <a:ext cx="7596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800240" y="3124080"/>
            <a:ext cx="152280" cy="1526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647960" y="3352680"/>
            <a:ext cx="7596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3429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419112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411480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403848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39625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095880" y="388620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562360" y="3962520"/>
            <a:ext cx="759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3124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24280" y="58672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18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3657600"/>
            <a:ext cx="7621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373800">
            <a:off x="4495680" y="3429000"/>
            <a:ext cx="1600200" cy="60948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282600">
            <a:off x="4343040" y="358128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34340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270600">
            <a:off x="3581280" y="3962520"/>
            <a:ext cx="147348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216000">
            <a:off x="3733560" y="388584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200400">
            <a:off x="4038480" y="3809520"/>
            <a:ext cx="147348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45800">
            <a:off x="4190760" y="373356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27672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2666880"/>
            <a:ext cx="147348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312408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962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A’’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3657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27813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9144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sustitución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aso (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/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 aument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3124080" y="563868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124080" y="5181480"/>
            <a:ext cx="914400" cy="3682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     </a:t>
            </a: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09880" y="56386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895480" y="56386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 y sustitución se refuerza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057400" y="2133720"/>
            <a:ext cx="2590920" cy="34290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3124080" y="563868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0" y="2362320"/>
            <a:ext cx="4419720" cy="259056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666880" y="2971800"/>
            <a:ext cx="15264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2057040" y="3048120"/>
            <a:ext cx="685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743200" y="3047760"/>
            <a:ext cx="0" cy="2514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2743200" y="5638680"/>
            <a:ext cx="380880" cy="0"/>
          </a:xfrm>
          <a:prstGeom prst="line">
            <a:avLst/>
          </a:prstGeom>
          <a:ln w="28440">
            <a:solidFill>
              <a:srgbClr val="eca0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743200" y="5257800"/>
            <a:ext cx="380880" cy="307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e62fa"/>
                </a:solidFill>
                <a:latin typeface="Arial Narrow"/>
              </a:rPr>
              <a:t>E I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124080" y="5181480"/>
            <a:ext cx="914400" cy="3682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     </a:t>
            </a: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988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89548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1460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75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75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75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75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3124080" y="4724280"/>
            <a:ext cx="228600" cy="4590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e62fa"/>
                </a:solidFill>
                <a:latin typeface="Arial Narrow"/>
              </a:rPr>
              <a:t>EI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 y sustitución tienen efecto contrapues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057400" y="2133720"/>
            <a:ext cx="2590920" cy="34290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819520" y="2819520"/>
            <a:ext cx="1904760" cy="167616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276720" y="37339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2057400" y="3809880"/>
            <a:ext cx="12952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3352680" y="3809520"/>
            <a:ext cx="0" cy="175284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4080" y="5181480"/>
            <a:ext cx="914400" cy="3682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24080" y="4724280"/>
            <a:ext cx="228600" cy="0"/>
          </a:xfrm>
          <a:prstGeom prst="line">
            <a:avLst/>
          </a:prstGeom>
          <a:ln w="28440">
            <a:solidFill>
              <a:srgbClr val="eca0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3124080" y="518148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1952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20040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0988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105520" y="2513520"/>
            <a:ext cx="198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ES &gt; EI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3124080" y="5257800"/>
            <a:ext cx="914400" cy="2764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e62fa"/>
                </a:solidFill>
                <a:latin typeface="Times New Roman"/>
              </a:rPr>
              <a:t>       </a:t>
            </a:r>
            <a:r>
              <a:rPr b="1" lang="es-ES_tradnl" sz="12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124080" y="4952880"/>
            <a:ext cx="1067040" cy="24624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4e62fa"/>
                </a:solidFill>
                <a:latin typeface="Times New Roman"/>
              </a:rPr>
              <a:t>       </a:t>
            </a:r>
            <a:r>
              <a:rPr b="1" lang="es-ES_tradnl" sz="1000" spc="-1" strike="noStrike">
                <a:solidFill>
                  <a:srgbClr val="4e62fa"/>
                </a:solidFill>
                <a:latin typeface="Times New Roman"/>
              </a:rPr>
              <a:t>EI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57400" y="2133720"/>
            <a:ext cx="2590920" cy="34290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9880" y="4267080"/>
            <a:ext cx="1371600" cy="1219320"/>
          </a:xfrm>
          <a:custGeom>
            <a:avLst/>
            <a:gdLst/>
            <a:ahLst/>
            <a:rect l="l" t="t" r="r" b="b"/>
            <a:pathLst>
              <a:path w="816" h="768">
                <a:moveTo>
                  <a:pt x="0" y="0"/>
                </a:moveTo>
                <a:cubicBezTo>
                  <a:pt x="100" y="224"/>
                  <a:pt x="200" y="448"/>
                  <a:pt x="336" y="576"/>
                </a:cubicBezTo>
                <a:cubicBezTo>
                  <a:pt x="472" y="704"/>
                  <a:pt x="644" y="736"/>
                  <a:pt x="816" y="768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 y sustitución tienen efecto contrapues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124080" y="525780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114800" y="48769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2057040" y="4952880"/>
            <a:ext cx="213372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191120" y="4952880"/>
            <a:ext cx="0" cy="60984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24080" y="5181480"/>
            <a:ext cx="1067040" cy="0"/>
          </a:xfrm>
          <a:prstGeom prst="line">
            <a:avLst/>
          </a:prstGeom>
          <a:ln w="28440">
            <a:solidFill>
              <a:srgbClr val="eca0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81952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3392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11480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105520" y="2513520"/>
            <a:ext cx="198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EI &gt; ES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RVAS DE INDIFERENC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1828800"/>
            <a:ext cx="7162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Mapa de indiferencia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presentación completa de las preferencias a través de curvas de indiferenci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7720" y="3505320"/>
            <a:ext cx="0" cy="24382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5943600"/>
            <a:ext cx="3692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143160" y="2590200"/>
            <a:ext cx="412704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360600" y="2361600"/>
            <a:ext cx="412704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78400" y="2133000"/>
            <a:ext cx="412632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901320" y="1906560"/>
            <a:ext cx="4139640" cy="320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58" y="86"/>
                </a:moveTo>
                <a:arcTo wR="10800" hR="10800" stAng="-4966602" swAng="5048392"/>
                <a:lnTo>
                  <a:pt x="10800" y="10800"/>
                </a:lnTo>
                <a:close/>
              </a:path>
              <a:path fill="none" w="21600" h="21600">
                <a:moveTo>
                  <a:pt x="12158" y="86"/>
                </a:moveTo>
                <a:arcTo wR="10800" hR="10800" stAng="-4966602" swAng="5048392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5562720"/>
            <a:ext cx="6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38720" y="3276720"/>
            <a:ext cx="2824200" cy="405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&lt; 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&lt; 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&lt; 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5410080"/>
            <a:ext cx="6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5181480"/>
            <a:ext cx="6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4800600"/>
            <a:ext cx="65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33526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594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5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500"/>
                            </p:stCondLst>
                            <p:childTnLst>
                              <p:par>
                                <p:cTn id="30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000"/>
                            </p:stCondLst>
                            <p:childTnLst>
                              <p:par>
                                <p:cTn id="31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RVAS DE INDIFERENC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1752480"/>
            <a:ext cx="63248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s curvas de indiferencia no pueden cortars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2133720"/>
            <a:ext cx="73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B y B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C entonces C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;  pero C </a:t>
            </a:r>
            <a:r>
              <a:rPr b="0" lang="es-ES" sz="20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 =&gt;&lt;=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36880" y="3200400"/>
            <a:ext cx="0" cy="24382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36880" y="5638680"/>
            <a:ext cx="3281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 rot="21359400">
            <a:off x="3668040" y="1697400"/>
            <a:ext cx="4132800" cy="365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282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2825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79160" y="2057760"/>
            <a:ext cx="6320520" cy="304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992" y="66"/>
                </a:moveTo>
                <a:arcTo wR="10800" hR="10800" stAng="-5019910" swAng="5019910"/>
                <a:lnTo>
                  <a:pt x="10800" y="10800"/>
                </a:lnTo>
                <a:close/>
              </a:path>
              <a:path fill="none" w="21600" h="21600">
                <a:moveTo>
                  <a:pt x="11992" y="66"/>
                </a:moveTo>
                <a:arcTo wR="10800" hR="10800" stAng="-5019910" swAng="5019910"/>
              </a:path>
            </a:pathLst>
          </a:custGeom>
          <a:noFill/>
          <a:ln w="38160">
            <a:solidFill>
              <a:srgbClr val="eca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7680" y="4800600"/>
            <a:ext cx="72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75280" y="5181480"/>
            <a:ext cx="730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426708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464832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388620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33920" y="4114800"/>
            <a:ext cx="7596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4572000"/>
            <a:ext cx="12204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4267080"/>
            <a:ext cx="12204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4038480"/>
            <a:ext cx="0" cy="6858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4343400"/>
            <a:ext cx="83808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22720" y="1676520"/>
            <a:ext cx="0" cy="396216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22720" y="5638680"/>
            <a:ext cx="46479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614760" y="-534600"/>
            <a:ext cx="6554520" cy="518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28" y="25"/>
                </a:moveTo>
                <a:arcTo wR="10800" hR="10800" stAng="-5167984" swAng="4615643"/>
                <a:lnTo>
                  <a:pt x="10800" y="10800"/>
                </a:lnTo>
                <a:close/>
              </a:path>
              <a:path fill="none" w="21600" h="21600">
                <a:moveTo>
                  <a:pt x="11528" y="25"/>
                </a:moveTo>
                <a:arcTo wR="10800" hR="10800" stAng="-5167984" swAng="4615643"/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2514600"/>
            <a:ext cx="53352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2514600"/>
            <a:ext cx="0" cy="312408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2895480"/>
            <a:ext cx="0" cy="27432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3276720"/>
            <a:ext cx="76212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3276720"/>
            <a:ext cx="0" cy="236196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3657600"/>
            <a:ext cx="106668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3657600"/>
            <a:ext cx="0" cy="198108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3581280"/>
            <a:ext cx="152640" cy="15264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3200400"/>
            <a:ext cx="15228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895480"/>
            <a:ext cx="60948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33920" y="2819520"/>
            <a:ext cx="15228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2438280"/>
            <a:ext cx="152640" cy="15264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4038480"/>
            <a:ext cx="16002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4038480"/>
            <a:ext cx="0" cy="16002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3962520"/>
            <a:ext cx="15264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4419720"/>
            <a:ext cx="22860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4419720"/>
            <a:ext cx="0" cy="121896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4343400"/>
            <a:ext cx="15228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251460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2895480"/>
            <a:ext cx="0" cy="3812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2767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365760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4038480"/>
            <a:ext cx="0" cy="3812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5715000"/>
            <a:ext cx="1522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57150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38480" y="57150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5715000"/>
            <a:ext cx="7621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342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25146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09680" y="28954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3276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6576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40384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5715000"/>
            <a:ext cx="685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0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5867280"/>
            <a:ext cx="685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000" spc="-1" strike="noStrike" baseline="-25000">
                <a:solidFill>
                  <a:srgbClr val="402000"/>
                </a:solidFill>
                <a:latin typeface="Tahoma"/>
              </a:rPr>
              <a:t>X1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6019920"/>
            <a:ext cx="685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000" spc="-1" strike="noStrike" baseline="-25000">
                <a:solidFill>
                  <a:srgbClr val="402000"/>
                </a:solidFill>
                <a:latin typeface="Tahoma"/>
              </a:rPr>
              <a:t>X2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601992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3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76920" y="59436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1600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851280" y="1700280"/>
                <a:ext cx="4640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74674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Tasa Marginal de Sustitu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685800"/>
            <a:ext cx="792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Cantidad de X con que debo ser compensado para renunciar a una cantidad de Y manteniendo el mismo bienestar (misma curva de indiferencia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Tasa Marginal de Sustitución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5181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Cantidad a la que está dispuesto a renunciar del bien Y para incrementar el consumo de X manteniendo la misma utilidad (misma curva de indiferencia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Pendiente de la curva de indiferencia en cada punt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Decrece a la derecha de A y crece a su izquierda.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                 (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SM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&gt;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SM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&gt;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SM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48520" y="2666880"/>
            <a:ext cx="0" cy="243864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5105520"/>
            <a:ext cx="2286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6629400" y="1294560"/>
            <a:ext cx="2590560" cy="350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297" y="104"/>
                </a:moveTo>
                <a:arcTo wR="10800" hR="10800" stAng="-4921951" swAng="4279518"/>
                <a:lnTo>
                  <a:pt x="10800" y="10800"/>
                </a:lnTo>
                <a:close/>
              </a:path>
              <a:path fill="none" w="21600" h="21600">
                <a:moveTo>
                  <a:pt x="12297" y="104"/>
                </a:moveTo>
                <a:arcTo wR="10800" hR="10800" stAng="-4921951" swAng="4279518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3432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0" y="4114800"/>
            <a:ext cx="76320" cy="7632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29400" y="3429000"/>
            <a:ext cx="76320" cy="7632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390800" y="4648320"/>
            <a:ext cx="75960" cy="7596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4419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91320" y="25146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53280" y="51055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3432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915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62940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Bienes Sustitutos Perfectos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1907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Función de Utilidad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 = aX +b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lación Marginal de Sustitución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TSMC = a/b  (constant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urvas de indiferencia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íneas rect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2514600"/>
            <a:ext cx="0" cy="25146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86400" y="5029200"/>
            <a:ext cx="2590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5288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3581280"/>
            <a:ext cx="1143000" cy="1447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3048120"/>
            <a:ext cx="1600200" cy="1981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2666880"/>
            <a:ext cx="1981080" cy="2362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00800" y="46483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0" y="46483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457200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22860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0120" y="5029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600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5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Bienes Complementarios Perfectos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Función de Utilidad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 = min{aX,bY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lación Marginal de Sustitución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exis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urvas de indiferencia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ángulo rec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514600"/>
            <a:ext cx="0" cy="25146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86400" y="5029200"/>
            <a:ext cx="2590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5288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486400" y="2971440"/>
            <a:ext cx="1752480" cy="2057400"/>
          </a:xfrm>
          <a:prstGeom prst="line">
            <a:avLst/>
          </a:prstGeom>
          <a:ln w="38160">
            <a:solidFill>
              <a:srgbClr val="ce99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3048120"/>
            <a:ext cx="0" cy="14475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43600" y="4495680"/>
            <a:ext cx="16002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77120" y="2971800"/>
            <a:ext cx="0" cy="914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3886200"/>
            <a:ext cx="10666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10280" y="25909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e62fa"/>
                </a:solidFill>
                <a:latin typeface="Tahoma"/>
              </a:rPr>
              <a:t>aX= b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2920" y="41911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15200" y="358128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23623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960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6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7000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7500"/>
                            </p:stCondLst>
                            <p:childTnLst>
                              <p:par>
                                <p:cTn id="7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22:10:51Z</dcterms:created>
  <dc:creator>Marco Hauva</dc:creator>
  <dc:description/>
  <dc:language>en-US</dc:language>
  <cp:lastModifiedBy> Marco Hauva</cp:lastModifiedBy>
  <dcterms:modified xsi:type="dcterms:W3CDTF">2006-06-30T15:26:11Z</dcterms:modified>
  <cp:revision>43</cp:revision>
  <dc:subject/>
  <dc:title>Teoría de la Elección</dc:title>
</cp:coreProperties>
</file>