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chimes.wav" ContentType="audio/x-wav"/>
  <Override PartName="/ppt/media/Clic.wav" ContentType="audio/x-wav"/>
  <Override PartName="/ppt/media/image3.wmf" ContentType="image/x-wmf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C03D-5D05-4F0B-ACDC-D9C904A91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4DB4-158F-4118-83BB-EF388F527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E947-B847-48CC-BAC5-428502BF8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FA9C-023E-45BC-A323-2C75F12BB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81BCA-55D3-4988-8318-C6E1FBD64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6E4AD-7F0C-4182-BC8C-078D58422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A839E-81B2-4AEE-8CCD-3CA1A69E8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DA86C-793D-437D-AB39-72E9EBE47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852A4-6CCD-41D0-9103-CF377E93F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73215-1A4E-4BCF-ABDB-CC4FC4948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4594E-8720-4758-9563-CE2747E6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2ADE-3DE1-466D-9615-7D37FD3BA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F4BDC-9023-452C-97DD-8EFC2DA0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876D4-2DE9-4919-94CA-DFFF4C94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CEE6F-B771-4CEB-9478-61551020B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3D634-9510-4CB7-99D3-E0AA6F137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39C9B-8CC2-4CC3-B128-2E7EAFF14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A757-7B8A-454E-A3BE-36D3F3362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A205-3CC7-4F7B-8FEA-FE07A7029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E942-6629-46BC-A145-D02DF66DD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C64C-4740-44E7-B9BB-5586BEA04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6C5E-74FD-4132-953C-9A431EF0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DA21-FC6D-4D60-9856-9B2B2241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0019-8033-46BF-9288-187EDDBD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5FDDA-1143-46B6-B265-158EF181809B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E593F-E5A6-4C9B-A337-41D22DED82D1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himes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lic.wav"/><Relationship Id="rId3" Type="http://schemas.openxmlformats.org/officeDocument/2006/relationships/audio" Target="../media/chimes.wav"/><Relationship Id="rId4" Type="http://schemas.openxmlformats.org/officeDocument/2006/relationships/audio" Target="../media/Clic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lic.wav"/><Relationship Id="rId6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lic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                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LAS PREFERENCIAS</a:t>
            </a:r>
            <a:br>
              <a:rPr sz="3200"/>
            </a:b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                  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Sirven para ordenar las distintas combinaciones de bienes en términos de satisfacción.       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A = (Q</a:t>
            </a:r>
            <a:r>
              <a:rPr b="0" lang="es-ES" sz="2000" spc="-1" strike="noStrike" baseline="-25000">
                <a:solidFill>
                  <a:srgbClr val="402000"/>
                </a:solidFill>
                <a:latin typeface="Times New Roman"/>
              </a:rPr>
              <a:t>x1</a:t>
            </a: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,Q</a:t>
            </a:r>
            <a:r>
              <a:rPr b="0" lang="es-ES" sz="2000" spc="-1" strike="noStrike" baseline="-25000">
                <a:solidFill>
                  <a:srgbClr val="402000"/>
                </a:solidFill>
                <a:latin typeface="Times New Roman"/>
              </a:rPr>
              <a:t>y1</a:t>
            </a: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) ; B = (Q</a:t>
            </a:r>
            <a:r>
              <a:rPr b="0" lang="es-ES" sz="2000" spc="-1" strike="noStrike" baseline="-25000">
                <a:solidFill>
                  <a:srgbClr val="402000"/>
                </a:solidFill>
                <a:latin typeface="Times New Roman"/>
              </a:rPr>
              <a:t>x2</a:t>
            </a: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, Q</a:t>
            </a:r>
            <a:r>
              <a:rPr b="0" lang="es-ES" sz="2000" spc="-1" strike="noStrike" baseline="-25000">
                <a:solidFill>
                  <a:srgbClr val="402000"/>
                </a:solidFill>
                <a:latin typeface="Times New Roman"/>
              </a:rPr>
              <a:t>x2</a:t>
            </a: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335880" indent="-335880"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Preferencia (A </a:t>
            </a:r>
            <a:r>
              <a:rPr b="0" lang="es-ES" sz="2100" spc="-1" strike="noStrike">
                <a:solidFill>
                  <a:srgbClr val="ff9966"/>
                </a:solidFill>
                <a:latin typeface="Bauhaus 93"/>
              </a:rPr>
              <a:t>P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 B)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La combinación A proporciona mayor bienestar que la B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 “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Prefiere la combinación A a la B”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335880" indent="-335880"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Indiferencia (A </a:t>
            </a:r>
            <a:r>
              <a:rPr b="0" lang="es-ES" sz="2100" spc="-1" strike="noStrike">
                <a:solidFill>
                  <a:srgbClr val="ff9966"/>
                </a:solidFill>
                <a:latin typeface="Bauhaus 93"/>
              </a:rPr>
              <a:t>I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 B)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Ambas combinaciones proporcionan igual bienestar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lvl="1"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             “</a:t>
            </a:r>
            <a:r>
              <a:rPr b="0" lang="es-ES" sz="2200" spc="-1" strike="noStrike">
                <a:solidFill>
                  <a:srgbClr val="402000"/>
                </a:solidFill>
                <a:latin typeface="Times New Roman"/>
              </a:rPr>
              <a:t>Es indiferente entre la canasta A y la B”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958680" y="1279440"/>
            <a:ext cx="69501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eca07a"/>
                </a:solidFill>
                <a:uFillTx/>
                <a:latin typeface="Times New Roman"/>
              </a:rPr>
              <a:t>Restricción presupuestaria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328400" y="2049120"/>
            <a:ext cx="7327800" cy="38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Restricción Presupuestaria (FPC) y el Conjunto Factibl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Coste de oportunida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Variación en Ingres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Variación en el precio de un bien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sé L. Calv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BC1CC9-654A-48D0-B421-29D04A9B4CD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0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2500"/>
                            </p:stCondLst>
                            <p:childTnLst>
                              <p:par>
                                <p:cTn id="75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5000"/>
                            </p:stCondLst>
                            <p:childTnLst>
                              <p:par>
                                <p:cTn id="75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7500"/>
                            </p:stCondLst>
                            <p:childTnLst>
                              <p:par>
                                <p:cTn id="76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 u="sng">
                <a:solidFill>
                  <a:srgbClr val="eca07a"/>
                </a:solidFill>
                <a:uFillTx/>
                <a:latin typeface="Times New Roman"/>
              </a:rPr>
              <a:t>El Conjunto Factible y la Recta presupuestaria</a:t>
            </a: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36957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75000"/>
              </a:lnSpc>
              <a:spcBef>
                <a:spcPts val="425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eca07a"/>
                </a:solidFill>
                <a:latin typeface="Times New Roman"/>
              </a:rPr>
              <a:t>Conjunto Presupuestario</a:t>
            </a:r>
            <a:r>
              <a:rPr b="0" lang="es-ES_tradnl" sz="1800" spc="-1" strike="noStrike">
                <a:solidFill>
                  <a:srgbClr val="eca07a"/>
                </a:solidFill>
                <a:latin typeface="Times New Roman"/>
              </a:rPr>
              <a:t>:</a:t>
            </a: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 Todas las combinaciones de bienes a los que puede acceder el individuo dada una renta monetaria disponible para el gasto y unos precios.</a:t>
            </a:r>
            <a:r>
              <a:rPr b="0" lang="es-ES_tradnl" sz="17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 algn="just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eca07a"/>
                </a:solidFill>
                <a:latin typeface="Times New Roman"/>
              </a:rPr>
              <a:t>    </a:t>
            </a:r>
            <a:r>
              <a:rPr b="0" lang="es-ES_tradnl" sz="2200" spc="-1" strike="noStrike">
                <a:solidFill>
                  <a:srgbClr val="eca07a"/>
                </a:solidFill>
                <a:latin typeface="Times New Roman"/>
              </a:rPr>
              <a:t>(Área OAB)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 algn="just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+ 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I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 algn="just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 algn="just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 algn="just">
              <a:lnSpc>
                <a:spcPct val="75000"/>
              </a:lnSpc>
              <a:spcBef>
                <a:spcPts val="425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eca07a"/>
                </a:solidFill>
                <a:latin typeface="Times New Roman"/>
              </a:rPr>
              <a:t>Recta presupuestaria</a:t>
            </a:r>
            <a:r>
              <a:rPr b="0" lang="es-ES_tradnl" sz="1800" spc="-1" strike="noStrike">
                <a:solidFill>
                  <a:srgbClr val="eca07a"/>
                </a:solidFill>
                <a:latin typeface="Times New Roman"/>
              </a:rPr>
              <a:t>:</a:t>
            </a:r>
            <a:r>
              <a:rPr b="0" lang="es-ES_tradnl" sz="17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 algn="just">
              <a:lnSpc>
                <a:spcPct val="7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Frontera exterior del Conjunto Factible.</a:t>
            </a:r>
            <a:r>
              <a:rPr b="0" lang="es-ES_tradnl" sz="17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17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0" lang="es-ES_tradnl" sz="2200" spc="-1" strike="noStrike">
                <a:solidFill>
                  <a:srgbClr val="ff3300"/>
                </a:solidFill>
                <a:latin typeface="Times New Roman"/>
              </a:rPr>
              <a:t>recta AB</a:t>
            </a:r>
            <a:r>
              <a:rPr b="0" lang="es-ES_tradnl" sz="17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0" lang="en-US" sz="17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 algn="just">
              <a:lnSpc>
                <a:spcPct val="75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 algn="just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+ 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= I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 algn="just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4724280" y="2057400"/>
          <a:ext cx="42674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057400"/>
                    <a:ext cx="42674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5486400" y="2743200"/>
            <a:ext cx="0" cy="220968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86400" y="4952880"/>
            <a:ext cx="23623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86400" y="3276720"/>
            <a:ext cx="1752480" cy="16761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81680" y="49528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     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724280" y="3124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     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800600" y="4952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     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105520" y="259092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486400" y="3276720"/>
            <a:ext cx="1752480" cy="1676160"/>
          </a:xfrm>
          <a:custGeom>
            <a:avLst/>
            <a:gdLst/>
            <a:ahLst/>
            <a:rect l="l" t="t" r="r" b="b"/>
            <a:pathLst>
              <a:path w="1104" h="1056">
                <a:moveTo>
                  <a:pt x="0" y="0"/>
                </a:moveTo>
                <a:lnTo>
                  <a:pt x="0" y="1056"/>
                </a:lnTo>
                <a:lnTo>
                  <a:pt x="1104" y="105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543800" y="495288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sé L. Calv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2F5406-2D1C-4D73-B499-517AE2220CD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0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afterEffect" fill="hold" presetClass="entr" presetID="18" presetSubtype="6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4572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 u="sng">
                <a:solidFill>
                  <a:srgbClr val="eca07a"/>
                </a:solidFill>
                <a:uFillTx/>
                <a:latin typeface="Times New Roman"/>
              </a:rPr>
              <a:t>Costo de Oportunidad</a:t>
            </a: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400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ca07a"/>
                </a:solidFill>
                <a:latin typeface="Times New Roman"/>
              </a:rPr>
              <a:t>Costo de Oportunidad</a:t>
            </a:r>
            <a:r>
              <a:rPr b="0" lang="es-ES" sz="2200" spc="-1" strike="noStrike">
                <a:solidFill>
                  <a:srgbClr val="eca07a"/>
                </a:solidFill>
                <a:latin typeface="Times New Roman"/>
              </a:rPr>
              <a:t>:</a:t>
            </a: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Cantidad a la que se debe renunciar de un bien para incrementar la cantidad del otro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Pendiente de la FPC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       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tg </a:t>
            </a:r>
            <a:r>
              <a:rPr b="0" lang="es-ES_tradnl" sz="2200" spc="-1" strike="noStrike">
                <a:solidFill>
                  <a:srgbClr val="402000"/>
                </a:solidFill>
                <a:latin typeface="Symbol"/>
                <a:ea typeface="Symbol"/>
              </a:rPr>
              <a:t>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= - </a:t>
            </a:r>
            <a:r>
              <a:rPr b="0" lang="es-ES_tradnl" sz="20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20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/ </a:t>
            </a:r>
            <a:r>
              <a:rPr b="0" lang="es-ES_tradnl" sz="20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20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= </a:t>
            </a:r>
            <a:r>
              <a:rPr b="0" lang="es-ES_tradnl" sz="2000" spc="-1" strike="noStrike">
                <a:solidFill>
                  <a:srgbClr val="402000"/>
                </a:solidFill>
                <a:latin typeface="Tahoma"/>
              </a:rPr>
              <a:t>p</a:t>
            </a:r>
            <a:r>
              <a:rPr b="0" lang="es-ES_tradnl" sz="20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/ </a:t>
            </a:r>
            <a:r>
              <a:rPr b="0" lang="es-ES_tradnl" sz="2000" spc="-1" strike="noStrike">
                <a:solidFill>
                  <a:srgbClr val="402000"/>
                </a:solidFill>
                <a:latin typeface="Tahoma"/>
              </a:rPr>
              <a:t>p</a:t>
            </a:r>
            <a:r>
              <a:rPr b="0" lang="es-ES_tradnl" sz="20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638680" y="2286000"/>
            <a:ext cx="0" cy="274320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638680" y="5029200"/>
            <a:ext cx="28195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638680" y="2666880"/>
            <a:ext cx="1828800" cy="23623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788000" y="227664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  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I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0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/p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6934320" y="3961440"/>
            <a:ext cx="15120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010280" y="4648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2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91520" y="5105520"/>
            <a:ext cx="83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I 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0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/p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57800" y="20574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077320" y="502920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sé L. Calv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BA8276-BB97-4F01-B2A6-63F4D2E9D96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0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500"/>
                            </p:stCondLst>
                            <p:childTnLst>
                              <p:par>
                                <p:cTn id="78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 u="sng">
                <a:solidFill>
                  <a:srgbClr val="eca07a"/>
                </a:solidFill>
                <a:uFillTx/>
                <a:latin typeface="Times New Roman"/>
              </a:rPr>
              <a:t>Variaciones en el Ingreso</a:t>
            </a: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4157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uando la renta monetaria aumenta (disminuye)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 algn="just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l Conjunto Factible se amplia (contrae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 algn="just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La Recta Presupuestaria se desplaza paralelamente hacia fuera (adentro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 algn="just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La pendiente no se altera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172200" y="2286000"/>
            <a:ext cx="0" cy="220968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172200" y="4495680"/>
            <a:ext cx="22860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172200" y="3505320"/>
            <a:ext cx="914400" cy="990360"/>
          </a:xfrm>
          <a:prstGeom prst="line">
            <a:avLst/>
          </a:prstGeom>
          <a:ln w="381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34120" y="3276720"/>
            <a:ext cx="914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   </a:t>
            </a: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I</a:t>
            </a:r>
            <a:r>
              <a:rPr b="0" lang="es-ES_tradnl" sz="1600" spc="-1" strike="noStrike" baseline="-25000">
                <a:solidFill>
                  <a:srgbClr val="402000"/>
                </a:solidFill>
                <a:latin typeface="Tahoma"/>
              </a:rPr>
              <a:t>0</a:t>
            </a: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/p</a:t>
            </a:r>
            <a:r>
              <a:rPr b="0" lang="es-ES_tradnl" sz="16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781680" y="449568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0</a:t>
            </a: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/p</a:t>
            </a:r>
            <a:r>
              <a:rPr b="0" lang="es-ES_tradnl" sz="1600" spc="-1" strike="noStrike" baseline="-25000">
                <a:solidFill>
                  <a:srgbClr val="402000"/>
                </a:solidFill>
                <a:latin typeface="Tahoma"/>
              </a:rPr>
              <a:t>x0</a:t>
            </a: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486400" y="2743200"/>
            <a:ext cx="1219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I</a:t>
            </a:r>
            <a:r>
              <a:rPr b="0" lang="es-ES_tradnl" sz="1600" spc="-1" strike="noStrike" baseline="-25000">
                <a:solidFill>
                  <a:srgbClr val="402000"/>
                </a:solidFill>
                <a:latin typeface="Tahoma"/>
              </a:rPr>
              <a:t>1</a:t>
            </a: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/p</a:t>
            </a:r>
            <a:r>
              <a:rPr b="0" lang="es-ES_tradnl" sz="16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172200" y="2895480"/>
            <a:ext cx="1447920" cy="1600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781680" y="1981080"/>
            <a:ext cx="198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ahoma"/>
              </a:rPr>
              <a:t>I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Tahoma"/>
              </a:rPr>
              <a:t>1</a:t>
            </a:r>
            <a:r>
              <a:rPr b="0" lang="es-ES_tradnl" sz="2400" spc="-1" strike="noStrike">
                <a:solidFill>
                  <a:srgbClr val="ff3300"/>
                </a:solidFill>
                <a:latin typeface="Tahoma"/>
              </a:rPr>
              <a:t> &gt; I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391520" y="449568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I</a:t>
            </a:r>
            <a:r>
              <a:rPr b="0" lang="es-ES_tradnl" sz="1600" spc="-1" strike="noStrike" baseline="-25000">
                <a:solidFill>
                  <a:srgbClr val="402000"/>
                </a:solidFill>
                <a:latin typeface="Tahoma"/>
              </a:rPr>
              <a:t>1</a:t>
            </a: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/p</a:t>
            </a:r>
            <a:r>
              <a:rPr b="0" lang="es-ES_tradnl" sz="1600" spc="-1" strike="noStrike" baseline="-25000">
                <a:solidFill>
                  <a:srgbClr val="402000"/>
                </a:solidFill>
                <a:latin typeface="Tahoma"/>
              </a:rPr>
              <a:t>x0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715000" y="21337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077320" y="449568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sé L. Calv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09AB36-EFC9-4343-8CA0-66FB28C9B82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0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afterEffect" fill="hold" presetClass="entr" presetID="4" presetSubtype="32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8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5500"/>
                            </p:stCondLst>
                            <p:childTnLst>
                              <p:par>
                                <p:cTn id="790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7000"/>
                            </p:stCondLst>
                            <p:childTnLst>
                              <p:par>
                                <p:cTn id="7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8500"/>
                            </p:stCondLst>
                            <p:childTnLst>
                              <p:par>
                                <p:cTn id="7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 u="sng">
                <a:solidFill>
                  <a:srgbClr val="eca07a"/>
                </a:solidFill>
                <a:uFillTx/>
                <a:latin typeface="Times New Roman"/>
              </a:rPr>
              <a:t>Variación en el precio de uno de los bienes</a:t>
            </a: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82580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l aumento (disminución) del precio de uno de los bienes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Reduce (amplia) el Conjunto Factibl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Desplaza la Recta Presupuestaria hacia el interior (exterior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Altera la pendiente de la Recta Presupuestari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562720" y="1981080"/>
            <a:ext cx="0" cy="304812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562720" y="5029200"/>
            <a:ext cx="32004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562720" y="2514600"/>
            <a:ext cx="2286000" cy="2514600"/>
          </a:xfrm>
          <a:prstGeom prst="line">
            <a:avLst/>
          </a:prstGeom>
          <a:ln w="381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562720" y="2514600"/>
            <a:ext cx="990360" cy="25146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248520" y="502920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 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30000">
                <a:solidFill>
                  <a:srgbClr val="402000"/>
                </a:solidFill>
                <a:latin typeface="Tahoma"/>
              </a:rPr>
              <a:t>1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934320" y="2286000"/>
            <a:ext cx="182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ahoma"/>
              </a:rPr>
              <a:t>  </a:t>
            </a:r>
            <a:r>
              <a:rPr b="0" lang="es-ES_tradnl" sz="24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es-ES_tradnl" sz="2400" spc="-1" strike="noStrike" baseline="30000">
                <a:solidFill>
                  <a:srgbClr val="ff3300"/>
                </a:solidFill>
                <a:latin typeface="Tahoma"/>
              </a:rPr>
              <a:t>1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Tahoma"/>
              </a:rPr>
              <a:t>x</a:t>
            </a:r>
            <a:r>
              <a:rPr b="0" lang="es-ES_tradnl" sz="2400" spc="-1" strike="noStrike">
                <a:solidFill>
                  <a:srgbClr val="ff3300"/>
                </a:solidFill>
                <a:latin typeface="Tahoma"/>
              </a:rPr>
              <a:t> &gt; p</a:t>
            </a:r>
            <a:r>
              <a:rPr b="0" lang="es-ES_tradnl" sz="2400" spc="-1" strike="noStrike" baseline="30000">
                <a:solidFill>
                  <a:srgbClr val="ff3300"/>
                </a:solidFill>
                <a:latin typeface="Tahoma"/>
              </a:rPr>
              <a:t>0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Tahoma"/>
              </a:rPr>
              <a:t>x</a:t>
            </a:r>
            <a:r>
              <a:rPr b="0" lang="es-ES_tradnl" sz="24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952880" y="2362320"/>
            <a:ext cx="1067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  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0120" y="5105520"/>
            <a:ext cx="761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30000">
                <a:solidFill>
                  <a:srgbClr val="402000"/>
                </a:solidFill>
                <a:latin typeface="Tahoma"/>
              </a:rPr>
              <a:t>0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6248520" y="4724280"/>
            <a:ext cx="30384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7391520" y="4724280"/>
            <a:ext cx="15120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943600" y="4648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086600" y="4648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086600" y="306216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ahoma"/>
              </a:rPr>
              <a:t>tg </a:t>
            </a:r>
            <a:r>
              <a:rPr b="0" lang="es-ES_tradnl" sz="20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0" lang="es-ES_tradnl" sz="2000" spc="-1" strike="noStrike">
                <a:solidFill>
                  <a:srgbClr val="ff3300"/>
                </a:solidFill>
                <a:latin typeface="Tahoma"/>
              </a:rPr>
              <a:t> &gt; tg </a:t>
            </a:r>
            <a:r>
              <a:rPr b="0" lang="es-ES_tradnl" sz="20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105520" y="190512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381880" y="50292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0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afterEffect" fill="hold" presetClass="entr" presetID="4" presetSubtype="32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500"/>
                            </p:stCondLst>
                            <p:childTnLst>
                              <p:par>
                                <p:cTn id="807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7000"/>
                            </p:stCondLst>
                            <p:childTnLst>
                              <p:par>
                                <p:cTn id="8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9500"/>
                            </p:stCondLst>
                            <p:childTnLst>
                              <p:par>
                                <p:cTn id="814" nodeType="afterEffect" fill="hold" presetClass="entr" presetID="18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81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4500"/>
                            </p:stCondLst>
                            <p:childTnLst>
                              <p:par>
                                <p:cTn id="82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 u="sng">
                <a:solidFill>
                  <a:srgbClr val="eca07a"/>
                </a:solidFill>
                <a:uFillTx/>
                <a:latin typeface="Times New Roman"/>
              </a:rPr>
              <a:t>Ejemplos de restricciones presupuestarias</a:t>
            </a: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040" y="1557360"/>
            <a:ext cx="754380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Impuestos Direct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Impuestos Indirect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Racionamient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antidades gratuitas de un bie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Subvención para el consumo de una determinada cantidad del bie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Precios distintos en función de la cantidad demanda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0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2500"/>
                            </p:stCondLst>
                            <p:childTnLst>
                              <p:par>
                                <p:cTn id="83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5000"/>
                            </p:stCondLst>
                            <p:childTnLst>
                              <p:par>
                                <p:cTn id="83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7500"/>
                            </p:stCondLst>
                            <p:childTnLst>
                              <p:par>
                                <p:cTn id="84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84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12500"/>
                            </p:stCondLst>
                            <p:childTnLst>
                              <p:par>
                                <p:cTn id="85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 u="sng">
                <a:solidFill>
                  <a:srgbClr val="eca07a"/>
                </a:solidFill>
                <a:uFillTx/>
                <a:latin typeface="Times New Roman"/>
              </a:rPr>
              <a:t>Impuestos Directos</a:t>
            </a: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44960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Desplazan paralelamente la Recta Presupuestaria sin alterar su pendiente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Dos tipos: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proporcionales a la renta (t) o de cuantía fija (T)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+</a:t>
            </a:r>
            <a:r>
              <a:rPr b="0" lang="es-ES_tradnl" sz="4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= I(1-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t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+</a:t>
            </a:r>
            <a:r>
              <a:rPr b="0" lang="es-ES_tradnl" sz="4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= I -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T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486400" y="3276720"/>
            <a:ext cx="914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   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772400" y="541008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029200" y="4114800"/>
            <a:ext cx="1600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      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(1-t)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629400" y="5410080"/>
            <a:ext cx="1066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(1-t)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172200" y="5334120"/>
            <a:ext cx="2514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172200" y="2438280"/>
            <a:ext cx="0" cy="289584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172200" y="3429000"/>
            <a:ext cx="1676520" cy="190512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4267080"/>
            <a:ext cx="914400" cy="10670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715000" y="220968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305920" y="533412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6300360" y="4005360"/>
            <a:ext cx="358920" cy="2872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6732360" y="4508640"/>
            <a:ext cx="360360" cy="2887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0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500"/>
                            </p:stCondLst>
                            <p:childTnLst>
                              <p:par>
                                <p:cTn id="8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3000"/>
                            </p:stCondLst>
                            <p:childTnLst>
                              <p:par>
                                <p:cTn id="8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 u="sng">
                <a:solidFill>
                  <a:srgbClr val="eca07a"/>
                </a:solidFill>
                <a:uFillTx/>
                <a:latin typeface="Times New Roman"/>
              </a:rPr>
              <a:t>Impuestos Indirectos</a:t>
            </a: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Actúan igual que una variación del precio del bien que gravan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Dos tipos: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unitarios sobre la cantidad (t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1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); ad-valorem (</a:t>
            </a:r>
            <a:r>
              <a:rPr b="0" lang="es-ES_tradnl" sz="2200" spc="-1" strike="noStrike">
                <a:solidFill>
                  <a:srgbClr val="4e62fa"/>
                </a:solidFill>
                <a:latin typeface="Symbol"/>
                <a:ea typeface="Symbol"/>
              </a:rPr>
              <a:t>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1</a:t>
            </a:r>
            <a:r>
              <a:rPr b="0" lang="es-ES_tradnl" sz="22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(p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+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t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) Q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+ p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4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= I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(1+ </a:t>
            </a:r>
            <a:r>
              <a:rPr b="0" lang="es-ES_tradnl" sz="2200" spc="-1" strike="noStrike">
                <a:solidFill>
                  <a:srgbClr val="4e62fa"/>
                </a:solidFill>
                <a:latin typeface="Symbol"/>
                <a:ea typeface="Symbol"/>
              </a:rPr>
              <a:t>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) Q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+ p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4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= I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62720" y="1752480"/>
            <a:ext cx="0" cy="327672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62720" y="5029200"/>
            <a:ext cx="29718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62720" y="2514600"/>
            <a:ext cx="2286000" cy="251460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562720" y="2514600"/>
            <a:ext cx="990360" cy="25146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867280" y="5157720"/>
            <a:ext cx="1447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 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(1+ </a:t>
            </a:r>
            <a:r>
              <a:rPr b="0" lang="es-ES_tradnl" sz="1400" spc="-1" strike="noStrike">
                <a:solidFill>
                  <a:srgbClr val="402000"/>
                </a:solidFill>
                <a:latin typeface="Symbol"/>
                <a:ea typeface="Symbol"/>
              </a:rPr>
              <a:t>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1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)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620120" y="5105520"/>
            <a:ext cx="761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6248520" y="4724280"/>
            <a:ext cx="30384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7391520" y="4724280"/>
            <a:ext cx="15120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943600" y="4648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086600" y="4648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705720" y="281952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ahoma"/>
              </a:rPr>
              <a:t>tg </a:t>
            </a:r>
            <a:r>
              <a:rPr b="0" lang="es-ES_tradnl" sz="20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0" lang="es-ES_tradnl" sz="2000" spc="-1" strike="noStrike">
                <a:solidFill>
                  <a:srgbClr val="ff3300"/>
                </a:solidFill>
                <a:latin typeface="Tahoma"/>
              </a:rPr>
              <a:t> &gt; tg </a:t>
            </a:r>
            <a:r>
              <a:rPr b="0" lang="es-ES_tradnl" sz="20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05520" y="160020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229600" y="50292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105520" y="2362320"/>
            <a:ext cx="761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5400000">
            <a:off x="6373080" y="4580640"/>
            <a:ext cx="287280" cy="1152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595"/>
                </a:lnTo>
                <a:cubicBezTo>
                  <a:pt x="10800" y="10495"/>
                  <a:pt x="5400" y="11395"/>
                  <a:pt x="0" y="11395"/>
                </a:cubicBezTo>
                <a:cubicBezTo>
                  <a:pt x="5400" y="11395"/>
                  <a:pt x="10800" y="12295"/>
                  <a:pt x="10800" y="1319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0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1500"/>
                            </p:stCondLst>
                            <p:childTnLst>
                              <p:par>
                                <p:cTn id="8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80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5500"/>
                            </p:stCondLst>
                            <p:childTnLst>
                              <p:par>
                                <p:cTn id="8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 u="sng">
                <a:solidFill>
                  <a:srgbClr val="eca07a"/>
                </a:solidFill>
                <a:uFillTx/>
                <a:latin typeface="Times New Roman"/>
              </a:rPr>
              <a:t>Racionamiento</a:t>
            </a: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94920" y="1828800"/>
            <a:ext cx="46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Solo se puede demandar hasta  una determinada cantidad del bien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(</a:t>
            </a:r>
            <a:r>
              <a:rPr b="0" lang="es-ES_tradnl" sz="20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0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000" spc="-1" strike="noStrike">
                <a:solidFill>
                  <a:srgbClr val="4e62fa"/>
                </a:solidFill>
                <a:latin typeface="Times New Roman"/>
              </a:rPr>
              <a:t>*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Nuevo Conjunto Factible: </a:t>
            </a:r>
            <a:r>
              <a:rPr b="0" lang="es-ES_tradnl" sz="2000" spc="-1" strike="noStrike">
                <a:solidFill>
                  <a:srgbClr val="4e62fa"/>
                </a:solidFill>
                <a:latin typeface="Times New Roman"/>
              </a:rPr>
              <a:t>(I/p</a:t>
            </a:r>
            <a:r>
              <a:rPr b="0" lang="es-ES_tradnl" sz="20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000" spc="-1" strike="noStrike">
                <a:solidFill>
                  <a:srgbClr val="4e62fa"/>
                </a:solidFill>
                <a:latin typeface="Times New Roman"/>
              </a:rPr>
              <a:t>)AQ</a:t>
            </a:r>
            <a:r>
              <a:rPr b="0" lang="es-ES_tradnl" sz="20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000" spc="-1" strike="noStrike">
                <a:solidFill>
                  <a:srgbClr val="4e62fa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Nueva Recta de presupuesto: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4e62fa"/>
                </a:solidFill>
                <a:latin typeface="Times New Roman"/>
              </a:rPr>
              <a:t>(I/p</a:t>
            </a:r>
            <a:r>
              <a:rPr b="0" lang="es-ES_tradnl" sz="20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000" spc="-1" strike="noStrike">
                <a:solidFill>
                  <a:srgbClr val="4e62fa"/>
                </a:solidFill>
                <a:latin typeface="Times New Roman"/>
              </a:rPr>
              <a:t>)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0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0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 + p</a:t>
            </a:r>
            <a:r>
              <a:rPr b="0" lang="es-ES_tradnl" sz="20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0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  = I  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402000"/>
                </a:solidFill>
                <a:latin typeface="Symbol"/>
                <a:ea typeface="Symbol"/>
              </a:rPr>
              <a:t>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20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0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 Q</a:t>
            </a:r>
            <a:r>
              <a:rPr b="0" lang="es-ES_tradnl" sz="20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*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410080" y="2286000"/>
            <a:ext cx="0" cy="259092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410080" y="2819520"/>
            <a:ext cx="1371600" cy="10666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781680" y="3886200"/>
            <a:ext cx="0" cy="990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10080" y="4876920"/>
            <a:ext cx="34290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876920" y="2666880"/>
            <a:ext cx="561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05720" y="3505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629400" y="487692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6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1600" spc="-1" strike="noStrike">
                <a:solidFill>
                  <a:srgbClr val="402000"/>
                </a:solidFill>
                <a:latin typeface="Tahoma"/>
              </a:rPr>
              <a:t>*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924680" y="4952880"/>
            <a:ext cx="762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410080" y="2819520"/>
            <a:ext cx="2667240" cy="2057400"/>
          </a:xfrm>
          <a:prstGeom prst="line">
            <a:avLst/>
          </a:prstGeom>
          <a:ln w="9360">
            <a:solidFill>
              <a:srgbClr val="402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477120" y="2286000"/>
            <a:ext cx="144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ahoma"/>
              </a:rPr>
              <a:t>Q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Tahoma"/>
              </a:rPr>
              <a:t>x</a:t>
            </a:r>
            <a:r>
              <a:rPr b="0" lang="es-ES_tradnl" sz="24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s-ES_tradnl" sz="2400" spc="-1" strike="noStrike">
                <a:solidFill>
                  <a:srgbClr val="ff3300"/>
                </a:solidFill>
                <a:latin typeface="Tahoma"/>
              </a:rPr>
              <a:t> Q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Tahoma"/>
              </a:rPr>
              <a:t>x</a:t>
            </a:r>
            <a:r>
              <a:rPr b="0" lang="es-ES_tradnl" sz="2400" spc="-1" strike="noStrike">
                <a:solidFill>
                  <a:srgbClr val="ff3300"/>
                </a:solidFill>
                <a:latin typeface="Tahoma"/>
              </a:rPr>
              <a:t>*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952880" y="198108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534520" y="487692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0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5500"/>
                            </p:stCondLst>
                            <p:childTnLst>
                              <p:par>
                                <p:cTn id="89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8000"/>
                            </p:stCondLst>
                            <p:childTnLst>
                              <p:par>
                                <p:cTn id="899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10500"/>
                            </p:stCondLst>
                            <p:childTnLst>
                              <p:par>
                                <p:cTn id="9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12000"/>
                            </p:stCondLst>
                            <p:childTnLst>
                              <p:par>
                                <p:cTn id="906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 u="sng">
                <a:solidFill>
                  <a:srgbClr val="eca07a"/>
                </a:solidFill>
                <a:uFillTx/>
                <a:latin typeface="Times New Roman"/>
              </a:rPr>
              <a:t>Cantidades gratuitas de un bien </a:t>
            </a:r>
            <a:br>
              <a:rPr sz="3400"/>
            </a:b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El individuo no paga nada por una determinada cantidad del bien (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*)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= 0      </a:t>
            </a:r>
            <a:r>
              <a:rPr b="0" lang="es-ES_tradnl" sz="2200" spc="-1" strike="noStrike">
                <a:solidFill>
                  <a:srgbClr val="402000"/>
                </a:solidFill>
                <a:latin typeface="Symbol"/>
                <a:ea typeface="Symbol"/>
              </a:rPr>
              <a:t>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 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&gt; 0      </a:t>
            </a:r>
            <a:r>
              <a:rPr b="0" lang="es-ES_tradnl" sz="2200" spc="-1" strike="noStrike">
                <a:solidFill>
                  <a:srgbClr val="402000"/>
                </a:solidFill>
                <a:latin typeface="Symbol"/>
                <a:ea typeface="Symbol"/>
              </a:rPr>
              <a:t>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&gt; 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= I/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                           si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e62fa"/>
                </a:solidFill>
                <a:latin typeface="Symbol"/>
                <a:ea typeface="Symbol"/>
              </a:rPr>
              <a:t>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(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-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) + 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= I       si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&gt;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410080" y="2743200"/>
            <a:ext cx="0" cy="259092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410080" y="5334120"/>
            <a:ext cx="312444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410080" y="3276720"/>
            <a:ext cx="990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400800" y="3276720"/>
            <a:ext cx="1371600" cy="20574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876920" y="3200400"/>
            <a:ext cx="761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400800" y="3276720"/>
            <a:ext cx="0" cy="2057400"/>
          </a:xfrm>
          <a:prstGeom prst="line">
            <a:avLst/>
          </a:prstGeom>
          <a:ln w="9360">
            <a:solidFill>
              <a:srgbClr val="402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095880" y="5486400"/>
            <a:ext cx="609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*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308720" y="5445000"/>
            <a:ext cx="1143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* + 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952880" y="25909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458200" y="53341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rot="5400000">
            <a:off x="7668360" y="4869720"/>
            <a:ext cx="216000" cy="1224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70920 h 1224000"/>
              <a:gd name="textAreaBottom" fmla="*/ 115308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08"/>
                  <a:pt x="10800" y="4015"/>
                </a:cubicBezTo>
                <a:lnTo>
                  <a:pt x="10800" y="6434"/>
                </a:lnTo>
                <a:cubicBezTo>
                  <a:pt x="10800" y="8442"/>
                  <a:pt x="5400" y="10449"/>
                  <a:pt x="0" y="10449"/>
                </a:cubicBezTo>
                <a:cubicBezTo>
                  <a:pt x="5400" y="10449"/>
                  <a:pt x="10800" y="12457"/>
                  <a:pt x="10800" y="14464"/>
                </a:cubicBezTo>
                <a:lnTo>
                  <a:pt x="10800" y="17585"/>
                </a:lnTo>
                <a:cubicBezTo>
                  <a:pt x="10800" y="1959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0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5500"/>
                            </p:stCondLst>
                            <p:childTnLst>
                              <p:par>
                                <p:cTn id="916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8000"/>
                            </p:stCondLst>
                            <p:childTnLst>
                              <p:par>
                                <p:cTn id="923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10500"/>
                            </p:stCondLst>
                            <p:childTnLst>
                              <p:par>
                                <p:cTn id="927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12000"/>
                            </p:stCondLst>
                            <p:childTnLst>
                              <p:par>
                                <p:cTn id="9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LAS PREFERENCIAS</a:t>
            </a:r>
            <a:br>
              <a:rPr sz="3200"/>
            </a:b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Propiedades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Complitud.- Todas las combinaciones pueden ordenarse 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      (A </a:t>
            </a:r>
            <a:r>
              <a:rPr b="0" lang="es-ES" sz="2600" spc="-1" strike="noStrike">
                <a:solidFill>
                  <a:srgbClr val="ff9966"/>
                </a:solidFill>
                <a:latin typeface="Bauhaus 93"/>
              </a:rPr>
              <a:t>P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B; ó B </a:t>
            </a:r>
            <a:r>
              <a:rPr b="0" lang="es-ES" sz="2600" spc="-1" strike="noStrike">
                <a:solidFill>
                  <a:srgbClr val="ff9966"/>
                </a:solidFill>
                <a:latin typeface="Bauhaus 93"/>
              </a:rPr>
              <a:t>P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A;  ó B </a:t>
            </a:r>
            <a:r>
              <a:rPr b="0" lang="es-ES" sz="2200" spc="-1" strike="noStrike">
                <a:solidFill>
                  <a:srgbClr val="ff9966"/>
                </a:solidFill>
                <a:latin typeface="Bauhaus 93"/>
              </a:rPr>
              <a:t>I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A      </a:t>
            </a:r>
            <a:r>
              <a:rPr b="0" lang="es-ES" sz="2400" spc="-1" strike="noStrike">
                <a:solidFill>
                  <a:srgbClr val="402000"/>
                </a:solidFill>
                <a:latin typeface="Symbol"/>
                <a:ea typeface="Symbol"/>
              </a:rPr>
              <a:t>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A y B).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Transitividad.- Dadas tres canastas A, B, y C, se cumple que: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                 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Si A </a:t>
            </a:r>
            <a:r>
              <a:rPr b="0" lang="es-ES" sz="2200" spc="-1" strike="noStrike">
                <a:solidFill>
                  <a:srgbClr val="ff9966"/>
                </a:solidFill>
                <a:latin typeface="Bauhaus 93"/>
              </a:rPr>
              <a:t>P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B y B </a:t>
            </a:r>
            <a:r>
              <a:rPr b="0" lang="es-ES" sz="2200" spc="-1" strike="noStrike">
                <a:solidFill>
                  <a:srgbClr val="ff9966"/>
                </a:solidFill>
                <a:latin typeface="Bauhaus 93"/>
              </a:rPr>
              <a:t>P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C </a:t>
            </a:r>
            <a:r>
              <a:rPr b="0" lang="es-ES" sz="2400" spc="-1" strike="noStrike">
                <a:solidFill>
                  <a:srgbClr val="402000"/>
                </a:solidFill>
                <a:latin typeface="Symbol"/>
                <a:ea typeface="Symbol"/>
              </a:rPr>
              <a:t>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A </a:t>
            </a:r>
            <a:r>
              <a:rPr b="0" lang="es-ES" sz="2200" spc="-1" strike="noStrike">
                <a:solidFill>
                  <a:srgbClr val="ff9966"/>
                </a:solidFill>
                <a:latin typeface="Bauhaus 93"/>
              </a:rPr>
              <a:t>P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C. 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Más es mejor.- El individuo siempre prefiere combinaciones que tienen una cantidad mayor de al menos uno de los bienes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eca07a"/>
                </a:solidFill>
                <a:latin typeface="Times New Roman"/>
              </a:rPr>
              <a:t>Subsidio al precio para el consumo de una determinada cantidad del bien (Q</a:t>
            </a:r>
            <a:r>
              <a:rPr b="0" lang="es-ES_tradnl" sz="3400" spc="-1" strike="noStrike" baseline="-25000">
                <a:solidFill>
                  <a:srgbClr val="eca07a"/>
                </a:solidFill>
                <a:latin typeface="Times New Roman"/>
              </a:rPr>
              <a:t>x</a:t>
            </a:r>
            <a:r>
              <a:rPr b="0" lang="es-ES_tradnl" sz="3400" spc="-1" strike="noStrike">
                <a:solidFill>
                  <a:srgbClr val="eca07a"/>
                </a:solidFill>
                <a:latin typeface="Times New Roman"/>
              </a:rPr>
              <a:t>*)</a:t>
            </a: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09480" y="22856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* = 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– s   </a:t>
            </a:r>
            <a:r>
              <a:rPr b="0" lang="es-ES_tradnl" sz="2200" spc="-1" strike="noStrike">
                <a:solidFill>
                  <a:srgbClr val="402000"/>
                </a:solidFill>
                <a:latin typeface="Symbol"/>
                <a:ea typeface="Symbol"/>
              </a:rPr>
              <a:t>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(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– s)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+ 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= I   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e62fa"/>
                </a:solidFill>
                <a:latin typeface="Symbol"/>
                <a:ea typeface="Symbol"/>
              </a:rPr>
              <a:t>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Symbol"/>
                <a:ea typeface="Symbol"/>
              </a:rPr>
              <a:t>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tg </a:t>
            </a:r>
            <a:r>
              <a:rPr b="0" lang="es-ES" sz="2200" spc="-1" strike="noStrike">
                <a:solidFill>
                  <a:srgbClr val="402000"/>
                </a:solidFill>
                <a:latin typeface="Symbol"/>
                <a:ea typeface="Symbol"/>
              </a:rPr>
              <a:t>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= (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-s)/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(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-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)+ (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– s)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 + 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= I   </a:t>
            </a:r>
            <a:r>
              <a:rPr b="0" lang="es-ES_tradnl" sz="2200" spc="-1" strike="noStrike">
                <a:solidFill>
                  <a:srgbClr val="4e62fa"/>
                </a:solidFill>
                <a:latin typeface="Symbol"/>
                <a:ea typeface="Symbol"/>
              </a:rPr>
              <a:t>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&gt;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tg</a:t>
            </a:r>
            <a:r>
              <a:rPr b="0" lang="es-ES_tradnl" sz="2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s-ES" sz="2200" spc="-1" strike="noStrike">
                <a:solidFill>
                  <a:srgbClr val="402000"/>
                </a:solidFill>
                <a:latin typeface="Symbol"/>
                <a:ea typeface="Symbol"/>
              </a:rPr>
              <a:t>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= 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/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257800" y="1981080"/>
            <a:ext cx="0" cy="312444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257800" y="5105520"/>
            <a:ext cx="35053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257800" y="2743200"/>
            <a:ext cx="990720" cy="304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48520" y="3048120"/>
            <a:ext cx="1371600" cy="20574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648320" y="2590920"/>
            <a:ext cx="761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I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248520" y="3048120"/>
            <a:ext cx="0" cy="2057400"/>
          </a:xfrm>
          <a:prstGeom prst="line">
            <a:avLst/>
          </a:prstGeom>
          <a:ln w="9360">
            <a:solidFill>
              <a:srgbClr val="402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943600" y="5257800"/>
            <a:ext cx="609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*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020000" y="5229360"/>
            <a:ext cx="190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* + (I-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*)/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5486040" y="3048120"/>
            <a:ext cx="762120" cy="0"/>
          </a:xfrm>
          <a:prstGeom prst="line">
            <a:avLst/>
          </a:prstGeom>
          <a:ln w="9360">
            <a:solidFill>
              <a:srgbClr val="402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5410080" y="2819520"/>
            <a:ext cx="15264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144"/>
                </a:moveTo>
                <a:cubicBezTo>
                  <a:pt x="28" y="80"/>
                  <a:pt x="8" y="16"/>
                  <a:pt x="0" y="0"/>
                </a:cubicBezTo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 flipV="1">
            <a:off x="7162920" y="3885120"/>
            <a:ext cx="456480" cy="121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858000" y="48006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2000"/>
                </a:solidFill>
                <a:latin typeface="Symbol"/>
                <a:ea typeface="Symbol"/>
              </a:rPr>
              <a:t>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410080" y="281952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2000"/>
                </a:solidFill>
                <a:latin typeface="Symbol"/>
                <a:ea typeface="Symbol"/>
              </a:rPr>
              <a:t>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800600" y="19051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8610480" y="50292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292720" y="2781360"/>
            <a:ext cx="1511280" cy="2303280"/>
          </a:xfrm>
          <a:prstGeom prst="line">
            <a:avLst/>
          </a:prstGeom>
          <a:ln cap="rnd" w="3816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rot="5400000">
            <a:off x="7667280" y="4437000"/>
            <a:ext cx="289080" cy="1584360"/>
          </a:xfrm>
          <a:custGeom>
            <a:avLst/>
            <a:gdLst>
              <a:gd name="textAreaLeft" fmla="*/ 184680 w 289080"/>
              <a:gd name="textAreaRight" fmla="*/ 289080 w 28908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1770"/>
                </a:lnTo>
                <a:cubicBezTo>
                  <a:pt x="10800" y="12670"/>
                  <a:pt x="5400" y="13570"/>
                  <a:pt x="0" y="13570"/>
                </a:cubicBezTo>
                <a:cubicBezTo>
                  <a:pt x="5400" y="13570"/>
                  <a:pt x="10800" y="14470"/>
                  <a:pt x="10800" y="1537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5500"/>
                            </p:stCondLst>
                            <p:childTnLst>
                              <p:par>
                                <p:cTn id="940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8000"/>
                            </p:stCondLst>
                            <p:childTnLst>
                              <p:par>
                                <p:cTn id="947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10500"/>
                            </p:stCondLst>
                            <p:childTnLst>
                              <p:par>
                                <p:cTn id="951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5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14500"/>
                            </p:stCondLst>
                            <p:childTnLst>
                              <p:par>
                                <p:cTn id="958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17000"/>
                            </p:stCondLst>
                            <p:childTnLst>
                              <p:par>
                                <p:cTn id="96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6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17500"/>
                            </p:stCondLst>
                            <p:childTnLst>
                              <p:par>
                                <p:cTn id="9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19000"/>
                            </p:stCondLst>
                            <p:childTnLst>
                              <p:par>
                                <p:cTn id="972" nodeType="afterEffect" fill="hold" presetClass="entr" presetID="18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7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21500"/>
                            </p:stCondLst>
                            <p:childTnLst>
                              <p:par>
                                <p:cTn id="9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22000"/>
                            </p:stCondLst>
                            <p:childTnLst>
                              <p:par>
                                <p:cTn id="979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eca07a"/>
                </a:solidFill>
                <a:latin typeface="Times New Roman"/>
              </a:rPr>
              <a:t>Precios distintos en función de la cantidad demandada.</a:t>
            </a:r>
            <a:endParaRPr b="0" lang="en-US" sz="3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46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           </a:t>
            </a:r>
            <a:r>
              <a:rPr b="0" lang="es-ES_tradnl" sz="2200" spc="-1" strike="noStrike">
                <a:solidFill>
                  <a:srgbClr val="402000"/>
                </a:solidFill>
                <a:latin typeface="Symbol"/>
                <a:ea typeface="Symbol"/>
              </a:rPr>
              <a:t>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02000"/>
                </a:solidFill>
                <a:latin typeface="Symbol"/>
                <a:ea typeface="Symbol"/>
              </a:rPr>
              <a:t>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* &lt; 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 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02000"/>
                </a:solidFill>
                <a:latin typeface="Symbol"/>
                <a:ea typeface="Symbol"/>
              </a:rPr>
              <a:t>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&gt; Q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 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just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+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 = I     </a:t>
            </a:r>
            <a:r>
              <a:rPr b="0" lang="es-ES_tradnl" sz="2200" spc="-1" strike="noStrike">
                <a:solidFill>
                  <a:srgbClr val="4e62fa"/>
                </a:solidFill>
                <a:latin typeface="Symbol"/>
                <a:ea typeface="Symbol"/>
              </a:rPr>
              <a:t>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Qx </a:t>
            </a:r>
            <a:r>
              <a:rPr b="0" lang="es-ES_tradnl" sz="2200" spc="-1" strike="noStrike">
                <a:solidFill>
                  <a:srgbClr val="4e62fa"/>
                </a:solidFill>
                <a:latin typeface="Symbol"/>
                <a:ea typeface="Symbol"/>
              </a:rPr>
              <a:t>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Qx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just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tg</a:t>
            </a:r>
            <a:r>
              <a:rPr b="0" lang="es-ES_tradnl" sz="2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s-ES" sz="2200" spc="-1" strike="noStrike">
                <a:solidFill>
                  <a:srgbClr val="402000"/>
                </a:solidFill>
                <a:latin typeface="Symbol"/>
                <a:ea typeface="Symbol"/>
              </a:rPr>
              <a:t>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 = 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/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just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just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(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-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)+ 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+ p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y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= I  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just">
              <a:lnSpc>
                <a:spcPct val="11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e62fa"/>
                </a:solidFill>
                <a:latin typeface="Symbol"/>
                <a:ea typeface="Symbol"/>
              </a:rPr>
              <a:t>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 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&gt; Q</a:t>
            </a:r>
            <a:r>
              <a:rPr b="0" lang="es-ES_tradnl" sz="2200" spc="-1" strike="noStrike" baseline="-25000">
                <a:solidFill>
                  <a:srgbClr val="4e62fa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e62fa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tg </a:t>
            </a:r>
            <a:r>
              <a:rPr b="0" lang="es-ES" sz="2200" spc="-1" strike="noStrike">
                <a:solidFill>
                  <a:srgbClr val="402000"/>
                </a:solidFill>
                <a:latin typeface="Symbol"/>
                <a:ea typeface="Symbol"/>
              </a:rPr>
              <a:t>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= 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200" spc="-1" strike="noStrike">
                <a:solidFill>
                  <a:srgbClr val="402000"/>
                </a:solidFill>
                <a:latin typeface="Times New Roman"/>
              </a:rPr>
              <a:t>*/p</a:t>
            </a:r>
            <a:r>
              <a:rPr b="0" lang="es-ES_tradnl" sz="22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610480" y="50292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4500720" y="1989000"/>
            <a:ext cx="4114800" cy="3508200"/>
            <a:chOff x="4500720" y="1989000"/>
            <a:chExt cx="4114800" cy="3508200"/>
          </a:xfrm>
        </p:grpSpPr>
        <p:sp>
          <p:nvSpPr>
            <p:cNvPr id="411" name=""/>
            <p:cNvSpPr/>
            <p:nvPr/>
          </p:nvSpPr>
          <p:spPr>
            <a:xfrm>
              <a:off x="5034240" y="2141280"/>
              <a:ext cx="0" cy="289584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034240" y="5037120"/>
              <a:ext cx="3581280" cy="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491440" y="51130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402000"/>
                  </a:solidFill>
                  <a:latin typeface="Tahoma"/>
                </a:rPr>
                <a:t>Q</a:t>
              </a:r>
              <a:r>
                <a:rPr b="0" lang="es-ES_tradnl" sz="1400" spc="-1" strike="noStrike" baseline="-25000">
                  <a:solidFill>
                    <a:srgbClr val="402000"/>
                  </a:solidFill>
                  <a:latin typeface="Tahoma"/>
                </a:rPr>
                <a:t>x</a:t>
              </a:r>
              <a:r>
                <a:rPr b="0" lang="es-ES_tradnl" sz="1400" spc="-1" strike="noStrike">
                  <a:solidFill>
                    <a:srgbClr val="402000"/>
                  </a:solidFill>
                  <a:latin typeface="Tahoma"/>
                </a:rPr>
                <a:t>*</a:t>
              </a:r>
              <a:endParaRPr b="0" lang="en-US" sz="1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653520" y="5160960"/>
              <a:ext cx="1828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402000"/>
                  </a:solidFill>
                  <a:latin typeface="Tahoma"/>
                </a:rPr>
                <a:t>Q</a:t>
              </a:r>
              <a:r>
                <a:rPr b="0" lang="es-ES_tradnl" sz="1400" spc="-1" strike="noStrike" baseline="-25000">
                  <a:solidFill>
                    <a:srgbClr val="402000"/>
                  </a:solidFill>
                  <a:latin typeface="Tahoma"/>
                </a:rPr>
                <a:t>x</a:t>
              </a:r>
              <a:r>
                <a:rPr b="0" lang="es-ES_tradnl" sz="1400" spc="-1" strike="noStrike">
                  <a:solidFill>
                    <a:srgbClr val="402000"/>
                  </a:solidFill>
                  <a:latin typeface="Tahoma"/>
                </a:rPr>
                <a:t>* + (I-p</a:t>
              </a:r>
              <a:r>
                <a:rPr b="0" lang="es-ES_tradnl" sz="1400" spc="-1" strike="noStrike" baseline="-25000">
                  <a:solidFill>
                    <a:srgbClr val="402000"/>
                  </a:solidFill>
                  <a:latin typeface="Tahoma"/>
                </a:rPr>
                <a:t>x</a:t>
              </a:r>
              <a:r>
                <a:rPr b="0" lang="es-ES_tradnl" sz="1400" spc="-1" strike="noStrike">
                  <a:solidFill>
                    <a:srgbClr val="402000"/>
                  </a:solidFill>
                  <a:latin typeface="Tahoma"/>
                </a:rPr>
                <a:t>Q</a:t>
              </a:r>
              <a:r>
                <a:rPr b="0" lang="es-ES_tradnl" sz="1400" spc="-1" strike="noStrike" baseline="-25000">
                  <a:solidFill>
                    <a:srgbClr val="402000"/>
                  </a:solidFill>
                  <a:latin typeface="Tahoma"/>
                </a:rPr>
                <a:t>x</a:t>
              </a:r>
              <a:r>
                <a:rPr b="0" lang="es-ES_tradnl" sz="1400" spc="-1" strike="noStrike">
                  <a:solidFill>
                    <a:srgbClr val="402000"/>
                  </a:solidFill>
                  <a:latin typeface="Tahoma"/>
                </a:rPr>
                <a:t>*)/p</a:t>
              </a:r>
              <a:r>
                <a:rPr b="0" lang="es-ES_tradnl" sz="1400" spc="-1" strike="noStrike" baseline="-25000">
                  <a:solidFill>
                    <a:srgbClr val="402000"/>
                  </a:solidFill>
                  <a:latin typeface="Tahoma"/>
                </a:rPr>
                <a:t>1</a:t>
              </a:r>
              <a:r>
                <a:rPr b="0" lang="es-ES_tradnl" sz="1400" spc="-1" strike="noStrike">
                  <a:solidFill>
                    <a:srgbClr val="402000"/>
                  </a:solidFill>
                  <a:latin typeface="Tahoma"/>
                </a:rPr>
                <a:t>*</a:t>
              </a:r>
              <a:endParaRPr b="0" lang="en-US" sz="1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5186520" y="3894120"/>
              <a:ext cx="533520" cy="0"/>
            </a:xfrm>
            <a:prstGeom prst="line">
              <a:avLst/>
            </a:prstGeom>
            <a:ln w="9360">
              <a:solidFill>
                <a:srgbClr val="402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415120" y="3589200"/>
              <a:ext cx="76320" cy="2286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144"/>
                  </a:moveTo>
                  <a:cubicBezTo>
                    <a:pt x="28" y="80"/>
                    <a:pt x="8" y="16"/>
                    <a:pt x="0" y="0"/>
                  </a:cubicBezTo>
                </a:path>
              </a:pathLst>
            </a:cu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 flipV="1">
              <a:off x="6863040" y="4426560"/>
              <a:ext cx="30384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186520" y="3589200"/>
              <a:ext cx="38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402000"/>
                  </a:solidFill>
                  <a:latin typeface="Symbol"/>
                  <a:ea typeface="Symbol"/>
                </a:rPr>
                <a:t></a:t>
              </a:r>
              <a:endParaRPr b="0" lang="en-US" sz="1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558120" y="4732200"/>
              <a:ext cx="60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402000"/>
                  </a:solidFill>
                  <a:latin typeface="Symbol"/>
                  <a:ea typeface="Symbol"/>
                </a:rPr>
                <a:t></a:t>
              </a:r>
              <a:endParaRPr b="0" lang="en-US" sz="1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034240" y="2827080"/>
              <a:ext cx="685800" cy="10670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720040" y="3894120"/>
              <a:ext cx="1676520" cy="1143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5720040" y="3893760"/>
              <a:ext cx="0" cy="1143000"/>
            </a:xfrm>
            <a:prstGeom prst="line">
              <a:avLst/>
            </a:prstGeom>
            <a:ln w="9360">
              <a:solidFill>
                <a:srgbClr val="402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957920" y="2827080"/>
              <a:ext cx="83844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buClr>
                  <a:srgbClr val="402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500720" y="2674800"/>
              <a:ext cx="762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402000"/>
                  </a:solidFill>
                  <a:latin typeface="Tahoma"/>
                </a:rPr>
                <a:t>I/p</a:t>
              </a:r>
              <a:r>
                <a:rPr b="0" lang="es-ES_tradnl" sz="1400" spc="-1" strike="noStrike" baseline="-25000">
                  <a:solidFill>
                    <a:srgbClr val="402000"/>
                  </a:solidFill>
                  <a:latin typeface="Tahoma"/>
                </a:rPr>
                <a:t>y</a:t>
              </a:r>
              <a:endParaRPr b="0" lang="en-US" sz="1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77040" y="1989000"/>
              <a:ext cx="762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02000"/>
                  </a:solidFill>
                  <a:latin typeface="Tahoma"/>
                </a:rPr>
                <a:t>Q</a:t>
              </a:r>
              <a:r>
                <a:rPr b="0" lang="es-ES_tradnl" sz="1800" spc="-1" strike="noStrike" baseline="-25000">
                  <a:solidFill>
                    <a:srgbClr val="402000"/>
                  </a:solidFill>
                  <a:latin typeface="Tahoma"/>
                </a:rPr>
                <a:t>Y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5400000">
              <a:off x="7372440" y="4296960"/>
              <a:ext cx="289080" cy="172728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45000 h 1727280"/>
                <a:gd name="textAreaBottom" fmla="*/ 1682280 h 172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10330"/>
                  </a:lnTo>
                  <a:cubicBezTo>
                    <a:pt x="10800" y="11230"/>
                    <a:pt x="5400" y="12130"/>
                    <a:pt x="0" y="12130"/>
                  </a:cubicBezTo>
                  <a:cubicBezTo>
                    <a:pt x="5400" y="12130"/>
                    <a:pt x="10800" y="13030"/>
                    <a:pt x="10800" y="1393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1676520" y="1765440"/>
            <a:ext cx="0" cy="386064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1663560" y="5638680"/>
            <a:ext cx="5207040" cy="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rot="10800000">
            <a:off x="2850840" y="-1778040"/>
            <a:ext cx="7744680" cy="667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1" swAng="476413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1" swAng="4764131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689120" y="2222640"/>
            <a:ext cx="462276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1663560" y="4114800"/>
            <a:ext cx="261648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267080" y="4127400"/>
            <a:ext cx="0" cy="14986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992160" y="160164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326280" y="5640480"/>
            <a:ext cx="606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915840" y="38116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887640" y="56404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268000" y="333000"/>
            <a:ext cx="4753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996633"/>
                </a:solidFill>
                <a:uFillTx/>
                <a:latin typeface="Times New Roman"/>
              </a:rPr>
              <a:t>Elección óptima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003640" y="515772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rot="10800000">
            <a:off x="2634840" y="-1715760"/>
            <a:ext cx="7744680" cy="683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76413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764130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rot="10800000">
            <a:off x="2346120" y="-1767960"/>
            <a:ext cx="7619760" cy="708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779" y="44"/>
                </a:moveTo>
                <a:arcTo wR="10800" hR="10800" stAng="-5088027" swAng="4452156"/>
                <a:lnTo>
                  <a:pt x="10800" y="10800"/>
                </a:lnTo>
                <a:close/>
              </a:path>
              <a:path fill="none" w="21600" h="21600">
                <a:moveTo>
                  <a:pt x="11779" y="44"/>
                </a:moveTo>
                <a:arcTo wR="10800" hR="10800" stAng="-5088027" swAng="4452156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516720" y="494172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732720" y="4653000"/>
            <a:ext cx="758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974960" y="2814480"/>
            <a:ext cx="539640" cy="1800"/>
          </a:xfrm>
          <a:custGeom>
            <a:avLst/>
            <a:gdLst/>
            <a:ahLst/>
            <a:rect l="l" t="t" r="r" b="b"/>
            <a:pathLst>
              <a:path w="340" h="1">
                <a:moveTo>
                  <a:pt x="0" y="0"/>
                </a:moveTo>
                <a:lnTo>
                  <a:pt x="340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3920" bIns="-439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513160" y="2809800"/>
            <a:ext cx="1440" cy="789120"/>
          </a:xfrm>
          <a:custGeom>
            <a:avLst/>
            <a:gdLst/>
            <a:ahLst/>
            <a:rect l="l" t="t" r="r" b="b"/>
            <a:pathLst>
              <a:path w="1" h="497">
                <a:moveTo>
                  <a:pt x="0" y="0"/>
                </a:moveTo>
                <a:lnTo>
                  <a:pt x="1" y="497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979640" y="3213000"/>
            <a:ext cx="1057320" cy="1800"/>
          </a:xfrm>
          <a:custGeom>
            <a:avLst/>
            <a:gdLst/>
            <a:ahLst/>
            <a:rect l="l" t="t" r="r" b="b"/>
            <a:pathLst>
              <a:path w="666" h="1">
                <a:moveTo>
                  <a:pt x="0" y="0"/>
                </a:moveTo>
                <a:lnTo>
                  <a:pt x="666" y="1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3920" bIns="-439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670120" y="3209760"/>
            <a:ext cx="1800" cy="400320"/>
          </a:xfrm>
          <a:custGeom>
            <a:avLst/>
            <a:gdLst/>
            <a:ahLst/>
            <a:rect l="l" t="t" r="r" b="b"/>
            <a:pathLst>
              <a:path w="1" h="252">
                <a:moveTo>
                  <a:pt x="0" y="0"/>
                </a:moveTo>
                <a:lnTo>
                  <a:pt x="1" y="252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33720" y="3213000"/>
            <a:ext cx="1440" cy="411120"/>
          </a:xfrm>
          <a:custGeom>
            <a:avLst/>
            <a:gdLst/>
            <a:ahLst/>
            <a:rect l="l" t="t" r="r" b="b"/>
            <a:pathLst>
              <a:path w="1" h="259">
                <a:moveTo>
                  <a:pt x="0" y="0"/>
                </a:moveTo>
                <a:lnTo>
                  <a:pt x="0" y="259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627280" y="3179880"/>
            <a:ext cx="73080" cy="6984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341440" y="2809800"/>
            <a:ext cx="1800" cy="403200"/>
          </a:xfrm>
          <a:custGeom>
            <a:avLst/>
            <a:gdLst/>
            <a:ahLst/>
            <a:rect l="l" t="t" r="r" b="b"/>
            <a:pathLst>
              <a:path w="1" h="254">
                <a:moveTo>
                  <a:pt x="1" y="0"/>
                </a:moveTo>
                <a:lnTo>
                  <a:pt x="0" y="254"/>
                </a:lnTo>
              </a:path>
            </a:pathLst>
          </a:custGeom>
          <a:noFill/>
          <a:ln w="9360">
            <a:solidFill>
              <a:srgbClr val="402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513160" y="3427560"/>
            <a:ext cx="161640" cy="1440"/>
          </a:xfrm>
          <a:custGeom>
            <a:avLst/>
            <a:gdLst/>
            <a:ahLst/>
            <a:rect l="l" t="t" r="r" b="b"/>
            <a:pathLst>
              <a:path w="102" h="1">
                <a:moveTo>
                  <a:pt x="0" y="0"/>
                </a:moveTo>
                <a:lnTo>
                  <a:pt x="102" y="1"/>
                </a:lnTo>
              </a:path>
            </a:pathLst>
          </a:custGeom>
          <a:noFill/>
          <a:ln w="9360">
            <a:solidFill>
              <a:srgbClr val="402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4280" bIns="-442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411280" y="256536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d3333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556000" y="2924280"/>
            <a:ext cx="21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d3333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484360" y="2781360"/>
            <a:ext cx="73080" cy="730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987640" y="3178080"/>
            <a:ext cx="82440" cy="82800"/>
          </a:xfrm>
          <a:custGeom>
            <a:avLst/>
            <a:gdLst/>
            <a:ahLst/>
            <a:rect l="l" t="t" r="r" b="b"/>
            <a:pathLst>
              <a:path w="52" h="52">
                <a:moveTo>
                  <a:pt x="52" y="30"/>
                </a:moveTo>
                <a:lnTo>
                  <a:pt x="24" y="0"/>
                </a:lnTo>
                <a:lnTo>
                  <a:pt x="0" y="22"/>
                </a:lnTo>
                <a:lnTo>
                  <a:pt x="20" y="52"/>
                </a:lnTo>
                <a:lnTo>
                  <a:pt x="52" y="30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7080" bIns="370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987640" y="299736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d3333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514600" y="3571920"/>
            <a:ext cx="528480" cy="4680"/>
          </a:xfrm>
          <a:custGeom>
            <a:avLst/>
            <a:gdLst/>
            <a:ahLst/>
            <a:rect l="l" t="t" r="r" b="b"/>
            <a:pathLst>
              <a:path w="333" h="3">
                <a:moveTo>
                  <a:pt x="0" y="3"/>
                </a:moveTo>
                <a:lnTo>
                  <a:pt x="333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1040" bIns="-410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708360" y="4110120"/>
            <a:ext cx="539640" cy="1440"/>
          </a:xfrm>
          <a:custGeom>
            <a:avLst/>
            <a:gdLst/>
            <a:ahLst/>
            <a:rect l="l" t="t" r="r" b="b"/>
            <a:pathLst>
              <a:path w="340" h="1">
                <a:moveTo>
                  <a:pt x="0" y="0"/>
                </a:moveTo>
                <a:lnTo>
                  <a:pt x="340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4280" bIns="-442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260960" y="4118040"/>
            <a:ext cx="9360" cy="772920"/>
          </a:xfrm>
          <a:custGeom>
            <a:avLst/>
            <a:gdLst/>
            <a:ahLst/>
            <a:rect l="l" t="t" r="r" b="b"/>
            <a:pathLst>
              <a:path w="6" h="487">
                <a:moveTo>
                  <a:pt x="0" y="0"/>
                </a:moveTo>
                <a:lnTo>
                  <a:pt x="6" y="487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071960" y="4514760"/>
            <a:ext cx="876240" cy="1800"/>
          </a:xfrm>
          <a:custGeom>
            <a:avLst/>
            <a:gdLst/>
            <a:ahLst/>
            <a:rect l="l" t="t" r="r" b="b"/>
            <a:pathLst>
              <a:path w="552" h="1">
                <a:moveTo>
                  <a:pt x="0" y="0"/>
                </a:moveTo>
                <a:lnTo>
                  <a:pt x="552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3920" bIns="-439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48200" y="4513320"/>
            <a:ext cx="14400" cy="434880"/>
          </a:xfrm>
          <a:custGeom>
            <a:avLst/>
            <a:gdLst/>
            <a:ahLst/>
            <a:rect l="l" t="t" r="r" b="b"/>
            <a:pathLst>
              <a:path w="9" h="274">
                <a:moveTo>
                  <a:pt x="0" y="0"/>
                </a:moveTo>
                <a:lnTo>
                  <a:pt x="9" y="274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794120" y="4510080"/>
            <a:ext cx="11160" cy="428760"/>
          </a:xfrm>
          <a:custGeom>
            <a:avLst/>
            <a:gdLst/>
            <a:ahLst/>
            <a:rect l="l" t="t" r="r" b="b"/>
            <a:pathLst>
              <a:path w="7" h="270">
                <a:moveTo>
                  <a:pt x="0" y="0"/>
                </a:moveTo>
                <a:lnTo>
                  <a:pt x="7" y="270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075200" y="4105440"/>
            <a:ext cx="1440" cy="403200"/>
          </a:xfrm>
          <a:custGeom>
            <a:avLst/>
            <a:gdLst/>
            <a:ahLst/>
            <a:rect l="l" t="t" r="r" b="b"/>
            <a:pathLst>
              <a:path w="1" h="254">
                <a:moveTo>
                  <a:pt x="1" y="0"/>
                </a:moveTo>
                <a:lnTo>
                  <a:pt x="0" y="254"/>
                </a:lnTo>
              </a:path>
            </a:pathLst>
          </a:custGeom>
          <a:noFill/>
          <a:ln w="9360">
            <a:solidFill>
              <a:srgbClr val="402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265640" y="4718160"/>
            <a:ext cx="685800" cy="4680"/>
          </a:xfrm>
          <a:custGeom>
            <a:avLst/>
            <a:gdLst/>
            <a:ahLst/>
            <a:rect l="l" t="t" r="r" b="b"/>
            <a:pathLst>
              <a:path w="432" h="3">
                <a:moveTo>
                  <a:pt x="0" y="3"/>
                </a:moveTo>
                <a:lnTo>
                  <a:pt x="432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1040" bIns="-410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145040" y="38606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d3333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859280" y="42926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d3333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218120" y="4076640"/>
            <a:ext cx="72720" cy="730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762440" y="4484520"/>
            <a:ext cx="50760" cy="54000"/>
          </a:xfrm>
          <a:custGeom>
            <a:avLst/>
            <a:gdLst/>
            <a:ahLst/>
            <a:rect l="l" t="t" r="r" b="b"/>
            <a:pathLst>
              <a:path w="32" h="34">
                <a:moveTo>
                  <a:pt x="32" y="21"/>
                </a:moveTo>
                <a:lnTo>
                  <a:pt x="17" y="0"/>
                </a:lnTo>
                <a:lnTo>
                  <a:pt x="0" y="13"/>
                </a:lnTo>
                <a:lnTo>
                  <a:pt x="20" y="34"/>
                </a:lnTo>
                <a:lnTo>
                  <a:pt x="32" y="21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8280" bIns="82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267080" y="4653000"/>
            <a:ext cx="528840" cy="1440"/>
          </a:xfrm>
          <a:custGeom>
            <a:avLst/>
            <a:gdLst/>
            <a:ahLst/>
            <a:rect l="l" t="t" r="r" b="b"/>
            <a:pathLst>
              <a:path w="333" h="1">
                <a:moveTo>
                  <a:pt x="0" y="0"/>
                </a:moveTo>
                <a:lnTo>
                  <a:pt x="333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4280" bIns="-442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910040" y="4486320"/>
            <a:ext cx="66600" cy="61920"/>
          </a:xfrm>
          <a:custGeom>
            <a:avLst/>
            <a:gdLst/>
            <a:ahLst/>
            <a:rect l="l" t="t" r="r" b="b"/>
            <a:pathLst>
              <a:path w="42" h="39">
                <a:moveTo>
                  <a:pt x="0" y="23"/>
                </a:moveTo>
                <a:lnTo>
                  <a:pt x="17" y="0"/>
                </a:lnTo>
                <a:lnTo>
                  <a:pt x="42" y="18"/>
                </a:lnTo>
                <a:lnTo>
                  <a:pt x="24" y="39"/>
                </a:lnTo>
                <a:lnTo>
                  <a:pt x="0" y="23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6200" bIns="16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572000" y="443700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cd3333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666880" y="3424320"/>
            <a:ext cx="352440" cy="4680"/>
          </a:xfrm>
          <a:custGeom>
            <a:avLst/>
            <a:gdLst/>
            <a:ahLst/>
            <a:rect l="l" t="t" r="r" b="b"/>
            <a:pathLst>
              <a:path w="222" h="3">
                <a:moveTo>
                  <a:pt x="0" y="3"/>
                </a:moveTo>
                <a:lnTo>
                  <a:pt x="222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1040" bIns="-410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8" dur="3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8" dur="3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3" dur="3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3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3" dur="3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8" dur="5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3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8" dur="5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3" dur="3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3" dur="5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8" dur="3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3" dur="3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8" dur="3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3" dur="3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8" dur="3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3" dur="3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8" dur="3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3" dur="3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8" dur="3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268000" y="333000"/>
            <a:ext cx="4753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996633"/>
                </a:solidFill>
                <a:uFillTx/>
                <a:latin typeface="Times New Roman"/>
              </a:rPr>
              <a:t>Elección óptima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294160" y="1981080"/>
            <a:ext cx="0" cy="386100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5284800" y="5854680"/>
            <a:ext cx="3465360" cy="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010280" y="3962520"/>
            <a:ext cx="9720" cy="1879560"/>
          </a:xfrm>
          <a:custGeom>
            <a:avLst/>
            <a:gdLst/>
            <a:ahLst/>
            <a:rect l="l" t="t" r="r" b="b"/>
            <a:pathLst>
              <a:path w="6" h="1184">
                <a:moveTo>
                  <a:pt x="0" y="0"/>
                </a:moveTo>
                <a:lnTo>
                  <a:pt x="6" y="1184"/>
                </a:lnTo>
              </a:path>
            </a:pathLst>
          </a:custGeom>
          <a:noFill/>
          <a:ln w="25560">
            <a:solidFill>
              <a:srgbClr val="402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716360" y="1773360"/>
            <a:ext cx="525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172360" y="5856120"/>
            <a:ext cx="6192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572000" y="2924280"/>
            <a:ext cx="72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867280" y="2924280"/>
            <a:ext cx="1944720" cy="172872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343640" y="4229280"/>
            <a:ext cx="5040" cy="1625400"/>
          </a:xfrm>
          <a:custGeom>
            <a:avLst/>
            <a:gdLst/>
            <a:ahLst/>
            <a:rect l="l" t="t" r="r" b="b"/>
            <a:pathLst>
              <a:path w="4" h="1024">
                <a:moveTo>
                  <a:pt x="0" y="0"/>
                </a:moveTo>
                <a:lnTo>
                  <a:pt x="4" y="1024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575400" y="3556080"/>
            <a:ext cx="11160" cy="2279520"/>
          </a:xfrm>
          <a:custGeom>
            <a:avLst/>
            <a:gdLst/>
            <a:ahLst/>
            <a:rect l="l" t="t" r="r" b="b"/>
            <a:pathLst>
              <a:path w="7" h="1436">
                <a:moveTo>
                  <a:pt x="0" y="0"/>
                </a:moveTo>
                <a:lnTo>
                  <a:pt x="7" y="1436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273720" y="3294000"/>
            <a:ext cx="11160" cy="2554200"/>
          </a:xfrm>
          <a:custGeom>
            <a:avLst/>
            <a:gdLst/>
            <a:ahLst/>
            <a:rect l="l" t="t" r="r" b="b"/>
            <a:pathLst>
              <a:path w="7" h="1609">
                <a:moveTo>
                  <a:pt x="7" y="0"/>
                </a:moveTo>
                <a:lnTo>
                  <a:pt x="0" y="1609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012000" y="5877000"/>
            <a:ext cx="1728720" cy="400680"/>
            <a:chOff x="6012000" y="5877000"/>
            <a:chExt cx="1728720" cy="400680"/>
          </a:xfrm>
        </p:grpSpPr>
        <p:sp>
          <p:nvSpPr>
            <p:cNvPr id="484" name=""/>
            <p:cNvSpPr/>
            <p:nvPr/>
          </p:nvSpPr>
          <p:spPr>
            <a:xfrm>
              <a:off x="6804000" y="5877000"/>
              <a:ext cx="682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800" spc="-1" strike="noStrike">
                  <a:solidFill>
                    <a:srgbClr val="402000"/>
                  </a:solidFill>
                  <a:latin typeface="Times New Roman"/>
                </a:rPr>
                <a:t>Q</a:t>
              </a:r>
              <a:r>
                <a:rPr b="1" lang="es-ES_tradnl" sz="1800" spc="-1" strike="noStrike" baseline="-25000">
                  <a:solidFill>
                    <a:srgbClr val="402000"/>
                  </a:solidFill>
                  <a:latin typeface="Times New Roman"/>
                </a:rPr>
                <a:t>x2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174080" y="5877000"/>
              <a:ext cx="5666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800" spc="-1" strike="noStrike">
                  <a:solidFill>
                    <a:srgbClr val="402000"/>
                  </a:solidFill>
                  <a:latin typeface="Times New Roman"/>
                </a:rPr>
                <a:t>Q</a:t>
              </a:r>
              <a:r>
                <a:rPr b="1" lang="es-ES_tradnl" sz="1800" spc="-1" strike="noStrike" baseline="-25000">
                  <a:solidFill>
                    <a:srgbClr val="402000"/>
                  </a:solidFill>
                  <a:latin typeface="Times New Roman"/>
                </a:rPr>
                <a:t>x3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372360" y="5877000"/>
              <a:ext cx="658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800" spc="-1" strike="noStrike">
                  <a:solidFill>
                    <a:srgbClr val="402000"/>
                  </a:solidFill>
                  <a:latin typeface="Times New Roman"/>
                </a:rPr>
                <a:t>Q</a:t>
              </a:r>
              <a:r>
                <a:rPr b="1" lang="es-ES_tradnl" sz="1800" spc="-1" strike="noStrike" baseline="-25000">
                  <a:solidFill>
                    <a:srgbClr val="402000"/>
                  </a:solidFill>
                  <a:latin typeface="Times New Roman"/>
                </a:rPr>
                <a:t>x1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012000" y="5877000"/>
              <a:ext cx="612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800" spc="-1" strike="noStrike">
                  <a:solidFill>
                    <a:srgbClr val="402000"/>
                  </a:solidFill>
                  <a:latin typeface="Times New Roman"/>
                </a:rPr>
                <a:t>Q</a:t>
              </a:r>
              <a:r>
                <a:rPr b="1" lang="es-ES_tradnl" sz="1800" spc="-1" strike="noStrike" baseline="-25000">
                  <a:solidFill>
                    <a:srgbClr val="402000"/>
                  </a:solidFill>
                  <a:latin typeface="Times New Roman"/>
                </a:rPr>
                <a:t>x0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1638360" y="1981080"/>
            <a:ext cx="0" cy="386100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1628280" y="5854680"/>
            <a:ext cx="3465720" cy="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rot="10800000">
            <a:off x="2419920" y="-1561320"/>
            <a:ext cx="5151240" cy="666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1" swAng="476413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1" swAng="4764131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646280" y="2438280"/>
            <a:ext cx="3021120" cy="336708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1628640" y="4330800"/>
            <a:ext cx="174168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362400" y="4343400"/>
            <a:ext cx="0" cy="14986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042920" y="1817640"/>
            <a:ext cx="542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572000" y="5856120"/>
            <a:ext cx="5634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971640" y="4027320"/>
            <a:ext cx="6649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852720" y="5373720"/>
            <a:ext cx="505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rot="10800000">
            <a:off x="2226600" y="-1571400"/>
            <a:ext cx="5154840" cy="683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76413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764130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rot="10800000">
            <a:off x="2084040" y="-1553040"/>
            <a:ext cx="5070600" cy="708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779" y="44"/>
                </a:moveTo>
                <a:arcTo wR="10800" hR="10800" stAng="-5088027" swAng="4452156"/>
                <a:lnTo>
                  <a:pt x="10800" y="10800"/>
                </a:lnTo>
                <a:close/>
              </a:path>
              <a:path fill="none" w="21600" h="21600">
                <a:moveTo>
                  <a:pt x="11779" y="44"/>
                </a:moveTo>
                <a:arcTo wR="10800" hR="10800" stAng="-5088027" swAng="4452156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356000" y="5157720"/>
            <a:ext cx="505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124000" y="1916280"/>
            <a:ext cx="505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rot="10800000">
            <a:off x="2563200" y="-2003040"/>
            <a:ext cx="5154840" cy="68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76413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764130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627280" y="1916280"/>
            <a:ext cx="50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990880" y="4325760"/>
            <a:ext cx="358920" cy="1800"/>
          </a:xfrm>
          <a:custGeom>
            <a:avLst/>
            <a:gdLst/>
            <a:ahLst/>
            <a:rect l="l" t="t" r="r" b="b"/>
            <a:pathLst>
              <a:path w="340" h="1">
                <a:moveTo>
                  <a:pt x="0" y="0"/>
                </a:moveTo>
                <a:lnTo>
                  <a:pt x="340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3920" bIns="-439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357720" y="4334040"/>
            <a:ext cx="6120" cy="772920"/>
          </a:xfrm>
          <a:custGeom>
            <a:avLst/>
            <a:gdLst/>
            <a:ahLst/>
            <a:rect l="l" t="t" r="r" b="b"/>
            <a:pathLst>
              <a:path w="6" h="487">
                <a:moveTo>
                  <a:pt x="0" y="0"/>
                </a:moveTo>
                <a:lnTo>
                  <a:pt x="6" y="487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647720" y="2421000"/>
            <a:ext cx="2397240" cy="33116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638360" y="2413080"/>
            <a:ext cx="1879560" cy="3392280"/>
          </a:xfrm>
          <a:custGeom>
            <a:avLst/>
            <a:gdLst/>
            <a:ahLst/>
            <a:rect l="l" t="t" r="r" b="b"/>
            <a:pathLst>
              <a:path w="1779" h="2137">
                <a:moveTo>
                  <a:pt x="0" y="0"/>
                </a:moveTo>
                <a:lnTo>
                  <a:pt x="1779" y="2137"/>
                </a:lnTo>
              </a:path>
            </a:pathLst>
          </a:custGeom>
          <a:noFill/>
          <a:ln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647720" y="2421000"/>
            <a:ext cx="3211560" cy="28796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687840" y="4229280"/>
            <a:ext cx="4680" cy="1625400"/>
          </a:xfrm>
          <a:custGeom>
            <a:avLst/>
            <a:gdLst/>
            <a:ahLst/>
            <a:rect l="l" t="t" r="r" b="b"/>
            <a:pathLst>
              <a:path w="4" h="1024">
                <a:moveTo>
                  <a:pt x="0" y="0"/>
                </a:moveTo>
                <a:lnTo>
                  <a:pt x="4" y="1024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957400" y="4233960"/>
            <a:ext cx="5040" cy="1623960"/>
          </a:xfrm>
          <a:custGeom>
            <a:avLst/>
            <a:gdLst/>
            <a:ahLst/>
            <a:rect l="l" t="t" r="r" b="b"/>
            <a:pathLst>
              <a:path w="3" h="1023">
                <a:moveTo>
                  <a:pt x="3" y="0"/>
                </a:moveTo>
                <a:lnTo>
                  <a:pt x="0" y="1023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600280" y="4143240"/>
            <a:ext cx="17640" cy="1704960"/>
          </a:xfrm>
          <a:custGeom>
            <a:avLst/>
            <a:gdLst/>
            <a:ahLst/>
            <a:rect l="l" t="t" r="r" b="b"/>
            <a:pathLst>
              <a:path w="11" h="1074">
                <a:moveTo>
                  <a:pt x="0" y="0"/>
                </a:moveTo>
                <a:lnTo>
                  <a:pt x="11" y="1074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272200" y="3324240"/>
            <a:ext cx="1027080" cy="1440"/>
          </a:xfrm>
          <a:custGeom>
            <a:avLst/>
            <a:gdLst/>
            <a:ahLst/>
            <a:rect l="l" t="t" r="r" b="b"/>
            <a:pathLst>
              <a:path w="647" h="1">
                <a:moveTo>
                  <a:pt x="647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4280" bIns="-442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281560" y="3548160"/>
            <a:ext cx="1295280" cy="1440"/>
          </a:xfrm>
          <a:custGeom>
            <a:avLst/>
            <a:gdLst/>
            <a:ahLst/>
            <a:rect l="l" t="t" r="r" b="b"/>
            <a:pathLst>
              <a:path w="816" h="1">
                <a:moveTo>
                  <a:pt x="816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4280" bIns="-4428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286240" y="3957480"/>
            <a:ext cx="1729080" cy="1800"/>
          </a:xfrm>
          <a:custGeom>
            <a:avLst/>
            <a:gdLst/>
            <a:ahLst/>
            <a:rect l="l" t="t" r="r" b="b"/>
            <a:pathLst>
              <a:path w="1089" h="1">
                <a:moveTo>
                  <a:pt x="1089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3920" bIns="-439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281560" y="4233960"/>
            <a:ext cx="2062080" cy="4680"/>
          </a:xfrm>
          <a:custGeom>
            <a:avLst/>
            <a:gdLst/>
            <a:ahLst/>
            <a:rect l="l" t="t" r="r" b="b"/>
            <a:pathLst>
              <a:path w="1299" h="3">
                <a:moveTo>
                  <a:pt x="1299" y="3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1040" bIns="-410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572000" y="3213000"/>
            <a:ext cx="72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572000" y="3573360"/>
            <a:ext cx="72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2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572000" y="3933720"/>
            <a:ext cx="72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2268360" y="5877000"/>
            <a:ext cx="1728720" cy="400680"/>
            <a:chOff x="2268360" y="5877000"/>
            <a:chExt cx="1728720" cy="400680"/>
          </a:xfrm>
        </p:grpSpPr>
        <p:sp>
          <p:nvSpPr>
            <p:cNvPr id="520" name=""/>
            <p:cNvSpPr/>
            <p:nvPr/>
          </p:nvSpPr>
          <p:spPr>
            <a:xfrm>
              <a:off x="3060360" y="5877000"/>
              <a:ext cx="682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800" spc="-1" strike="noStrike">
                  <a:solidFill>
                    <a:srgbClr val="402000"/>
                  </a:solidFill>
                  <a:latin typeface="Times New Roman"/>
                </a:rPr>
                <a:t>Q</a:t>
              </a:r>
              <a:r>
                <a:rPr b="1" lang="es-ES_tradnl" sz="1800" spc="-1" strike="noStrike" baseline="-25000">
                  <a:solidFill>
                    <a:srgbClr val="402000"/>
                  </a:solidFill>
                  <a:latin typeface="Times New Roman"/>
                </a:rPr>
                <a:t>x2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430440" y="5877000"/>
              <a:ext cx="5666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800" spc="-1" strike="noStrike">
                  <a:solidFill>
                    <a:srgbClr val="402000"/>
                  </a:solidFill>
                  <a:latin typeface="Times New Roman"/>
                </a:rPr>
                <a:t>Q</a:t>
              </a:r>
              <a:r>
                <a:rPr b="1" lang="es-ES_tradnl" sz="1800" spc="-1" strike="noStrike" baseline="-25000">
                  <a:solidFill>
                    <a:srgbClr val="402000"/>
                  </a:solidFill>
                  <a:latin typeface="Times New Roman"/>
                </a:rPr>
                <a:t>x3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628720" y="5877000"/>
              <a:ext cx="658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800" spc="-1" strike="noStrike">
                  <a:solidFill>
                    <a:srgbClr val="402000"/>
                  </a:solidFill>
                  <a:latin typeface="Times New Roman"/>
                </a:rPr>
                <a:t>Q</a:t>
              </a:r>
              <a:r>
                <a:rPr b="1" lang="es-ES_tradnl" sz="1800" spc="-1" strike="noStrike" baseline="-25000">
                  <a:solidFill>
                    <a:srgbClr val="402000"/>
                  </a:solidFill>
                  <a:latin typeface="Times New Roman"/>
                </a:rPr>
                <a:t>x1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268360" y="5877000"/>
              <a:ext cx="612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800" spc="-1" strike="noStrike">
                  <a:solidFill>
                    <a:srgbClr val="402000"/>
                  </a:solidFill>
                  <a:latin typeface="Times New Roman"/>
                </a:rPr>
                <a:t>Q</a:t>
              </a:r>
              <a:r>
                <a:rPr b="1" lang="es-ES_tradnl" sz="1800" spc="-1" strike="noStrike" baseline="-25000">
                  <a:solidFill>
                    <a:srgbClr val="402000"/>
                  </a:solidFill>
                  <a:latin typeface="Times New Roman"/>
                </a:rPr>
                <a:t>x0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2604960" y="4152960"/>
            <a:ext cx="1076400" cy="176040"/>
          </a:xfrm>
          <a:custGeom>
            <a:avLst/>
            <a:gdLst/>
            <a:ahLst/>
            <a:rect l="l" t="t" r="r" b="b"/>
            <a:pathLst>
              <a:path w="678" h="111">
                <a:moveTo>
                  <a:pt x="0" y="0"/>
                </a:moveTo>
                <a:lnTo>
                  <a:pt x="216" y="51"/>
                </a:lnTo>
                <a:lnTo>
                  <a:pt x="465" y="111"/>
                </a:lnTo>
                <a:lnTo>
                  <a:pt x="678" y="51"/>
                </a:ln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1676520" y="1765440"/>
            <a:ext cx="0" cy="386064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1663560" y="5638680"/>
            <a:ext cx="5207040" cy="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rot="10800000">
            <a:off x="2820600" y="-1954080"/>
            <a:ext cx="7744680" cy="683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76413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764130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89120" y="2222640"/>
            <a:ext cx="462276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1663560" y="4114800"/>
            <a:ext cx="261648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267080" y="4127400"/>
            <a:ext cx="0" cy="14986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992160" y="160164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326280" y="5640480"/>
            <a:ext cx="606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915840" y="38116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87640" y="56404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89120" y="2222640"/>
            <a:ext cx="287028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268000" y="333000"/>
            <a:ext cx="4753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996633"/>
                </a:solidFill>
                <a:uFillTx/>
                <a:latin typeface="Times New Roman"/>
              </a:rPr>
              <a:t>Demanda individual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487840" y="2135160"/>
            <a:ext cx="23590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Aumento de precio bien X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173640" y="434484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1676520" y="1765440"/>
            <a:ext cx="0" cy="386064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1663560" y="5638680"/>
            <a:ext cx="5207040" cy="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rot="10800000">
            <a:off x="2821320" y="-1954080"/>
            <a:ext cx="7746840" cy="683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64789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647892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689120" y="2222640"/>
            <a:ext cx="462276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992160" y="160164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326280" y="5640480"/>
            <a:ext cx="606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1663560" y="4114800"/>
            <a:ext cx="261648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267080" y="4127400"/>
            <a:ext cx="0" cy="14986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915840" y="38116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887640" y="56404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676520" y="2209680"/>
            <a:ext cx="4649760" cy="3430800"/>
          </a:xfrm>
          <a:custGeom>
            <a:avLst/>
            <a:gdLst/>
            <a:ahLst/>
            <a:rect l="l" t="t" r="r" b="b"/>
            <a:pathLst>
              <a:path w="2929" h="2161">
                <a:moveTo>
                  <a:pt x="0" y="0"/>
                </a:moveTo>
                <a:lnTo>
                  <a:pt x="1824" y="2160"/>
                </a:lnTo>
                <a:lnTo>
                  <a:pt x="2928" y="2160"/>
                </a:lnTo>
                <a:lnTo>
                  <a:pt x="0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689120" y="2222640"/>
            <a:ext cx="287028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030640" y="1525680"/>
            <a:ext cx="3349800" cy="27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 u="sng">
                <a:solidFill>
                  <a:srgbClr val="402000"/>
                </a:solidFill>
                <a:uFillTx/>
                <a:latin typeface="Times New Roman"/>
              </a:rPr>
              <a:t>Reducción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Consumo factibl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Bienesta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sumo de Q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?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sumo de Q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173640" y="4344840"/>
            <a:ext cx="7588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8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268000" y="333000"/>
            <a:ext cx="4753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996633"/>
                </a:solidFill>
                <a:uFillTx/>
                <a:latin typeface="Times New Roman"/>
              </a:rPr>
              <a:t>Demanda individual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1676520" y="1765440"/>
            <a:ext cx="0" cy="386064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1663560" y="5638680"/>
            <a:ext cx="5207040" cy="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rot="10800000">
            <a:off x="2818440" y="-1954080"/>
            <a:ext cx="7747920" cy="683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49274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492740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689120" y="2222640"/>
            <a:ext cx="462276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1663560" y="4114800"/>
            <a:ext cx="261648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267080" y="4127400"/>
            <a:ext cx="0" cy="14986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992160" y="160164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326280" y="5640480"/>
            <a:ext cx="606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915840" y="38116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887640" y="56404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689120" y="2222640"/>
            <a:ext cx="287028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rot="10800000">
            <a:off x="2131920" y="-1801440"/>
            <a:ext cx="7747200" cy="68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72203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722030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1663560" y="3657600"/>
            <a:ext cx="124488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895480" y="3670200"/>
            <a:ext cx="0" cy="19558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592360" y="56404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915840" y="343044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649760" y="1525680"/>
            <a:ext cx="3730680" cy="26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 u="sng">
                <a:solidFill>
                  <a:srgbClr val="402000"/>
                </a:solidFill>
                <a:uFillTx/>
                <a:latin typeface="Times New Roman"/>
              </a:rPr>
              <a:t>Aumento de precio bien X</a:t>
            </a:r>
            <a:r>
              <a:rPr b="1" i="1" lang="es-ES_tradnl" sz="2400" spc="-1" strike="noStrike" u="sng">
                <a:solidFill>
                  <a:srgbClr val="402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Aumento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sumo de y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Reducción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sumo de 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173640" y="434484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021360" y="49546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268000" y="333000"/>
            <a:ext cx="4753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996633"/>
                </a:solidFill>
                <a:uFillTx/>
                <a:latin typeface="Times New Roman"/>
              </a:rPr>
              <a:t>Demanda individual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2438280" y="1827360"/>
            <a:ext cx="0" cy="386064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2425680" y="5700600"/>
            <a:ext cx="5207040" cy="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rot="10800000">
            <a:off x="3582360" y="-1892160"/>
            <a:ext cx="7745400" cy="683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20593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205932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451240" y="2284560"/>
            <a:ext cx="462276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2425320" y="4176720"/>
            <a:ext cx="261612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029200" y="4189320"/>
            <a:ext cx="0" cy="14986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754280" y="1663560"/>
            <a:ext cx="606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088040" y="570240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676520" y="387180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649760" y="570240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451240" y="2284560"/>
            <a:ext cx="286992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rot="10800000">
            <a:off x="3275640" y="-1282320"/>
            <a:ext cx="7748280" cy="683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23601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236010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038480" y="4189320"/>
            <a:ext cx="0" cy="14986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735360" y="570240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066680" y="3871800"/>
            <a:ext cx="1597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1 </a:t>
            </a: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= 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410080" y="1676520"/>
            <a:ext cx="3883320" cy="26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 u="sng">
                <a:solidFill>
                  <a:srgbClr val="402000"/>
                </a:solidFill>
                <a:uFillTx/>
                <a:latin typeface="Times New Roman"/>
              </a:rPr>
              <a:t>Aumento de precio bien X</a:t>
            </a:r>
            <a:r>
              <a:rPr b="1" i="1" lang="es-ES_tradnl" sz="2400" spc="-1" strike="noStrike" u="sng">
                <a:solidFill>
                  <a:srgbClr val="402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Permanec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sumo de A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Reducción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sumo de B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012080" y="44830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935760" y="509256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268000" y="333000"/>
            <a:ext cx="4753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996633"/>
                </a:solidFill>
                <a:uFillTx/>
                <a:latin typeface="Times New Roman"/>
              </a:rPr>
              <a:t>Demanda individual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1981080" y="1841400"/>
            <a:ext cx="0" cy="386100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1968480" y="5715000"/>
            <a:ext cx="5207040" cy="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rot="10800000">
            <a:off x="3201480" y="-1954080"/>
            <a:ext cx="6678360" cy="6832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4434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443400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994040" y="2298600"/>
            <a:ext cx="4622760" cy="340380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1968120" y="4191120"/>
            <a:ext cx="261612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572000" y="4203720"/>
            <a:ext cx="0" cy="14986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297080" y="1677960"/>
            <a:ext cx="606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630840" y="571644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219320" y="388620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192560" y="571644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994040" y="2298600"/>
            <a:ext cx="2869920" cy="340380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rot="10800000">
            <a:off x="3427920" y="1550880"/>
            <a:ext cx="8812440" cy="408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248" y="1475"/>
                </a:moveTo>
                <a:arcTo wR="10800" hR="10800" stAng="-3582396" swAng="3227172"/>
                <a:lnTo>
                  <a:pt x="10800" y="10800"/>
                </a:lnTo>
                <a:close/>
              </a:path>
              <a:path fill="none" w="21600" h="21600">
                <a:moveTo>
                  <a:pt x="16248" y="1475"/>
                </a:moveTo>
                <a:arcTo wR="10800" hR="10800" stAng="-3582396" swAng="3227172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430440" y="571644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144440" y="373536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1968120" y="4343400"/>
            <a:ext cx="177804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733920" y="4356000"/>
            <a:ext cx="0" cy="134640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144440" y="419256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257800" y="1600200"/>
            <a:ext cx="3807000" cy="26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 u="sng">
                <a:solidFill>
                  <a:srgbClr val="402000"/>
                </a:solidFill>
                <a:uFillTx/>
                <a:latin typeface="Times New Roman"/>
              </a:rPr>
              <a:t>Aumento de precio bien X</a:t>
            </a:r>
            <a:r>
              <a:rPr b="1" i="1" lang="es-ES_tradnl" sz="2400" spc="-1" strike="noStrike" u="sng">
                <a:solidFill>
                  <a:srgbClr val="402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Reducción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sumo de y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Reducción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sumo de 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173640" y="434484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316640" y="510696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268000" y="333000"/>
            <a:ext cx="4753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996633"/>
                </a:solidFill>
                <a:uFillTx/>
                <a:latin typeface="Times New Roman"/>
              </a:rPr>
              <a:t>Demanda individual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1676520" y="1765440"/>
            <a:ext cx="0" cy="386064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H="1">
            <a:off x="1663560" y="5638680"/>
            <a:ext cx="5207040" cy="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rot="10800000">
            <a:off x="2666880" y="482760"/>
            <a:ext cx="8051400" cy="3783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578" y="1114"/>
                </a:moveTo>
                <a:arcTo wR="10800" hR="10800" stAng="-3824648" swAng="3824648"/>
                <a:lnTo>
                  <a:pt x="10800" y="10800"/>
                </a:lnTo>
                <a:close/>
              </a:path>
              <a:path fill="none" w="21600" h="21600">
                <a:moveTo>
                  <a:pt x="15578" y="1114"/>
                </a:moveTo>
                <a:arcTo wR="10800" hR="10800" stAng="-3824648" swAng="3824648"/>
              </a:path>
            </a:pathLst>
          </a:custGeom>
          <a:noFill/>
          <a:ln cap="rnd"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689120" y="2222640"/>
            <a:ext cx="462276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1663560" y="3352680"/>
            <a:ext cx="154944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276720" y="3441600"/>
            <a:ext cx="0" cy="21844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992160" y="1601640"/>
            <a:ext cx="606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326280" y="5640480"/>
            <a:ext cx="606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915840" y="31258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897280" y="56404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689120" y="2222640"/>
            <a:ext cx="2870280" cy="34034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657600" y="4584600"/>
            <a:ext cx="0" cy="104148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1663560" y="4572000"/>
            <a:ext cx="2006640" cy="0"/>
          </a:xfrm>
          <a:prstGeom prst="line">
            <a:avLst/>
          </a:prstGeom>
          <a:ln w="25560">
            <a:solidFill>
              <a:srgbClr val="402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992160" y="42688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506760" y="56404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257800" y="1523880"/>
            <a:ext cx="3882960" cy="26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 u="sng">
                <a:solidFill>
                  <a:srgbClr val="402000"/>
                </a:solidFill>
                <a:uFillTx/>
                <a:latin typeface="Times New Roman"/>
              </a:rPr>
              <a:t>Aumento de precio bien X</a:t>
            </a:r>
            <a:r>
              <a:rPr b="1" i="1" lang="es-ES_tradnl" sz="2400" spc="-1" strike="noStrike" u="sng">
                <a:solidFill>
                  <a:srgbClr val="402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Reducción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sumo de y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Aumento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sumo de 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029200" y="388620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800600" y="4952880"/>
            <a:ext cx="758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U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895480" y="3429000"/>
            <a:ext cx="1879560" cy="1600200"/>
          </a:xfrm>
          <a:custGeom>
            <a:avLst/>
            <a:gdLst/>
            <a:ahLst/>
            <a:rect l="l" t="t" r="r" b="b"/>
            <a:pathLst>
              <a:path w="1136" h="984">
                <a:moveTo>
                  <a:pt x="1136" y="984"/>
                </a:moveTo>
                <a:cubicBezTo>
                  <a:pt x="912" y="936"/>
                  <a:pt x="688" y="888"/>
                  <a:pt x="512" y="744"/>
                </a:cubicBezTo>
                <a:cubicBezTo>
                  <a:pt x="336" y="600"/>
                  <a:pt x="160" y="240"/>
                  <a:pt x="80" y="120"/>
                </a:cubicBezTo>
                <a:cubicBezTo>
                  <a:pt x="0" y="0"/>
                  <a:pt x="16" y="12"/>
                  <a:pt x="32" y="24"/>
                </a:cubicBezTo>
              </a:path>
            </a:pathLst>
          </a:custGeom>
          <a:noFill/>
          <a:ln w="93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2268000" y="333000"/>
            <a:ext cx="4753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996633"/>
                </a:solidFill>
                <a:uFillTx/>
                <a:latin typeface="Times New Roman"/>
              </a:rPr>
              <a:t>Demanda individual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CURVAS DE INDIFERENCIA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Lugar geométrico de todas las combinaciones de bienes que son indiferentes entre sí.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04000" y="573408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 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743200"/>
            <a:ext cx="0" cy="312408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5791320"/>
            <a:ext cx="43434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52880" y="2666880"/>
            <a:ext cx="0" cy="312444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71800" y="3962520"/>
            <a:ext cx="4114800" cy="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62520" y="2971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05320" y="4952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III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4952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IV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68360" y="24922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 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76920" y="3886200"/>
            <a:ext cx="152280" cy="1522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191120"/>
            <a:ext cx="152280" cy="1522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95680" y="4876920"/>
            <a:ext cx="152640" cy="1522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81480" y="2743200"/>
            <a:ext cx="152640" cy="1522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77120" y="3733920"/>
            <a:ext cx="152280" cy="1522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19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e62fa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4120" y="25146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e62fa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3352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e62fa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733920" y="2819160"/>
            <a:ext cx="1523880" cy="144756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886200" y="3809880"/>
            <a:ext cx="2743200" cy="45720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962520" y="3962160"/>
            <a:ext cx="75960" cy="7596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114800" y="3733560"/>
            <a:ext cx="152280" cy="1522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343400" y="3504960"/>
            <a:ext cx="228600" cy="1522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6248160" y="3809880"/>
            <a:ext cx="75960" cy="763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800240" y="3124080"/>
            <a:ext cx="152280" cy="15264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4647960" y="3352680"/>
            <a:ext cx="75960" cy="763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0" y="342900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4191120"/>
            <a:ext cx="763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52880" y="4114800"/>
            <a:ext cx="763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81480" y="4038480"/>
            <a:ext cx="763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257800" y="39625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6095880" y="3886200"/>
            <a:ext cx="763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562360" y="3962520"/>
            <a:ext cx="7596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43400" y="3124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e62fa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24280" y="586728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 </a:t>
            </a:r>
            <a:r>
              <a:rPr b="1" lang="es-ES_tradnl" sz="1800" spc="-1" strike="noStrike" baseline="-25000">
                <a:solidFill>
                  <a:srgbClr val="402000"/>
                </a:solidFill>
                <a:latin typeface="Tahoma"/>
              </a:rPr>
              <a:t>X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3657600"/>
            <a:ext cx="7621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 </a:t>
            </a:r>
            <a:r>
              <a:rPr b="1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373800">
            <a:off x="4495680" y="3429000"/>
            <a:ext cx="1600200" cy="609480"/>
          </a:xfrm>
          <a:custGeom>
            <a:avLst/>
            <a:gdLst/>
            <a:ahLst/>
            <a:rect l="l" t="t" r="r" b="b"/>
            <a:pathLst>
              <a:path w="928" h="400">
                <a:moveTo>
                  <a:pt x="0" y="0"/>
                </a:moveTo>
                <a:cubicBezTo>
                  <a:pt x="76" y="136"/>
                  <a:pt x="152" y="272"/>
                  <a:pt x="240" y="336"/>
                </a:cubicBezTo>
                <a:cubicBezTo>
                  <a:pt x="328" y="400"/>
                  <a:pt x="424" y="376"/>
                  <a:pt x="528" y="384"/>
                </a:cubicBezTo>
                <a:cubicBezTo>
                  <a:pt x="632" y="392"/>
                  <a:pt x="800" y="384"/>
                  <a:pt x="864" y="384"/>
                </a:cubicBezTo>
                <a:cubicBezTo>
                  <a:pt x="928" y="384"/>
                  <a:pt x="920" y="384"/>
                  <a:pt x="912" y="384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282600">
            <a:off x="4343040" y="3581280"/>
            <a:ext cx="1473120" cy="635040"/>
          </a:xfrm>
          <a:custGeom>
            <a:avLst/>
            <a:gdLst/>
            <a:ahLst/>
            <a:rect l="l" t="t" r="r" b="b"/>
            <a:pathLst>
              <a:path w="928" h="400">
                <a:moveTo>
                  <a:pt x="0" y="0"/>
                </a:moveTo>
                <a:cubicBezTo>
                  <a:pt x="76" y="136"/>
                  <a:pt x="152" y="272"/>
                  <a:pt x="240" y="336"/>
                </a:cubicBezTo>
                <a:cubicBezTo>
                  <a:pt x="328" y="400"/>
                  <a:pt x="424" y="376"/>
                  <a:pt x="528" y="384"/>
                </a:cubicBezTo>
                <a:cubicBezTo>
                  <a:pt x="632" y="392"/>
                  <a:pt x="800" y="384"/>
                  <a:pt x="864" y="384"/>
                </a:cubicBezTo>
                <a:cubicBezTo>
                  <a:pt x="928" y="384"/>
                  <a:pt x="920" y="384"/>
                  <a:pt x="912" y="384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4343400"/>
            <a:ext cx="1473120" cy="635040"/>
          </a:xfrm>
          <a:custGeom>
            <a:avLst/>
            <a:gdLst/>
            <a:ahLst/>
            <a:rect l="l" t="t" r="r" b="b"/>
            <a:pathLst>
              <a:path w="928" h="400">
                <a:moveTo>
                  <a:pt x="0" y="0"/>
                </a:moveTo>
                <a:cubicBezTo>
                  <a:pt x="76" y="136"/>
                  <a:pt x="152" y="272"/>
                  <a:pt x="240" y="336"/>
                </a:cubicBezTo>
                <a:cubicBezTo>
                  <a:pt x="328" y="400"/>
                  <a:pt x="424" y="376"/>
                  <a:pt x="528" y="384"/>
                </a:cubicBezTo>
                <a:cubicBezTo>
                  <a:pt x="632" y="392"/>
                  <a:pt x="800" y="384"/>
                  <a:pt x="864" y="384"/>
                </a:cubicBezTo>
                <a:cubicBezTo>
                  <a:pt x="928" y="384"/>
                  <a:pt x="920" y="384"/>
                  <a:pt x="912" y="384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270600">
            <a:off x="3581280" y="3962520"/>
            <a:ext cx="1473480" cy="635040"/>
          </a:xfrm>
          <a:custGeom>
            <a:avLst/>
            <a:gdLst/>
            <a:ahLst/>
            <a:rect l="l" t="t" r="r" b="b"/>
            <a:pathLst>
              <a:path w="928" h="400">
                <a:moveTo>
                  <a:pt x="0" y="0"/>
                </a:moveTo>
                <a:cubicBezTo>
                  <a:pt x="76" y="136"/>
                  <a:pt x="152" y="272"/>
                  <a:pt x="240" y="336"/>
                </a:cubicBezTo>
                <a:cubicBezTo>
                  <a:pt x="328" y="400"/>
                  <a:pt x="424" y="376"/>
                  <a:pt x="528" y="384"/>
                </a:cubicBezTo>
                <a:cubicBezTo>
                  <a:pt x="632" y="392"/>
                  <a:pt x="800" y="384"/>
                  <a:pt x="864" y="384"/>
                </a:cubicBezTo>
                <a:cubicBezTo>
                  <a:pt x="928" y="384"/>
                  <a:pt x="920" y="384"/>
                  <a:pt x="912" y="384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216000">
            <a:off x="3733560" y="3885840"/>
            <a:ext cx="1473120" cy="635040"/>
          </a:xfrm>
          <a:custGeom>
            <a:avLst/>
            <a:gdLst/>
            <a:ahLst/>
            <a:rect l="l" t="t" r="r" b="b"/>
            <a:pathLst>
              <a:path w="928" h="400">
                <a:moveTo>
                  <a:pt x="0" y="0"/>
                </a:moveTo>
                <a:cubicBezTo>
                  <a:pt x="76" y="136"/>
                  <a:pt x="152" y="272"/>
                  <a:pt x="240" y="336"/>
                </a:cubicBezTo>
                <a:cubicBezTo>
                  <a:pt x="328" y="400"/>
                  <a:pt x="424" y="376"/>
                  <a:pt x="528" y="384"/>
                </a:cubicBezTo>
                <a:cubicBezTo>
                  <a:pt x="632" y="392"/>
                  <a:pt x="800" y="384"/>
                  <a:pt x="864" y="384"/>
                </a:cubicBezTo>
                <a:cubicBezTo>
                  <a:pt x="928" y="384"/>
                  <a:pt x="920" y="384"/>
                  <a:pt x="912" y="384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200400">
            <a:off x="4038480" y="3809520"/>
            <a:ext cx="1473480" cy="635040"/>
          </a:xfrm>
          <a:custGeom>
            <a:avLst/>
            <a:gdLst/>
            <a:ahLst/>
            <a:rect l="l" t="t" r="r" b="b"/>
            <a:pathLst>
              <a:path w="928" h="400">
                <a:moveTo>
                  <a:pt x="0" y="0"/>
                </a:moveTo>
                <a:cubicBezTo>
                  <a:pt x="76" y="136"/>
                  <a:pt x="152" y="272"/>
                  <a:pt x="240" y="336"/>
                </a:cubicBezTo>
                <a:cubicBezTo>
                  <a:pt x="328" y="400"/>
                  <a:pt x="424" y="376"/>
                  <a:pt x="528" y="384"/>
                </a:cubicBezTo>
                <a:cubicBezTo>
                  <a:pt x="632" y="392"/>
                  <a:pt x="800" y="384"/>
                  <a:pt x="864" y="384"/>
                </a:cubicBezTo>
                <a:cubicBezTo>
                  <a:pt x="928" y="384"/>
                  <a:pt x="920" y="384"/>
                  <a:pt x="912" y="384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45800">
            <a:off x="4190760" y="3733560"/>
            <a:ext cx="1473120" cy="635040"/>
          </a:xfrm>
          <a:custGeom>
            <a:avLst/>
            <a:gdLst/>
            <a:ahLst/>
            <a:rect l="l" t="t" r="r" b="b"/>
            <a:pathLst>
              <a:path w="928" h="400">
                <a:moveTo>
                  <a:pt x="0" y="0"/>
                </a:moveTo>
                <a:cubicBezTo>
                  <a:pt x="76" y="136"/>
                  <a:pt x="152" y="272"/>
                  <a:pt x="240" y="336"/>
                </a:cubicBezTo>
                <a:cubicBezTo>
                  <a:pt x="328" y="400"/>
                  <a:pt x="424" y="376"/>
                  <a:pt x="528" y="384"/>
                </a:cubicBezTo>
                <a:cubicBezTo>
                  <a:pt x="632" y="392"/>
                  <a:pt x="800" y="384"/>
                  <a:pt x="864" y="384"/>
                </a:cubicBezTo>
                <a:cubicBezTo>
                  <a:pt x="928" y="384"/>
                  <a:pt x="920" y="384"/>
                  <a:pt x="912" y="384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00600" y="3276720"/>
            <a:ext cx="1473120" cy="635040"/>
          </a:xfrm>
          <a:custGeom>
            <a:avLst/>
            <a:gdLst/>
            <a:ahLst/>
            <a:rect l="l" t="t" r="r" b="b"/>
            <a:pathLst>
              <a:path w="928" h="400">
                <a:moveTo>
                  <a:pt x="0" y="0"/>
                </a:moveTo>
                <a:cubicBezTo>
                  <a:pt x="76" y="136"/>
                  <a:pt x="152" y="272"/>
                  <a:pt x="240" y="336"/>
                </a:cubicBezTo>
                <a:cubicBezTo>
                  <a:pt x="328" y="400"/>
                  <a:pt x="424" y="376"/>
                  <a:pt x="528" y="384"/>
                </a:cubicBezTo>
                <a:cubicBezTo>
                  <a:pt x="632" y="392"/>
                  <a:pt x="800" y="384"/>
                  <a:pt x="864" y="384"/>
                </a:cubicBezTo>
                <a:cubicBezTo>
                  <a:pt x="928" y="384"/>
                  <a:pt x="920" y="384"/>
                  <a:pt x="912" y="384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2666880"/>
            <a:ext cx="1473480" cy="635040"/>
          </a:xfrm>
          <a:custGeom>
            <a:avLst/>
            <a:gdLst/>
            <a:ahLst/>
            <a:rect l="l" t="t" r="r" b="b"/>
            <a:pathLst>
              <a:path w="928" h="400">
                <a:moveTo>
                  <a:pt x="0" y="0"/>
                </a:moveTo>
                <a:cubicBezTo>
                  <a:pt x="76" y="136"/>
                  <a:pt x="152" y="272"/>
                  <a:pt x="240" y="336"/>
                </a:cubicBezTo>
                <a:cubicBezTo>
                  <a:pt x="328" y="400"/>
                  <a:pt x="424" y="376"/>
                  <a:pt x="528" y="384"/>
                </a:cubicBezTo>
                <a:cubicBezTo>
                  <a:pt x="632" y="392"/>
                  <a:pt x="800" y="384"/>
                  <a:pt x="864" y="384"/>
                </a:cubicBezTo>
                <a:cubicBezTo>
                  <a:pt x="928" y="384"/>
                  <a:pt x="920" y="384"/>
                  <a:pt x="912" y="384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05520" y="3124080"/>
            <a:ext cx="1473120" cy="635040"/>
          </a:xfrm>
          <a:custGeom>
            <a:avLst/>
            <a:gdLst/>
            <a:ahLst/>
            <a:rect l="l" t="t" r="r" b="b"/>
            <a:pathLst>
              <a:path w="928" h="400">
                <a:moveTo>
                  <a:pt x="0" y="0"/>
                </a:moveTo>
                <a:cubicBezTo>
                  <a:pt x="76" y="136"/>
                  <a:pt x="152" y="272"/>
                  <a:pt x="240" y="336"/>
                </a:cubicBezTo>
                <a:cubicBezTo>
                  <a:pt x="328" y="400"/>
                  <a:pt x="424" y="376"/>
                  <a:pt x="528" y="384"/>
                </a:cubicBezTo>
                <a:cubicBezTo>
                  <a:pt x="632" y="392"/>
                  <a:pt x="800" y="384"/>
                  <a:pt x="864" y="384"/>
                </a:cubicBezTo>
                <a:cubicBezTo>
                  <a:pt x="928" y="384"/>
                  <a:pt x="920" y="384"/>
                  <a:pt x="912" y="384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39625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e62fa"/>
                </a:solidFill>
                <a:latin typeface="Tahoma"/>
              </a:rPr>
              <a:t>A’’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48320" y="36576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e62fa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05320" y="4038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e62fa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12000" y="27813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II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/>
          </p:nvPr>
        </p:nvSpPr>
        <p:spPr>
          <a:xfrm>
            <a:off x="9144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fecto sustitución: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aso (P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/P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) aument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2057400" y="1676160"/>
            <a:ext cx="0" cy="426708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600200" y="5562720"/>
            <a:ext cx="58672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057400" y="2133720"/>
            <a:ext cx="4343400" cy="3429000"/>
          </a:xfrm>
          <a:prstGeom prst="line">
            <a:avLst/>
          </a:prstGeom>
          <a:ln w="38160">
            <a:solidFill>
              <a:srgbClr val="e845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666880" y="2057400"/>
            <a:ext cx="4419720" cy="2590920"/>
          </a:xfrm>
          <a:custGeom>
            <a:avLst/>
            <a:gdLst/>
            <a:ahLst/>
            <a:rect l="l" t="t" r="r" b="b"/>
            <a:pathLst>
              <a:path w="2784" h="1776">
                <a:moveTo>
                  <a:pt x="0" y="0"/>
                </a:moveTo>
                <a:cubicBezTo>
                  <a:pt x="296" y="476"/>
                  <a:pt x="592" y="952"/>
                  <a:pt x="1056" y="1248"/>
                </a:cubicBezTo>
                <a:cubicBezTo>
                  <a:pt x="1520" y="1544"/>
                  <a:pt x="2496" y="1688"/>
                  <a:pt x="2784" y="1776"/>
                </a:cubicBezTo>
              </a:path>
            </a:pathLst>
          </a:custGeom>
          <a:noFill/>
          <a:ln w="28440">
            <a:solidFill>
              <a:srgbClr val="4e62f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962520" y="3581280"/>
            <a:ext cx="152280" cy="15264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H="1">
            <a:off x="2057040" y="3657600"/>
            <a:ext cx="19810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4038480" y="3657600"/>
            <a:ext cx="0" cy="190512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590920" y="2057400"/>
            <a:ext cx="2590560" cy="3429000"/>
          </a:xfrm>
          <a:prstGeom prst="line">
            <a:avLst/>
          </a:prstGeom>
          <a:ln w="38160">
            <a:solidFill>
              <a:srgbClr val="e8451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048120" y="2666880"/>
            <a:ext cx="152280" cy="15264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H="1">
            <a:off x="2057040" y="2743200"/>
            <a:ext cx="10666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3124080" y="2743200"/>
            <a:ext cx="0" cy="281952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3124080" y="5638680"/>
            <a:ext cx="914400" cy="0"/>
          </a:xfrm>
          <a:prstGeom prst="line">
            <a:avLst/>
          </a:prstGeom>
          <a:ln w="28440">
            <a:solidFill>
              <a:srgbClr val="c869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124080" y="5181480"/>
            <a:ext cx="914400" cy="368280"/>
          </a:xfrm>
          <a:prstGeom prst="rect">
            <a:avLst/>
          </a:prstGeom>
          <a:solidFill>
            <a:srgbClr val="4e62fa">
              <a:alpha val="50000"/>
            </a:srgbClr>
          </a:solidFill>
          <a:ln w="9360">
            <a:solidFill>
              <a:srgbClr val="fbf1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e62fa"/>
                </a:solidFill>
                <a:latin typeface="Times New Roman"/>
              </a:rPr>
              <a:t>     </a:t>
            </a:r>
            <a:r>
              <a:rPr b="1" lang="es-ES_tradnl" sz="1800" spc="-1" strike="noStrike">
                <a:solidFill>
                  <a:srgbClr val="4e62fa"/>
                </a:solidFill>
                <a:latin typeface="Times New Roman"/>
              </a:rPr>
              <a:t>E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600200" y="16002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523880" y="335268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238880" y="55627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809880" y="563868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895480" y="563868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9" dur="indefinite" restart="never" nodeType="tmRoot">
          <p:childTnLst>
            <p:seq>
              <p:cTn id="1090" dur="indefinite" nodeType="mainSeq">
                <p:childTnLst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106668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fecto Ingreso: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fecto ingreso y sustitución se refuerza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2057400" y="1676160"/>
            <a:ext cx="0" cy="426708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600200" y="5562720"/>
            <a:ext cx="58672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057400" y="2133720"/>
            <a:ext cx="4343400" cy="3429000"/>
          </a:xfrm>
          <a:prstGeom prst="line">
            <a:avLst/>
          </a:prstGeom>
          <a:ln w="38160">
            <a:solidFill>
              <a:srgbClr val="e845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666880" y="2057400"/>
            <a:ext cx="4419720" cy="2590920"/>
          </a:xfrm>
          <a:custGeom>
            <a:avLst/>
            <a:gdLst/>
            <a:ahLst/>
            <a:rect l="l" t="t" r="r" b="b"/>
            <a:pathLst>
              <a:path w="2784" h="1776">
                <a:moveTo>
                  <a:pt x="0" y="0"/>
                </a:moveTo>
                <a:cubicBezTo>
                  <a:pt x="296" y="476"/>
                  <a:pt x="592" y="952"/>
                  <a:pt x="1056" y="1248"/>
                </a:cubicBezTo>
                <a:cubicBezTo>
                  <a:pt x="1520" y="1544"/>
                  <a:pt x="2496" y="1688"/>
                  <a:pt x="2784" y="1776"/>
                </a:cubicBezTo>
              </a:path>
            </a:pathLst>
          </a:custGeom>
          <a:noFill/>
          <a:ln w="28440">
            <a:solidFill>
              <a:srgbClr val="4e62f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962520" y="3581280"/>
            <a:ext cx="152280" cy="15264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2057040" y="3657600"/>
            <a:ext cx="19810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4038480" y="3657600"/>
            <a:ext cx="0" cy="190512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057400" y="2133720"/>
            <a:ext cx="2590920" cy="34290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590920" y="2057400"/>
            <a:ext cx="2590560" cy="3429000"/>
          </a:xfrm>
          <a:prstGeom prst="line">
            <a:avLst/>
          </a:prstGeom>
          <a:ln w="38160">
            <a:solidFill>
              <a:srgbClr val="e8451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048120" y="2666880"/>
            <a:ext cx="152280" cy="15264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2057040" y="2743200"/>
            <a:ext cx="10666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3124080" y="2743200"/>
            <a:ext cx="0" cy="281952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3124080" y="5638680"/>
            <a:ext cx="914400" cy="0"/>
          </a:xfrm>
          <a:prstGeom prst="line">
            <a:avLst/>
          </a:prstGeom>
          <a:ln w="28440">
            <a:solidFill>
              <a:srgbClr val="c869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286000" y="2362320"/>
            <a:ext cx="4419720" cy="2590560"/>
          </a:xfrm>
          <a:custGeom>
            <a:avLst/>
            <a:gdLst/>
            <a:ahLst/>
            <a:rect l="l" t="t" r="r" b="b"/>
            <a:pathLst>
              <a:path w="2784" h="1776">
                <a:moveTo>
                  <a:pt x="0" y="0"/>
                </a:moveTo>
                <a:cubicBezTo>
                  <a:pt x="296" y="476"/>
                  <a:pt x="592" y="952"/>
                  <a:pt x="1056" y="1248"/>
                </a:cubicBezTo>
                <a:cubicBezTo>
                  <a:pt x="1520" y="1544"/>
                  <a:pt x="2496" y="1688"/>
                  <a:pt x="2784" y="1776"/>
                </a:cubicBezTo>
              </a:path>
            </a:pathLst>
          </a:custGeom>
          <a:noFill/>
          <a:ln w="28440">
            <a:solidFill>
              <a:srgbClr val="4e62f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666880" y="2971800"/>
            <a:ext cx="152640" cy="1522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2057040" y="3048120"/>
            <a:ext cx="68580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2743200" y="3047760"/>
            <a:ext cx="0" cy="251460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2743200" y="5638680"/>
            <a:ext cx="380880" cy="0"/>
          </a:xfrm>
          <a:prstGeom prst="line">
            <a:avLst/>
          </a:prstGeom>
          <a:ln w="28440">
            <a:solidFill>
              <a:srgbClr val="eca07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743200" y="5257800"/>
            <a:ext cx="380880" cy="30708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fbf1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e62fa"/>
                </a:solidFill>
                <a:latin typeface="Arial Narrow"/>
              </a:rPr>
              <a:t>E I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124080" y="5181480"/>
            <a:ext cx="914400" cy="368280"/>
          </a:xfrm>
          <a:prstGeom prst="rect">
            <a:avLst/>
          </a:prstGeom>
          <a:solidFill>
            <a:srgbClr val="4e62fa">
              <a:alpha val="50000"/>
            </a:srgbClr>
          </a:solidFill>
          <a:ln w="9360">
            <a:solidFill>
              <a:srgbClr val="fbf1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e62fa"/>
                </a:solidFill>
                <a:latin typeface="Times New Roman"/>
              </a:rPr>
              <a:t>     </a:t>
            </a:r>
            <a:r>
              <a:rPr b="1" lang="es-ES_tradnl" sz="1800" spc="-1" strike="noStrike">
                <a:solidFill>
                  <a:srgbClr val="4e62fa"/>
                </a:solidFill>
                <a:latin typeface="Times New Roman"/>
              </a:rPr>
              <a:t>E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600200" y="16002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523880" y="335268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238880" y="55627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09880" y="55627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895480" y="55627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514600" y="55627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2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7" dur="indefinite" restart="never" nodeType="tmRoot">
          <p:childTnLst>
            <p:seq>
              <p:cTn id="1168" dur="indefinite" nodeType="mainSeq">
                <p:childTnLst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75" fill="hold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75" fill="hold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75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75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3124080" y="4724280"/>
            <a:ext cx="228600" cy="4590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fbf1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4e62fa"/>
                </a:solidFill>
                <a:latin typeface="Arial Narrow"/>
              </a:rPr>
              <a:t>EI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06668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fecto Ingreso: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fecto ingreso y sustitución tienen efecto contrapuest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2057400" y="1676160"/>
            <a:ext cx="0" cy="426708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600200" y="5562720"/>
            <a:ext cx="58672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057400" y="2133720"/>
            <a:ext cx="4343400" cy="3429000"/>
          </a:xfrm>
          <a:prstGeom prst="line">
            <a:avLst/>
          </a:prstGeom>
          <a:ln w="38160">
            <a:solidFill>
              <a:srgbClr val="e845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666880" y="2057400"/>
            <a:ext cx="4419720" cy="2590920"/>
          </a:xfrm>
          <a:custGeom>
            <a:avLst/>
            <a:gdLst/>
            <a:ahLst/>
            <a:rect l="l" t="t" r="r" b="b"/>
            <a:pathLst>
              <a:path w="2784" h="1776">
                <a:moveTo>
                  <a:pt x="0" y="0"/>
                </a:moveTo>
                <a:cubicBezTo>
                  <a:pt x="296" y="476"/>
                  <a:pt x="592" y="952"/>
                  <a:pt x="1056" y="1248"/>
                </a:cubicBezTo>
                <a:cubicBezTo>
                  <a:pt x="1520" y="1544"/>
                  <a:pt x="2496" y="1688"/>
                  <a:pt x="2784" y="1776"/>
                </a:cubicBezTo>
              </a:path>
            </a:pathLst>
          </a:custGeom>
          <a:noFill/>
          <a:ln w="28440">
            <a:solidFill>
              <a:srgbClr val="4e62f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962520" y="3581280"/>
            <a:ext cx="152280" cy="15264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2057040" y="3657600"/>
            <a:ext cx="19810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4038480" y="3657600"/>
            <a:ext cx="0" cy="190512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057400" y="2133720"/>
            <a:ext cx="2590920" cy="34290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590920" y="2057400"/>
            <a:ext cx="2590560" cy="3429000"/>
          </a:xfrm>
          <a:prstGeom prst="line">
            <a:avLst/>
          </a:prstGeom>
          <a:ln w="38160">
            <a:solidFill>
              <a:srgbClr val="e8451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048120" y="2666880"/>
            <a:ext cx="152280" cy="15264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2057040" y="2743200"/>
            <a:ext cx="10666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3124080" y="2743200"/>
            <a:ext cx="0" cy="281952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819520" y="2819520"/>
            <a:ext cx="1904760" cy="1676160"/>
          </a:xfrm>
          <a:custGeom>
            <a:avLst/>
            <a:gdLst/>
            <a:ahLst/>
            <a:rect l="l" t="t" r="r" b="b"/>
            <a:pathLst>
              <a:path w="2784" h="1776">
                <a:moveTo>
                  <a:pt x="0" y="0"/>
                </a:moveTo>
                <a:cubicBezTo>
                  <a:pt x="296" y="476"/>
                  <a:pt x="592" y="952"/>
                  <a:pt x="1056" y="1248"/>
                </a:cubicBezTo>
                <a:cubicBezTo>
                  <a:pt x="1520" y="1544"/>
                  <a:pt x="2496" y="1688"/>
                  <a:pt x="2784" y="1776"/>
                </a:cubicBezTo>
              </a:path>
            </a:pathLst>
          </a:custGeom>
          <a:noFill/>
          <a:ln w="28440">
            <a:solidFill>
              <a:srgbClr val="4e62f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276720" y="3733920"/>
            <a:ext cx="152280" cy="1522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2057400" y="3809880"/>
            <a:ext cx="12952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3352680" y="3809520"/>
            <a:ext cx="0" cy="175284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24080" y="5181480"/>
            <a:ext cx="914400" cy="368280"/>
          </a:xfrm>
          <a:prstGeom prst="rect">
            <a:avLst/>
          </a:prstGeom>
          <a:solidFill>
            <a:srgbClr val="4e62fa">
              <a:alpha val="50000"/>
            </a:srgbClr>
          </a:solidFill>
          <a:ln w="9360">
            <a:solidFill>
              <a:srgbClr val="fbf1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e62fa"/>
                </a:solidFill>
                <a:latin typeface="Times New Roman"/>
              </a:rPr>
              <a:t>   </a:t>
            </a:r>
            <a:r>
              <a:rPr b="1" lang="es-ES_tradnl" sz="1800" spc="-1" strike="noStrike">
                <a:solidFill>
                  <a:srgbClr val="4e62fa"/>
                </a:solidFill>
                <a:latin typeface="Times New Roman"/>
              </a:rPr>
              <a:t>E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124080" y="4724280"/>
            <a:ext cx="228600" cy="0"/>
          </a:xfrm>
          <a:prstGeom prst="line">
            <a:avLst/>
          </a:prstGeom>
          <a:ln w="28440">
            <a:solidFill>
              <a:srgbClr val="eca07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3124080" y="5181480"/>
            <a:ext cx="914400" cy="0"/>
          </a:xfrm>
          <a:prstGeom prst="line">
            <a:avLst/>
          </a:prstGeom>
          <a:ln w="28440">
            <a:solidFill>
              <a:srgbClr val="c869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600200" y="16002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523880" y="335268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238880" y="55627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19520" y="55627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200400" y="55627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2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809880" y="55627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105520" y="2513520"/>
            <a:ext cx="1981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eca07a"/>
                </a:solidFill>
                <a:latin typeface="Times New Roman"/>
              </a:rPr>
              <a:t>ES &gt; EI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1" dur="indefinite" restart="never" nodeType="tmRoot">
          <p:childTnLst>
            <p:seq>
              <p:cTn id="1192" dur="indefinite" nodeType="mainSeq">
                <p:childTnLst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3124080" y="5257800"/>
            <a:ext cx="914400" cy="276480"/>
          </a:xfrm>
          <a:prstGeom prst="rect">
            <a:avLst/>
          </a:prstGeom>
          <a:solidFill>
            <a:srgbClr val="4e62fa">
              <a:alpha val="50000"/>
            </a:srgbClr>
          </a:solidFill>
          <a:ln w="9360">
            <a:solidFill>
              <a:srgbClr val="fbf1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4e62fa"/>
                </a:solidFill>
                <a:latin typeface="Times New Roman"/>
              </a:rPr>
              <a:t>       </a:t>
            </a:r>
            <a:r>
              <a:rPr b="1" lang="es-ES_tradnl" sz="1200" spc="-1" strike="noStrike">
                <a:solidFill>
                  <a:srgbClr val="4e62fa"/>
                </a:solidFill>
                <a:latin typeface="Times New Roman"/>
              </a:rPr>
              <a:t>E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124080" y="4952880"/>
            <a:ext cx="1067040" cy="24624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fbf1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4e62fa"/>
                </a:solidFill>
                <a:latin typeface="Times New Roman"/>
              </a:rPr>
              <a:t>       </a:t>
            </a:r>
            <a:r>
              <a:rPr b="1" lang="es-ES_tradnl" sz="1000" spc="-1" strike="noStrike">
                <a:solidFill>
                  <a:srgbClr val="4e62fa"/>
                </a:solidFill>
                <a:latin typeface="Times New Roman"/>
              </a:rPr>
              <a:t>EI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57400" y="2133720"/>
            <a:ext cx="2590920" cy="34290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809880" y="4267080"/>
            <a:ext cx="1371600" cy="1219320"/>
          </a:xfrm>
          <a:custGeom>
            <a:avLst/>
            <a:gdLst/>
            <a:ahLst/>
            <a:rect l="l" t="t" r="r" b="b"/>
            <a:pathLst>
              <a:path w="816" h="768">
                <a:moveTo>
                  <a:pt x="0" y="0"/>
                </a:moveTo>
                <a:cubicBezTo>
                  <a:pt x="100" y="224"/>
                  <a:pt x="200" y="448"/>
                  <a:pt x="336" y="576"/>
                </a:cubicBezTo>
                <a:cubicBezTo>
                  <a:pt x="472" y="704"/>
                  <a:pt x="644" y="736"/>
                  <a:pt x="816" y="768"/>
                </a:cubicBezTo>
              </a:path>
            </a:pathLst>
          </a:custGeom>
          <a:noFill/>
          <a:ln w="28440">
            <a:solidFill>
              <a:srgbClr val="4e62f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06668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fecto Ingreso: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fecto ingreso y sustitución tienen efecto contrapuest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057400" y="1676160"/>
            <a:ext cx="0" cy="426708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600200" y="5562720"/>
            <a:ext cx="58672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057400" y="2133720"/>
            <a:ext cx="4343400" cy="3429000"/>
          </a:xfrm>
          <a:prstGeom prst="line">
            <a:avLst/>
          </a:prstGeom>
          <a:ln w="38160">
            <a:solidFill>
              <a:srgbClr val="e845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666880" y="2057400"/>
            <a:ext cx="4419720" cy="2590920"/>
          </a:xfrm>
          <a:custGeom>
            <a:avLst/>
            <a:gdLst/>
            <a:ahLst/>
            <a:rect l="l" t="t" r="r" b="b"/>
            <a:pathLst>
              <a:path w="2784" h="1776">
                <a:moveTo>
                  <a:pt x="0" y="0"/>
                </a:moveTo>
                <a:cubicBezTo>
                  <a:pt x="296" y="476"/>
                  <a:pt x="592" y="952"/>
                  <a:pt x="1056" y="1248"/>
                </a:cubicBezTo>
                <a:cubicBezTo>
                  <a:pt x="1520" y="1544"/>
                  <a:pt x="2496" y="1688"/>
                  <a:pt x="2784" y="1776"/>
                </a:cubicBezTo>
              </a:path>
            </a:pathLst>
          </a:custGeom>
          <a:noFill/>
          <a:ln w="28440">
            <a:solidFill>
              <a:srgbClr val="4e62f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962520" y="3581280"/>
            <a:ext cx="152280" cy="15264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2057040" y="3657600"/>
            <a:ext cx="19810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4038480" y="3657600"/>
            <a:ext cx="0" cy="190512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590920" y="2057400"/>
            <a:ext cx="2590560" cy="3429000"/>
          </a:xfrm>
          <a:prstGeom prst="line">
            <a:avLst/>
          </a:prstGeom>
          <a:ln w="38160">
            <a:solidFill>
              <a:srgbClr val="e8451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048120" y="2666880"/>
            <a:ext cx="152280" cy="15264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2057040" y="2743200"/>
            <a:ext cx="10666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124080" y="2743200"/>
            <a:ext cx="0" cy="281952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3124080" y="5257800"/>
            <a:ext cx="914400" cy="0"/>
          </a:xfrm>
          <a:prstGeom prst="line">
            <a:avLst/>
          </a:prstGeom>
          <a:ln w="28440">
            <a:solidFill>
              <a:srgbClr val="c869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114800" y="4876920"/>
            <a:ext cx="152280" cy="15228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>
            <a:off x="2057040" y="4952880"/>
            <a:ext cx="213372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4191120" y="4952880"/>
            <a:ext cx="0" cy="60984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124080" y="5181480"/>
            <a:ext cx="1067040" cy="0"/>
          </a:xfrm>
          <a:prstGeom prst="line">
            <a:avLst/>
          </a:prstGeom>
          <a:ln w="28440">
            <a:solidFill>
              <a:srgbClr val="eca07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600200" y="16002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523880" y="335268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7238880" y="55627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819520" y="55627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733920" y="55627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114800" y="556272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imes New Roman"/>
              </a:rPr>
              <a:t>X2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105520" y="2513520"/>
            <a:ext cx="1981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eca07a"/>
                </a:solidFill>
                <a:latin typeface="Times New Roman"/>
              </a:rPr>
              <a:t>EI &gt; ES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9" dur="indefinite" restart="never" nodeType="tmRoot">
          <p:childTnLst>
            <p:seq>
              <p:cTn id="1240" dur="indefinite" nodeType="mainSeq">
                <p:childTnLst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2640" y="5335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            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CURVAS DE INDIFERENCIA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1828800"/>
            <a:ext cx="716292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Mapa de indiferencia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Representación completa de las preferencias a través de curvas de indiferencia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7720" y="3505320"/>
            <a:ext cx="0" cy="243828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17720" y="5943600"/>
            <a:ext cx="36925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3143160" y="2590200"/>
            <a:ext cx="412704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3360600" y="2361600"/>
            <a:ext cx="412704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3578400" y="2133000"/>
            <a:ext cx="412632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3901320" y="1906560"/>
            <a:ext cx="4139640" cy="3200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58" y="86"/>
                </a:moveTo>
                <a:arcTo wR="10800" hR="10800" stAng="-4966602" swAng="5048392"/>
                <a:lnTo>
                  <a:pt x="10800" y="10800"/>
                </a:lnTo>
                <a:close/>
              </a:path>
              <a:path fill="none" w="21600" h="21600">
                <a:moveTo>
                  <a:pt x="12158" y="86"/>
                </a:moveTo>
                <a:arcTo wR="10800" hR="10800" stAng="-4966602" swAng="5048392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81480" y="5562720"/>
            <a:ext cx="652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U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38720" y="3276720"/>
            <a:ext cx="2824200" cy="405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&lt; U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&lt; U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&lt; U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10080" y="5410080"/>
            <a:ext cx="652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U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638680" y="5181480"/>
            <a:ext cx="652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U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4800600"/>
            <a:ext cx="65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U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09680" y="33526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 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172200" y="59436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 </a:t>
            </a:r>
            <a:r>
              <a:rPr b="1" lang="es-ES_tradnl" sz="24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18" presetSubtype="6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400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45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50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6000"/>
                            </p:stCondLst>
                            <p:childTnLst>
                              <p:par>
                                <p:cTn id="304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7500"/>
                            </p:stCondLst>
                            <p:childTnLst>
                              <p:par>
                                <p:cTn id="308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9000"/>
                            </p:stCondLst>
                            <p:childTnLst>
                              <p:par>
                                <p:cTn id="312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5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CURVAS DE INDIFERENCIA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752480" y="1752480"/>
            <a:ext cx="63248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Las curvas de indiferencia no pueden cortarse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19320" y="2133720"/>
            <a:ext cx="7391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A </a:t>
            </a:r>
            <a:r>
              <a:rPr b="0" lang="es-ES" sz="2200" spc="-1" strike="noStrike">
                <a:solidFill>
                  <a:srgbClr val="ff9966"/>
                </a:solidFill>
                <a:latin typeface="Bauhaus 93"/>
              </a:rPr>
              <a:t>I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B y B </a:t>
            </a:r>
            <a:r>
              <a:rPr b="0" lang="es-ES" sz="2200" spc="-1" strike="noStrike">
                <a:solidFill>
                  <a:srgbClr val="ff9966"/>
                </a:solidFill>
                <a:latin typeface="Bauhaus 93"/>
              </a:rPr>
              <a:t>I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C entonces C </a:t>
            </a:r>
            <a:r>
              <a:rPr b="0" lang="es-ES" sz="2200" spc="-1" strike="noStrike">
                <a:solidFill>
                  <a:srgbClr val="ff9966"/>
                </a:solidFill>
                <a:latin typeface="Bauhaus 93"/>
              </a:rPr>
              <a:t>I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A ;  pero C </a:t>
            </a:r>
            <a:r>
              <a:rPr b="0" lang="es-ES" sz="2000" spc="-1" strike="noStrike">
                <a:solidFill>
                  <a:srgbClr val="ff9966"/>
                </a:solidFill>
                <a:latin typeface="Bauhaus 93"/>
              </a:rPr>
              <a:t>P</a:t>
            </a: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 A  =&gt;&lt;=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936880" y="3200400"/>
            <a:ext cx="0" cy="243828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936880" y="5638680"/>
            <a:ext cx="32814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 flipV="1" rot="21359400">
            <a:off x="3668040" y="1697400"/>
            <a:ext cx="4132800" cy="365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2825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28250"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3179160" y="2057760"/>
            <a:ext cx="6320520" cy="3047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992" y="66"/>
                </a:moveTo>
                <a:arcTo wR="10800" hR="10800" stAng="-5019910" swAng="5019910"/>
                <a:lnTo>
                  <a:pt x="10800" y="10800"/>
                </a:lnTo>
                <a:close/>
              </a:path>
              <a:path fill="none" w="21600" h="21600">
                <a:moveTo>
                  <a:pt x="11992" y="66"/>
                </a:moveTo>
                <a:arcTo wR="10800" hR="10800" stAng="-5019910" swAng="5019910"/>
              </a:path>
            </a:pathLst>
          </a:custGeom>
          <a:noFill/>
          <a:ln w="38160">
            <a:solidFill>
              <a:srgbClr val="eca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7680" y="4800600"/>
            <a:ext cx="728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U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975280" y="5181480"/>
            <a:ext cx="730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U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76720" y="4267080"/>
            <a:ext cx="7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9880" y="4648320"/>
            <a:ext cx="7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733920" y="3886200"/>
            <a:ext cx="7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33920" y="4114800"/>
            <a:ext cx="75960" cy="763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62520" y="4572000"/>
            <a:ext cx="122040" cy="763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4267080"/>
            <a:ext cx="122040" cy="763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1280" y="4038480"/>
            <a:ext cx="0" cy="68580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76720" y="4343400"/>
            <a:ext cx="838080" cy="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222720" y="1676520"/>
            <a:ext cx="0" cy="396216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22720" y="5638680"/>
            <a:ext cx="464796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614760" y="-534600"/>
            <a:ext cx="6554520" cy="518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528" y="25"/>
                </a:moveTo>
                <a:arcTo wR="10800" hR="10800" stAng="-5167984" swAng="4615643"/>
                <a:lnTo>
                  <a:pt x="10800" y="10800"/>
                </a:lnTo>
                <a:close/>
              </a:path>
              <a:path fill="none" w="21600" h="21600">
                <a:moveTo>
                  <a:pt x="11528" y="25"/>
                </a:moveTo>
                <a:arcTo wR="10800" hR="10800" stAng="-5167984" swAng="4615643"/>
              </a:path>
            </a:pathLst>
          </a:cu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657600" y="2209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00400" y="2514600"/>
            <a:ext cx="533520" cy="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657600" y="2514600"/>
            <a:ext cx="0" cy="312408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9880" y="2895480"/>
            <a:ext cx="0" cy="274320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3276720"/>
            <a:ext cx="762120" cy="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38480" y="3276720"/>
            <a:ext cx="0" cy="236196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00400" y="3657600"/>
            <a:ext cx="1066680" cy="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3657600"/>
            <a:ext cx="0" cy="198108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3581280"/>
            <a:ext cx="152640" cy="152640"/>
          </a:xfrm>
          <a:prstGeom prst="ellipse">
            <a:avLst/>
          </a:prstGeom>
          <a:solidFill>
            <a:srgbClr val="eca07a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962520" y="3200400"/>
            <a:ext cx="152280" cy="152280"/>
          </a:xfrm>
          <a:prstGeom prst="ellipse">
            <a:avLst/>
          </a:prstGeom>
          <a:solidFill>
            <a:srgbClr val="eca07a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00400" y="2895480"/>
            <a:ext cx="609480" cy="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733920" y="2819520"/>
            <a:ext cx="152280" cy="152280"/>
          </a:xfrm>
          <a:prstGeom prst="ellipse">
            <a:avLst/>
          </a:prstGeom>
          <a:solidFill>
            <a:srgbClr val="eca07a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81280" y="2438280"/>
            <a:ext cx="152640" cy="152640"/>
          </a:xfrm>
          <a:prstGeom prst="ellipse">
            <a:avLst/>
          </a:prstGeom>
          <a:solidFill>
            <a:srgbClr val="eca07a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00400" y="4038480"/>
            <a:ext cx="1600200" cy="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00600" y="4038480"/>
            <a:ext cx="0" cy="160020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24280" y="3962520"/>
            <a:ext cx="152640" cy="152280"/>
          </a:xfrm>
          <a:prstGeom prst="ellipse">
            <a:avLst/>
          </a:prstGeom>
          <a:solidFill>
            <a:srgbClr val="eca07a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00400" y="4419720"/>
            <a:ext cx="2286000" cy="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562720" y="4419720"/>
            <a:ext cx="0" cy="1218960"/>
          </a:xfrm>
          <a:prstGeom prst="line">
            <a:avLst/>
          </a:prstGeom>
          <a:ln cap="rnd" w="9360">
            <a:solidFill>
              <a:srgbClr val="402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86400" y="4343400"/>
            <a:ext cx="152280" cy="152280"/>
          </a:xfrm>
          <a:prstGeom prst="ellipse">
            <a:avLst/>
          </a:prstGeom>
          <a:solidFill>
            <a:srgbClr val="eca07a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24080" y="2514600"/>
            <a:ext cx="0" cy="3808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124080" y="2895480"/>
            <a:ext cx="0" cy="38124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3276720"/>
            <a:ext cx="0" cy="3808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24080" y="3657600"/>
            <a:ext cx="0" cy="3808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24080" y="4038480"/>
            <a:ext cx="0" cy="38124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5715000"/>
            <a:ext cx="1522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9880" y="571500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038480" y="5715000"/>
            <a:ext cx="3049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343400" y="5715000"/>
            <a:ext cx="4572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00600" y="5715000"/>
            <a:ext cx="7621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988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3048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43400" y="3429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00600" y="3809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562720" y="4114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09680" y="25146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09680" y="289548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09680" y="32767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9680" y="36576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09680" y="403848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05320" y="5715000"/>
            <a:ext cx="6858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10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0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000" spc="-1" strike="noStrike" baseline="-25000">
                <a:solidFill>
                  <a:srgbClr val="402000"/>
                </a:solidFill>
                <a:latin typeface="Tahoma"/>
              </a:rPr>
              <a:t>X0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5867280"/>
            <a:ext cx="6858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10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0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000" spc="-1" strike="noStrike" baseline="-25000">
                <a:solidFill>
                  <a:srgbClr val="402000"/>
                </a:solidFill>
                <a:latin typeface="Tahoma"/>
              </a:rPr>
              <a:t>X1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86200" y="6019920"/>
            <a:ext cx="6858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10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0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000" spc="-1" strike="noStrike" baseline="-25000">
                <a:solidFill>
                  <a:srgbClr val="402000"/>
                </a:solidFill>
                <a:latin typeface="Tahoma"/>
              </a:rPr>
              <a:t>X2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67080" y="601992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ahoma"/>
              </a:rPr>
              <a:t>X3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876920" y="5943600"/>
            <a:ext cx="83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4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819520" y="160020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3851280" y="1700280"/>
                <a:ext cx="46404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&gt;</m:t>
                    </m:r>
                    <m:f>
                      <m:num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&gt;</m:t>
                    </m:r>
                    <m:f>
                      <m:num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&gt;</m:t>
                    </m:r>
                    <m:f>
                      <m:num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&gt;</m:t>
                    </m:r>
                    <m:f>
                      <m:num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x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7467480" y="55627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06668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          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Tasa Marginal de Sustituc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14400" y="685800"/>
            <a:ext cx="7924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2000"/>
                </a:solidFill>
                <a:latin typeface="Times New Roman"/>
              </a:rPr>
              <a:t>Cantidad de X con que debo ser compensado para renunciar a una cantidad de Y manteniendo el mismo bienestar (misma curva de indiferencia)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71600" y="691920"/>
            <a:ext cx="7772400" cy="7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         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Tasa Marginal de Sustitución.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51814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Cantidad a la que está dispuesto a renunciar del bien Y para incrementar el consumo de X manteniendo la misma utilidad (misma curva de indiferencia)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Pendiente de la curva de indiferencia en cada punto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Decrece a la derecha de A y crece a su izquierda.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                           (</a:t>
            </a: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TSMC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C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&gt; </a:t>
            </a: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TSMC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&gt; </a:t>
            </a: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TSMC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 baseline="-25000">
                <a:solidFill>
                  <a:srgbClr val="402000"/>
                </a:solidFill>
                <a:latin typeface="Times New Roman"/>
              </a:rPr>
              <a:t>B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248520" y="2666880"/>
            <a:ext cx="0" cy="243864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248520" y="5105520"/>
            <a:ext cx="22860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6629400" y="1294560"/>
            <a:ext cx="2590560" cy="3503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297" y="104"/>
                </a:moveTo>
                <a:arcTo wR="10800" hR="10800" stAng="-4921951" swAng="4279518"/>
                <a:lnTo>
                  <a:pt x="10800" y="10800"/>
                </a:lnTo>
                <a:close/>
              </a:path>
              <a:path fill="none" w="21600" h="21600">
                <a:moveTo>
                  <a:pt x="12297" y="104"/>
                </a:moveTo>
                <a:arcTo wR="10800" hR="10800" stAng="-4921951" swAng="4279518"/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934320" y="3809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0" y="4114800"/>
            <a:ext cx="76320" cy="76320"/>
          </a:xfrm>
          <a:prstGeom prst="ellipse">
            <a:avLst/>
          </a:prstGeom>
          <a:solidFill>
            <a:srgbClr val="eca07a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629400" y="3429000"/>
            <a:ext cx="76320" cy="76320"/>
          </a:xfrm>
          <a:prstGeom prst="ellipse">
            <a:avLst/>
          </a:prstGeom>
          <a:solidFill>
            <a:srgbClr val="eca07a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7390800" y="4648320"/>
            <a:ext cx="75960" cy="75960"/>
          </a:xfrm>
          <a:prstGeom prst="ellipse">
            <a:avLst/>
          </a:prstGeom>
          <a:solidFill>
            <a:srgbClr val="eca07a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467480" y="44197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791320" y="251460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153280" y="51055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934320" y="3962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391520" y="4343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629400" y="3124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Bienes Sustitutos Perfectos.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419076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Función de Utilidad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        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U = aX +b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Relación Marginal de Sustitución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TSMC = a/b  (constante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urvas de indiferencia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         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Líneas rect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486400" y="2514600"/>
            <a:ext cx="0" cy="251460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486400" y="5029200"/>
            <a:ext cx="25909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952880" y="335268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486400" y="3581280"/>
            <a:ext cx="1143000" cy="1447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86400" y="3048120"/>
            <a:ext cx="1600200" cy="1981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486400" y="2666880"/>
            <a:ext cx="1981080" cy="23623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400800" y="4648320"/>
            <a:ext cx="65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2000"/>
                </a:solidFill>
                <a:latin typeface="Arial Narrow"/>
              </a:rPr>
              <a:t>U</a:t>
            </a:r>
            <a:r>
              <a:rPr b="1" lang="es-ES_tradnl" sz="1400" spc="-1" strike="noStrike" baseline="-25000">
                <a:solidFill>
                  <a:srgbClr val="402000"/>
                </a:solidFill>
                <a:latin typeface="Arial Narrow"/>
              </a:rPr>
              <a:t>1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0" y="4648320"/>
            <a:ext cx="65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2000"/>
                </a:solidFill>
                <a:latin typeface="Arial Narrow"/>
              </a:rPr>
              <a:t>U</a:t>
            </a:r>
            <a:r>
              <a:rPr b="1" lang="es-ES_tradnl" sz="1400" spc="-1" strike="noStrike" baseline="-25000">
                <a:solidFill>
                  <a:srgbClr val="402000"/>
                </a:solidFill>
                <a:latin typeface="Arial Narrow"/>
              </a:rPr>
              <a:t>2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315200" y="4572000"/>
            <a:ext cx="65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2000"/>
                </a:solidFill>
                <a:latin typeface="Arial Narrow"/>
              </a:rPr>
              <a:t>U</a:t>
            </a:r>
            <a:r>
              <a:rPr b="1" lang="es-ES_tradnl" sz="1400" spc="-1" strike="noStrike" baseline="-25000">
                <a:solidFill>
                  <a:srgbClr val="402000"/>
                </a:solidFill>
                <a:latin typeface="Arial Narrow"/>
              </a:rPr>
              <a:t>3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029200" y="22860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620120" y="5029200"/>
            <a:ext cx="76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9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5500"/>
                            </p:stCondLst>
                            <p:childTnLst>
                              <p:par>
                                <p:cTn id="7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6000"/>
                            </p:stCondLst>
                            <p:childTnLst>
                              <p:par>
                                <p:cTn id="7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6500"/>
                            </p:stCondLst>
                            <p:childTnLst>
                              <p:par>
                                <p:cTn id="7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Bienes Complementarios Perfectos.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Función de Utilidad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U = min{aX,bY}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Relación Marginal de Sustitución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           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No exist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urvas de indiferencia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         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ángulo rect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86400" y="2514600"/>
            <a:ext cx="0" cy="2514600"/>
          </a:xfrm>
          <a:prstGeom prst="line">
            <a:avLst/>
          </a:prstGeom>
          <a:ln w="936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486400" y="5029200"/>
            <a:ext cx="25909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952880" y="335268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5486400" y="2971440"/>
            <a:ext cx="1752480" cy="2057400"/>
          </a:xfrm>
          <a:prstGeom prst="line">
            <a:avLst/>
          </a:prstGeom>
          <a:ln w="38160">
            <a:solidFill>
              <a:srgbClr val="ce99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3048120"/>
            <a:ext cx="0" cy="14475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943600" y="4495680"/>
            <a:ext cx="16002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477120" y="2971800"/>
            <a:ext cx="0" cy="9144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3886200"/>
            <a:ext cx="10666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10280" y="259092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e62fa"/>
                </a:solidFill>
                <a:latin typeface="Tahoma"/>
              </a:rPr>
              <a:t>aX= bY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162920" y="4191120"/>
            <a:ext cx="65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2000"/>
                </a:solidFill>
                <a:latin typeface="Arial Narrow"/>
              </a:rPr>
              <a:t>U</a:t>
            </a:r>
            <a:r>
              <a:rPr b="1" lang="es-ES_tradnl" sz="1400" spc="-1" strike="noStrike" baseline="-25000">
                <a:solidFill>
                  <a:srgbClr val="402000"/>
                </a:solidFill>
                <a:latin typeface="Arial Narrow"/>
              </a:rPr>
              <a:t>1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315200" y="3581280"/>
            <a:ext cx="65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2000"/>
                </a:solidFill>
                <a:latin typeface="Arial Narrow"/>
              </a:rPr>
              <a:t>U</a:t>
            </a:r>
            <a:r>
              <a:rPr b="1" lang="es-ES_tradnl" sz="1400" spc="-1" strike="noStrike" baseline="-25000">
                <a:solidFill>
                  <a:srgbClr val="402000"/>
                </a:solidFill>
                <a:latin typeface="Arial Narrow"/>
              </a:rPr>
              <a:t>2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029200" y="23623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96080" y="502920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</a:t>
            </a:r>
            <a:r>
              <a:rPr b="0" lang="es-ES_tradnl" sz="1800" spc="-1" strike="noStrike" baseline="-25000">
                <a:solidFill>
                  <a:srgbClr val="402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500"/>
                            </p:stCondLst>
                            <p:childTnLst>
                              <p:par>
                                <p:cTn id="71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1000"/>
                            </p:stCondLst>
                            <p:childTnLst>
                              <p:par>
                                <p:cTn id="723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2500"/>
                            </p:stCondLst>
                            <p:childTnLst>
                              <p:par>
                                <p:cTn id="72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3000"/>
                            </p:stCondLst>
                            <p:childTnLst>
                              <p:par>
                                <p:cTn id="731" nodeType="afterEffect" fill="hold" presetClass="entr" presetID="18" presetSubtype="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3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6500"/>
                            </p:stCondLst>
                            <p:childTnLst>
                              <p:par>
                                <p:cTn id="7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7000"/>
                            </p:stCondLst>
                            <p:childTnLst>
                              <p:par>
                                <p:cTn id="7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7500"/>
                            </p:stCondLst>
                            <p:childTnLst>
                              <p:par>
                                <p:cTn id="7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4T22:10:51Z</dcterms:created>
  <dc:creator>Marco Hauva</dc:creator>
  <dc:description/>
  <dc:language>en-US</dc:language>
  <cp:lastModifiedBy> Marco Hauva</cp:lastModifiedBy>
  <dcterms:modified xsi:type="dcterms:W3CDTF">2006-06-30T15:26:11Z</dcterms:modified>
  <cp:revision>43</cp:revision>
  <dc:subject/>
  <dc:title>Teoría de la Elección</dc:title>
</cp:coreProperties>
</file>