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25F-F753-40C7-8CC1-81EDA682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AF3-B12E-4CC7-9C1F-FF65C228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859-BFF9-44D2-828E-15F5860C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9F8-9500-4F39-9C4B-0FF5F311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E96D-E46B-480D-8069-2E41950C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E456-30AE-480E-96B8-C4C63925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B159-D8D3-4020-AFB7-21573AD1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C691-7C45-45A9-BF69-29D10D2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55F2-46EC-4A12-9CC8-FC3D22E0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16AF-2F44-498A-844B-7A4F2A6B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27E9-3D6A-4081-A9C6-406A1E4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B17-C6EE-4F76-8A84-8D03D77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D03E-149A-432B-AC55-CBF0534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2D61-2028-4F42-AF5B-1D86B09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63C7-D5A6-4CB4-BB5B-21AD4657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B77A-7829-4BE2-8CC6-0B474E95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397-8F08-4F4C-AF7A-823DD2FF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CB4-5826-42A1-9209-F7BE5D42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0CE-1D0D-444E-B267-897B9D66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6ED-B39F-42A2-99EF-C4B537D5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435-0CF8-4CAA-888F-5E0EA1F5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862-9B5F-4907-8FA5-48FE57A6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89E-8DE1-4F12-868E-7C5F7BE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4DB-778B-4F2F-9C35-7B7930E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A266-5E2E-4578-8DA3-F8E1F9ABC26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9C1C-34C4-4EC6-800B-5B72795A707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F3783-88DB-4622-8FC9-E672BD3509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6489B-3F28-46B0-A7DD-5700F67599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CA292-0C55-4C30-84C7-764DBD9C41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2BD48-5D36-4A3F-803E-E3E98A3B0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6-30T15:26:11Z</dcterms:modified>
  <cp:revision>43</cp:revision>
  <dc:subject/>
  <dc:title>Teoría de la Elección</dc:title>
</cp:coreProperties>
</file>