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C5D-594A-4FFC-9071-17D12518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FAE-1287-400C-85C8-7320D070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D72-3E67-46EB-A9D3-D01E490D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223-39C1-4F86-8C48-CD472E2F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A58F-7583-4CB6-9560-C9F7D9EF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12E7-D512-4D13-B41A-60C0BC87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3B76-0869-4099-9321-D887610D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DB45-40D4-464F-90FA-4EB472C5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5D28-55CF-499F-8893-659A3E0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5050-CB6B-44FA-AF72-AD1A7604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806A-EE7F-4920-B76B-35F68EA4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747-43B7-4180-BB57-1187111F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B464-9480-4E6B-B374-81F2C9A2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F718-2C1F-410B-A3E6-BD01F044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EBC1-23E1-4B84-8730-FA0F7737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69FD-5477-4742-A6B9-7B971162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BC7F-0C78-4399-BD2F-C156C4E1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32D-5CDB-476D-BE08-8FA592DF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18C-C50E-4302-922D-B0C620B5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9E4-C0EE-44C3-8A42-467F8BD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9C3-0417-4657-95B1-BEFCAEA2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483-8C8C-4D79-BF02-17A7660A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344-DA89-44DA-A346-EEDADF1D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397-8D32-40E7-B7C4-C5EBD9A3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81F6-7E53-4C03-B071-F001B12DD3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DEFB-27EB-488D-9B17-49218045A3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601640" y="1677960"/>
            <a:ext cx="69310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rto y largo plazo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arcial y general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tecnológica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stática comparativa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040280" y="18302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8480" y="3735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9240" y="1052640"/>
            <a:ext cx="342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ndustria con costos 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4440" y="289728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728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193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3054240"/>
            <a:ext cx="0" cy="2959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35680" y="39625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6280" y="594504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716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311520" y="237492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7384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3740040"/>
            <a:ext cx="0" cy="22734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8804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452680" y="-201960"/>
            <a:ext cx="2412360" cy="3784680"/>
            <a:chOff x="2452680" y="-201960"/>
            <a:chExt cx="2412360" cy="3784680"/>
          </a:xfrm>
        </p:grpSpPr>
        <p:sp>
          <p:nvSpPr>
            <p:cNvPr id="219" name=""/>
            <p:cNvSpPr/>
            <p:nvPr/>
          </p:nvSpPr>
          <p:spPr>
            <a:xfrm rot="5400000">
              <a:off x="1841760" y="63648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1766520" y="484200"/>
              <a:ext cx="378468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344840" y="1449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4440" y="32781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6680" y="358128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155124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68640" y="35812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778000" y="2908440"/>
            <a:ext cx="2387880" cy="15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5080" y="27446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06680" y="3282840"/>
            <a:ext cx="204444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304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246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6680" y="327672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6680" y="396252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06680" y="3276720"/>
            <a:ext cx="53211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264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606680" y="3282840"/>
            <a:ext cx="5244840" cy="12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6680" y="3276720"/>
            <a:ext cx="6997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8040" y="32781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26280" y="24400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287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290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9280" y="4508640"/>
            <a:ext cx="5245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314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317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65920" y="3265560"/>
            <a:ext cx="14400" cy="2743200"/>
          </a:xfrm>
          <a:custGeom>
            <a:avLst/>
            <a:gdLst/>
            <a:ahLst/>
            <a:rect l="l" t="t" r="r" b="b"/>
            <a:pathLst>
              <a:path w="9" h="1728">
                <a:moveTo>
                  <a:pt x="9" y="0"/>
                </a:moveTo>
                <a:lnTo>
                  <a:pt x="0" y="1728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06680" y="4025880"/>
            <a:ext cx="5073480" cy="14400"/>
          </a:xfrm>
          <a:custGeom>
            <a:avLst/>
            <a:gdLst/>
            <a:ahLst/>
            <a:rect l="l" t="t" r="r" b="b"/>
            <a:pathLst>
              <a:path w="3196" h="9">
                <a:moveTo>
                  <a:pt x="0" y="9"/>
                </a:moveTo>
                <a:lnTo>
                  <a:pt x="3196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3803760" y="562680"/>
            <a:ext cx="278388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50"/>
                </a:moveTo>
                <a:arcTo wR="10800" hR="10800" stAng="10752320" swAng="5443663"/>
                <a:lnTo>
                  <a:pt x="10800" y="10800"/>
                </a:lnTo>
                <a:close/>
              </a:path>
              <a:path fill="none" w="21600" h="21600">
                <a:moveTo>
                  <a:pt x="1" y="10950"/>
                </a:moveTo>
                <a:arcTo wR="10800" hR="10800" stAng="10752320" swAng="544366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99240" y="4032360"/>
            <a:ext cx="6480" cy="1968480"/>
          </a:xfrm>
          <a:custGeom>
            <a:avLst/>
            <a:gdLst/>
            <a:ahLst/>
            <a:rect l="l" t="t" r="r" b="b"/>
            <a:pathLst>
              <a:path w="4" h="1240">
                <a:moveTo>
                  <a:pt x="0" y="0"/>
                </a:moveTo>
                <a:lnTo>
                  <a:pt x="4" y="1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4032360"/>
            <a:ext cx="1440" cy="1987560"/>
          </a:xfrm>
          <a:custGeom>
            <a:avLst/>
            <a:gdLst/>
            <a:ahLst/>
            <a:rect l="l" t="t" r="r" b="b"/>
            <a:pathLst>
              <a:path w="1" h="1252">
                <a:moveTo>
                  <a:pt x="0" y="0"/>
                </a:moveTo>
                <a:lnTo>
                  <a:pt x="0" y="1252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393800" y="2514960"/>
            <a:ext cx="2994120" cy="2259720"/>
            <a:chOff x="4393800" y="2514960"/>
            <a:chExt cx="2994120" cy="2259720"/>
          </a:xfrm>
        </p:grpSpPr>
        <p:sp>
          <p:nvSpPr>
            <p:cNvPr id="330" name=""/>
            <p:cNvSpPr/>
            <p:nvPr/>
          </p:nvSpPr>
          <p:spPr>
            <a:xfrm rot="10800000">
              <a:off x="4643280" y="2514600"/>
              <a:ext cx="271728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0800000">
              <a:off x="4393800" y="2514600"/>
              <a:ext cx="299412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020000" y="335772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0360" y="2637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8360" y="59500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350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763160" y="2351520"/>
            <a:ext cx="2883240" cy="2297880"/>
            <a:chOff x="4763160" y="2351520"/>
            <a:chExt cx="2883240" cy="2297880"/>
          </a:xfrm>
        </p:grpSpPr>
        <p:sp>
          <p:nvSpPr>
            <p:cNvPr id="353" name=""/>
            <p:cNvSpPr/>
            <p:nvPr/>
          </p:nvSpPr>
          <p:spPr>
            <a:xfrm rot="10800000">
              <a:off x="5003640" y="2351520"/>
              <a:ext cx="261648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4763160" y="2351160"/>
              <a:ext cx="288324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00840" y="3267000"/>
            <a:ext cx="14400" cy="2727360"/>
          </a:xfrm>
          <a:custGeom>
            <a:avLst/>
            <a:gdLst/>
            <a:ahLst/>
            <a:rect l="l" t="t" r="r" b="b"/>
            <a:pathLst>
              <a:path w="9" h="1718">
                <a:moveTo>
                  <a:pt x="0" y="0"/>
                </a:moveTo>
                <a:lnTo>
                  <a:pt x="9" y="1718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2800" y="4336920"/>
            <a:ext cx="4921200" cy="19080"/>
          </a:xfrm>
          <a:custGeom>
            <a:avLst/>
            <a:gdLst/>
            <a:ahLst/>
            <a:rect l="l" t="t" r="r" b="b"/>
            <a:pathLst>
              <a:path w="3100" h="12">
                <a:moveTo>
                  <a:pt x="0" y="0"/>
                </a:moveTo>
                <a:lnTo>
                  <a:pt x="3100" y="12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34000" y="4356000"/>
            <a:ext cx="6480" cy="1670040"/>
          </a:xfrm>
          <a:custGeom>
            <a:avLst/>
            <a:gdLst/>
            <a:ahLst/>
            <a:rect l="l" t="t" r="r" b="b"/>
            <a:pathLst>
              <a:path w="4" h="1052">
                <a:moveTo>
                  <a:pt x="4" y="0"/>
                </a:moveTo>
                <a:lnTo>
                  <a:pt x="0" y="10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58080" y="4349880"/>
            <a:ext cx="12600" cy="1638000"/>
          </a:xfrm>
          <a:custGeom>
            <a:avLst/>
            <a:gdLst/>
            <a:ahLst/>
            <a:rect l="l" t="t" r="r" b="b"/>
            <a:pathLst>
              <a:path w="8" h="1032">
                <a:moveTo>
                  <a:pt x="8" y="0"/>
                </a:moveTo>
                <a:lnTo>
                  <a:pt x="0" y="1032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93720" y="4362480"/>
            <a:ext cx="4946760" cy="247680"/>
          </a:xfrm>
          <a:custGeom>
            <a:avLst/>
            <a:gdLst/>
            <a:ahLst/>
            <a:rect l="l" t="t" r="r" b="b"/>
            <a:pathLst>
              <a:path w="3116" h="156">
                <a:moveTo>
                  <a:pt x="3116" y="0"/>
                </a:moveTo>
                <a:lnTo>
                  <a:pt x="3112" y="156"/>
                </a:lnTo>
                <a:lnTo>
                  <a:pt x="0" y="148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93720" y="4349880"/>
            <a:ext cx="4946760" cy="323640"/>
          </a:xfrm>
          <a:custGeom>
            <a:avLst/>
            <a:gdLst/>
            <a:ahLst/>
            <a:rect l="l" t="t" r="r" b="b"/>
            <a:pathLst>
              <a:path w="3116" h="204">
                <a:moveTo>
                  <a:pt x="3116" y="0"/>
                </a:moveTo>
                <a:lnTo>
                  <a:pt x="3116" y="204"/>
                </a:lnTo>
                <a:lnTo>
                  <a:pt x="0" y="200"/>
                </a:lnTo>
              </a:path>
            </a:pathLst>
          </a:custGeom>
          <a:noFill/>
          <a:ln cap="rnd" w="2844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6680" y="4356000"/>
            <a:ext cx="4464000" cy="438120"/>
          </a:xfrm>
          <a:custGeom>
            <a:avLst/>
            <a:gdLst/>
            <a:ahLst/>
            <a:rect l="l" t="t" r="r" b="b"/>
            <a:pathLst>
              <a:path w="2812" h="276">
                <a:moveTo>
                  <a:pt x="2812" y="0"/>
                </a:moveTo>
                <a:lnTo>
                  <a:pt x="2804" y="276"/>
                </a:lnTo>
                <a:lnTo>
                  <a:pt x="0" y="271"/>
                </a:lnTo>
              </a:path>
            </a:pathLst>
          </a:custGeom>
          <a:noFill/>
          <a:ln cap="rnd" w="28440">
            <a:solidFill>
              <a:srgbClr val="3366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516360" y="6093000"/>
            <a:ext cx="36036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084360" y="6165720"/>
            <a:ext cx="792360" cy="0"/>
          </a:xfrm>
          <a:prstGeom prst="line">
            <a:avLst/>
          </a:prstGeom>
          <a:ln w="1260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3271680"/>
            <a:ext cx="2062080" cy="667080"/>
          </a:xfrm>
          <a:custGeom>
            <a:avLst/>
            <a:gdLst/>
            <a:ahLst/>
            <a:rect l="l" t="t" r="r" b="b"/>
            <a:pathLst>
              <a:path w="1299" h="420">
                <a:moveTo>
                  <a:pt x="1299" y="0"/>
                </a:moveTo>
                <a:lnTo>
                  <a:pt x="1299" y="420"/>
                </a:lnTo>
                <a:lnTo>
                  <a:pt x="0" y="414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85800" y="3271680"/>
            <a:ext cx="2076480" cy="1290960"/>
          </a:xfrm>
          <a:custGeom>
            <a:avLst/>
            <a:gdLst/>
            <a:ahLst/>
            <a:rect l="l" t="t" r="r" b="b"/>
            <a:pathLst>
              <a:path w="1308" h="813">
                <a:moveTo>
                  <a:pt x="1308" y="0"/>
                </a:moveTo>
                <a:lnTo>
                  <a:pt x="1302" y="813"/>
                </a:lnTo>
                <a:lnTo>
                  <a:pt x="0" y="813"/>
                </a:lnTo>
              </a:path>
            </a:pathLst>
          </a:custGeom>
          <a:noFill/>
          <a:ln cap="rnd" w="2844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04880" y="3276720"/>
            <a:ext cx="5305680" cy="1224000"/>
          </a:xfrm>
          <a:custGeom>
            <a:avLst/>
            <a:gdLst/>
            <a:ahLst/>
            <a:rect l="l" t="t" r="r" b="b"/>
            <a:pathLst>
              <a:path w="3342" h="771">
                <a:moveTo>
                  <a:pt x="3333" y="0"/>
                </a:moveTo>
                <a:lnTo>
                  <a:pt x="3342" y="771"/>
                </a:lnTo>
                <a:lnTo>
                  <a:pt x="0" y="768"/>
                </a:lnTo>
              </a:path>
            </a:pathLst>
          </a:custGeom>
          <a:noFill/>
          <a:ln cap="rnd" w="28440">
            <a:solidFill>
              <a:srgbClr val="3366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43200" y="3267000"/>
            <a:ext cx="19080" cy="2747880"/>
          </a:xfrm>
          <a:custGeom>
            <a:avLst/>
            <a:gdLst/>
            <a:ahLst/>
            <a:rect l="l" t="t" r="r" b="b"/>
            <a:pathLst>
              <a:path w="12" h="1731">
                <a:moveTo>
                  <a:pt x="12" y="0"/>
                </a:moveTo>
                <a:lnTo>
                  <a:pt x="0" y="1731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1964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35280" y="6381720"/>
            <a:ext cx="324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606680" y="4121280"/>
            <a:ext cx="471168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69280" y="31258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0800000">
            <a:off x="4217760" y="-277920"/>
            <a:ext cx="2717640" cy="53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02240" y="19828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392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395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3836880" y="56016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38360" y="2389320"/>
            <a:ext cx="2825640" cy="2412360"/>
            <a:chOff x="4338360" y="2389320"/>
            <a:chExt cx="2825640" cy="2412360"/>
          </a:xfrm>
        </p:grpSpPr>
        <p:sp>
          <p:nvSpPr>
            <p:cNvPr id="403" name=""/>
            <p:cNvSpPr/>
            <p:nvPr/>
          </p:nvSpPr>
          <p:spPr>
            <a:xfrm rot="10800000">
              <a:off x="4572000" y="238932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0800000">
              <a:off x="4338360" y="2388960"/>
              <a:ext cx="2825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324480" y="404496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736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9440" y="335448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9080" y="274464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06680" y="4876920"/>
            <a:ext cx="3873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3151080" y="86508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805920" y="2465640"/>
            <a:ext cx="2824920" cy="2412360"/>
            <a:chOff x="3805920" y="2465640"/>
            <a:chExt cx="2824920" cy="2412360"/>
          </a:xfrm>
        </p:grpSpPr>
        <p:sp>
          <p:nvSpPr>
            <p:cNvPr id="423" name=""/>
            <p:cNvSpPr/>
            <p:nvPr/>
          </p:nvSpPr>
          <p:spPr>
            <a:xfrm rot="10800000">
              <a:off x="4038480" y="246564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800000">
              <a:off x="3805920" y="2465280"/>
              <a:ext cx="282492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410080" y="480708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59240" y="6021360"/>
            <a:ext cx="1444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87840" y="274464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2680" y="4649760"/>
            <a:ext cx="1216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11680" y="335448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611280" y="915840"/>
            <a:ext cx="4187880" cy="5420880"/>
            <a:chOff x="611280" y="915840"/>
            <a:chExt cx="4187880" cy="5420880"/>
          </a:xfrm>
        </p:grpSpPr>
        <p:sp>
          <p:nvSpPr>
            <p:cNvPr id="432" name=""/>
            <p:cNvSpPr/>
            <p:nvPr/>
          </p:nvSpPr>
          <p:spPr>
            <a:xfrm>
              <a:off x="1219320" y="1003320"/>
              <a:ext cx="0" cy="485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1130040" y="5867280"/>
              <a:ext cx="360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5440" y="2362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01760" y="4572000"/>
              <a:ext cx="1816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97280" y="58690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4080" y="457848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12800" y="2832120"/>
              <a:ext cx="1955880" cy="226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1560" y="2000160"/>
              <a:ext cx="2629080" cy="300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95600" y="1390680"/>
              <a:ext cx="799920" cy="20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49360" y="3125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79840" y="3441600"/>
              <a:ext cx="812520" cy="203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92560" y="5869080"/>
              <a:ext cx="606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3560" y="915840"/>
              <a:ext cx="45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0240" y="586908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57400" y="2368440"/>
              <a:ext cx="0" cy="34927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7240" y="205884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1280" y="42688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54280" y="12970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97280" y="38116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0280" y="4268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105520" y="107964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016240" y="5943600"/>
            <a:ext cx="3606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11640" y="36576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11640" y="4952880"/>
            <a:ext cx="30355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45040" y="594504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99000" y="29084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57760" y="2076480"/>
            <a:ext cx="262908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62880" y="3524400"/>
            <a:ext cx="79992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88040" y="45734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27600" y="2603520"/>
            <a:ext cx="812880" cy="20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05920" y="594360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9760" y="9921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48720" y="594360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36640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9760" y="472608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21160" y="335448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560" y="34304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9080" y="282096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630840" y="29732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conomías pecuniarias y el precio de las f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Mercado - Competencia - Optim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3811680" y="5411880"/>
            <a:ext cx="113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ienes y servicios, Fa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34960" y="1525680"/>
            <a:ext cx="8226360" cy="4120920"/>
            <a:chOff x="534960" y="1525680"/>
            <a:chExt cx="8226360" cy="4120920"/>
          </a:xfrm>
        </p:grpSpPr>
        <p:grpSp>
          <p:nvGrpSpPr>
            <p:cNvPr id="476" name=""/>
            <p:cNvGrpSpPr/>
            <p:nvPr/>
          </p:nvGrpSpPr>
          <p:grpSpPr>
            <a:xfrm>
              <a:off x="3278160" y="2216160"/>
              <a:ext cx="1515960" cy="1012320"/>
              <a:chOff x="3278160" y="2216160"/>
              <a:chExt cx="1515960" cy="1012320"/>
            </a:xfrm>
          </p:grpSpPr>
          <p:sp>
            <p:nvSpPr>
              <p:cNvPr id="477" name=""/>
              <p:cNvSpPr/>
              <p:nvPr/>
            </p:nvSpPr>
            <p:spPr>
              <a:xfrm>
                <a:off x="3733920" y="2216160"/>
                <a:ext cx="0" cy="67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3727080" y="28954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92680" y="2368440"/>
                <a:ext cx="90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107960" y="2216160"/>
                <a:ext cx="24156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40040" y="2438280"/>
                <a:ext cx="52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267080" y="243180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8160" y="2287440"/>
                <a:ext cx="3780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16240" y="2897280"/>
                <a:ext cx="3780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952880" y="3054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946400" y="37339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11640" y="3130560"/>
              <a:ext cx="52092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098680" y="3054240"/>
              <a:ext cx="46980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9360" y="3276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257800" y="326988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7480" y="312588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06960" y="373536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8120" y="29782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041280" y="36576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59160" y="2978280"/>
              <a:ext cx="1396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193560" y="3130560"/>
              <a:ext cx="546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54240" y="3200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429000" y="31939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92360" y="304956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01840" y="365904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67080" y="38926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260600" y="45720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25840" y="3968640"/>
              <a:ext cx="3682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489560" y="3892680"/>
              <a:ext cx="24120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73560" y="41148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4648320" y="41083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1680" y="39639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21160" y="457344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51000" y="1917720"/>
              <a:ext cx="3992760" cy="3171960"/>
            </a:xfrm>
            <a:custGeom>
              <a:avLst/>
              <a:gdLst/>
              <a:ahLst/>
              <a:rect l="l" t="t" r="r" b="b"/>
              <a:pathLst>
                <a:path w="2515" h="1998">
                  <a:moveTo>
                    <a:pt x="853" y="40"/>
                  </a:moveTo>
                  <a:lnTo>
                    <a:pt x="817" y="21"/>
                  </a:lnTo>
                  <a:lnTo>
                    <a:pt x="755" y="11"/>
                  </a:lnTo>
                  <a:lnTo>
                    <a:pt x="672" y="11"/>
                  </a:lnTo>
                  <a:lnTo>
                    <a:pt x="589" y="11"/>
                  </a:lnTo>
                  <a:lnTo>
                    <a:pt x="527" y="11"/>
                  </a:lnTo>
                  <a:lnTo>
                    <a:pt x="465" y="11"/>
                  </a:lnTo>
                  <a:lnTo>
                    <a:pt x="383" y="21"/>
                  </a:lnTo>
                  <a:lnTo>
                    <a:pt x="351" y="52"/>
                  </a:lnTo>
                  <a:lnTo>
                    <a:pt x="341" y="114"/>
                  </a:lnTo>
                  <a:lnTo>
                    <a:pt x="331" y="145"/>
                  </a:lnTo>
                  <a:lnTo>
                    <a:pt x="300" y="176"/>
                  </a:lnTo>
                  <a:lnTo>
                    <a:pt x="269" y="207"/>
                  </a:lnTo>
                  <a:lnTo>
                    <a:pt x="258" y="249"/>
                  </a:lnTo>
                  <a:lnTo>
                    <a:pt x="227" y="290"/>
                  </a:lnTo>
                  <a:lnTo>
                    <a:pt x="227" y="321"/>
                  </a:lnTo>
                  <a:lnTo>
                    <a:pt x="217" y="404"/>
                  </a:lnTo>
                  <a:lnTo>
                    <a:pt x="196" y="466"/>
                  </a:lnTo>
                  <a:lnTo>
                    <a:pt x="176" y="528"/>
                  </a:lnTo>
                  <a:lnTo>
                    <a:pt x="134" y="559"/>
                  </a:lnTo>
                  <a:lnTo>
                    <a:pt x="176" y="590"/>
                  </a:lnTo>
                  <a:lnTo>
                    <a:pt x="114" y="662"/>
                  </a:lnTo>
                  <a:lnTo>
                    <a:pt x="51" y="745"/>
                  </a:lnTo>
                  <a:lnTo>
                    <a:pt x="31" y="828"/>
                  </a:lnTo>
                  <a:lnTo>
                    <a:pt x="10" y="911"/>
                  </a:lnTo>
                  <a:lnTo>
                    <a:pt x="0" y="993"/>
                  </a:lnTo>
                  <a:lnTo>
                    <a:pt x="20" y="1055"/>
                  </a:lnTo>
                  <a:lnTo>
                    <a:pt x="51" y="1076"/>
                  </a:lnTo>
                  <a:lnTo>
                    <a:pt x="83" y="1097"/>
                  </a:lnTo>
                  <a:lnTo>
                    <a:pt x="145" y="1118"/>
                  </a:lnTo>
                  <a:lnTo>
                    <a:pt x="165" y="1149"/>
                  </a:lnTo>
                  <a:lnTo>
                    <a:pt x="186" y="1180"/>
                  </a:lnTo>
                  <a:lnTo>
                    <a:pt x="217" y="1221"/>
                  </a:lnTo>
                  <a:lnTo>
                    <a:pt x="279" y="1242"/>
                  </a:lnTo>
                  <a:lnTo>
                    <a:pt x="310" y="1252"/>
                  </a:lnTo>
                  <a:lnTo>
                    <a:pt x="372" y="1262"/>
                  </a:lnTo>
                  <a:lnTo>
                    <a:pt x="434" y="1283"/>
                  </a:lnTo>
                  <a:lnTo>
                    <a:pt x="465" y="1304"/>
                  </a:lnTo>
                  <a:lnTo>
                    <a:pt x="507" y="1335"/>
                  </a:lnTo>
                  <a:lnTo>
                    <a:pt x="569" y="1355"/>
                  </a:lnTo>
                  <a:lnTo>
                    <a:pt x="631" y="1366"/>
                  </a:lnTo>
                  <a:lnTo>
                    <a:pt x="672" y="1407"/>
                  </a:lnTo>
                  <a:lnTo>
                    <a:pt x="755" y="1449"/>
                  </a:lnTo>
                  <a:lnTo>
                    <a:pt x="817" y="1469"/>
                  </a:lnTo>
                  <a:lnTo>
                    <a:pt x="858" y="1500"/>
                  </a:lnTo>
                  <a:lnTo>
                    <a:pt x="879" y="1542"/>
                  </a:lnTo>
                  <a:lnTo>
                    <a:pt x="889" y="1583"/>
                  </a:lnTo>
                  <a:lnTo>
                    <a:pt x="900" y="1666"/>
                  </a:lnTo>
                  <a:lnTo>
                    <a:pt x="920" y="1697"/>
                  </a:lnTo>
                  <a:lnTo>
                    <a:pt x="1034" y="1738"/>
                  </a:lnTo>
                  <a:lnTo>
                    <a:pt x="1138" y="1800"/>
                  </a:lnTo>
                  <a:lnTo>
                    <a:pt x="1241" y="1811"/>
                  </a:lnTo>
                  <a:lnTo>
                    <a:pt x="1283" y="1831"/>
                  </a:lnTo>
                  <a:lnTo>
                    <a:pt x="1324" y="1852"/>
                  </a:lnTo>
                  <a:lnTo>
                    <a:pt x="1355" y="1883"/>
                  </a:lnTo>
                  <a:lnTo>
                    <a:pt x="1386" y="1904"/>
                  </a:lnTo>
                  <a:lnTo>
                    <a:pt x="1417" y="1924"/>
                  </a:lnTo>
                  <a:lnTo>
                    <a:pt x="1438" y="1955"/>
                  </a:lnTo>
                  <a:lnTo>
                    <a:pt x="1479" y="1966"/>
                  </a:lnTo>
                  <a:lnTo>
                    <a:pt x="1541" y="1976"/>
                  </a:lnTo>
                  <a:lnTo>
                    <a:pt x="1603" y="1986"/>
                  </a:lnTo>
                  <a:lnTo>
                    <a:pt x="1686" y="1986"/>
                  </a:lnTo>
                  <a:lnTo>
                    <a:pt x="1769" y="1997"/>
                  </a:lnTo>
                  <a:lnTo>
                    <a:pt x="1831" y="1997"/>
                  </a:lnTo>
                  <a:lnTo>
                    <a:pt x="1893" y="1997"/>
                  </a:lnTo>
                  <a:lnTo>
                    <a:pt x="1955" y="1997"/>
                  </a:lnTo>
                  <a:lnTo>
                    <a:pt x="2038" y="1986"/>
                  </a:lnTo>
                  <a:lnTo>
                    <a:pt x="2079" y="1966"/>
                  </a:lnTo>
                  <a:lnTo>
                    <a:pt x="2089" y="1924"/>
                  </a:lnTo>
                  <a:lnTo>
                    <a:pt x="2110" y="1852"/>
                  </a:lnTo>
                  <a:lnTo>
                    <a:pt x="2120" y="1811"/>
                  </a:lnTo>
                  <a:lnTo>
                    <a:pt x="2131" y="1738"/>
                  </a:lnTo>
                  <a:lnTo>
                    <a:pt x="2141" y="1697"/>
                  </a:lnTo>
                  <a:lnTo>
                    <a:pt x="2162" y="1635"/>
                  </a:lnTo>
                  <a:lnTo>
                    <a:pt x="2172" y="1593"/>
                  </a:lnTo>
                  <a:lnTo>
                    <a:pt x="2203" y="1562"/>
                  </a:lnTo>
                  <a:lnTo>
                    <a:pt x="2234" y="1542"/>
                  </a:lnTo>
                  <a:lnTo>
                    <a:pt x="2276" y="1500"/>
                  </a:lnTo>
                  <a:lnTo>
                    <a:pt x="2358" y="1469"/>
                  </a:lnTo>
                  <a:lnTo>
                    <a:pt x="2389" y="1428"/>
                  </a:lnTo>
                  <a:lnTo>
                    <a:pt x="2420" y="1397"/>
                  </a:lnTo>
                  <a:lnTo>
                    <a:pt x="2451" y="1314"/>
                  </a:lnTo>
                  <a:lnTo>
                    <a:pt x="2483" y="1231"/>
                  </a:lnTo>
                  <a:lnTo>
                    <a:pt x="2493" y="1169"/>
                  </a:lnTo>
                  <a:lnTo>
                    <a:pt x="2514" y="1128"/>
                  </a:lnTo>
                  <a:lnTo>
                    <a:pt x="2514" y="1066"/>
                  </a:lnTo>
                  <a:lnTo>
                    <a:pt x="2514" y="983"/>
                  </a:lnTo>
                  <a:lnTo>
                    <a:pt x="2503" y="921"/>
                  </a:lnTo>
                  <a:lnTo>
                    <a:pt x="2503" y="859"/>
                  </a:lnTo>
                  <a:lnTo>
                    <a:pt x="2493" y="797"/>
                  </a:lnTo>
                  <a:lnTo>
                    <a:pt x="2472" y="755"/>
                  </a:lnTo>
                  <a:lnTo>
                    <a:pt x="2451" y="724"/>
                  </a:lnTo>
                  <a:lnTo>
                    <a:pt x="2420" y="693"/>
                  </a:lnTo>
                  <a:lnTo>
                    <a:pt x="2389" y="673"/>
                  </a:lnTo>
                  <a:lnTo>
                    <a:pt x="2348" y="652"/>
                  </a:lnTo>
                  <a:lnTo>
                    <a:pt x="2307" y="631"/>
                  </a:lnTo>
                  <a:lnTo>
                    <a:pt x="2265" y="611"/>
                  </a:lnTo>
                  <a:lnTo>
                    <a:pt x="2203" y="600"/>
                  </a:lnTo>
                  <a:lnTo>
                    <a:pt x="2162" y="569"/>
                  </a:lnTo>
                  <a:lnTo>
                    <a:pt x="2069" y="497"/>
                  </a:lnTo>
                  <a:lnTo>
                    <a:pt x="1986" y="476"/>
                  </a:lnTo>
                  <a:lnTo>
                    <a:pt x="1924" y="466"/>
                  </a:lnTo>
                  <a:lnTo>
                    <a:pt x="1862" y="445"/>
                  </a:lnTo>
                  <a:lnTo>
                    <a:pt x="1820" y="414"/>
                  </a:lnTo>
                  <a:lnTo>
                    <a:pt x="1789" y="383"/>
                  </a:lnTo>
                  <a:lnTo>
                    <a:pt x="1779" y="352"/>
                  </a:lnTo>
                  <a:lnTo>
                    <a:pt x="1748" y="321"/>
                  </a:lnTo>
                  <a:lnTo>
                    <a:pt x="1727" y="290"/>
                  </a:lnTo>
                  <a:lnTo>
                    <a:pt x="1696" y="249"/>
                  </a:lnTo>
                  <a:lnTo>
                    <a:pt x="1665" y="207"/>
                  </a:lnTo>
                  <a:lnTo>
                    <a:pt x="1624" y="186"/>
                  </a:lnTo>
                  <a:lnTo>
                    <a:pt x="1593" y="166"/>
                  </a:lnTo>
                  <a:lnTo>
                    <a:pt x="1551" y="145"/>
                  </a:lnTo>
                  <a:lnTo>
                    <a:pt x="1520" y="124"/>
                  </a:lnTo>
                  <a:lnTo>
                    <a:pt x="1489" y="114"/>
                  </a:lnTo>
                  <a:lnTo>
                    <a:pt x="1458" y="104"/>
                  </a:lnTo>
                  <a:lnTo>
                    <a:pt x="1417" y="83"/>
                  </a:lnTo>
                  <a:lnTo>
                    <a:pt x="1314" y="73"/>
                  </a:lnTo>
                  <a:lnTo>
                    <a:pt x="1272" y="62"/>
                  </a:lnTo>
                  <a:lnTo>
                    <a:pt x="1231" y="52"/>
                  </a:lnTo>
                  <a:lnTo>
                    <a:pt x="1189" y="42"/>
                  </a:lnTo>
                  <a:lnTo>
                    <a:pt x="1148" y="31"/>
                  </a:lnTo>
                  <a:lnTo>
                    <a:pt x="1117" y="21"/>
                  </a:lnTo>
                  <a:lnTo>
                    <a:pt x="1076" y="21"/>
                  </a:lnTo>
                  <a:lnTo>
                    <a:pt x="1045" y="21"/>
                  </a:lnTo>
                  <a:lnTo>
                    <a:pt x="1014" y="21"/>
                  </a:lnTo>
                  <a:lnTo>
                    <a:pt x="983" y="21"/>
                  </a:lnTo>
                  <a:lnTo>
                    <a:pt x="951" y="21"/>
                  </a:lnTo>
                  <a:lnTo>
                    <a:pt x="920" y="21"/>
                  </a:lnTo>
                  <a:lnTo>
                    <a:pt x="889" y="11"/>
                  </a:lnTo>
                  <a:lnTo>
                    <a:pt x="858" y="11"/>
                  </a:lnTo>
                  <a:lnTo>
                    <a:pt x="827" y="11"/>
                  </a:lnTo>
                  <a:lnTo>
                    <a:pt x="796" y="0"/>
                  </a:lnTo>
                  <a:lnTo>
                    <a:pt x="853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13000" y="1994040"/>
              <a:ext cx="1650960" cy="1269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06760" y="1601640"/>
              <a:ext cx="1063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11880" y="1525680"/>
              <a:ext cx="1977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par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032000" y="1758960"/>
              <a:ext cx="1384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3560" y="1754280"/>
              <a:ext cx="197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58960" y="2063880"/>
              <a:ext cx="10540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6440" y="2516040"/>
              <a:ext cx="304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nsumidores =&gt; Deman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4960" y="4192560"/>
              <a:ext cx="235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ductores =&gt; Ofer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3962520" y="4413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6351480" y="4254480"/>
              <a:ext cx="2181240" cy="1381320"/>
              <a:chOff x="6351480" y="4254480"/>
              <a:chExt cx="2181240" cy="1381320"/>
            </a:xfrm>
          </p:grpSpPr>
          <p:sp>
            <p:nvSpPr>
              <p:cNvPr id="520" name=""/>
              <p:cNvSpPr/>
              <p:nvPr/>
            </p:nvSpPr>
            <p:spPr>
              <a:xfrm>
                <a:off x="6351480" y="4254480"/>
                <a:ext cx="2087640" cy="1381320"/>
              </a:xfrm>
              <a:custGeom>
                <a:avLst/>
                <a:gdLst/>
                <a:ahLst/>
                <a:rect l="l" t="t" r="r" b="b"/>
                <a:pathLst>
                  <a:path w="1315" h="870">
                    <a:moveTo>
                      <a:pt x="319" y="8"/>
                    </a:moveTo>
                    <a:lnTo>
                      <a:pt x="279" y="31"/>
                    </a:lnTo>
                    <a:lnTo>
                      <a:pt x="248" y="72"/>
                    </a:lnTo>
                    <a:lnTo>
                      <a:pt x="217" y="93"/>
                    </a:lnTo>
                    <a:lnTo>
                      <a:pt x="186" y="93"/>
                    </a:lnTo>
                    <a:lnTo>
                      <a:pt x="155" y="82"/>
                    </a:lnTo>
                    <a:lnTo>
                      <a:pt x="124" y="103"/>
                    </a:lnTo>
                    <a:lnTo>
                      <a:pt x="103" y="134"/>
                    </a:lnTo>
                    <a:lnTo>
                      <a:pt x="93" y="196"/>
                    </a:lnTo>
                    <a:lnTo>
                      <a:pt x="83" y="258"/>
                    </a:lnTo>
                    <a:lnTo>
                      <a:pt x="72" y="320"/>
                    </a:lnTo>
                    <a:lnTo>
                      <a:pt x="41" y="341"/>
                    </a:lnTo>
                    <a:lnTo>
                      <a:pt x="10" y="372"/>
                    </a:lnTo>
                    <a:lnTo>
                      <a:pt x="0" y="403"/>
                    </a:lnTo>
                    <a:lnTo>
                      <a:pt x="31" y="445"/>
                    </a:lnTo>
                    <a:lnTo>
                      <a:pt x="62" y="486"/>
                    </a:lnTo>
                    <a:lnTo>
                      <a:pt x="103" y="507"/>
                    </a:lnTo>
                    <a:lnTo>
                      <a:pt x="145" y="538"/>
                    </a:lnTo>
                    <a:lnTo>
                      <a:pt x="228" y="548"/>
                    </a:lnTo>
                    <a:lnTo>
                      <a:pt x="331" y="579"/>
                    </a:lnTo>
                    <a:lnTo>
                      <a:pt x="393" y="589"/>
                    </a:lnTo>
                    <a:lnTo>
                      <a:pt x="414" y="620"/>
                    </a:lnTo>
                    <a:lnTo>
                      <a:pt x="424" y="682"/>
                    </a:lnTo>
                    <a:lnTo>
                      <a:pt x="424" y="745"/>
                    </a:lnTo>
                    <a:lnTo>
                      <a:pt x="434" y="786"/>
                    </a:lnTo>
                    <a:lnTo>
                      <a:pt x="507" y="817"/>
                    </a:lnTo>
                    <a:lnTo>
                      <a:pt x="610" y="838"/>
                    </a:lnTo>
                    <a:lnTo>
                      <a:pt x="734" y="838"/>
                    </a:lnTo>
                    <a:lnTo>
                      <a:pt x="776" y="858"/>
                    </a:lnTo>
                    <a:lnTo>
                      <a:pt x="838" y="869"/>
                    </a:lnTo>
                    <a:lnTo>
                      <a:pt x="900" y="869"/>
                    </a:lnTo>
                    <a:lnTo>
                      <a:pt x="941" y="858"/>
                    </a:lnTo>
                    <a:lnTo>
                      <a:pt x="983" y="858"/>
                    </a:lnTo>
                    <a:lnTo>
                      <a:pt x="1045" y="858"/>
                    </a:lnTo>
                    <a:lnTo>
                      <a:pt x="1076" y="827"/>
                    </a:lnTo>
                    <a:lnTo>
                      <a:pt x="1107" y="807"/>
                    </a:lnTo>
                    <a:lnTo>
                      <a:pt x="1169" y="796"/>
                    </a:lnTo>
                    <a:lnTo>
                      <a:pt x="1231" y="776"/>
                    </a:lnTo>
                    <a:lnTo>
                      <a:pt x="1252" y="745"/>
                    </a:lnTo>
                    <a:lnTo>
                      <a:pt x="1283" y="714"/>
                    </a:lnTo>
                    <a:lnTo>
                      <a:pt x="1314" y="672"/>
                    </a:lnTo>
                    <a:lnTo>
                      <a:pt x="1314" y="641"/>
                    </a:lnTo>
                    <a:lnTo>
                      <a:pt x="1303" y="569"/>
                    </a:lnTo>
                    <a:lnTo>
                      <a:pt x="1283" y="538"/>
                    </a:lnTo>
                    <a:lnTo>
                      <a:pt x="1272" y="507"/>
                    </a:lnTo>
                    <a:lnTo>
                      <a:pt x="1262" y="476"/>
                    </a:lnTo>
                    <a:lnTo>
                      <a:pt x="1262" y="445"/>
                    </a:lnTo>
                    <a:lnTo>
                      <a:pt x="1241" y="414"/>
                    </a:lnTo>
                    <a:lnTo>
                      <a:pt x="1221" y="382"/>
                    </a:lnTo>
                    <a:lnTo>
                      <a:pt x="1190" y="351"/>
                    </a:lnTo>
                    <a:lnTo>
                      <a:pt x="1159" y="320"/>
                    </a:lnTo>
                    <a:lnTo>
                      <a:pt x="1128" y="300"/>
                    </a:lnTo>
                    <a:lnTo>
                      <a:pt x="1055" y="289"/>
                    </a:lnTo>
                    <a:lnTo>
                      <a:pt x="1024" y="269"/>
                    </a:lnTo>
                    <a:lnTo>
                      <a:pt x="941" y="248"/>
                    </a:lnTo>
                    <a:lnTo>
                      <a:pt x="859" y="238"/>
                    </a:lnTo>
                    <a:lnTo>
                      <a:pt x="828" y="207"/>
                    </a:lnTo>
                    <a:lnTo>
                      <a:pt x="797" y="165"/>
                    </a:lnTo>
                    <a:lnTo>
                      <a:pt x="765" y="124"/>
                    </a:lnTo>
                    <a:lnTo>
                      <a:pt x="734" y="103"/>
                    </a:lnTo>
                    <a:lnTo>
                      <a:pt x="693" y="82"/>
                    </a:lnTo>
                    <a:lnTo>
                      <a:pt x="610" y="51"/>
                    </a:lnTo>
                    <a:lnTo>
                      <a:pt x="579" y="41"/>
                    </a:lnTo>
                    <a:lnTo>
                      <a:pt x="548" y="41"/>
                    </a:lnTo>
                    <a:lnTo>
                      <a:pt x="507" y="41"/>
                    </a:lnTo>
                    <a:lnTo>
                      <a:pt x="465" y="31"/>
                    </a:lnTo>
                    <a:lnTo>
                      <a:pt x="434" y="10"/>
                    </a:lnTo>
                    <a:lnTo>
                      <a:pt x="403" y="0"/>
                    </a:lnTo>
                    <a:lnTo>
                      <a:pt x="372" y="0"/>
                    </a:lnTo>
                    <a:lnTo>
                      <a:pt x="341" y="0"/>
                    </a:lnTo>
                    <a:lnTo>
                      <a:pt x="319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custDash>
                  <a:ds d="8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935760" y="4726080"/>
                <a:ext cx="159696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ercado internac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5950080" y="43434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21480" y="4495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280" y="4573440"/>
              <a:ext cx="235908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ptimiza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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 -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Precio fa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Tecnolog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249960" y="2820960"/>
            <a:ext cx="23590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ptimizan 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* Precio bienes y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* In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Precio de equilibr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3040" y="1449360"/>
            <a:ext cx="715968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firmas no se arrepienten de la decisión de producir 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tomando el precio de venta como d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A un precio mayor se produce un exceso de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disminuir el preci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A un precio menor se produce un exceso de dema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aumentar el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Mercado - Competencia - Optim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230040" y="2516040"/>
            <a:ext cx="2587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* Eficiencia consumo, producción y combi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11280" y="1525680"/>
            <a:ext cx="8150040" cy="3989880"/>
            <a:chOff x="611280" y="1525680"/>
            <a:chExt cx="8150040" cy="3989880"/>
          </a:xfrm>
        </p:grpSpPr>
        <p:grpSp>
          <p:nvGrpSpPr>
            <p:cNvPr id="529" name=""/>
            <p:cNvGrpSpPr/>
            <p:nvPr/>
          </p:nvGrpSpPr>
          <p:grpSpPr>
            <a:xfrm>
              <a:off x="3125880" y="2216160"/>
              <a:ext cx="1515960" cy="1012320"/>
              <a:chOff x="3125880" y="2216160"/>
              <a:chExt cx="1515960" cy="1012320"/>
            </a:xfrm>
          </p:grpSpPr>
          <p:sp>
            <p:nvSpPr>
              <p:cNvPr id="530" name=""/>
              <p:cNvSpPr/>
              <p:nvPr/>
            </p:nvSpPr>
            <p:spPr>
              <a:xfrm>
                <a:off x="3581280" y="2216160"/>
                <a:ext cx="0" cy="67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3574800" y="28954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40040" y="2368440"/>
                <a:ext cx="901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956040" y="2216160"/>
                <a:ext cx="24120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87760" y="2438280"/>
                <a:ext cx="52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114800" y="243180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25880" y="2287440"/>
                <a:ext cx="37764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963960" y="2897280"/>
                <a:ext cx="3780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4800600" y="3054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793760" y="37339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9360" y="3130560"/>
              <a:ext cx="52056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946400" y="3054240"/>
              <a:ext cx="46980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07080" y="3276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5105520" y="326988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4840" y="312588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54680" y="37353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95480" y="29782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89000" y="36576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06880" y="2978280"/>
              <a:ext cx="1396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041280" y="3130560"/>
              <a:ext cx="546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01960" y="3200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276720" y="31939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40080" y="30495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9560" y="365904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14800" y="38926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73560" y="3968640"/>
              <a:ext cx="3682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336560" y="3892680"/>
              <a:ext cx="24156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21280" y="41148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495680" y="41083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59040" y="396396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98720" y="1917720"/>
              <a:ext cx="3992400" cy="3171960"/>
            </a:xfrm>
            <a:custGeom>
              <a:avLst/>
              <a:gdLst/>
              <a:ahLst/>
              <a:rect l="l" t="t" r="r" b="b"/>
              <a:pathLst>
                <a:path w="2515" h="1998">
                  <a:moveTo>
                    <a:pt x="853" y="40"/>
                  </a:moveTo>
                  <a:lnTo>
                    <a:pt x="817" y="21"/>
                  </a:lnTo>
                  <a:lnTo>
                    <a:pt x="755" y="11"/>
                  </a:lnTo>
                  <a:lnTo>
                    <a:pt x="672" y="11"/>
                  </a:lnTo>
                  <a:lnTo>
                    <a:pt x="589" y="11"/>
                  </a:lnTo>
                  <a:lnTo>
                    <a:pt x="527" y="11"/>
                  </a:lnTo>
                  <a:lnTo>
                    <a:pt x="465" y="11"/>
                  </a:lnTo>
                  <a:lnTo>
                    <a:pt x="383" y="21"/>
                  </a:lnTo>
                  <a:lnTo>
                    <a:pt x="351" y="52"/>
                  </a:lnTo>
                  <a:lnTo>
                    <a:pt x="341" y="114"/>
                  </a:lnTo>
                  <a:lnTo>
                    <a:pt x="331" y="145"/>
                  </a:lnTo>
                  <a:lnTo>
                    <a:pt x="300" y="176"/>
                  </a:lnTo>
                  <a:lnTo>
                    <a:pt x="269" y="207"/>
                  </a:lnTo>
                  <a:lnTo>
                    <a:pt x="258" y="249"/>
                  </a:lnTo>
                  <a:lnTo>
                    <a:pt x="227" y="290"/>
                  </a:lnTo>
                  <a:lnTo>
                    <a:pt x="227" y="321"/>
                  </a:lnTo>
                  <a:lnTo>
                    <a:pt x="217" y="404"/>
                  </a:lnTo>
                  <a:lnTo>
                    <a:pt x="196" y="466"/>
                  </a:lnTo>
                  <a:lnTo>
                    <a:pt x="176" y="528"/>
                  </a:lnTo>
                  <a:lnTo>
                    <a:pt x="134" y="559"/>
                  </a:lnTo>
                  <a:lnTo>
                    <a:pt x="176" y="590"/>
                  </a:lnTo>
                  <a:lnTo>
                    <a:pt x="114" y="662"/>
                  </a:lnTo>
                  <a:lnTo>
                    <a:pt x="51" y="745"/>
                  </a:lnTo>
                  <a:lnTo>
                    <a:pt x="31" y="828"/>
                  </a:lnTo>
                  <a:lnTo>
                    <a:pt x="10" y="911"/>
                  </a:lnTo>
                  <a:lnTo>
                    <a:pt x="0" y="993"/>
                  </a:lnTo>
                  <a:lnTo>
                    <a:pt x="20" y="1055"/>
                  </a:lnTo>
                  <a:lnTo>
                    <a:pt x="51" y="1076"/>
                  </a:lnTo>
                  <a:lnTo>
                    <a:pt x="83" y="1097"/>
                  </a:lnTo>
                  <a:lnTo>
                    <a:pt x="145" y="1118"/>
                  </a:lnTo>
                  <a:lnTo>
                    <a:pt x="165" y="1149"/>
                  </a:lnTo>
                  <a:lnTo>
                    <a:pt x="186" y="1180"/>
                  </a:lnTo>
                  <a:lnTo>
                    <a:pt x="217" y="1221"/>
                  </a:lnTo>
                  <a:lnTo>
                    <a:pt x="279" y="1242"/>
                  </a:lnTo>
                  <a:lnTo>
                    <a:pt x="310" y="1252"/>
                  </a:lnTo>
                  <a:lnTo>
                    <a:pt x="372" y="1262"/>
                  </a:lnTo>
                  <a:lnTo>
                    <a:pt x="434" y="1283"/>
                  </a:lnTo>
                  <a:lnTo>
                    <a:pt x="465" y="1304"/>
                  </a:lnTo>
                  <a:lnTo>
                    <a:pt x="507" y="1335"/>
                  </a:lnTo>
                  <a:lnTo>
                    <a:pt x="569" y="1355"/>
                  </a:lnTo>
                  <a:lnTo>
                    <a:pt x="631" y="1366"/>
                  </a:lnTo>
                  <a:lnTo>
                    <a:pt x="672" y="1407"/>
                  </a:lnTo>
                  <a:lnTo>
                    <a:pt x="755" y="1449"/>
                  </a:lnTo>
                  <a:lnTo>
                    <a:pt x="817" y="1469"/>
                  </a:lnTo>
                  <a:lnTo>
                    <a:pt x="858" y="1500"/>
                  </a:lnTo>
                  <a:lnTo>
                    <a:pt x="879" y="1542"/>
                  </a:lnTo>
                  <a:lnTo>
                    <a:pt x="889" y="1583"/>
                  </a:lnTo>
                  <a:lnTo>
                    <a:pt x="900" y="1666"/>
                  </a:lnTo>
                  <a:lnTo>
                    <a:pt x="920" y="1697"/>
                  </a:lnTo>
                  <a:lnTo>
                    <a:pt x="1034" y="1738"/>
                  </a:lnTo>
                  <a:lnTo>
                    <a:pt x="1138" y="1800"/>
                  </a:lnTo>
                  <a:lnTo>
                    <a:pt x="1241" y="1811"/>
                  </a:lnTo>
                  <a:lnTo>
                    <a:pt x="1283" y="1831"/>
                  </a:lnTo>
                  <a:lnTo>
                    <a:pt x="1324" y="1852"/>
                  </a:lnTo>
                  <a:lnTo>
                    <a:pt x="1355" y="1883"/>
                  </a:lnTo>
                  <a:lnTo>
                    <a:pt x="1386" y="1904"/>
                  </a:lnTo>
                  <a:lnTo>
                    <a:pt x="1417" y="1924"/>
                  </a:lnTo>
                  <a:lnTo>
                    <a:pt x="1438" y="1955"/>
                  </a:lnTo>
                  <a:lnTo>
                    <a:pt x="1479" y="1966"/>
                  </a:lnTo>
                  <a:lnTo>
                    <a:pt x="1541" y="1976"/>
                  </a:lnTo>
                  <a:lnTo>
                    <a:pt x="1603" y="1986"/>
                  </a:lnTo>
                  <a:lnTo>
                    <a:pt x="1686" y="1986"/>
                  </a:lnTo>
                  <a:lnTo>
                    <a:pt x="1769" y="1997"/>
                  </a:lnTo>
                  <a:lnTo>
                    <a:pt x="1831" y="1997"/>
                  </a:lnTo>
                  <a:lnTo>
                    <a:pt x="1893" y="1997"/>
                  </a:lnTo>
                  <a:lnTo>
                    <a:pt x="1955" y="1997"/>
                  </a:lnTo>
                  <a:lnTo>
                    <a:pt x="2038" y="1986"/>
                  </a:lnTo>
                  <a:lnTo>
                    <a:pt x="2079" y="1966"/>
                  </a:lnTo>
                  <a:lnTo>
                    <a:pt x="2089" y="1924"/>
                  </a:lnTo>
                  <a:lnTo>
                    <a:pt x="2110" y="1852"/>
                  </a:lnTo>
                  <a:lnTo>
                    <a:pt x="2120" y="1811"/>
                  </a:lnTo>
                  <a:lnTo>
                    <a:pt x="2131" y="1738"/>
                  </a:lnTo>
                  <a:lnTo>
                    <a:pt x="2141" y="1697"/>
                  </a:lnTo>
                  <a:lnTo>
                    <a:pt x="2162" y="1635"/>
                  </a:lnTo>
                  <a:lnTo>
                    <a:pt x="2172" y="1593"/>
                  </a:lnTo>
                  <a:lnTo>
                    <a:pt x="2203" y="1562"/>
                  </a:lnTo>
                  <a:lnTo>
                    <a:pt x="2234" y="1542"/>
                  </a:lnTo>
                  <a:lnTo>
                    <a:pt x="2276" y="1500"/>
                  </a:lnTo>
                  <a:lnTo>
                    <a:pt x="2358" y="1469"/>
                  </a:lnTo>
                  <a:lnTo>
                    <a:pt x="2389" y="1428"/>
                  </a:lnTo>
                  <a:lnTo>
                    <a:pt x="2420" y="1397"/>
                  </a:lnTo>
                  <a:lnTo>
                    <a:pt x="2451" y="1314"/>
                  </a:lnTo>
                  <a:lnTo>
                    <a:pt x="2483" y="1231"/>
                  </a:lnTo>
                  <a:lnTo>
                    <a:pt x="2493" y="1169"/>
                  </a:lnTo>
                  <a:lnTo>
                    <a:pt x="2514" y="1128"/>
                  </a:lnTo>
                  <a:lnTo>
                    <a:pt x="2514" y="1066"/>
                  </a:lnTo>
                  <a:lnTo>
                    <a:pt x="2514" y="983"/>
                  </a:lnTo>
                  <a:lnTo>
                    <a:pt x="2503" y="921"/>
                  </a:lnTo>
                  <a:lnTo>
                    <a:pt x="2503" y="859"/>
                  </a:lnTo>
                  <a:lnTo>
                    <a:pt x="2493" y="797"/>
                  </a:lnTo>
                  <a:lnTo>
                    <a:pt x="2472" y="755"/>
                  </a:lnTo>
                  <a:lnTo>
                    <a:pt x="2451" y="724"/>
                  </a:lnTo>
                  <a:lnTo>
                    <a:pt x="2420" y="693"/>
                  </a:lnTo>
                  <a:lnTo>
                    <a:pt x="2389" y="673"/>
                  </a:lnTo>
                  <a:lnTo>
                    <a:pt x="2348" y="652"/>
                  </a:lnTo>
                  <a:lnTo>
                    <a:pt x="2307" y="631"/>
                  </a:lnTo>
                  <a:lnTo>
                    <a:pt x="2265" y="611"/>
                  </a:lnTo>
                  <a:lnTo>
                    <a:pt x="2203" y="600"/>
                  </a:lnTo>
                  <a:lnTo>
                    <a:pt x="2162" y="569"/>
                  </a:lnTo>
                  <a:lnTo>
                    <a:pt x="2069" y="497"/>
                  </a:lnTo>
                  <a:lnTo>
                    <a:pt x="1986" y="476"/>
                  </a:lnTo>
                  <a:lnTo>
                    <a:pt x="1924" y="466"/>
                  </a:lnTo>
                  <a:lnTo>
                    <a:pt x="1862" y="445"/>
                  </a:lnTo>
                  <a:lnTo>
                    <a:pt x="1820" y="414"/>
                  </a:lnTo>
                  <a:lnTo>
                    <a:pt x="1789" y="383"/>
                  </a:lnTo>
                  <a:lnTo>
                    <a:pt x="1779" y="352"/>
                  </a:lnTo>
                  <a:lnTo>
                    <a:pt x="1748" y="321"/>
                  </a:lnTo>
                  <a:lnTo>
                    <a:pt x="1727" y="290"/>
                  </a:lnTo>
                  <a:lnTo>
                    <a:pt x="1696" y="249"/>
                  </a:lnTo>
                  <a:lnTo>
                    <a:pt x="1665" y="207"/>
                  </a:lnTo>
                  <a:lnTo>
                    <a:pt x="1624" y="186"/>
                  </a:lnTo>
                  <a:lnTo>
                    <a:pt x="1593" y="166"/>
                  </a:lnTo>
                  <a:lnTo>
                    <a:pt x="1551" y="145"/>
                  </a:lnTo>
                  <a:lnTo>
                    <a:pt x="1520" y="124"/>
                  </a:lnTo>
                  <a:lnTo>
                    <a:pt x="1489" y="114"/>
                  </a:lnTo>
                  <a:lnTo>
                    <a:pt x="1458" y="104"/>
                  </a:lnTo>
                  <a:lnTo>
                    <a:pt x="1417" y="83"/>
                  </a:lnTo>
                  <a:lnTo>
                    <a:pt x="1314" y="73"/>
                  </a:lnTo>
                  <a:lnTo>
                    <a:pt x="1272" y="62"/>
                  </a:lnTo>
                  <a:lnTo>
                    <a:pt x="1231" y="52"/>
                  </a:lnTo>
                  <a:lnTo>
                    <a:pt x="1189" y="42"/>
                  </a:lnTo>
                  <a:lnTo>
                    <a:pt x="1148" y="31"/>
                  </a:lnTo>
                  <a:lnTo>
                    <a:pt x="1117" y="21"/>
                  </a:lnTo>
                  <a:lnTo>
                    <a:pt x="1076" y="21"/>
                  </a:lnTo>
                  <a:lnTo>
                    <a:pt x="1045" y="21"/>
                  </a:lnTo>
                  <a:lnTo>
                    <a:pt x="1014" y="21"/>
                  </a:lnTo>
                  <a:lnTo>
                    <a:pt x="983" y="21"/>
                  </a:lnTo>
                  <a:lnTo>
                    <a:pt x="951" y="21"/>
                  </a:lnTo>
                  <a:lnTo>
                    <a:pt x="920" y="21"/>
                  </a:lnTo>
                  <a:lnTo>
                    <a:pt x="889" y="11"/>
                  </a:lnTo>
                  <a:lnTo>
                    <a:pt x="858" y="11"/>
                  </a:lnTo>
                  <a:lnTo>
                    <a:pt x="827" y="11"/>
                  </a:lnTo>
                  <a:lnTo>
                    <a:pt x="796" y="0"/>
                  </a:lnTo>
                  <a:lnTo>
                    <a:pt x="853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60720" y="1994040"/>
              <a:ext cx="1650960" cy="1269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4480" y="1601640"/>
              <a:ext cx="1063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59240" y="1525680"/>
              <a:ext cx="197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par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879720" y="1758960"/>
              <a:ext cx="138456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1280" y="1754280"/>
              <a:ext cx="1977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06680" y="2063880"/>
              <a:ext cx="10540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73640" y="2211480"/>
              <a:ext cx="2587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Productores y consumidores toman su mejor dec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No es posible obtener más beneficios de intercamb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5880" y="5183280"/>
              <a:ext cx="350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ra quién? , votos monet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Mercado - Competencia - Optim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98640" y="1754280"/>
            <a:ext cx="7219800" cy="4046760"/>
            <a:chOff x="998640" y="1754280"/>
            <a:chExt cx="7219800" cy="4046760"/>
          </a:xfrm>
        </p:grpSpPr>
        <p:sp>
          <p:nvSpPr>
            <p:cNvPr id="571" name=""/>
            <p:cNvSpPr/>
            <p:nvPr/>
          </p:nvSpPr>
          <p:spPr>
            <a:xfrm>
              <a:off x="3886200" y="23684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879360" y="3048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44960" y="2521080"/>
              <a:ext cx="90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260960" y="2368440"/>
              <a:ext cx="24120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92680" y="259092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419720" y="258408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30440" y="244008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68880" y="30495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65640" y="2146320"/>
              <a:ext cx="1650960" cy="1270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3240" y="1754280"/>
              <a:ext cx="2435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 Competi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25360" y="2954160"/>
              <a:ext cx="2016360" cy="106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ingún agente económico puede afectar por si solo los pre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758960" y="2521080"/>
              <a:ext cx="457200" cy="457200"/>
              <a:chOff x="1758960" y="2521080"/>
              <a:chExt cx="457200" cy="457200"/>
            </a:xfrm>
          </p:grpSpPr>
          <p:sp>
            <p:nvSpPr>
              <p:cNvPr id="583" name=""/>
              <p:cNvSpPr/>
              <p:nvPr/>
            </p:nvSpPr>
            <p:spPr>
              <a:xfrm flipV="1">
                <a:off x="1758960" y="2584440"/>
                <a:ext cx="13968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1974960" y="2584440"/>
                <a:ext cx="24120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11240" y="2521080"/>
                <a:ext cx="6372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573880" y="2573280"/>
              <a:ext cx="241596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fecta 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6483240" y="2139840"/>
              <a:ext cx="457200" cy="456840"/>
              <a:chOff x="6483240" y="2139840"/>
              <a:chExt cx="457200" cy="45684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6483240" y="2203200"/>
                <a:ext cx="13968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6699240" y="2203200"/>
                <a:ext cx="24120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635880" y="2139840"/>
                <a:ext cx="6336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4503600" y="3564000"/>
              <a:ext cx="234324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 homogéne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5388120" y="3130560"/>
              <a:ext cx="442800" cy="457200"/>
              <a:chOff x="5388120" y="3130560"/>
              <a:chExt cx="442800" cy="45720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5388120" y="3193920"/>
                <a:ext cx="1346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5597640" y="3193920"/>
                <a:ext cx="23328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35720" y="3130560"/>
                <a:ext cx="6192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3635280" y="4657680"/>
              <a:ext cx="1839960" cy="819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s decisiones individuales no afectan a o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282920" y="4200480"/>
              <a:ext cx="19224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4579920" y="4200480"/>
              <a:ext cx="31752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87760" y="4121280"/>
              <a:ext cx="92160" cy="171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32400" y="4478400"/>
              <a:ext cx="188604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988320" y="4108320"/>
              <a:ext cx="13464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197840" y="4108320"/>
              <a:ext cx="23328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35920" y="4044960"/>
              <a:ext cx="6192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98640" y="4859280"/>
              <a:ext cx="1962000" cy="57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cisiones ínter tempo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882800" y="4489200"/>
              <a:ext cx="11124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2057040" y="4489200"/>
              <a:ext cx="19836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06640" y="4425840"/>
              <a:ext cx="5076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32400" y="5468760"/>
              <a:ext cx="165744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certidumb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7064280" y="5099040"/>
              <a:ext cx="11124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7238880" y="5099040"/>
              <a:ext cx="19872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88120" y="5035680"/>
              <a:ext cx="5076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452520" y="-2014920"/>
            <a:ext cx="8884440" cy="8667000"/>
            <a:chOff x="452520" y="-2014920"/>
            <a:chExt cx="8884440" cy="8667000"/>
          </a:xfrm>
        </p:grpSpPr>
        <p:sp>
          <p:nvSpPr>
            <p:cNvPr id="613" name=""/>
            <p:cNvSpPr/>
            <p:nvPr/>
          </p:nvSpPr>
          <p:spPr>
            <a:xfrm>
              <a:off x="1903320" y="866880"/>
              <a:ext cx="0" cy="508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0800000">
              <a:off x="2719800" y="-825480"/>
              <a:ext cx="6400080" cy="48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788840" y="5867280"/>
              <a:ext cx="645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16280" y="1266840"/>
              <a:ext cx="3689280" cy="458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0800000">
              <a:off x="1920960" y="-2014920"/>
              <a:ext cx="7416000" cy="66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57680" y="44910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62600" y="388152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00400" y="290196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898280" y="2895480"/>
              <a:ext cx="3670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898280" y="3809880"/>
              <a:ext cx="5499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1898280" y="1219320"/>
              <a:ext cx="5499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57880" y="5938920"/>
              <a:ext cx="13050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Bien 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62000" y="376200"/>
              <a:ext cx="13050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Ingre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62600" y="2128680"/>
              <a:ext cx="237168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Disposición máxima a paga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81680" y="12254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781680" y="304164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95720" y="1824120"/>
              <a:ext cx="27525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Costo del consum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19720" y="130176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419720" y="23554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967120" y="5862600"/>
              <a:ext cx="13050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X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90600" y="909720"/>
              <a:ext cx="69552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2520" y="2585880"/>
              <a:ext cx="14572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30560" y="28256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30560" y="37400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95720" y="2509920"/>
              <a:ext cx="466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19400" y="3348000"/>
              <a:ext cx="466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8480" y="3500280"/>
              <a:ext cx="145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.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585880" y="147600"/>
            <a:ext cx="488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dente del consum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cort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449360" y="1220760"/>
            <a:ext cx="69310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Planificación siguiente perío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Limitación de factores fij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Decisiones operacion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secuenc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Costos fij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Costos totales may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de la industr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Número de firmas no camb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1601640"/>
            <a:ext cx="69310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precio del bien y la cantidad producida por la industria corresponden a un equilibrio de corto pl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existen incentivos para que varíe el número de firmas en la industria. Utilidades nulas.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a industria competitiva tenderá a un equilibrio de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601640"/>
            <a:ext cx="7464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diciones para utilidades nula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cceso a tecnologías =&gt; igual función de producció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de entrada y salida son nulo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pago que reciben los factores no depende de la actividad en que se emp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Retornos de esc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992160" y="1601640"/>
            <a:ext cx="792180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cientes   =&gt;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stos medios decrecient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Incentivos de expandirse para aumentar la utilidad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Una sola firma no tomará los precios como dado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stantes   =&gt; Costos medio constant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  P = CMe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ín.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? ,  n ? ,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Retornos de esc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601640"/>
            <a:ext cx="79218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crecientes   =&gt;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stos medios crecient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Incentivos de reducirse para aumentar la utilidad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Costos de entrad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8640" y="2592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1981440" y="-2563920"/>
            <a:ext cx="11251440" cy="805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4080" y="1703880"/>
            <a:ext cx="915120" cy="1040760"/>
            <a:chOff x="2134080" y="1703880"/>
            <a:chExt cx="915120" cy="1040760"/>
          </a:xfrm>
        </p:grpSpPr>
        <p:sp>
          <p:nvSpPr>
            <p:cNvPr id="103" name=""/>
            <p:cNvSpPr/>
            <p:nvPr/>
          </p:nvSpPr>
          <p:spPr>
            <a:xfrm rot="10800000">
              <a:off x="2134080" y="1703880"/>
              <a:ext cx="88776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2160360" y="1703880"/>
              <a:ext cx="88884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7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10800000">
            <a:off x="1475280" y="103680"/>
            <a:ext cx="134568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511280" y="6019920"/>
            <a:ext cx="703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8480" y="205884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6680" y="2286000"/>
            <a:ext cx="1130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29248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6680" y="2743200"/>
            <a:ext cx="1130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60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48680" y="3989880"/>
            <a:ext cx="1144080" cy="1040760"/>
            <a:chOff x="4648680" y="3989880"/>
            <a:chExt cx="1144080" cy="1040760"/>
          </a:xfrm>
        </p:grpSpPr>
        <p:sp>
          <p:nvSpPr>
            <p:cNvPr id="114" name=""/>
            <p:cNvSpPr/>
            <p:nvPr/>
          </p:nvSpPr>
          <p:spPr>
            <a:xfrm rot="10800000">
              <a:off x="4648680" y="3989880"/>
              <a:ext cx="111672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4675680" y="3989880"/>
              <a:ext cx="11170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23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rot="10800000">
            <a:off x="4142160" y="2389680"/>
            <a:ext cx="134532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6680" y="441972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8480" y="41925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4258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3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6680" y="495288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4726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3240" y="205884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4640" y="1220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2760" y="4344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7840" y="3506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1905120" y="-1648800"/>
            <a:ext cx="11403360" cy="744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53280" y="2119320"/>
            <a:ext cx="359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medios decre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787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stática comparativa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4344840" y="1906560"/>
            <a:ext cx="114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4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69840" y="11970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4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8160" y="205884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149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35680" y="39625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22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3480" y="60213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692400" y="260352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55080" y="236376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66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21:42:58Z</dcterms:created>
  <dc:creator>Marco Hauva</dc:creator>
  <dc:description/>
  <dc:language>en-US</dc:language>
  <cp:lastModifiedBy>Marco Hauva</cp:lastModifiedBy>
  <dcterms:modified xsi:type="dcterms:W3CDTF">2007-04-12T21:47:39Z</dcterms:modified>
  <cp:revision>1</cp:revision>
  <dc:subject/>
  <dc:title>Equilibrio</dc:title>
</cp:coreProperties>
</file>