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973-5E16-439C-9436-42AD0308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085-AF82-46C8-BBFC-21249A32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F8F-FF3E-43AC-BB70-A144F18C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D9C-6193-46E4-8C9C-1B7A6548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79F-F715-4A6E-B859-1758B827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4305-D8A1-4411-A6F8-143920E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8517-27CA-45D9-A42F-34109BE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CB8C-961F-4A89-B4DE-0E64E8C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9BEE-49C8-47E0-BF61-128E18D5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57B-9749-454A-A879-905F54A7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1BA-115F-47A7-B3D1-8A92039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39B-7C92-4F6C-A1C9-373162B4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2CD-1D7E-4A8B-8EE1-3B0C863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B925-0D6F-4487-842A-3E721DE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99DD-8559-4B57-AED0-E576EF47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1EB8-6727-42E8-B7CE-E2A0B4B7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27B0-7F22-4CA9-9B59-E0B24714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30C-0325-499F-9444-B0CAA55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13B-65A1-4B1D-B6DF-13E8D88E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4EB-3E40-4725-9553-BFBE686C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9CB-A111-4EB4-961C-1E6866EA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42E-8957-4CB7-9B13-5858F5A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FCE-7BCC-4AC8-AA99-39C602D1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11E-0634-4FC5-BC83-38323BE7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CD4-8887-4DF8-88C4-7A223FFF6D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F795-3EBF-4D65-A718-EFF12C60D0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93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219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46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6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28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290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14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17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330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50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353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3366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392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395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403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000000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423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432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3811680" y="541188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ienes y servicios, Fa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34960" y="1525680"/>
            <a:ext cx="8226360" cy="4120920"/>
            <a:chOff x="534960" y="1525680"/>
            <a:chExt cx="8226360" cy="4120920"/>
          </a:xfrm>
        </p:grpSpPr>
        <p:grpSp>
          <p:nvGrpSpPr>
            <p:cNvPr id="476" name=""/>
            <p:cNvGrpSpPr/>
            <p:nvPr/>
          </p:nvGrpSpPr>
          <p:grpSpPr>
            <a:xfrm>
              <a:off x="3278160" y="2216160"/>
              <a:ext cx="1515960" cy="1012320"/>
              <a:chOff x="3278160" y="2216160"/>
              <a:chExt cx="1515960" cy="1012320"/>
            </a:xfrm>
          </p:grpSpPr>
          <p:sp>
            <p:nvSpPr>
              <p:cNvPr id="477" name=""/>
              <p:cNvSpPr/>
              <p:nvPr/>
            </p:nvSpPr>
            <p:spPr>
              <a:xfrm>
                <a:off x="373392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72708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92680" y="2368440"/>
                <a:ext cx="901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107960" y="2216160"/>
                <a:ext cx="24156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40040" y="2438280"/>
                <a:ext cx="52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6708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78160" y="228744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11624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95288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94640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111640" y="3130560"/>
              <a:ext cx="52092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09868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936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25780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97480" y="312588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06960" y="37353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04128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916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19356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5424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42900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2360" y="30495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0184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6708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4260600" y="4572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2584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489560" y="3892680"/>
              <a:ext cx="24120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7356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64832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1680" y="39639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21160" y="45734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51000" y="1917720"/>
              <a:ext cx="399276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1300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6760" y="1601640"/>
              <a:ext cx="1063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11880" y="15256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032000" y="1758960"/>
              <a:ext cx="1384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560" y="17542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896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6440" y="2516040"/>
              <a:ext cx="3044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nsumidores =&gt; Deman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4960" y="4192560"/>
              <a:ext cx="235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ores =&gt; Of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962520" y="4413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6351480" y="4254480"/>
              <a:ext cx="2181240" cy="1381320"/>
              <a:chOff x="6351480" y="4254480"/>
              <a:chExt cx="2181240" cy="1381320"/>
            </a:xfrm>
          </p:grpSpPr>
          <p:sp>
            <p:nvSpPr>
              <p:cNvPr id="520" name=""/>
              <p:cNvSpPr/>
              <p:nvPr/>
            </p:nvSpPr>
            <p:spPr>
              <a:xfrm>
                <a:off x="6351480" y="4254480"/>
                <a:ext cx="2087640" cy="1381320"/>
              </a:xfrm>
              <a:custGeom>
                <a:avLst/>
                <a:gdLst/>
                <a:ahLst/>
                <a:rect l="l" t="t" r="r" b="b"/>
                <a:pathLst>
                  <a:path w="1315" h="870">
                    <a:moveTo>
                      <a:pt x="319" y="8"/>
                    </a:moveTo>
                    <a:lnTo>
                      <a:pt x="279" y="31"/>
                    </a:lnTo>
                    <a:lnTo>
                      <a:pt x="248" y="72"/>
                    </a:lnTo>
                    <a:lnTo>
                      <a:pt x="217" y="93"/>
                    </a:lnTo>
                    <a:lnTo>
                      <a:pt x="186" y="93"/>
                    </a:lnTo>
                    <a:lnTo>
                      <a:pt x="155" y="82"/>
                    </a:lnTo>
                    <a:lnTo>
                      <a:pt x="124" y="103"/>
                    </a:lnTo>
                    <a:lnTo>
                      <a:pt x="103" y="134"/>
                    </a:lnTo>
                    <a:lnTo>
                      <a:pt x="93" y="196"/>
                    </a:lnTo>
                    <a:lnTo>
                      <a:pt x="83" y="258"/>
                    </a:lnTo>
                    <a:lnTo>
                      <a:pt x="72" y="320"/>
                    </a:lnTo>
                    <a:lnTo>
                      <a:pt x="41" y="341"/>
                    </a:lnTo>
                    <a:lnTo>
                      <a:pt x="10" y="372"/>
                    </a:lnTo>
                    <a:lnTo>
                      <a:pt x="0" y="403"/>
                    </a:lnTo>
                    <a:lnTo>
                      <a:pt x="31" y="445"/>
                    </a:lnTo>
                    <a:lnTo>
                      <a:pt x="62" y="486"/>
                    </a:lnTo>
                    <a:lnTo>
                      <a:pt x="103" y="507"/>
                    </a:lnTo>
                    <a:lnTo>
                      <a:pt x="145" y="538"/>
                    </a:lnTo>
                    <a:lnTo>
                      <a:pt x="228" y="548"/>
                    </a:lnTo>
                    <a:lnTo>
                      <a:pt x="331" y="579"/>
                    </a:lnTo>
                    <a:lnTo>
                      <a:pt x="393" y="589"/>
                    </a:lnTo>
                    <a:lnTo>
                      <a:pt x="414" y="620"/>
                    </a:lnTo>
                    <a:lnTo>
                      <a:pt x="424" y="682"/>
                    </a:lnTo>
                    <a:lnTo>
                      <a:pt x="424" y="745"/>
                    </a:lnTo>
                    <a:lnTo>
                      <a:pt x="434" y="786"/>
                    </a:lnTo>
                    <a:lnTo>
                      <a:pt x="507" y="817"/>
                    </a:lnTo>
                    <a:lnTo>
                      <a:pt x="610" y="838"/>
                    </a:lnTo>
                    <a:lnTo>
                      <a:pt x="734" y="838"/>
                    </a:lnTo>
                    <a:lnTo>
                      <a:pt x="776" y="858"/>
                    </a:lnTo>
                    <a:lnTo>
                      <a:pt x="838" y="869"/>
                    </a:lnTo>
                    <a:lnTo>
                      <a:pt x="900" y="869"/>
                    </a:lnTo>
                    <a:lnTo>
                      <a:pt x="941" y="858"/>
                    </a:lnTo>
                    <a:lnTo>
                      <a:pt x="983" y="858"/>
                    </a:lnTo>
                    <a:lnTo>
                      <a:pt x="1045" y="858"/>
                    </a:lnTo>
                    <a:lnTo>
                      <a:pt x="1076" y="827"/>
                    </a:lnTo>
                    <a:lnTo>
                      <a:pt x="1107" y="807"/>
                    </a:lnTo>
                    <a:lnTo>
                      <a:pt x="1169" y="796"/>
                    </a:lnTo>
                    <a:lnTo>
                      <a:pt x="1231" y="776"/>
                    </a:lnTo>
                    <a:lnTo>
                      <a:pt x="1252" y="745"/>
                    </a:lnTo>
                    <a:lnTo>
                      <a:pt x="1283" y="714"/>
                    </a:lnTo>
                    <a:lnTo>
                      <a:pt x="1314" y="672"/>
                    </a:lnTo>
                    <a:lnTo>
                      <a:pt x="1314" y="641"/>
                    </a:lnTo>
                    <a:lnTo>
                      <a:pt x="1303" y="569"/>
                    </a:lnTo>
                    <a:lnTo>
                      <a:pt x="1283" y="538"/>
                    </a:lnTo>
                    <a:lnTo>
                      <a:pt x="1272" y="507"/>
                    </a:lnTo>
                    <a:lnTo>
                      <a:pt x="1262" y="476"/>
                    </a:lnTo>
                    <a:lnTo>
                      <a:pt x="1262" y="445"/>
                    </a:lnTo>
                    <a:lnTo>
                      <a:pt x="1241" y="414"/>
                    </a:lnTo>
                    <a:lnTo>
                      <a:pt x="1221" y="382"/>
                    </a:lnTo>
                    <a:lnTo>
                      <a:pt x="1190" y="351"/>
                    </a:lnTo>
                    <a:lnTo>
                      <a:pt x="1159" y="320"/>
                    </a:lnTo>
                    <a:lnTo>
                      <a:pt x="1128" y="300"/>
                    </a:lnTo>
                    <a:lnTo>
                      <a:pt x="1055" y="289"/>
                    </a:lnTo>
                    <a:lnTo>
                      <a:pt x="1024" y="269"/>
                    </a:lnTo>
                    <a:lnTo>
                      <a:pt x="941" y="248"/>
                    </a:lnTo>
                    <a:lnTo>
                      <a:pt x="859" y="238"/>
                    </a:lnTo>
                    <a:lnTo>
                      <a:pt x="828" y="207"/>
                    </a:lnTo>
                    <a:lnTo>
                      <a:pt x="797" y="165"/>
                    </a:lnTo>
                    <a:lnTo>
                      <a:pt x="765" y="124"/>
                    </a:lnTo>
                    <a:lnTo>
                      <a:pt x="734" y="103"/>
                    </a:lnTo>
                    <a:lnTo>
                      <a:pt x="693" y="82"/>
                    </a:lnTo>
                    <a:lnTo>
                      <a:pt x="610" y="51"/>
                    </a:lnTo>
                    <a:lnTo>
                      <a:pt x="579" y="41"/>
                    </a:lnTo>
                    <a:lnTo>
                      <a:pt x="548" y="41"/>
                    </a:lnTo>
                    <a:lnTo>
                      <a:pt x="507" y="41"/>
                    </a:lnTo>
                    <a:lnTo>
                      <a:pt x="465" y="31"/>
                    </a:lnTo>
                    <a:lnTo>
                      <a:pt x="434" y="10"/>
                    </a:lnTo>
                    <a:lnTo>
                      <a:pt x="403" y="0"/>
                    </a:lnTo>
                    <a:lnTo>
                      <a:pt x="372" y="0"/>
                    </a:lnTo>
                    <a:lnTo>
                      <a:pt x="341" y="0"/>
                    </a:lnTo>
                    <a:lnTo>
                      <a:pt x="319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custDash>
                  <a:ds d="8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935760" y="4726080"/>
                <a:ext cx="15969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ercado internacio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5950080" y="43434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21480" y="4495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280" y="4573440"/>
              <a:ext cx="2359080" cy="10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ptimiz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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 -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ecio fact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Tecnolo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249960" y="2820960"/>
            <a:ext cx="23590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timizan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Precio bienes y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Precio de equilib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230040" y="2516040"/>
            <a:ext cx="2587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* Eficiencia consumo, producción y combin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11280" y="1525680"/>
            <a:ext cx="8150040" cy="3989880"/>
            <a:chOff x="611280" y="1525680"/>
            <a:chExt cx="8150040" cy="3989880"/>
          </a:xfrm>
        </p:grpSpPr>
        <p:grpSp>
          <p:nvGrpSpPr>
            <p:cNvPr id="529" name=""/>
            <p:cNvGrpSpPr/>
            <p:nvPr/>
          </p:nvGrpSpPr>
          <p:grpSpPr>
            <a:xfrm>
              <a:off x="3125880" y="2216160"/>
              <a:ext cx="1515960" cy="1012320"/>
              <a:chOff x="3125880" y="2216160"/>
              <a:chExt cx="1515960" cy="1012320"/>
            </a:xfrm>
          </p:grpSpPr>
          <p:sp>
            <p:nvSpPr>
              <p:cNvPr id="530" name=""/>
              <p:cNvSpPr/>
              <p:nvPr/>
            </p:nvSpPr>
            <p:spPr>
              <a:xfrm>
                <a:off x="3581280" y="2216160"/>
                <a:ext cx="0" cy="67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574800" y="2895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40040" y="2368440"/>
                <a:ext cx="901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956040" y="2216160"/>
                <a:ext cx="24120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87760" y="2438280"/>
                <a:ext cx="52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4114800" y="24318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25880" y="2287440"/>
                <a:ext cx="37764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963960" y="2897280"/>
                <a:ext cx="378000" cy="3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800600" y="30542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793760" y="37339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9360" y="3130560"/>
              <a:ext cx="520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46400" y="3054240"/>
              <a:ext cx="4698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07080" y="3276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5105520" y="32698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44840" y="31258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54680" y="37353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95480" y="29782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2889000" y="3657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06880" y="2978280"/>
              <a:ext cx="1396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041280" y="3130560"/>
              <a:ext cx="5461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01960" y="3200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276720" y="31939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400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9560" y="365904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14800" y="38926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73560" y="3968640"/>
              <a:ext cx="3682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336560" y="3892680"/>
              <a:ext cx="24156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1280" y="41148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495680" y="41083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9040" y="396396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98720" y="1917720"/>
              <a:ext cx="3992400" cy="3171960"/>
            </a:xfrm>
            <a:custGeom>
              <a:avLst/>
              <a:gdLst/>
              <a:ahLst/>
              <a:rect l="l" t="t" r="r" b="b"/>
              <a:pathLst>
                <a:path w="2515" h="1998">
                  <a:moveTo>
                    <a:pt x="853" y="40"/>
                  </a:moveTo>
                  <a:lnTo>
                    <a:pt x="817" y="21"/>
                  </a:lnTo>
                  <a:lnTo>
                    <a:pt x="755" y="11"/>
                  </a:lnTo>
                  <a:lnTo>
                    <a:pt x="672" y="11"/>
                  </a:lnTo>
                  <a:lnTo>
                    <a:pt x="589" y="11"/>
                  </a:lnTo>
                  <a:lnTo>
                    <a:pt x="527" y="11"/>
                  </a:lnTo>
                  <a:lnTo>
                    <a:pt x="465" y="11"/>
                  </a:lnTo>
                  <a:lnTo>
                    <a:pt x="383" y="21"/>
                  </a:lnTo>
                  <a:lnTo>
                    <a:pt x="351" y="52"/>
                  </a:lnTo>
                  <a:lnTo>
                    <a:pt x="341" y="114"/>
                  </a:lnTo>
                  <a:lnTo>
                    <a:pt x="331" y="145"/>
                  </a:lnTo>
                  <a:lnTo>
                    <a:pt x="300" y="176"/>
                  </a:lnTo>
                  <a:lnTo>
                    <a:pt x="269" y="207"/>
                  </a:lnTo>
                  <a:lnTo>
                    <a:pt x="258" y="249"/>
                  </a:lnTo>
                  <a:lnTo>
                    <a:pt x="227" y="290"/>
                  </a:lnTo>
                  <a:lnTo>
                    <a:pt x="227" y="321"/>
                  </a:lnTo>
                  <a:lnTo>
                    <a:pt x="217" y="404"/>
                  </a:lnTo>
                  <a:lnTo>
                    <a:pt x="196" y="466"/>
                  </a:lnTo>
                  <a:lnTo>
                    <a:pt x="176" y="528"/>
                  </a:lnTo>
                  <a:lnTo>
                    <a:pt x="134" y="559"/>
                  </a:lnTo>
                  <a:lnTo>
                    <a:pt x="176" y="590"/>
                  </a:lnTo>
                  <a:lnTo>
                    <a:pt x="114" y="662"/>
                  </a:lnTo>
                  <a:lnTo>
                    <a:pt x="51" y="745"/>
                  </a:lnTo>
                  <a:lnTo>
                    <a:pt x="31" y="828"/>
                  </a:lnTo>
                  <a:lnTo>
                    <a:pt x="10" y="911"/>
                  </a:lnTo>
                  <a:lnTo>
                    <a:pt x="0" y="993"/>
                  </a:lnTo>
                  <a:lnTo>
                    <a:pt x="20" y="1055"/>
                  </a:lnTo>
                  <a:lnTo>
                    <a:pt x="51" y="1076"/>
                  </a:lnTo>
                  <a:lnTo>
                    <a:pt x="83" y="1097"/>
                  </a:lnTo>
                  <a:lnTo>
                    <a:pt x="145" y="1118"/>
                  </a:lnTo>
                  <a:lnTo>
                    <a:pt x="165" y="1149"/>
                  </a:lnTo>
                  <a:lnTo>
                    <a:pt x="186" y="1180"/>
                  </a:lnTo>
                  <a:lnTo>
                    <a:pt x="217" y="1221"/>
                  </a:lnTo>
                  <a:lnTo>
                    <a:pt x="279" y="1242"/>
                  </a:lnTo>
                  <a:lnTo>
                    <a:pt x="310" y="1252"/>
                  </a:lnTo>
                  <a:lnTo>
                    <a:pt x="372" y="1262"/>
                  </a:lnTo>
                  <a:lnTo>
                    <a:pt x="434" y="1283"/>
                  </a:lnTo>
                  <a:lnTo>
                    <a:pt x="465" y="1304"/>
                  </a:lnTo>
                  <a:lnTo>
                    <a:pt x="507" y="1335"/>
                  </a:lnTo>
                  <a:lnTo>
                    <a:pt x="569" y="1355"/>
                  </a:lnTo>
                  <a:lnTo>
                    <a:pt x="631" y="1366"/>
                  </a:lnTo>
                  <a:lnTo>
                    <a:pt x="672" y="1407"/>
                  </a:lnTo>
                  <a:lnTo>
                    <a:pt x="755" y="1449"/>
                  </a:lnTo>
                  <a:lnTo>
                    <a:pt x="817" y="1469"/>
                  </a:lnTo>
                  <a:lnTo>
                    <a:pt x="858" y="1500"/>
                  </a:lnTo>
                  <a:lnTo>
                    <a:pt x="879" y="1542"/>
                  </a:lnTo>
                  <a:lnTo>
                    <a:pt x="889" y="1583"/>
                  </a:lnTo>
                  <a:lnTo>
                    <a:pt x="900" y="1666"/>
                  </a:lnTo>
                  <a:lnTo>
                    <a:pt x="920" y="1697"/>
                  </a:lnTo>
                  <a:lnTo>
                    <a:pt x="1034" y="1738"/>
                  </a:lnTo>
                  <a:lnTo>
                    <a:pt x="1138" y="1800"/>
                  </a:lnTo>
                  <a:lnTo>
                    <a:pt x="1241" y="1811"/>
                  </a:lnTo>
                  <a:lnTo>
                    <a:pt x="1283" y="1831"/>
                  </a:lnTo>
                  <a:lnTo>
                    <a:pt x="1324" y="1852"/>
                  </a:lnTo>
                  <a:lnTo>
                    <a:pt x="1355" y="1883"/>
                  </a:lnTo>
                  <a:lnTo>
                    <a:pt x="1386" y="1904"/>
                  </a:lnTo>
                  <a:lnTo>
                    <a:pt x="1417" y="1924"/>
                  </a:lnTo>
                  <a:lnTo>
                    <a:pt x="1438" y="1955"/>
                  </a:lnTo>
                  <a:lnTo>
                    <a:pt x="1479" y="1966"/>
                  </a:lnTo>
                  <a:lnTo>
                    <a:pt x="1541" y="1976"/>
                  </a:lnTo>
                  <a:lnTo>
                    <a:pt x="1603" y="1986"/>
                  </a:lnTo>
                  <a:lnTo>
                    <a:pt x="1686" y="1986"/>
                  </a:lnTo>
                  <a:lnTo>
                    <a:pt x="1769" y="1997"/>
                  </a:lnTo>
                  <a:lnTo>
                    <a:pt x="1831" y="1997"/>
                  </a:lnTo>
                  <a:lnTo>
                    <a:pt x="1893" y="1997"/>
                  </a:lnTo>
                  <a:lnTo>
                    <a:pt x="1955" y="1997"/>
                  </a:lnTo>
                  <a:lnTo>
                    <a:pt x="2038" y="1986"/>
                  </a:lnTo>
                  <a:lnTo>
                    <a:pt x="2079" y="1966"/>
                  </a:lnTo>
                  <a:lnTo>
                    <a:pt x="2089" y="1924"/>
                  </a:lnTo>
                  <a:lnTo>
                    <a:pt x="2110" y="1852"/>
                  </a:lnTo>
                  <a:lnTo>
                    <a:pt x="2120" y="1811"/>
                  </a:lnTo>
                  <a:lnTo>
                    <a:pt x="2131" y="1738"/>
                  </a:lnTo>
                  <a:lnTo>
                    <a:pt x="2141" y="1697"/>
                  </a:lnTo>
                  <a:lnTo>
                    <a:pt x="2162" y="1635"/>
                  </a:lnTo>
                  <a:lnTo>
                    <a:pt x="2172" y="1593"/>
                  </a:lnTo>
                  <a:lnTo>
                    <a:pt x="2203" y="1562"/>
                  </a:lnTo>
                  <a:lnTo>
                    <a:pt x="2234" y="1542"/>
                  </a:lnTo>
                  <a:lnTo>
                    <a:pt x="2276" y="1500"/>
                  </a:lnTo>
                  <a:lnTo>
                    <a:pt x="2358" y="1469"/>
                  </a:lnTo>
                  <a:lnTo>
                    <a:pt x="2389" y="1428"/>
                  </a:lnTo>
                  <a:lnTo>
                    <a:pt x="2420" y="1397"/>
                  </a:lnTo>
                  <a:lnTo>
                    <a:pt x="2451" y="1314"/>
                  </a:lnTo>
                  <a:lnTo>
                    <a:pt x="2483" y="1231"/>
                  </a:lnTo>
                  <a:lnTo>
                    <a:pt x="2493" y="1169"/>
                  </a:lnTo>
                  <a:lnTo>
                    <a:pt x="2514" y="1128"/>
                  </a:lnTo>
                  <a:lnTo>
                    <a:pt x="2514" y="1066"/>
                  </a:lnTo>
                  <a:lnTo>
                    <a:pt x="2514" y="983"/>
                  </a:lnTo>
                  <a:lnTo>
                    <a:pt x="2503" y="921"/>
                  </a:lnTo>
                  <a:lnTo>
                    <a:pt x="2503" y="859"/>
                  </a:lnTo>
                  <a:lnTo>
                    <a:pt x="2493" y="797"/>
                  </a:lnTo>
                  <a:lnTo>
                    <a:pt x="2472" y="755"/>
                  </a:lnTo>
                  <a:lnTo>
                    <a:pt x="2451" y="724"/>
                  </a:lnTo>
                  <a:lnTo>
                    <a:pt x="2420" y="693"/>
                  </a:lnTo>
                  <a:lnTo>
                    <a:pt x="2389" y="673"/>
                  </a:lnTo>
                  <a:lnTo>
                    <a:pt x="2348" y="652"/>
                  </a:lnTo>
                  <a:lnTo>
                    <a:pt x="2307" y="631"/>
                  </a:lnTo>
                  <a:lnTo>
                    <a:pt x="2265" y="611"/>
                  </a:lnTo>
                  <a:lnTo>
                    <a:pt x="2203" y="600"/>
                  </a:lnTo>
                  <a:lnTo>
                    <a:pt x="2162" y="569"/>
                  </a:lnTo>
                  <a:lnTo>
                    <a:pt x="2069" y="497"/>
                  </a:lnTo>
                  <a:lnTo>
                    <a:pt x="1986" y="476"/>
                  </a:lnTo>
                  <a:lnTo>
                    <a:pt x="1924" y="466"/>
                  </a:lnTo>
                  <a:lnTo>
                    <a:pt x="1862" y="445"/>
                  </a:lnTo>
                  <a:lnTo>
                    <a:pt x="1820" y="414"/>
                  </a:lnTo>
                  <a:lnTo>
                    <a:pt x="1789" y="383"/>
                  </a:lnTo>
                  <a:lnTo>
                    <a:pt x="1779" y="352"/>
                  </a:lnTo>
                  <a:lnTo>
                    <a:pt x="1748" y="321"/>
                  </a:lnTo>
                  <a:lnTo>
                    <a:pt x="1727" y="290"/>
                  </a:lnTo>
                  <a:lnTo>
                    <a:pt x="1696" y="249"/>
                  </a:lnTo>
                  <a:lnTo>
                    <a:pt x="1665" y="207"/>
                  </a:lnTo>
                  <a:lnTo>
                    <a:pt x="1624" y="186"/>
                  </a:lnTo>
                  <a:lnTo>
                    <a:pt x="1593" y="166"/>
                  </a:lnTo>
                  <a:lnTo>
                    <a:pt x="1551" y="145"/>
                  </a:lnTo>
                  <a:lnTo>
                    <a:pt x="1520" y="124"/>
                  </a:lnTo>
                  <a:lnTo>
                    <a:pt x="1489" y="114"/>
                  </a:lnTo>
                  <a:lnTo>
                    <a:pt x="1458" y="104"/>
                  </a:lnTo>
                  <a:lnTo>
                    <a:pt x="1417" y="83"/>
                  </a:lnTo>
                  <a:lnTo>
                    <a:pt x="1314" y="73"/>
                  </a:lnTo>
                  <a:lnTo>
                    <a:pt x="1272" y="62"/>
                  </a:lnTo>
                  <a:lnTo>
                    <a:pt x="1231" y="52"/>
                  </a:lnTo>
                  <a:lnTo>
                    <a:pt x="1189" y="42"/>
                  </a:lnTo>
                  <a:lnTo>
                    <a:pt x="1148" y="31"/>
                  </a:lnTo>
                  <a:lnTo>
                    <a:pt x="1117" y="21"/>
                  </a:lnTo>
                  <a:lnTo>
                    <a:pt x="1076" y="21"/>
                  </a:lnTo>
                  <a:lnTo>
                    <a:pt x="1045" y="21"/>
                  </a:lnTo>
                  <a:lnTo>
                    <a:pt x="1014" y="21"/>
                  </a:lnTo>
                  <a:lnTo>
                    <a:pt x="983" y="21"/>
                  </a:lnTo>
                  <a:lnTo>
                    <a:pt x="951" y="21"/>
                  </a:lnTo>
                  <a:lnTo>
                    <a:pt x="920" y="21"/>
                  </a:lnTo>
                  <a:lnTo>
                    <a:pt x="889" y="11"/>
                  </a:lnTo>
                  <a:lnTo>
                    <a:pt x="858" y="11"/>
                  </a:lnTo>
                  <a:lnTo>
                    <a:pt x="827" y="11"/>
                  </a:lnTo>
                  <a:lnTo>
                    <a:pt x="796" y="0"/>
                  </a:lnTo>
                  <a:lnTo>
                    <a:pt x="853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60720" y="1994040"/>
              <a:ext cx="1650960" cy="126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4480" y="1601640"/>
              <a:ext cx="1063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9240" y="1525680"/>
              <a:ext cx="1978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par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879720" y="1758960"/>
              <a:ext cx="13845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1280" y="1754280"/>
              <a:ext cx="1977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quilibrio 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06680" y="2063880"/>
              <a:ext cx="105408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73640" y="2211480"/>
              <a:ext cx="2587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Productores y consumidores toman su mejor dec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* No es posible obtener más beneficios de inter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5880" y="5183280"/>
              <a:ext cx="3502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a quién? , votos mone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Mercado - Competencia - Optim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998640" y="1754280"/>
            <a:ext cx="7219800" cy="4046760"/>
            <a:chOff x="998640" y="1754280"/>
            <a:chExt cx="7219800" cy="4046760"/>
          </a:xfrm>
        </p:grpSpPr>
        <p:sp>
          <p:nvSpPr>
            <p:cNvPr id="571" name=""/>
            <p:cNvSpPr/>
            <p:nvPr/>
          </p:nvSpPr>
          <p:spPr>
            <a:xfrm>
              <a:off x="3886200" y="236844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879360" y="3048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44960" y="2521080"/>
              <a:ext cx="9018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260960" y="2368440"/>
              <a:ext cx="24120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92680" y="259092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419720" y="258408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430440" y="2440080"/>
              <a:ext cx="3780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68880" y="3049560"/>
              <a:ext cx="3776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65640" y="2146320"/>
              <a:ext cx="1650960" cy="1270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973240" y="1754280"/>
              <a:ext cx="2435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rcado Competi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5360" y="2954160"/>
              <a:ext cx="2016360" cy="106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ingún agente económico puede afectar por si solo los pre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758960" y="2521080"/>
              <a:ext cx="457200" cy="457200"/>
              <a:chOff x="1758960" y="2521080"/>
              <a:chExt cx="457200" cy="457200"/>
            </a:xfrm>
          </p:grpSpPr>
          <p:sp>
            <p:nvSpPr>
              <p:cNvPr id="583" name=""/>
              <p:cNvSpPr/>
              <p:nvPr/>
            </p:nvSpPr>
            <p:spPr>
              <a:xfrm flipV="1">
                <a:off x="1758960" y="2584440"/>
                <a:ext cx="1396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1974960" y="2584440"/>
                <a:ext cx="24120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11240" y="2521080"/>
                <a:ext cx="637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573880" y="2573280"/>
              <a:ext cx="241596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fecta 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6483240" y="2139840"/>
              <a:ext cx="457200" cy="456840"/>
              <a:chOff x="6483240" y="2139840"/>
              <a:chExt cx="457200" cy="456840"/>
            </a:xfrm>
          </p:grpSpPr>
          <p:sp>
            <p:nvSpPr>
              <p:cNvPr id="588" name=""/>
              <p:cNvSpPr/>
              <p:nvPr/>
            </p:nvSpPr>
            <p:spPr>
              <a:xfrm flipV="1">
                <a:off x="6483240" y="2203200"/>
                <a:ext cx="13968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699240" y="2203200"/>
                <a:ext cx="24120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635880" y="2139840"/>
                <a:ext cx="6336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4503600" y="3564000"/>
              <a:ext cx="23432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homogéne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5388120" y="3130560"/>
              <a:ext cx="442800" cy="457200"/>
              <a:chOff x="5388120" y="3130560"/>
              <a:chExt cx="442800" cy="45720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5388120" y="3193920"/>
                <a:ext cx="1346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5597640" y="3193920"/>
                <a:ext cx="23328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35720" y="3130560"/>
                <a:ext cx="6192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3635280" y="4657680"/>
              <a:ext cx="1839960" cy="819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s decisiones individuales no afectan a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282920" y="4200480"/>
              <a:ext cx="19224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4579920" y="4200480"/>
              <a:ext cx="317520" cy="4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87760" y="4121280"/>
              <a:ext cx="92160" cy="171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2400" y="4478400"/>
              <a:ext cx="18860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988320" y="4108320"/>
              <a:ext cx="1346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7197840" y="4108320"/>
              <a:ext cx="23328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35920" y="4044960"/>
              <a:ext cx="6192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98640" y="4859280"/>
              <a:ext cx="1962000" cy="57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cisiones ínter tempor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882800" y="4489200"/>
              <a:ext cx="11124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2057040" y="4489200"/>
              <a:ext cx="19836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06640" y="442584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32400" y="5468760"/>
              <a:ext cx="1657440" cy="33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certidumb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064280" y="5099040"/>
              <a:ext cx="11124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7238880" y="5099040"/>
              <a:ext cx="19872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88120" y="5035680"/>
              <a:ext cx="5076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452520" y="-2014920"/>
            <a:ext cx="8884440" cy="8667000"/>
            <a:chOff x="452520" y="-2014920"/>
            <a:chExt cx="8884440" cy="8667000"/>
          </a:xfrm>
        </p:grpSpPr>
        <p:sp>
          <p:nvSpPr>
            <p:cNvPr id="613" name=""/>
            <p:cNvSpPr/>
            <p:nvPr/>
          </p:nvSpPr>
          <p:spPr>
            <a:xfrm>
              <a:off x="1903320" y="866880"/>
              <a:ext cx="0" cy="508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0800000">
              <a:off x="2719800" y="-825480"/>
              <a:ext cx="6400080" cy="484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788840" y="586728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16280" y="1266840"/>
              <a:ext cx="3689280" cy="458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0800000">
              <a:off x="1920960" y="-2014920"/>
              <a:ext cx="7416000" cy="66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57680" y="449100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62600" y="3881520"/>
              <a:ext cx="619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0400" y="290196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898280" y="289548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898280" y="380988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898280" y="121932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57880" y="593892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Bien 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2000" y="3762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Ingres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62600" y="2128680"/>
              <a:ext cx="2371680" cy="13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Disposición máxima a paga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81680" y="12254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781680" y="304164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95720" y="1824120"/>
              <a:ext cx="27525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Costo del consum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130176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419720" y="23554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967120" y="5862600"/>
              <a:ext cx="130500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X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0600" y="909720"/>
              <a:ext cx="69552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2520" y="2585880"/>
              <a:ext cx="14572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30560" y="28256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30560" y="37400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95720" y="2509920"/>
              <a:ext cx="466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19400" y="3348000"/>
              <a:ext cx="466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8480" y="3500280"/>
              <a:ext cx="145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_tradnl" sz="2800" spc="-1" strike="noStrike" baseline="-25000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.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585880" y="147600"/>
            <a:ext cx="488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dente del consum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cort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Retornos de esca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quilibrio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103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114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Estática comparativa de largo plaz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149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1:42:58Z</dcterms:created>
  <dc:creator>Marco Hauva</dc:creator>
  <dc:description/>
  <dc:language>en-US</dc:language>
  <cp:lastModifiedBy>Marco Hauva</cp:lastModifiedBy>
  <dcterms:modified xsi:type="dcterms:W3CDTF">2007-04-12T21:47:39Z</dcterms:modified>
  <cp:revision>1</cp:revision>
  <dc:subject/>
  <dc:title>Equilibrio</dc:title>
</cp:coreProperties>
</file>