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88995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 flipH="1" flipV="1">
            <a:off x="2593800" y="1609200"/>
            <a:ext cx="30240" cy="364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flipV="1">
            <a:off x="2619360" y="5222880"/>
            <a:ext cx="4340160" cy="3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124360" y="1413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04000" y="5157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43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203280" y="5300640"/>
            <a:ext cx="502200" cy="473760"/>
            <a:chOff x="3203280" y="5300640"/>
            <a:chExt cx="502200" cy="473760"/>
          </a:xfrm>
        </p:grpSpPr>
        <p:sp>
          <p:nvSpPr>
            <p:cNvPr id="46" name=""/>
            <p:cNvSpPr/>
            <p:nvPr/>
          </p:nvSpPr>
          <p:spPr>
            <a:xfrm>
              <a:off x="3203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218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716360" y="3068640"/>
            <a:ext cx="5040" cy="2103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72600" y="4329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995280" y="5300640"/>
            <a:ext cx="505800" cy="473760"/>
            <a:chOff x="3995280" y="5300640"/>
            <a:chExt cx="505800" cy="473760"/>
          </a:xfrm>
        </p:grpSpPr>
        <p:sp>
          <p:nvSpPr>
            <p:cNvPr id="51" name=""/>
            <p:cNvSpPr/>
            <p:nvPr/>
          </p:nvSpPr>
          <p:spPr>
            <a:xfrm>
              <a:off x="3995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174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051280" y="2349360"/>
            <a:ext cx="505080" cy="473400"/>
            <a:chOff x="2051280" y="2349360"/>
            <a:chExt cx="505080" cy="473400"/>
          </a:xfrm>
        </p:grpSpPr>
        <p:sp>
          <p:nvSpPr>
            <p:cNvPr id="54" name=""/>
            <p:cNvSpPr/>
            <p:nvPr/>
          </p:nvSpPr>
          <p:spPr>
            <a:xfrm>
              <a:off x="2051280" y="23493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72680" y="24904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627280" y="256536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3068640"/>
            <a:ext cx="4680" cy="2182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3048120" y="52200"/>
            <a:ext cx="7263360" cy="43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573800">
            <a:off x="3920040" y="-527400"/>
            <a:ext cx="7264080" cy="43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69400" y="3213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44880" y="5373720"/>
            <a:ext cx="122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6560" y="119700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pansión de largo plaz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3141720"/>
            <a:ext cx="3529080" cy="0"/>
          </a:xfrm>
          <a:prstGeom prst="line">
            <a:avLst/>
          </a:prstGeom>
          <a:ln w="284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5560" y="2342160"/>
            <a:ext cx="1738080" cy="2576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348000" y="1773000"/>
            <a:ext cx="2016000" cy="136836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263700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96640" y="2271960"/>
            <a:ext cx="1767960" cy="25570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69800" y="2232000"/>
            <a:ext cx="1639440" cy="23320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47280" y="256536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pansión de corto plaz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1640" y="5300640"/>
            <a:ext cx="505800" cy="473760"/>
            <a:chOff x="4571640" y="5300640"/>
            <a:chExt cx="505800" cy="473760"/>
          </a:xfrm>
        </p:grpSpPr>
        <p:sp>
          <p:nvSpPr>
            <p:cNvPr id="71" name=""/>
            <p:cNvSpPr/>
            <p:nvPr/>
          </p:nvSpPr>
          <p:spPr>
            <a:xfrm>
              <a:off x="457164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9376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067280" y="249228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314172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3068640"/>
            <a:ext cx="138240" cy="125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flipH="1" flipV="1">
            <a:off x="2593800" y="1609200"/>
            <a:ext cx="30240" cy="364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60640" y="16146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19640" y="52293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051280" y="2276640"/>
            <a:ext cx="505080" cy="473400"/>
            <a:chOff x="2051280" y="2276640"/>
            <a:chExt cx="505080" cy="473400"/>
          </a:xfrm>
        </p:grpSpPr>
        <p:sp>
          <p:nvSpPr>
            <p:cNvPr id="81" name=""/>
            <p:cNvSpPr/>
            <p:nvPr/>
          </p:nvSpPr>
          <p:spPr>
            <a:xfrm>
              <a:off x="2051280" y="22766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72680" y="24177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995640" y="5229360"/>
            <a:ext cx="502560" cy="473400"/>
            <a:chOff x="3995640" y="5229360"/>
            <a:chExt cx="502560" cy="473400"/>
          </a:xfrm>
        </p:grpSpPr>
        <p:sp>
          <p:nvSpPr>
            <p:cNvPr id="84" name=""/>
            <p:cNvSpPr/>
            <p:nvPr/>
          </p:nvSpPr>
          <p:spPr>
            <a:xfrm>
              <a:off x="3995640" y="52293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4520" y="53704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603520" y="3124080"/>
            <a:ext cx="744480" cy="17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2000" y="2637000"/>
            <a:ext cx="0" cy="2565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72600" y="4329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76360" y="5229360"/>
            <a:ext cx="505800" cy="473400"/>
            <a:chOff x="3276360" y="5229360"/>
            <a:chExt cx="505800" cy="473400"/>
          </a:xfrm>
        </p:grpSpPr>
        <p:sp>
          <p:nvSpPr>
            <p:cNvPr id="90" name=""/>
            <p:cNvSpPr/>
            <p:nvPr/>
          </p:nvSpPr>
          <p:spPr>
            <a:xfrm>
              <a:off x="3276360" y="52293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98480" y="53704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24360" y="2852640"/>
            <a:ext cx="505080" cy="473400"/>
            <a:chOff x="2124360" y="2852640"/>
            <a:chExt cx="505080" cy="473400"/>
          </a:xfrm>
        </p:grpSpPr>
        <p:sp>
          <p:nvSpPr>
            <p:cNvPr id="93" name=""/>
            <p:cNvSpPr/>
            <p:nvPr/>
          </p:nvSpPr>
          <p:spPr>
            <a:xfrm>
              <a:off x="2124360" y="28526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5760" y="29937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627280" y="2565360"/>
            <a:ext cx="1441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3068640"/>
            <a:ext cx="4680" cy="2182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048120" y="52200"/>
            <a:ext cx="7263360" cy="43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573800">
            <a:off x="3920040" y="-527400"/>
            <a:ext cx="7264080" cy="43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9400" y="3213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81240" y="5373720"/>
            <a:ext cx="1149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5520" y="1916280"/>
            <a:ext cx="377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racción de largo plaz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2565360"/>
            <a:ext cx="1440000" cy="0"/>
          </a:xfrm>
          <a:prstGeom prst="line">
            <a:avLst/>
          </a:prstGeom>
          <a:ln w="284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87640" y="2565000"/>
            <a:ext cx="1152720" cy="792360"/>
          </a:xfrm>
          <a:prstGeom prst="line">
            <a:avLst/>
          </a:prstGeom>
          <a:ln w="28440">
            <a:solidFill>
              <a:srgbClr val="00ae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263700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96640" y="2271960"/>
            <a:ext cx="1767960" cy="25570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7080" y="2303640"/>
            <a:ext cx="1639800" cy="23317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8280" y="907920"/>
            <a:ext cx="377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racción de corto plaz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842920" y="5229360"/>
            <a:ext cx="505800" cy="473400"/>
            <a:chOff x="2842920" y="5229360"/>
            <a:chExt cx="505800" cy="473400"/>
          </a:xfrm>
        </p:grpSpPr>
        <p:sp>
          <p:nvSpPr>
            <p:cNvPr id="109" name=""/>
            <p:cNvSpPr/>
            <p:nvPr/>
          </p:nvSpPr>
          <p:spPr>
            <a:xfrm>
              <a:off x="2842920" y="52293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65040" y="53704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067280" y="249228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155736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80000" y="2637000"/>
            <a:ext cx="172872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249228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5560" y="2342160"/>
            <a:ext cx="1738080" cy="257688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5229360"/>
            <a:ext cx="446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0T18:15:22Z</dcterms:created>
  <dc:creator>MARCO HAUVAMARCO HAUVA</dc:creator>
  <dc:description/>
  <dc:language>en-US</dc:language>
  <cp:lastModifiedBy>Marco Hauva</cp:lastModifiedBy>
  <cp:lastPrinted>1998-11-16T18:50:12Z</cp:lastPrinted>
  <dcterms:modified xsi:type="dcterms:W3CDTF">2007-04-12T21:35:36Z</dcterms:modified>
  <cp:revision>48</cp:revision>
  <dc:subject/>
  <dc:title>Sin título de diapositiva</dc:title>
</cp:coreProperties>
</file>