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E46-1C84-424F-8C35-3EF1CBC7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426-52B9-418F-A715-44D302BE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E4B-C538-42D6-95BB-F738177A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3DFF-FFA8-4D9B-B657-BE3FC112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C03C-606B-4A88-8AF5-D62A23F5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9AB2-B933-43BC-9DE9-56EB7CD7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E888-95F9-498F-A3B0-1C7DEF28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4D00-2D3A-4335-9B89-D53ECB0A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CADE-A07D-47BE-8B83-409B76F6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8318-AD21-486A-8B42-C51EC637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D2E3-1451-4C53-85C9-E300E55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72A-DA6A-4849-B6CB-5DA5C6F5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F2C8-6BA0-4642-933A-5D3E679E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CD03-9C29-4996-AD78-D5B45FA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98D2-E6BB-4127-9B92-6E488A09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1378-0CD0-4C18-8374-8E440844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0336-F846-486E-9B08-71831558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228-0E38-4C98-9922-59B3F88A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AC6-DBEF-4179-8543-FB6140E0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F80-9085-456D-8B95-C8D01AC2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506-10F8-4CB9-B216-0142607B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3BA-BDBD-4EC5-B1EF-6E849A86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64E-74B0-447F-8DE8-96DE569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5CF-3CA5-4FB4-B4D3-B9920C2D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2FBA-0FA5-4F39-B0EE-DEC877EA0D3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994E-12CC-4911-8504-7E648BC5F38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075D-C413-4AC9-8E87-D188E98C67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124080" y="297180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86200" y="2971800"/>
            <a:ext cx="1752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quilibri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464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360" y="1828800"/>
            <a:ext cx="1981080" cy="2971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7360" y="23623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Exceso de ofer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429000"/>
            <a:ext cx="12952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571640" y="3429000"/>
            <a:ext cx="76212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97180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342900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297180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42900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334120" y="2971800"/>
            <a:ext cx="30456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971800"/>
            <a:ext cx="68580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124080" y="3428640"/>
            <a:ext cx="0" cy="30492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75160" y="35323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E24-F82C-46A8-8AF0-4C2D152155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53352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stática comparativ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419360" y="1828800"/>
            <a:ext cx="1981080" cy="2971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743200"/>
            <a:ext cx="12193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191120"/>
            <a:ext cx="144792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312408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81480" y="3047760"/>
            <a:ext cx="457200" cy="60948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638680" y="3047760"/>
            <a:ext cx="1067040" cy="6858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81640" y="27432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492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304812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632-931B-47BA-A424-38A4A7BB2C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stática comparativa y elastic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114800" y="2438280"/>
            <a:ext cx="3124080" cy="1905120"/>
          </a:xfrm>
          <a:prstGeom prst="line">
            <a:avLst/>
          </a:prstGeom>
          <a:ln w="28440">
            <a:solidFill>
              <a:srgbClr val="35d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743200"/>
            <a:ext cx="12193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191120"/>
            <a:ext cx="144792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200400" y="304776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105520" y="3200400"/>
            <a:ext cx="838080" cy="53352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5943240" y="3200400"/>
            <a:ext cx="762120" cy="53352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81640" y="27432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492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304812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419360" y="1676520"/>
            <a:ext cx="2361960" cy="289548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320040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657600" y="32004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457200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5105520"/>
            <a:ext cx="5331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70D-55BF-4F9E-943A-2E79745CE8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114800" y="2438280"/>
            <a:ext cx="3124080" cy="1905120"/>
          </a:xfrm>
          <a:prstGeom prst="line">
            <a:avLst/>
          </a:prstGeom>
          <a:ln w="28440">
            <a:solidFill>
              <a:srgbClr val="35d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590920"/>
            <a:ext cx="14479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343400"/>
            <a:ext cx="152388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00400" y="32004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05520" y="2895120"/>
            <a:ext cx="1371600" cy="83844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81640" y="29718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5380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320040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05520" y="510552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2590920"/>
            <a:ext cx="762120" cy="2209680"/>
          </a:xfrm>
          <a:prstGeom prst="line">
            <a:avLst/>
          </a:prstGeom>
          <a:ln w="28440">
            <a:solidFill>
              <a:srgbClr val="38c1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48520" y="2362320"/>
            <a:ext cx="761760" cy="2209680"/>
          </a:xfrm>
          <a:prstGeom prst="line">
            <a:avLst/>
          </a:prstGeom>
          <a:ln w="28440">
            <a:solidFill>
              <a:srgbClr val="38c1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400440" y="2895120"/>
            <a:ext cx="304920" cy="83844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895480"/>
            <a:ext cx="31240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2895480"/>
            <a:ext cx="0" cy="213372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581280" y="2895120"/>
            <a:ext cx="0" cy="83844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4724280"/>
            <a:ext cx="1295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stática comparativa y elastic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AB0-CCF8-491E-BE92-3D49DB1C03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71600" y="1371600"/>
                <a:ext cx="6084720" cy="40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143000" y="2055960"/>
                <a:ext cx="7467480" cy="35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asticidad punto: </m:t>
                        </m:r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asticidad arco: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t xml:space="preserve">f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1981080" y="762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Elasticidad precio de la deman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1F51-14D4-4D23-8DC8-E0421CA8E5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523880" y="1400040"/>
                <a:ext cx="6085080" cy="405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1219320"/>
                <a:ext cx="579096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  <m:e>
                        <m:r>
                          <m:t xml:space="preserve">e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133720" y="990720"/>
            <a:ext cx="6092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Elasticidad ingreso de la deman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B000-0C75-45A0-BBFB-B35D2AADA19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3880" y="1400040"/>
                <a:ext cx="6085080" cy="405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828800" y="1430280"/>
                <a:ext cx="5823000" cy="38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1752480" y="609480"/>
            <a:ext cx="67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Elasticidad precio cruzada de la deman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2E69-F96A-4A7C-87F2-2B5B0FB7C50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(intercambian)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Deseos, 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02C-9F42-45FD-9FFE-F46AB4A1E7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(intercambian)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8FE-DE14-49C9-96B8-3C35CBDF77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232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720" y="37339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24920" y="35053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C1A-E518-4EF9-9D8C-079B5DD68A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87692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2666880"/>
            <a:ext cx="289584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96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85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cantidad demand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581280"/>
            <a:ext cx="0" cy="12956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32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57600" y="358128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5800" y="3352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5800" y="28954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657240" y="312408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3124080"/>
            <a:ext cx="0" cy="17528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74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723920" y="3124080"/>
            <a:ext cx="76212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l prec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C55-43E1-4C46-811E-041ED0FB20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2860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52578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048120"/>
            <a:ext cx="289584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384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64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590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demand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74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971800" y="39625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20000" y="3733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0000" y="32767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971440" y="350532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505320"/>
            <a:ext cx="0" cy="17524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916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819520"/>
            <a:ext cx="3276720" cy="16002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4419720"/>
            <a:ext cx="1143000" cy="0"/>
          </a:xfrm>
          <a:prstGeom prst="line">
            <a:avLst/>
          </a:prstGeom>
          <a:ln w="93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581280"/>
            <a:ext cx="990720" cy="0"/>
          </a:xfrm>
          <a:prstGeom prst="line">
            <a:avLst/>
          </a:prstGeom>
          <a:ln w="93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3276720"/>
            <a:ext cx="0" cy="19810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89548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71800" y="32767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71440" y="289548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0000" y="29718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0000" y="2666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ED5-3B66-460E-AF71-A865B11AB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87692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05520" y="2057400"/>
            <a:ext cx="1218960" cy="22860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96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85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cantidad ofert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581280"/>
            <a:ext cx="0" cy="12956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32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57600" y="358128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5800" y="3352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Ofert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5800" y="2666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657600" y="2895480"/>
            <a:ext cx="2209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971800"/>
            <a:ext cx="0" cy="190512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204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2895120"/>
            <a:ext cx="380880" cy="6858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l prec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227-7289-4C4B-B568-C27F27B8BD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71800" y="22860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2578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489480" y="2737080"/>
            <a:ext cx="2739600" cy="232668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384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64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209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ofer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564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71440" y="457200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6320" y="43434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0000" y="3733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71440" y="350532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457200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74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39520" y="1818360"/>
            <a:ext cx="2957040" cy="204336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819520"/>
            <a:ext cx="990360" cy="0"/>
          </a:xfrm>
          <a:prstGeom prst="line">
            <a:avLst/>
          </a:prstGeom>
          <a:ln w="9360">
            <a:solidFill>
              <a:srgbClr val="4f68e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352680"/>
            <a:ext cx="1143000" cy="0"/>
          </a:xfrm>
          <a:prstGeom prst="line">
            <a:avLst/>
          </a:prstGeom>
          <a:ln w="9360">
            <a:solidFill>
              <a:srgbClr val="4f68e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97180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71800" y="39625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971800" y="297180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6320" y="32004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6320" y="27432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505320"/>
            <a:ext cx="0" cy="17524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Ofert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7A9-31BD-4AF9-9EE2-E38F1CB9C3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6633"/>
                </a:solidFill>
                <a:uFillTx/>
                <a:latin typeface="Times New Roman"/>
              </a:rPr>
              <a:t>Mercado - Competencia - Optimalidad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89320" y="1986120"/>
            <a:ext cx="0" cy="6728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182840" y="2665440"/>
            <a:ext cx="100332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8080" y="2138400"/>
            <a:ext cx="901800" cy="139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564080" y="1986120"/>
            <a:ext cx="24120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5800" y="2208240"/>
            <a:ext cx="52056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22840" y="2201760"/>
            <a:ext cx="0" cy="47016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05740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2160" y="266688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8760" y="1763640"/>
            <a:ext cx="1650960" cy="1270080"/>
          </a:xfrm>
          <a:prstGeom prst="ellipse">
            <a:avLst/>
          </a:prstGeom>
          <a:noFill/>
          <a:ln w="255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1371600"/>
            <a:ext cx="243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Mercado Competit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70080" y="2800440"/>
            <a:ext cx="2016000" cy="106236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Ningún agente económico puede afectar por si solo los prec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903320" y="2367000"/>
            <a:ext cx="457200" cy="457200"/>
            <a:chOff x="1903320" y="2367000"/>
            <a:chExt cx="457200" cy="457200"/>
          </a:xfrm>
        </p:grpSpPr>
        <p:sp>
          <p:nvSpPr>
            <p:cNvPr id="208" name=""/>
            <p:cNvSpPr/>
            <p:nvPr/>
          </p:nvSpPr>
          <p:spPr>
            <a:xfrm flipV="1">
              <a:off x="1903320" y="2430360"/>
              <a:ext cx="13968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119320" y="2430360"/>
              <a:ext cx="24120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5600" y="2367000"/>
              <a:ext cx="6372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718240" y="2419200"/>
            <a:ext cx="241596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Perfecta informació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27960" y="1986120"/>
            <a:ext cx="457200" cy="456840"/>
            <a:chOff x="6627960" y="1986120"/>
            <a:chExt cx="457200" cy="456840"/>
          </a:xfrm>
        </p:grpSpPr>
        <p:sp>
          <p:nvSpPr>
            <p:cNvPr id="213" name=""/>
            <p:cNvSpPr/>
            <p:nvPr/>
          </p:nvSpPr>
          <p:spPr>
            <a:xfrm flipV="1">
              <a:off x="6627960" y="2049480"/>
              <a:ext cx="139680" cy="3934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6843960" y="2049480"/>
              <a:ext cx="241200" cy="3934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0600" y="1986120"/>
              <a:ext cx="6336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800600" y="4038480"/>
            <a:ext cx="234324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Bienes homogéne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84760" y="3605040"/>
            <a:ext cx="442800" cy="457200"/>
            <a:chOff x="5684760" y="3605040"/>
            <a:chExt cx="442800" cy="457200"/>
          </a:xfrm>
        </p:grpSpPr>
        <p:sp>
          <p:nvSpPr>
            <p:cNvPr id="218" name=""/>
            <p:cNvSpPr/>
            <p:nvPr/>
          </p:nvSpPr>
          <p:spPr>
            <a:xfrm flipV="1">
              <a:off x="5684760" y="3668400"/>
              <a:ext cx="13464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5894280" y="3668400"/>
              <a:ext cx="23328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32360" y="3605040"/>
              <a:ext cx="6192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0" y="4952880"/>
            <a:ext cx="1839960" cy="819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Las decisiones individuales no afectan a otr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933640" y="4495680"/>
            <a:ext cx="192240" cy="471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230640" y="4495680"/>
            <a:ext cx="317520" cy="471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8480" y="4416480"/>
            <a:ext cx="92160" cy="17136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30800" y="5310360"/>
            <a:ext cx="188604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Bienes públic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86720" y="4940280"/>
            <a:ext cx="134640" cy="393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996240" y="4940280"/>
            <a:ext cx="233280" cy="393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4876920"/>
            <a:ext cx="61920" cy="13968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9658-25C6-4F86-A840-A615B4AB994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5-08T17:34:44Z</dcterms:modified>
  <cp:revision>31</cp:revision>
  <dc:subject/>
  <dc:title>Sin título de diapositiva</dc:title>
</cp:coreProperties>
</file>