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17E-6568-4A7A-ACF7-A7D7DF56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825-46E7-4CC9-9F0B-FB74F52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707-FF3C-4EAA-B5EF-8775C178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138-51EC-4661-BA9A-06B1CF2E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7EF2-D152-4252-BC6D-9D892508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1DE5-ECDA-44AD-86A1-1783CE14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3C40-9EAE-4420-B2B4-0B7B290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7B1A-8D3F-453D-840C-1D9A4A6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450-C4F0-43D5-80A1-26AD6544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528EC-491C-4377-91A3-76241C3B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E158-2982-41A2-B89E-629CC32A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7B35-AF00-47DE-A7A3-BE0A35F8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02F1-4076-47EE-B3EC-608F6FAD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BA7C-B210-4FEB-B433-EEF725B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444F-AAB7-4AA0-9C51-3A30A65C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5BB6-1453-4291-A50C-C6AF4E88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067D-390F-47B5-95E1-CC522AE1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C88-C739-414E-A221-0B086BA9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D99-9D69-423B-AC5A-ACBD09AA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9BD-C2DC-4C8B-9167-FBEF9D53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B04-45C6-48AD-9926-E36CE927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66E3-50EA-47BD-91DD-82A21201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B02-28BC-4D38-B6BD-1BEF2F6F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224-2712-40D3-8D7F-0DA871EE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6774-3C00-444B-A5EE-3532F4CEAA0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9BF-42E2-44C2-A4E4-FD603A0C7FC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D29-E994-48F9-AFB0-79111B7050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124080" y="2971800"/>
            <a:ext cx="0" cy="4572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86200" y="2971800"/>
            <a:ext cx="17524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quilibri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464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7360" y="236232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xceso de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429000"/>
            <a:ext cx="12952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571640" y="3429000"/>
            <a:ext cx="7621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2971800"/>
            <a:ext cx="0" cy="20574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342900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334120" y="2971800"/>
            <a:ext cx="30456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2971800"/>
            <a:ext cx="68580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124080" y="3428640"/>
            <a:ext cx="0" cy="3049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75160" y="35323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96B-0797-429F-8438-CF6C7A5197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5335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stática comparativ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419360" y="1828800"/>
            <a:ext cx="1981080" cy="2971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312408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81480" y="3047760"/>
            <a:ext cx="457200" cy="60948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5638680" y="3047760"/>
            <a:ext cx="106704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D93-4A60-468D-B8D6-6AF2C82F87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743200"/>
            <a:ext cx="12193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191120"/>
            <a:ext cx="144792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200400" y="304776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105520" y="3200400"/>
            <a:ext cx="83808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5943240" y="3200400"/>
            <a:ext cx="762120" cy="53352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3048120"/>
            <a:ext cx="236196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81640" y="27432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492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3048120"/>
            <a:ext cx="0" cy="19810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419360" y="1676520"/>
            <a:ext cx="2361960" cy="289548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576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05520" y="457200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5105520"/>
            <a:ext cx="53316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9E6-DF31-4222-BCE0-D61F4DEA3D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181480" y="3733920"/>
            <a:ext cx="152424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114800" y="2438280"/>
            <a:ext cx="3124080" cy="1905120"/>
          </a:xfrm>
          <a:prstGeom prst="line">
            <a:avLst/>
          </a:prstGeom>
          <a:ln w="28440">
            <a:solidFill>
              <a:srgbClr val="35d3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2920" y="3505320"/>
            <a:ext cx="145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Times New Roman"/>
              </a:rPr>
              <a:t>Exceso de deman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590920"/>
            <a:ext cx="1447920" cy="0"/>
          </a:xfrm>
          <a:prstGeom prst="line">
            <a:avLst/>
          </a:prstGeom>
          <a:ln w="1908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4343400"/>
            <a:ext cx="1523880" cy="0"/>
          </a:xfrm>
          <a:prstGeom prst="line">
            <a:avLst/>
          </a:prstGeom>
          <a:ln w="12600">
            <a:solidFill>
              <a:srgbClr val="4f68e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00400" y="3200400"/>
            <a:ext cx="0" cy="5335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3733920"/>
            <a:ext cx="182880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81640" y="350532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2362320"/>
            <a:ext cx="2895480" cy="1828800"/>
          </a:xfrm>
          <a:prstGeom prst="line">
            <a:avLst/>
          </a:prstGeom>
          <a:ln cap="rnd" w="28440">
            <a:solidFill>
              <a:srgbClr val="cd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05520" y="2895120"/>
            <a:ext cx="137160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81640" y="2971800"/>
            <a:ext cx="51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9204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53800" y="5029200"/>
            <a:ext cx="56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402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6720" y="3200400"/>
            <a:ext cx="26668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3200400"/>
            <a:ext cx="0" cy="18288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05520" y="5105520"/>
            <a:ext cx="838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2590920"/>
            <a:ext cx="76212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8520" y="2362320"/>
            <a:ext cx="761760" cy="2209680"/>
          </a:xfrm>
          <a:prstGeom prst="line">
            <a:avLst/>
          </a:prstGeom>
          <a:ln w="28440">
            <a:solidFill>
              <a:srgbClr val="38c1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6400440" y="2895120"/>
            <a:ext cx="304920" cy="83844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895480"/>
            <a:ext cx="3124080" cy="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00800" y="2895480"/>
            <a:ext cx="0" cy="213372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581280" y="2895120"/>
            <a:ext cx="0" cy="8384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5520" y="4724280"/>
            <a:ext cx="1295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52480" y="5335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stática comparativa y elastic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740-A37E-4D8F-AD1E-EBA029156F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1371600" y="1371600"/>
                <a:ext cx="6084720" cy="40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143000" y="2055960"/>
                <a:ext cx="7467480" cy="35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asticidad punto: </m:t>
                        </m:r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asticidad arco: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Q</m:t>
                            </m:r>
                          </m:num>
                          <m:den>
                            <m:r>
                              <m:t xml:space="preserve">Δ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P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  <m:r>
                              <m:t xml:space="preserve">f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1981080" y="7621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2000"/>
                </a:solidFill>
                <a:latin typeface="Times New Roman"/>
              </a:rPr>
              <a:t>Elasticidad precio de la deman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0282-28DE-46E9-AE87-3D20EAAC449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905120" y="1219320"/>
                <a:ext cx="579096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2133720" y="990720"/>
            <a:ext cx="6092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ingreso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5A8E-3CB6-41AC-B8FB-9F4F9C118B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3880" y="1400040"/>
                <a:ext cx="6085080" cy="405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828800" y="1430280"/>
                <a:ext cx="5823000" cy="38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/>
                      <m:e>
                        <m:r>
                          <m:t xml:space="preserve">e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1752480" y="609480"/>
            <a:ext cx="6778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02000"/>
                </a:solidFill>
                <a:uFillTx/>
                <a:latin typeface="Times New Roman"/>
              </a:rPr>
              <a:t>Elasticidad precio cruzada de la demand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A035-8597-4330-9582-2DB0B50A072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6A2-B639-44B8-9334-643C6091B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3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(intercambian)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B2E-3677-4B1A-97AE-D583CE5B0B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20574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50292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2819520"/>
            <a:ext cx="289548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8760" y="5029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764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7339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82320" y="5105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720" y="37339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24920" y="35053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843-41D8-463F-A738-809A57A6D0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266688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5800" y="28954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657240" y="31240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3124080"/>
            <a:ext cx="0" cy="175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7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23920" y="3124080"/>
            <a:ext cx="762120" cy="4572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99-7EA7-48CF-8954-408C240E8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048120"/>
            <a:ext cx="2895840" cy="18288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2590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demand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Demand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0000" y="32767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916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819520"/>
            <a:ext cx="3276720" cy="16002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5000" y="441972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581280"/>
            <a:ext cx="990720" cy="0"/>
          </a:xfrm>
          <a:prstGeom prst="line">
            <a:avLst/>
          </a:prstGeom>
          <a:ln w="93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3276720"/>
            <a:ext cx="0" cy="19810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89548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71800" y="32767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971440" y="289548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20000" y="29718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200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9A7-436C-4B71-8267-3A188F38DA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190512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487692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05520" y="2057400"/>
            <a:ext cx="1218960" cy="228600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696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852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7600" y="5410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cantidad ofert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3581280"/>
            <a:ext cx="0" cy="12956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32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57600" y="358128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5800" y="3352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5800" y="2666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657600" y="2895480"/>
            <a:ext cx="2209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71800"/>
            <a:ext cx="0" cy="190512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20400" y="49528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2895120"/>
            <a:ext cx="380880" cy="685800"/>
          </a:xfrm>
          <a:prstGeom prst="line">
            <a:avLst/>
          </a:prstGeom>
          <a:ln w="38160">
            <a:solidFill>
              <a:srgbClr val="4f68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31240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l preci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9A-7603-4820-8ACD-7D2375A53E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71800" y="2286000"/>
            <a:ext cx="0" cy="2971800"/>
          </a:xfrm>
          <a:prstGeom prst="line">
            <a:avLst/>
          </a:prstGeom>
          <a:ln w="28440">
            <a:solidFill>
              <a:srgbClr val="402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5257800"/>
            <a:ext cx="40384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3489480" y="2737080"/>
            <a:ext cx="2739600" cy="232668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38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6400" y="2057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2209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ariación de la ofer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962520"/>
            <a:ext cx="0" cy="12952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1564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971440" y="457200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6320" y="4343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000" y="3733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71440" y="3505320"/>
            <a:ext cx="1066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4572000"/>
            <a:ext cx="0" cy="6858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7400" y="53341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39520" y="1818360"/>
            <a:ext cx="2957040" cy="2043360"/>
          </a:xfrm>
          <a:prstGeom prst="line">
            <a:avLst/>
          </a:prstGeom>
          <a:ln w="28440">
            <a:solidFill>
              <a:srgbClr val="cd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819520"/>
            <a:ext cx="99036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352680"/>
            <a:ext cx="1143000" cy="0"/>
          </a:xfrm>
          <a:prstGeom prst="line">
            <a:avLst/>
          </a:prstGeom>
          <a:ln w="9360">
            <a:solidFill>
              <a:srgbClr val="4f68e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2971800"/>
            <a:ext cx="0" cy="228600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971800" y="396252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971800" y="2971800"/>
            <a:ext cx="182880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6320" y="32004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6320" y="27432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3505320"/>
            <a:ext cx="0" cy="17524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Ofert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C52-0B5E-48A7-BF74-C51E585FB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6633"/>
                </a:solidFill>
                <a:uFillTx/>
                <a:latin typeface="Times New Roman"/>
              </a:rPr>
              <a:t>Mercado - Competencia - Optimalidad</a:t>
            </a:r>
            <a:endParaRPr b="0" lang="en-US" sz="2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89320" y="1986120"/>
            <a:ext cx="0" cy="67284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182840" y="2665440"/>
            <a:ext cx="100332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8080" y="2138400"/>
            <a:ext cx="90180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564080" y="1986120"/>
            <a:ext cx="24120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5800" y="2208240"/>
            <a:ext cx="5205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722840" y="2201760"/>
            <a:ext cx="0" cy="47016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205740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P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02160" y="2666880"/>
            <a:ext cx="3776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2000"/>
                </a:solidFill>
                <a:latin typeface="Times New Roman"/>
              </a:rPr>
              <a:t>Q</a:t>
            </a:r>
            <a:r>
              <a:rPr b="0" lang="es-ES_tradnl" sz="14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68760" y="1763640"/>
            <a:ext cx="1650960" cy="1270080"/>
          </a:xfrm>
          <a:prstGeom prst="ellipse">
            <a:avLst/>
          </a:prstGeom>
          <a:noFill/>
          <a:ln w="255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1371600"/>
            <a:ext cx="243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Mercado Competit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0080" y="2800440"/>
            <a:ext cx="2016000" cy="106236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Ningún agente económico puede afectar por si solo los prec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903320" y="2367000"/>
            <a:ext cx="457200" cy="457200"/>
            <a:chOff x="1903320" y="2367000"/>
            <a:chExt cx="457200" cy="457200"/>
          </a:xfrm>
        </p:grpSpPr>
        <p:sp>
          <p:nvSpPr>
            <p:cNvPr id="208" name=""/>
            <p:cNvSpPr/>
            <p:nvPr/>
          </p:nvSpPr>
          <p:spPr>
            <a:xfrm flipV="1">
              <a:off x="1903320" y="2430360"/>
              <a:ext cx="1396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2119320" y="2430360"/>
              <a:ext cx="24120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5600" y="2367000"/>
              <a:ext cx="637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718240" y="2419200"/>
            <a:ext cx="241596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Perfecta informació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627960" y="1986120"/>
            <a:ext cx="457200" cy="456840"/>
            <a:chOff x="6627960" y="1986120"/>
            <a:chExt cx="457200" cy="456840"/>
          </a:xfrm>
        </p:grpSpPr>
        <p:sp>
          <p:nvSpPr>
            <p:cNvPr id="213" name=""/>
            <p:cNvSpPr/>
            <p:nvPr/>
          </p:nvSpPr>
          <p:spPr>
            <a:xfrm flipV="1">
              <a:off x="6627960" y="2049480"/>
              <a:ext cx="13968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6843960" y="2049480"/>
              <a:ext cx="241200" cy="39348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80600" y="1986120"/>
              <a:ext cx="6336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800600" y="4038480"/>
            <a:ext cx="23432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homogéne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84760" y="3605040"/>
            <a:ext cx="442800" cy="457200"/>
            <a:chOff x="5684760" y="3605040"/>
            <a:chExt cx="442800" cy="457200"/>
          </a:xfrm>
        </p:grpSpPr>
        <p:sp>
          <p:nvSpPr>
            <p:cNvPr id="218" name=""/>
            <p:cNvSpPr/>
            <p:nvPr/>
          </p:nvSpPr>
          <p:spPr>
            <a:xfrm flipV="1">
              <a:off x="5684760" y="3668400"/>
              <a:ext cx="13464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5894280" y="3668400"/>
              <a:ext cx="233280" cy="393840"/>
            </a:xfrm>
            <a:prstGeom prst="line">
              <a:avLst/>
            </a:prstGeom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32360" y="3605040"/>
              <a:ext cx="61920" cy="13968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0" y="4952880"/>
            <a:ext cx="1839960" cy="819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Las decisiones individuales no afectan a otr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933640" y="4495680"/>
            <a:ext cx="19224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230640" y="4495680"/>
            <a:ext cx="317520" cy="4716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38480" y="4416480"/>
            <a:ext cx="92160" cy="17136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30800" y="5310360"/>
            <a:ext cx="1886040" cy="33228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Bienes públic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86720" y="4940280"/>
            <a:ext cx="13464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996240" y="4940280"/>
            <a:ext cx="233280" cy="3938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4876920"/>
            <a:ext cx="61920" cy="139680"/>
          </a:xfrm>
          <a:prstGeom prst="ellipse">
            <a:avLst/>
          </a:prstGeom>
          <a:solidFill>
            <a:srgbClr val="996633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FFC6-D3C1-44A0-8537-7C78AD95786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5-08T17:34:44Z</dcterms:modified>
  <cp:revision>31</cp:revision>
  <dc:subject/>
  <dc:title>Sin título de diapositiva</dc:title>
</cp:coreProperties>
</file>