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5CF-A8F4-4D75-A4FC-32F4AC88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1CE-BC90-4B3C-91AD-3E2B7724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49C-BA00-4060-B8B5-9CBF7350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C52-081E-4A89-BD5E-B20FB7A4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9FF-1FE1-49C0-84C2-5A5421FD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5A4-3D92-4A3E-AAC5-6959F194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F921-AE2F-4892-ACEF-8A687CE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B4F5-53B5-47BF-95AD-830621E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1CCF-F85A-41FF-9A16-E43BDA19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D687-5A67-4608-9FF7-0A6F84B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C73E-3ECE-452E-BC7D-693D239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F27-71C2-4042-AC8B-0DEB1244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9B08-2203-46F9-B938-0BDCBBF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1EC9-71F7-4B02-BDC2-061FDEF1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726C-A198-4081-96FC-DC1D27DD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0309-59F6-4811-AD83-DF62D18B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DC4E-58AD-4EBB-B05F-81A8D2F0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888-12F3-4949-B0E6-B27ABEF8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925-07A4-402C-A3A1-A4FB0B64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CF0-38C6-4E91-A99B-C5E371D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154-3240-4A5F-87F6-CA42F88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548-2FC8-4C6E-A963-0B934A56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E4A-3655-4498-8C26-4FEEF58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5CC-EC38-47F9-B8E0-73EF20E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A74D-B369-4726-815C-36A26299165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BE7B-5997-4FA3-9C63-85E7C7B21D1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FA7-D9E9-43BD-B805-23DBB23D2C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124080" y="297180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86200" y="2971800"/>
            <a:ext cx="1752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quilibri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464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360" y="1828800"/>
            <a:ext cx="1981080" cy="2971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7360" y="23623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xceso de ofer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429000"/>
            <a:ext cx="12952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571640" y="3429000"/>
            <a:ext cx="76212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97180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342900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297180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42900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334120" y="2971800"/>
            <a:ext cx="30456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971800"/>
            <a:ext cx="68580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124080" y="3428640"/>
            <a:ext cx="0" cy="3049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75160" y="35323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393-BA43-4BEF-937F-F16977055A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335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stática comparativ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419360" y="1828800"/>
            <a:ext cx="1981080" cy="2971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743200"/>
            <a:ext cx="12193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191120"/>
            <a:ext cx="144792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312408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81480" y="3047760"/>
            <a:ext cx="457200" cy="60948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638680" y="3047760"/>
            <a:ext cx="1067040" cy="6858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81640" y="27432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492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30481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D34-A075-4EC7-A840-42EDBB2ACF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stática comparativa y elastic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114800" y="2438280"/>
            <a:ext cx="3124080" cy="1905120"/>
          </a:xfrm>
          <a:prstGeom prst="line">
            <a:avLst/>
          </a:prstGeom>
          <a:ln w="28440">
            <a:solidFill>
              <a:srgbClr val="35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743200"/>
            <a:ext cx="12193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191120"/>
            <a:ext cx="144792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200400" y="304776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105520" y="3200400"/>
            <a:ext cx="838080" cy="53352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5943240" y="3200400"/>
            <a:ext cx="762120" cy="53352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81640" y="27432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492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30481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419360" y="1676520"/>
            <a:ext cx="2361960" cy="289548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320040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657600" y="32004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457200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5105520"/>
            <a:ext cx="5331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F80-D995-46A2-90EB-A1475C086A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114800" y="2438280"/>
            <a:ext cx="3124080" cy="1905120"/>
          </a:xfrm>
          <a:prstGeom prst="line">
            <a:avLst/>
          </a:prstGeom>
          <a:ln w="28440">
            <a:solidFill>
              <a:srgbClr val="35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590920"/>
            <a:ext cx="14479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343400"/>
            <a:ext cx="152388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00400" y="32004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05520" y="2895120"/>
            <a:ext cx="1371600" cy="83844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81640" y="29718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5380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320040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05520" y="510552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2590920"/>
            <a:ext cx="762120" cy="2209680"/>
          </a:xfrm>
          <a:prstGeom prst="line">
            <a:avLst/>
          </a:prstGeom>
          <a:ln w="28440">
            <a:solidFill>
              <a:srgbClr val="38c1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48520" y="2362320"/>
            <a:ext cx="761760" cy="2209680"/>
          </a:xfrm>
          <a:prstGeom prst="line">
            <a:avLst/>
          </a:prstGeom>
          <a:ln w="28440">
            <a:solidFill>
              <a:srgbClr val="38c1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400440" y="2895120"/>
            <a:ext cx="304920" cy="83844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895480"/>
            <a:ext cx="31240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2895480"/>
            <a:ext cx="0" cy="213372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581280" y="2895120"/>
            <a:ext cx="0" cy="83844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4724280"/>
            <a:ext cx="1295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stática comparativa y elastic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62B-D544-4645-A562-AFE1D23D0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71600" y="1371600"/>
                <a:ext cx="6084720" cy="40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143000" y="2055960"/>
                <a:ext cx="7467480" cy="35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asticidad punto: </m:t>
                        </m:r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asticidad arco: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t xml:space="preserve">f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1981080" y="762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Elasticidad precio de la deman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6E4-8B52-4E96-A573-1B05A8D0C9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523880" y="1400040"/>
                <a:ext cx="6085080" cy="405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1219320"/>
                <a:ext cx="579096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  <m:e>
                        <m:r>
                          <m:t xml:space="preserve">e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133720" y="990720"/>
            <a:ext cx="6092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Elasticidad ingreso de la deman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D0AD-2B31-4423-A9B1-41B5EEEF56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3880" y="1400040"/>
                <a:ext cx="6085080" cy="405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828800" y="1430280"/>
                <a:ext cx="5823000" cy="38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752480" y="609480"/>
            <a:ext cx="67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Elasticidad precio cruzada de la deman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87CC-3FD4-4922-A035-BF2AC9DBA5D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(intercambian)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Deseos, 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13A-22C5-4888-B723-EEFAD18152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(intercambian)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01A-8CF3-4754-BA0F-D40F437508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232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720" y="37339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24920" y="35053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3E3-1FDF-46A5-AE17-63C3150FE1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87692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2666880"/>
            <a:ext cx="289584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9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85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cantidad demand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581280"/>
            <a:ext cx="0" cy="12956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32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57600" y="358128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5800" y="3352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5800" y="28954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657240" y="312408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3124080"/>
            <a:ext cx="0" cy="175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74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723920" y="3124080"/>
            <a:ext cx="76212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l pre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9C2-864C-45CD-B506-660114C341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2860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52578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048120"/>
            <a:ext cx="289584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38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6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590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demand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74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971800" y="39625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20000" y="3733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0000" y="32767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71440" y="350532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505320"/>
            <a:ext cx="0" cy="17524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916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819520"/>
            <a:ext cx="3276720" cy="16002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4419720"/>
            <a:ext cx="1143000" cy="0"/>
          </a:xfrm>
          <a:prstGeom prst="line">
            <a:avLst/>
          </a:prstGeom>
          <a:ln w="93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581280"/>
            <a:ext cx="990720" cy="0"/>
          </a:xfrm>
          <a:prstGeom prst="line">
            <a:avLst/>
          </a:prstGeom>
          <a:ln w="93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276720"/>
            <a:ext cx="0" cy="19810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89548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71800" y="32767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71440" y="289548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0000" y="29718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0000" y="2666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079-F391-4BA4-839F-3F78E2D260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87692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05520" y="2057400"/>
            <a:ext cx="1218960" cy="22860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9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85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cantidad ofert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581280"/>
            <a:ext cx="0" cy="12956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32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57600" y="358128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800" y="3352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5800" y="2666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657600" y="2895480"/>
            <a:ext cx="2209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971800"/>
            <a:ext cx="0" cy="19051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204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2895120"/>
            <a:ext cx="380880" cy="6858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l pre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32F-CC12-42CB-B3C8-3DD9BD1C46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71800" y="22860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2578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489480" y="2737080"/>
            <a:ext cx="2739600" cy="232668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38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6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209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ofer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564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71440" y="457200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6320" y="43434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000" y="3733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71440" y="350532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457200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74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39520" y="1818360"/>
            <a:ext cx="2957040" cy="204336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819520"/>
            <a:ext cx="990360" cy="0"/>
          </a:xfrm>
          <a:prstGeom prst="line">
            <a:avLst/>
          </a:prstGeom>
          <a:ln w="9360">
            <a:solidFill>
              <a:srgbClr val="4f68e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352680"/>
            <a:ext cx="1143000" cy="0"/>
          </a:xfrm>
          <a:prstGeom prst="line">
            <a:avLst/>
          </a:prstGeom>
          <a:ln w="9360">
            <a:solidFill>
              <a:srgbClr val="4f68e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97180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71800" y="39625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971800" y="297180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6320" y="32004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6320" y="27432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505320"/>
            <a:ext cx="0" cy="17524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FA9-FBB5-4FE1-8B24-C4A3C01D32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6633"/>
                </a:solidFill>
                <a:uFillTx/>
                <a:latin typeface="Times New Roman"/>
              </a:rPr>
              <a:t>Mercado - Competencia - Optimalidad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89320" y="1986120"/>
            <a:ext cx="0" cy="67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182840" y="2665440"/>
            <a:ext cx="100332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8080" y="2138400"/>
            <a:ext cx="90180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564080" y="1986120"/>
            <a:ext cx="24120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5800" y="2208240"/>
            <a:ext cx="52056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22840" y="2201760"/>
            <a:ext cx="0" cy="47016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05740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2160" y="266688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8760" y="1763640"/>
            <a:ext cx="1650960" cy="1270080"/>
          </a:xfrm>
          <a:prstGeom prst="ellipse">
            <a:avLst/>
          </a:prstGeom>
          <a:noFill/>
          <a:ln w="255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1371600"/>
            <a:ext cx="243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Mercado Competit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70080" y="2800440"/>
            <a:ext cx="2016000" cy="106236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Ningún agente económico puede afectar por si solo los prec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903320" y="2367000"/>
            <a:ext cx="457200" cy="457200"/>
            <a:chOff x="1903320" y="2367000"/>
            <a:chExt cx="457200" cy="457200"/>
          </a:xfrm>
        </p:grpSpPr>
        <p:sp>
          <p:nvSpPr>
            <p:cNvPr id="208" name=""/>
            <p:cNvSpPr/>
            <p:nvPr/>
          </p:nvSpPr>
          <p:spPr>
            <a:xfrm flipV="1">
              <a:off x="1903320" y="2430360"/>
              <a:ext cx="13968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119320" y="2430360"/>
              <a:ext cx="24120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5600" y="2367000"/>
              <a:ext cx="6372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718240" y="2419200"/>
            <a:ext cx="241596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Perfecta informació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7960" y="1986120"/>
            <a:ext cx="457200" cy="456840"/>
            <a:chOff x="6627960" y="1986120"/>
            <a:chExt cx="457200" cy="456840"/>
          </a:xfrm>
        </p:grpSpPr>
        <p:sp>
          <p:nvSpPr>
            <p:cNvPr id="213" name=""/>
            <p:cNvSpPr/>
            <p:nvPr/>
          </p:nvSpPr>
          <p:spPr>
            <a:xfrm flipV="1">
              <a:off x="6627960" y="2049480"/>
              <a:ext cx="139680" cy="3934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6843960" y="2049480"/>
              <a:ext cx="241200" cy="3934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0600" y="1986120"/>
              <a:ext cx="6336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800600" y="4038480"/>
            <a:ext cx="234324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Bienes homogéne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84760" y="3605040"/>
            <a:ext cx="442800" cy="457200"/>
            <a:chOff x="5684760" y="3605040"/>
            <a:chExt cx="442800" cy="457200"/>
          </a:xfrm>
        </p:grpSpPr>
        <p:sp>
          <p:nvSpPr>
            <p:cNvPr id="218" name=""/>
            <p:cNvSpPr/>
            <p:nvPr/>
          </p:nvSpPr>
          <p:spPr>
            <a:xfrm flipV="1">
              <a:off x="5684760" y="3668400"/>
              <a:ext cx="13464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5894280" y="3668400"/>
              <a:ext cx="23328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32360" y="3605040"/>
              <a:ext cx="6192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0" y="4952880"/>
            <a:ext cx="1839960" cy="819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Las decisiones individuales no afectan a otr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33640" y="4495680"/>
            <a:ext cx="192240" cy="471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230640" y="4495680"/>
            <a:ext cx="317520" cy="471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8480" y="4416480"/>
            <a:ext cx="92160" cy="17136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30800" y="5310360"/>
            <a:ext cx="188604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Bienes públic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86720" y="4940280"/>
            <a:ext cx="13464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996240" y="4940280"/>
            <a:ext cx="23328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4876920"/>
            <a:ext cx="61920" cy="13968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A605-9CA1-4FF3-84E3-E506B71DF4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5-08T17:34:44Z</dcterms:modified>
  <cp:revision>31</cp:revision>
  <dc:subject/>
  <dc:title>Sin título de diapositiva</dc:title>
</cp:coreProperties>
</file>