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TECLA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054D-D2DB-4F63-BE7D-63F12FFD1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DF83-D98B-4DF8-A260-9CC047FCE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C199-49CF-459C-B6C7-CC87E10B8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1168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600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4772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1168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600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6F32-ED73-4502-9A85-85E4ADD6C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48D16-BFF2-4731-9649-A4F73FDA3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2229C-A23C-4240-B525-941212803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95426-E885-4DEF-9B68-6B2614B02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EE541-DE69-4124-8B09-F1F23AF7F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2F1DA-9FC3-45F9-839D-E4665A4BA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61920" y="1925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F7FD3-3146-4C56-B265-8281EEBFC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20BD3-15DF-4754-9FB2-8566122E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909C-A63F-4168-9EAF-98308F983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B1E09-0D34-457D-A101-86368C90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3E25B-8E25-40A3-A750-5BCCD61E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00A40-7367-4725-A09D-D0597626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1F1A1-EC06-4F7C-8329-B833672FE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168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7600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64772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168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7600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9DD32-D64C-496E-A5F5-020DD7431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A419-8E09-4847-8103-DE4722AA4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6254-FAFE-474A-B603-38728E517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4271-861F-4177-8D80-A9B6B56C6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61920" y="1925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636F-4256-44F9-BC51-7CCD97653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6FDA-A7BB-42C9-B261-223B0C10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03F8-0547-469E-AB0C-33955233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DB46-4031-45C9-BED6-53938F76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25798-0C65-4DD8-AEDB-147E8F4AEB6E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7B0AC-72BB-4AAD-986D-E2363E1F26E7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ECLA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audio" Target="../media/TECLA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audio" Target="../media/TECLA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657600" y="38088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Economía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 rot="21335400">
            <a:off x="1294920" y="4647960"/>
            <a:ext cx="7391520" cy="88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¿Para quién se producen los bienes?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1" name=""/>
          <p:cNvSpPr txBox="1"/>
          <p:nvPr/>
        </p:nvSpPr>
        <p:spPr>
          <a:xfrm rot="128400">
            <a:off x="1828440" y="3047760"/>
            <a:ext cx="6019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¿Cómo producirlos?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2" name=""/>
          <p:cNvSpPr txBox="1"/>
          <p:nvPr/>
        </p:nvSpPr>
        <p:spPr>
          <a:xfrm rot="21504600">
            <a:off x="1064880" y="1828440"/>
            <a:ext cx="769608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4f68e3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¿Qué bienes y en qué cantidades?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4f68e3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143000" y="533520"/>
            <a:ext cx="22860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Asig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553080" y="457200"/>
            <a:ext cx="21337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Racio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1B94-D7CD-41B4-B43D-BE35F55EA5D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276720" y="2057400"/>
            <a:ext cx="0" cy="2971800"/>
          </a:xfrm>
          <a:prstGeom prst="line">
            <a:avLst/>
          </a:prstGeom>
          <a:ln w="2844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276720" y="5029200"/>
            <a:ext cx="40384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657600" y="2819520"/>
            <a:ext cx="2895480" cy="1828800"/>
          </a:xfrm>
          <a:prstGeom prst="line">
            <a:avLst/>
          </a:prstGeom>
          <a:ln w="2844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088760" y="5029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897640" y="2057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3124080" y="2971800"/>
            <a:ext cx="0" cy="457200"/>
          </a:xfrm>
          <a:prstGeom prst="line">
            <a:avLst/>
          </a:prstGeom>
          <a:ln w="1260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3886200" y="2971800"/>
            <a:ext cx="1752480" cy="0"/>
          </a:xfrm>
          <a:prstGeom prst="line">
            <a:avLst/>
          </a:prstGeom>
          <a:ln w="12600">
            <a:solidFill>
              <a:srgbClr val="402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29000" y="53352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Equilibrio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44640" y="2666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4419360" y="1828800"/>
            <a:ext cx="1981080" cy="2971800"/>
          </a:xfrm>
          <a:prstGeom prst="line">
            <a:avLst/>
          </a:prstGeom>
          <a:ln w="2844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07360" y="2362320"/>
            <a:ext cx="187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Exceso de ofert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276720" y="2971800"/>
            <a:ext cx="609480" cy="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276720" y="3429000"/>
            <a:ext cx="1295280" cy="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4571640" y="3429000"/>
            <a:ext cx="762120" cy="0"/>
          </a:xfrm>
          <a:prstGeom prst="line">
            <a:avLst/>
          </a:prstGeom>
          <a:ln w="12600">
            <a:solidFill>
              <a:srgbClr val="402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86200" y="2971800"/>
            <a:ext cx="0" cy="205740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0" y="3429000"/>
            <a:ext cx="0" cy="160020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2971800"/>
            <a:ext cx="0" cy="205740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334120" y="3429000"/>
            <a:ext cx="0" cy="160020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5334120" y="2971800"/>
            <a:ext cx="304560" cy="457200"/>
          </a:xfrm>
          <a:prstGeom prst="line">
            <a:avLst/>
          </a:prstGeom>
          <a:ln w="38160">
            <a:solidFill>
              <a:srgbClr val="4f68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2971800"/>
            <a:ext cx="685800" cy="457200"/>
          </a:xfrm>
          <a:prstGeom prst="line">
            <a:avLst/>
          </a:prstGeom>
          <a:ln w="38160">
            <a:solidFill>
              <a:srgbClr val="4f68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124080" y="3428640"/>
            <a:ext cx="0" cy="304920"/>
          </a:xfrm>
          <a:prstGeom prst="line">
            <a:avLst/>
          </a:prstGeom>
          <a:ln w="1260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276720" y="3733920"/>
            <a:ext cx="1828800" cy="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3733920"/>
            <a:ext cx="0" cy="129528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675160" y="3532320"/>
            <a:ext cx="4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402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2CEE-8D3E-48CE-979F-0BFB53A57B9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276720" y="2057400"/>
            <a:ext cx="0" cy="2971800"/>
          </a:xfrm>
          <a:prstGeom prst="line">
            <a:avLst/>
          </a:prstGeom>
          <a:ln w="2844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76720" y="5029200"/>
            <a:ext cx="40384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657600" y="2819520"/>
            <a:ext cx="2895480" cy="1828800"/>
          </a:xfrm>
          <a:prstGeom prst="line">
            <a:avLst/>
          </a:prstGeom>
          <a:ln w="2844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088760" y="5029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897640" y="2057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5181480" y="3733920"/>
            <a:ext cx="1524240" cy="0"/>
          </a:xfrm>
          <a:prstGeom prst="line">
            <a:avLst/>
          </a:prstGeom>
          <a:ln w="12600">
            <a:solidFill>
              <a:srgbClr val="402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209680" y="533520"/>
            <a:ext cx="518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Estática comparativa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4419360" y="1828800"/>
            <a:ext cx="1981080" cy="2971800"/>
          </a:xfrm>
          <a:prstGeom prst="line">
            <a:avLst/>
          </a:prstGeom>
          <a:ln w="2844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82920" y="3505320"/>
            <a:ext cx="145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2000"/>
                </a:solidFill>
                <a:latin typeface="Times New Roman"/>
              </a:rPr>
              <a:t>Exceso de demanda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86200" y="2743200"/>
            <a:ext cx="1219320" cy="0"/>
          </a:xfrm>
          <a:prstGeom prst="line">
            <a:avLst/>
          </a:prstGeom>
          <a:ln w="19080">
            <a:solidFill>
              <a:srgbClr val="4f68e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943600" y="4191120"/>
            <a:ext cx="1447920" cy="0"/>
          </a:xfrm>
          <a:prstGeom prst="line">
            <a:avLst/>
          </a:prstGeom>
          <a:ln w="12600">
            <a:solidFill>
              <a:srgbClr val="4f68e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3200400" y="3124080"/>
            <a:ext cx="0" cy="53352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76720" y="3733920"/>
            <a:ext cx="1828800" cy="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105520" y="3733920"/>
            <a:ext cx="0" cy="129528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681640" y="3505320"/>
            <a:ext cx="51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402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572000" y="2362320"/>
            <a:ext cx="2895480" cy="1828800"/>
          </a:xfrm>
          <a:prstGeom prst="line">
            <a:avLst/>
          </a:prstGeom>
          <a:ln w="2844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5181480" y="3047760"/>
            <a:ext cx="457200" cy="609480"/>
          </a:xfrm>
          <a:prstGeom prst="line">
            <a:avLst/>
          </a:prstGeom>
          <a:ln w="38160">
            <a:solidFill>
              <a:srgbClr val="4f68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5638680" y="3047760"/>
            <a:ext cx="1067040" cy="685800"/>
          </a:xfrm>
          <a:prstGeom prst="line">
            <a:avLst/>
          </a:prstGeom>
          <a:ln w="38160">
            <a:solidFill>
              <a:srgbClr val="4f68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3048120"/>
            <a:ext cx="2361960" cy="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681640" y="2743200"/>
            <a:ext cx="51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402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892040" y="5029200"/>
            <a:ext cx="566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402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349240" y="5029200"/>
            <a:ext cx="566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402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638680" y="3048120"/>
            <a:ext cx="0" cy="198108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057400" y="3124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P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105520" y="5486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Q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7589-58EA-4B68-907F-D4542A0D321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276720" y="2057400"/>
            <a:ext cx="0" cy="2971800"/>
          </a:xfrm>
          <a:prstGeom prst="line">
            <a:avLst/>
          </a:prstGeom>
          <a:ln w="2844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76720" y="5029200"/>
            <a:ext cx="40384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57600" y="2819520"/>
            <a:ext cx="2895480" cy="1828800"/>
          </a:xfrm>
          <a:prstGeom prst="line">
            <a:avLst/>
          </a:prstGeom>
          <a:ln w="2844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088760" y="5029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897640" y="2057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5181480" y="3733920"/>
            <a:ext cx="1524240" cy="0"/>
          </a:xfrm>
          <a:prstGeom prst="line">
            <a:avLst/>
          </a:prstGeom>
          <a:ln w="12600">
            <a:solidFill>
              <a:srgbClr val="402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752480" y="53352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Estática comparativa y elasticida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114800" y="2438280"/>
            <a:ext cx="3124080" cy="1905120"/>
          </a:xfrm>
          <a:prstGeom prst="line">
            <a:avLst/>
          </a:prstGeom>
          <a:ln w="28440">
            <a:solidFill>
              <a:srgbClr val="35d3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182920" y="3505320"/>
            <a:ext cx="145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2000"/>
                </a:solidFill>
                <a:latin typeface="Times New Roman"/>
              </a:rPr>
              <a:t>Exceso de demanda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2743200"/>
            <a:ext cx="1219320" cy="0"/>
          </a:xfrm>
          <a:prstGeom prst="line">
            <a:avLst/>
          </a:prstGeom>
          <a:ln w="19080">
            <a:solidFill>
              <a:srgbClr val="4f68e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943600" y="4191120"/>
            <a:ext cx="1447920" cy="0"/>
          </a:xfrm>
          <a:prstGeom prst="line">
            <a:avLst/>
          </a:prstGeom>
          <a:ln w="12600">
            <a:solidFill>
              <a:srgbClr val="4f68e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3200400" y="3047760"/>
            <a:ext cx="0" cy="68580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276720" y="3733920"/>
            <a:ext cx="1828800" cy="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105520" y="3733920"/>
            <a:ext cx="0" cy="129528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681640" y="3505320"/>
            <a:ext cx="51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402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572000" y="2362320"/>
            <a:ext cx="2895480" cy="1828800"/>
          </a:xfrm>
          <a:prstGeom prst="line">
            <a:avLst/>
          </a:prstGeom>
          <a:ln w="2844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5105520" y="3200400"/>
            <a:ext cx="838080" cy="533520"/>
          </a:xfrm>
          <a:prstGeom prst="line">
            <a:avLst/>
          </a:prstGeom>
          <a:ln w="38160">
            <a:solidFill>
              <a:srgbClr val="4f68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 flipV="1">
            <a:off x="5943240" y="3200400"/>
            <a:ext cx="762120" cy="533520"/>
          </a:xfrm>
          <a:prstGeom prst="line">
            <a:avLst/>
          </a:prstGeom>
          <a:ln w="38160">
            <a:solidFill>
              <a:srgbClr val="4f68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76720" y="3048120"/>
            <a:ext cx="2361960" cy="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681640" y="2743200"/>
            <a:ext cx="51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402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892040" y="5029200"/>
            <a:ext cx="566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402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349240" y="5029200"/>
            <a:ext cx="566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402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638680" y="3048120"/>
            <a:ext cx="0" cy="198108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57400" y="3124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P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105520" y="5486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Q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4419360" y="1676520"/>
            <a:ext cx="2361960" cy="2895480"/>
          </a:xfrm>
          <a:prstGeom prst="line">
            <a:avLst/>
          </a:prstGeom>
          <a:ln cap="rnd" w="28440">
            <a:solidFill>
              <a:srgbClr val="cd33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276720" y="3200400"/>
            <a:ext cx="2666880" cy="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943600" y="3200400"/>
            <a:ext cx="0" cy="182880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3657600" y="3200400"/>
            <a:ext cx="0" cy="53352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105520" y="4572000"/>
            <a:ext cx="83808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05520" y="5105520"/>
            <a:ext cx="53316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88DB-DF51-4C40-9766-22FACC7843B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276720" y="2057400"/>
            <a:ext cx="0" cy="2971800"/>
          </a:xfrm>
          <a:prstGeom prst="line">
            <a:avLst/>
          </a:prstGeom>
          <a:ln w="2844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76720" y="5029200"/>
            <a:ext cx="40384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657600" y="2819520"/>
            <a:ext cx="2895480" cy="1828800"/>
          </a:xfrm>
          <a:prstGeom prst="line">
            <a:avLst/>
          </a:prstGeom>
          <a:ln cap="rnd" w="28440">
            <a:solidFill>
              <a:srgbClr val="cd33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088760" y="5029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97640" y="2057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5181480" y="3733920"/>
            <a:ext cx="1524240" cy="0"/>
          </a:xfrm>
          <a:prstGeom prst="line">
            <a:avLst/>
          </a:prstGeom>
          <a:ln w="12600">
            <a:solidFill>
              <a:srgbClr val="402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4114800" y="2438280"/>
            <a:ext cx="3124080" cy="1905120"/>
          </a:xfrm>
          <a:prstGeom prst="line">
            <a:avLst/>
          </a:prstGeom>
          <a:ln w="28440">
            <a:solidFill>
              <a:srgbClr val="35d3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182920" y="3505320"/>
            <a:ext cx="145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2000"/>
                </a:solidFill>
                <a:latin typeface="Times New Roman"/>
              </a:rPr>
              <a:t>Exceso de demanda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800600" y="2590920"/>
            <a:ext cx="1447920" cy="0"/>
          </a:xfrm>
          <a:prstGeom prst="line">
            <a:avLst/>
          </a:prstGeom>
          <a:ln w="19080">
            <a:solidFill>
              <a:srgbClr val="4f68e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334120" y="4343400"/>
            <a:ext cx="1523880" cy="0"/>
          </a:xfrm>
          <a:prstGeom prst="line">
            <a:avLst/>
          </a:prstGeom>
          <a:ln w="12600">
            <a:solidFill>
              <a:srgbClr val="4f68e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200400" y="3200400"/>
            <a:ext cx="0" cy="53352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276720" y="3733920"/>
            <a:ext cx="1828800" cy="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105520" y="3733920"/>
            <a:ext cx="0" cy="129528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681640" y="3505320"/>
            <a:ext cx="51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402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572000" y="2362320"/>
            <a:ext cx="2895480" cy="1828800"/>
          </a:xfrm>
          <a:prstGeom prst="line">
            <a:avLst/>
          </a:prstGeom>
          <a:ln cap="rnd" w="28440">
            <a:solidFill>
              <a:srgbClr val="cd33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5105520" y="2895120"/>
            <a:ext cx="1371600" cy="838440"/>
          </a:xfrm>
          <a:prstGeom prst="line">
            <a:avLst/>
          </a:prstGeom>
          <a:ln w="38160">
            <a:solidFill>
              <a:srgbClr val="4f68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681640" y="2971800"/>
            <a:ext cx="51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402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892040" y="5029200"/>
            <a:ext cx="566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402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653800" y="5029200"/>
            <a:ext cx="566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402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057400" y="3124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P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257800" y="5410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Q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76720" y="3200400"/>
            <a:ext cx="2666880" cy="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943600" y="3200400"/>
            <a:ext cx="0" cy="182880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105520" y="5105520"/>
            <a:ext cx="83808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724280" y="2590920"/>
            <a:ext cx="762120" cy="2209680"/>
          </a:xfrm>
          <a:prstGeom prst="line">
            <a:avLst/>
          </a:prstGeom>
          <a:ln w="28440">
            <a:solidFill>
              <a:srgbClr val="38c1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248520" y="2362320"/>
            <a:ext cx="761760" cy="2209680"/>
          </a:xfrm>
          <a:prstGeom prst="line">
            <a:avLst/>
          </a:prstGeom>
          <a:ln w="28440">
            <a:solidFill>
              <a:srgbClr val="38c1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 flipV="1">
            <a:off x="6400440" y="2895120"/>
            <a:ext cx="304920" cy="838440"/>
          </a:xfrm>
          <a:prstGeom prst="line">
            <a:avLst/>
          </a:prstGeom>
          <a:ln w="38160">
            <a:solidFill>
              <a:srgbClr val="4f68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276720" y="2895480"/>
            <a:ext cx="3124080" cy="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400800" y="2895480"/>
            <a:ext cx="0" cy="213372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3581280" y="2895120"/>
            <a:ext cx="0" cy="83844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105520" y="4724280"/>
            <a:ext cx="129528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752480" y="53352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Estática comparativa y elasticida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B6F7-66FC-46AA-BC6E-0208E1F80F0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1371600" y="1371600"/>
                <a:ext cx="6084720" cy="40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1143000" y="2055960"/>
                <a:ext cx="7467480" cy="35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lasticidad punto: </m:t>
                        </m:r>
                        <m:r>
                          <m:t xml:space="preserve">e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lasticidad arco:</m:t>
                        </m:r>
                      </m:e>
                      <m:e>
                        <m:r>
                          <m:t xml:space="preserve">e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ΔQ</m:t>
                            </m:r>
                          </m:num>
                          <m:den>
                            <m:r>
                              <m:t xml:space="preserve">ΔP</m:t>
                            </m:r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P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Q</m:t>
                            </m:r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Q</m:t>
                            </m:r>
                            <m:r>
                              <m:t xml:space="preserve">f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43" name=""/>
          <p:cNvSpPr/>
          <p:nvPr/>
        </p:nvSpPr>
        <p:spPr>
          <a:xfrm>
            <a:off x="1981080" y="76212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02000"/>
                </a:solidFill>
                <a:latin typeface="Times New Roman"/>
              </a:rPr>
              <a:t>Elasticidad precio de la demand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E52D7-6C51-416F-8219-9B294BE154F9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1523880" y="1400040"/>
                <a:ext cx="6085080" cy="405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1905120" y="1219320"/>
                <a:ext cx="5790960" cy="379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/>
                      <m:e/>
                      <m:e>
                        <m:r>
                          <m:t xml:space="preserve">e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I</m:t>
                            </m:r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46" name=""/>
          <p:cNvSpPr/>
          <p:nvPr/>
        </p:nvSpPr>
        <p:spPr>
          <a:xfrm>
            <a:off x="2133720" y="990720"/>
            <a:ext cx="6092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402000"/>
                </a:solidFill>
                <a:uFillTx/>
                <a:latin typeface="Times New Roman"/>
              </a:rPr>
              <a:t>Elasticidad ingreso de la demanda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25F9A-8F87-4804-8B5C-AD611595531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1523880" y="1400040"/>
                <a:ext cx="6085080" cy="405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1828800" y="1430280"/>
                <a:ext cx="5823000" cy="380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/>
                      <m:e>
                        <m:r>
                          <m:t xml:space="preserve">e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,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,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49" name=""/>
          <p:cNvSpPr/>
          <p:nvPr/>
        </p:nvSpPr>
        <p:spPr>
          <a:xfrm>
            <a:off x="1752480" y="609480"/>
            <a:ext cx="6778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402000"/>
                </a:solidFill>
                <a:uFillTx/>
                <a:latin typeface="Times New Roman"/>
              </a:rPr>
              <a:t>Elasticidad precio cruzada de la demanda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F6842-4502-4BD9-8E3B-04F99F780269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962520" y="38088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Mercado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143000" y="533520"/>
            <a:ext cx="22860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Asig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553080" y="457200"/>
            <a:ext cx="21337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Racio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19320" y="1752480"/>
            <a:ext cx="7467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80"/>
                </a:solidFill>
                <a:latin typeface="Times New Roman"/>
              </a:rPr>
              <a:t>Oferta y Demanda se refieren a la forma que se interrelacionan (intercambian) las personas en los mercado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80"/>
              </a:buClr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80"/>
                </a:solidFill>
                <a:latin typeface="Times New Roman"/>
              </a:rPr>
              <a:t>Demanda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Deseos, necesidades, gustos, preferenci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Preci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Ingres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Alternativ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Futur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BC96-D6E2-4A6D-BA01-799BF4CD6D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3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3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3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3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3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3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3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962520" y="38088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Mercado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143000" y="533520"/>
            <a:ext cx="22860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Asig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553080" y="457200"/>
            <a:ext cx="21337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Racio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19320" y="1752480"/>
            <a:ext cx="7467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80"/>
                </a:solidFill>
                <a:latin typeface="Times New Roman"/>
              </a:rPr>
              <a:t>Oferta y Demanda se refieren a la forma que se interrelacionan (intercambian) las personas en los mercado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80"/>
              </a:buClr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80"/>
                </a:solidFill>
                <a:latin typeface="Times New Roman"/>
              </a:rPr>
              <a:t>Oferta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Tecnología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Preci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Cost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Alternativ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Futur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9675-F7E6-4149-8808-6E70F449C9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3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3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3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3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3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3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3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76720" y="2057400"/>
            <a:ext cx="0" cy="2971800"/>
          </a:xfrm>
          <a:prstGeom prst="line">
            <a:avLst/>
          </a:prstGeom>
          <a:ln w="2844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5029200"/>
            <a:ext cx="40384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657600" y="2819520"/>
            <a:ext cx="2895480" cy="1828800"/>
          </a:xfrm>
          <a:prstGeom prst="line">
            <a:avLst/>
          </a:prstGeom>
          <a:ln w="2844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88760" y="5029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97640" y="2057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05520" y="3733920"/>
            <a:ext cx="0" cy="1295280"/>
          </a:xfrm>
          <a:prstGeom prst="line">
            <a:avLst/>
          </a:prstGeom>
          <a:ln w="1260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82320" y="510552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276720" y="3733920"/>
            <a:ext cx="182880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53352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Demanda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24920" y="350532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E9CF-DEB4-4CBE-BDB2-101FEE934C7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657600" y="1905120"/>
            <a:ext cx="0" cy="2971800"/>
          </a:xfrm>
          <a:prstGeom prst="line">
            <a:avLst/>
          </a:prstGeom>
          <a:ln w="2844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4876920"/>
            <a:ext cx="40384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38480" y="2666880"/>
            <a:ext cx="2895840" cy="1828800"/>
          </a:xfrm>
          <a:prstGeom prst="line">
            <a:avLst/>
          </a:prstGeom>
          <a:ln w="2844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69640" y="4876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78520" y="1905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541008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Variación de la cantidad demandad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3581280"/>
            <a:ext cx="0" cy="1295640"/>
          </a:xfrm>
          <a:prstGeom prst="line">
            <a:avLst/>
          </a:prstGeom>
          <a:ln w="1260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263200" y="49528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657600" y="3581280"/>
            <a:ext cx="182880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05800" y="335268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29000" y="53352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Demanda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05800" y="289548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657240" y="3124080"/>
            <a:ext cx="106668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24280" y="3124080"/>
            <a:ext cx="0" cy="1752840"/>
          </a:xfrm>
          <a:prstGeom prst="line">
            <a:avLst/>
          </a:prstGeom>
          <a:ln w="1260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7400" y="49528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4723920" y="3124080"/>
            <a:ext cx="762120" cy="457200"/>
          </a:xfrm>
          <a:prstGeom prst="line">
            <a:avLst/>
          </a:prstGeom>
          <a:ln w="38160">
            <a:solidFill>
              <a:srgbClr val="4f68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31240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Variación del precio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EBD9-1860-4C3F-B9F4-E0C966B973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971800" y="2286000"/>
            <a:ext cx="0" cy="2971800"/>
          </a:xfrm>
          <a:prstGeom prst="line">
            <a:avLst/>
          </a:prstGeom>
          <a:ln w="2844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71800" y="5257800"/>
            <a:ext cx="40384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52680" y="3048120"/>
            <a:ext cx="2895840" cy="1828800"/>
          </a:xfrm>
          <a:prstGeom prst="line">
            <a:avLst/>
          </a:prstGeom>
          <a:ln w="2844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83840" y="5257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16400" y="2057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00600" y="259092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Variación de la demandad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00600" y="3962520"/>
            <a:ext cx="0" cy="1295280"/>
          </a:xfrm>
          <a:prstGeom prst="line">
            <a:avLst/>
          </a:prstGeom>
          <a:ln w="1260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7400" y="533412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971800" y="3962520"/>
            <a:ext cx="182880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20000" y="373392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29000" y="53352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Demanda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20000" y="327672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971440" y="3505320"/>
            <a:ext cx="106668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038480" y="3505320"/>
            <a:ext cx="0" cy="1752480"/>
          </a:xfrm>
          <a:prstGeom prst="line">
            <a:avLst/>
          </a:prstGeom>
          <a:ln w="1260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91600" y="533412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86200" y="2819520"/>
            <a:ext cx="3276720" cy="1600200"/>
          </a:xfrm>
          <a:prstGeom prst="line">
            <a:avLst/>
          </a:prstGeom>
          <a:ln w="2844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15000" y="4419720"/>
            <a:ext cx="1143000" cy="0"/>
          </a:xfrm>
          <a:prstGeom prst="line">
            <a:avLst/>
          </a:prstGeom>
          <a:ln w="9360">
            <a:solidFill>
              <a:srgbClr val="4f68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267080" y="3581280"/>
            <a:ext cx="990720" cy="0"/>
          </a:xfrm>
          <a:prstGeom prst="line">
            <a:avLst/>
          </a:prstGeom>
          <a:ln w="9360">
            <a:solidFill>
              <a:srgbClr val="4f68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0600" y="3276720"/>
            <a:ext cx="0" cy="1981080"/>
          </a:xfrm>
          <a:prstGeom prst="line">
            <a:avLst/>
          </a:prstGeom>
          <a:ln w="1260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38480" y="2895480"/>
            <a:ext cx="0" cy="2286000"/>
          </a:xfrm>
          <a:prstGeom prst="line">
            <a:avLst/>
          </a:prstGeom>
          <a:ln w="1260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971800" y="3276720"/>
            <a:ext cx="182880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2971440" y="2895480"/>
            <a:ext cx="106668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20000" y="297180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20000" y="266688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402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ABB3-047F-4160-90B1-C4A9B0BB257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657600" y="1905120"/>
            <a:ext cx="0" cy="2971800"/>
          </a:xfrm>
          <a:prstGeom prst="line">
            <a:avLst/>
          </a:prstGeom>
          <a:ln w="2844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657600" y="4876920"/>
            <a:ext cx="40384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5105520" y="2057400"/>
            <a:ext cx="1218960" cy="2286000"/>
          </a:xfrm>
          <a:prstGeom prst="line">
            <a:avLst/>
          </a:prstGeom>
          <a:ln w="2844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469640" y="4876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78520" y="1905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57600" y="541008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Variación de la cantidad ofertad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86400" y="3581280"/>
            <a:ext cx="0" cy="1295640"/>
          </a:xfrm>
          <a:prstGeom prst="line">
            <a:avLst/>
          </a:prstGeom>
          <a:ln w="1260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63200" y="49528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3657600" y="3581280"/>
            <a:ext cx="182880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05800" y="335268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53352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Oferta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05800" y="266688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3657600" y="2895480"/>
            <a:ext cx="220968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867280" y="2971800"/>
            <a:ext cx="0" cy="1905120"/>
          </a:xfrm>
          <a:prstGeom prst="line">
            <a:avLst/>
          </a:prstGeom>
          <a:ln w="1260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720400" y="49528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5486400" y="2895120"/>
            <a:ext cx="380880" cy="685800"/>
          </a:xfrm>
          <a:prstGeom prst="line">
            <a:avLst/>
          </a:prstGeom>
          <a:ln w="38160">
            <a:solidFill>
              <a:srgbClr val="4f68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31240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Variación del precio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A5BC-F32D-46AB-9BC3-48BED638AFB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971800" y="2286000"/>
            <a:ext cx="0" cy="2971800"/>
          </a:xfrm>
          <a:prstGeom prst="line">
            <a:avLst/>
          </a:prstGeom>
          <a:ln w="2844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971800" y="5257800"/>
            <a:ext cx="40384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3489480" y="2737080"/>
            <a:ext cx="2739600" cy="2326680"/>
          </a:xfrm>
          <a:prstGeom prst="line">
            <a:avLst/>
          </a:prstGeom>
          <a:ln w="2844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83840" y="5257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16400" y="2057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943600" y="22096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Variación de la ofert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00600" y="3962520"/>
            <a:ext cx="0" cy="1295280"/>
          </a:xfrm>
          <a:prstGeom prst="line">
            <a:avLst/>
          </a:prstGeom>
          <a:ln w="1260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15640" y="533412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2971440" y="4572000"/>
            <a:ext cx="106668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96320" y="434340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20000" y="373392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971440" y="3505320"/>
            <a:ext cx="106668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38480" y="4572000"/>
            <a:ext cx="0" cy="685800"/>
          </a:xfrm>
          <a:prstGeom prst="line">
            <a:avLst/>
          </a:prstGeom>
          <a:ln w="1260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77400" y="533412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3539520" y="1818360"/>
            <a:ext cx="2957040" cy="2043360"/>
          </a:xfrm>
          <a:prstGeom prst="line">
            <a:avLst/>
          </a:prstGeom>
          <a:ln w="2844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105520" y="2819520"/>
            <a:ext cx="990360" cy="0"/>
          </a:xfrm>
          <a:prstGeom prst="line">
            <a:avLst/>
          </a:prstGeom>
          <a:ln w="9360">
            <a:solidFill>
              <a:srgbClr val="4f68e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352680"/>
            <a:ext cx="1143000" cy="0"/>
          </a:xfrm>
          <a:prstGeom prst="line">
            <a:avLst/>
          </a:prstGeom>
          <a:ln w="9360">
            <a:solidFill>
              <a:srgbClr val="4f68e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00600" y="2971800"/>
            <a:ext cx="0" cy="2286000"/>
          </a:xfrm>
          <a:prstGeom prst="line">
            <a:avLst/>
          </a:prstGeom>
          <a:ln w="1260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2971800" y="3962520"/>
            <a:ext cx="182880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2971800" y="2971800"/>
            <a:ext cx="182880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96320" y="320040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96320" y="274320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402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038480" y="3505320"/>
            <a:ext cx="0" cy="1752480"/>
          </a:xfrm>
          <a:prstGeom prst="line">
            <a:avLst/>
          </a:prstGeom>
          <a:ln w="1260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09880" y="53352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Oferta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9A99-B8AA-4EE5-9982-3751DD54D0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96633"/>
                </a:solidFill>
                <a:uFillTx/>
                <a:latin typeface="Times New Roman"/>
              </a:rPr>
              <a:t>Mercado - Competencia - Optimalidad</a:t>
            </a:r>
            <a:endParaRPr b="0" lang="en-US" sz="2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89320" y="1986120"/>
            <a:ext cx="0" cy="672840"/>
          </a:xfrm>
          <a:prstGeom prst="line">
            <a:avLst/>
          </a:prstGeom>
          <a:ln w="1260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182840" y="2665440"/>
            <a:ext cx="1003320" cy="0"/>
          </a:xfrm>
          <a:prstGeom prst="line">
            <a:avLst/>
          </a:prstGeom>
          <a:ln w="1260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348080" y="2138400"/>
            <a:ext cx="901800" cy="13968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564080" y="1986120"/>
            <a:ext cx="241200" cy="52056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5800" y="2208240"/>
            <a:ext cx="520560" cy="0"/>
          </a:xfrm>
          <a:prstGeom prst="line">
            <a:avLst/>
          </a:prstGeom>
          <a:ln w="12600">
            <a:solidFill>
              <a:srgbClr val="402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722840" y="2201760"/>
            <a:ext cx="0" cy="470160"/>
          </a:xfrm>
          <a:prstGeom prst="line">
            <a:avLst/>
          </a:prstGeom>
          <a:ln w="12600">
            <a:solidFill>
              <a:srgbClr val="402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733920" y="2057400"/>
            <a:ext cx="37764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imes New Roman"/>
              </a:rPr>
              <a:t>o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02160" y="2666880"/>
            <a:ext cx="37764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imes New Roman"/>
              </a:rPr>
              <a:t>o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668760" y="1763640"/>
            <a:ext cx="1650960" cy="1270080"/>
          </a:xfrm>
          <a:prstGeom prst="ellipse">
            <a:avLst/>
          </a:prstGeom>
          <a:noFill/>
          <a:ln w="255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76720" y="1371600"/>
            <a:ext cx="2435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2000"/>
                </a:solidFill>
                <a:latin typeface="Arial"/>
              </a:rPr>
              <a:t>Mercado Competitivo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70080" y="2800440"/>
            <a:ext cx="2016000" cy="1062360"/>
          </a:xfrm>
          <a:prstGeom prst="rect">
            <a:avLst/>
          </a:prstGeom>
          <a:noFill/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2000"/>
                </a:solidFill>
                <a:latin typeface="Arial"/>
              </a:rPr>
              <a:t>Ningún agente económico puede afectar por si solo los precio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903320" y="2367000"/>
            <a:ext cx="457200" cy="457200"/>
            <a:chOff x="1903320" y="2367000"/>
            <a:chExt cx="457200" cy="457200"/>
          </a:xfrm>
        </p:grpSpPr>
        <p:sp>
          <p:nvSpPr>
            <p:cNvPr id="208" name=""/>
            <p:cNvSpPr/>
            <p:nvPr/>
          </p:nvSpPr>
          <p:spPr>
            <a:xfrm flipV="1">
              <a:off x="1903320" y="2430360"/>
              <a:ext cx="139680" cy="39384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 flipV="1">
              <a:off x="2119320" y="2430360"/>
              <a:ext cx="241200" cy="39384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055600" y="2367000"/>
              <a:ext cx="63720" cy="13968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5718240" y="2419200"/>
            <a:ext cx="2415960" cy="332280"/>
          </a:xfrm>
          <a:prstGeom prst="rect">
            <a:avLst/>
          </a:prstGeom>
          <a:noFill/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2000"/>
                </a:solidFill>
                <a:latin typeface="Arial"/>
              </a:rPr>
              <a:t>Perfecta información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6627960" y="1986120"/>
            <a:ext cx="457200" cy="456840"/>
            <a:chOff x="6627960" y="1986120"/>
            <a:chExt cx="457200" cy="456840"/>
          </a:xfrm>
        </p:grpSpPr>
        <p:sp>
          <p:nvSpPr>
            <p:cNvPr id="213" name=""/>
            <p:cNvSpPr/>
            <p:nvPr/>
          </p:nvSpPr>
          <p:spPr>
            <a:xfrm flipV="1">
              <a:off x="6627960" y="2049480"/>
              <a:ext cx="139680" cy="39348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 flipV="1">
              <a:off x="6843960" y="2049480"/>
              <a:ext cx="241200" cy="39348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780600" y="1986120"/>
              <a:ext cx="63360" cy="13968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4800600" y="4038480"/>
            <a:ext cx="2343240" cy="332280"/>
          </a:xfrm>
          <a:prstGeom prst="rect">
            <a:avLst/>
          </a:prstGeom>
          <a:noFill/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2000"/>
                </a:solidFill>
                <a:latin typeface="Arial"/>
              </a:rPr>
              <a:t>Bienes homogéneo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684760" y="3605040"/>
            <a:ext cx="442800" cy="457200"/>
            <a:chOff x="5684760" y="3605040"/>
            <a:chExt cx="442800" cy="457200"/>
          </a:xfrm>
        </p:grpSpPr>
        <p:sp>
          <p:nvSpPr>
            <p:cNvPr id="218" name=""/>
            <p:cNvSpPr/>
            <p:nvPr/>
          </p:nvSpPr>
          <p:spPr>
            <a:xfrm flipV="1">
              <a:off x="5684760" y="3668400"/>
              <a:ext cx="134640" cy="39384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 flipV="1">
              <a:off x="5894280" y="3668400"/>
              <a:ext cx="233280" cy="39384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32360" y="3605040"/>
              <a:ext cx="61920" cy="13968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2286000" y="4952880"/>
            <a:ext cx="1839960" cy="819000"/>
          </a:xfrm>
          <a:prstGeom prst="rect">
            <a:avLst/>
          </a:prstGeom>
          <a:noFill/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2000"/>
                </a:solidFill>
                <a:latin typeface="Arial"/>
              </a:rPr>
              <a:t>Las decisiones individuales no afectan a otro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933640" y="4495680"/>
            <a:ext cx="192240" cy="47160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3230640" y="4495680"/>
            <a:ext cx="317520" cy="47160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138480" y="4416480"/>
            <a:ext cx="92160" cy="171360"/>
          </a:xfrm>
          <a:prstGeom prst="ellipse">
            <a:avLst/>
          </a:prstGeom>
          <a:solidFill>
            <a:srgbClr val="996633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130800" y="5310360"/>
            <a:ext cx="1886040" cy="332280"/>
          </a:xfrm>
          <a:prstGeom prst="rect">
            <a:avLst/>
          </a:prstGeom>
          <a:noFill/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2000"/>
                </a:solidFill>
                <a:latin typeface="Arial"/>
              </a:rPr>
              <a:t>Bienes público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6786720" y="4940280"/>
            <a:ext cx="134640" cy="39384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6996240" y="4940280"/>
            <a:ext cx="233280" cy="39384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934320" y="4876920"/>
            <a:ext cx="61920" cy="139680"/>
          </a:xfrm>
          <a:prstGeom prst="ellipse">
            <a:avLst/>
          </a:prstGeom>
          <a:solidFill>
            <a:srgbClr val="996633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B1F59-263F-463C-8758-3A563C737EA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6T16:03:53Z</dcterms:created>
  <dc:creator>XX</dc:creator>
  <dc:description/>
  <dc:language>en-US</dc:language>
  <cp:lastModifiedBy> Marco Hauva</cp:lastModifiedBy>
  <dcterms:modified xsi:type="dcterms:W3CDTF">2006-05-08T17:34:44Z</dcterms:modified>
  <cp:revision>31</cp:revision>
  <dc:subject/>
  <dc:title>Sin título de diapositiva</dc:title>
</cp:coreProperties>
</file>