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TECLA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FCA5-C375-44A1-82DC-2E77A4556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9E97-674B-4241-AD2A-F70CF6AAD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FD5B-340A-45F2-A82E-85460A74C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F5BF-ABA6-4192-AEB8-A6318091D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8EF12-AD1F-477B-B249-35963D639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749E4-A4B7-48B0-9379-3469A8C5E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3C98A-EAD7-4E62-B026-DF0AC1E2F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4BEB6-F170-43C8-A8D8-8D5668BB0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98A34-4D88-48AE-B049-8D69330A0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41948-3A00-4BDE-8AE9-2CCE0BA40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751DA-FD26-4327-964E-05CDFA426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ABCC-0AE2-49EF-8634-1CC2E499B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30348-A249-457E-8312-E57DCA555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7F9B1-6E65-411D-8C31-2DFBC8829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17E0A-CACD-401A-A0B7-18F0F16B1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CE4DF-C588-41CA-A07B-370242FBA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11024-9AA1-4A24-AA80-7998D2594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35E6-72B7-482B-A043-B9DD75AEE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2B10-704C-4E6B-A92A-7E278B889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1B1B-42F4-41BC-94C2-61CF8F551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EA99-BFFA-47C9-BA14-E940E33A8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153D-43B2-425C-96EC-DAB9F59A2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8FBD-84CA-4932-838D-6E3B569CA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1055-FBF7-4302-A282-6E51858D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8C4D3-E4EA-4BD9-91EF-780F750CB600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75478-8F8C-4C70-AB01-60E36CA72C08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TECLA.WAV"/><Relationship Id="rId2" Type="http://schemas.openxmlformats.org/officeDocument/2006/relationships/audio" Target="../media/TECLA.WAV"/><Relationship Id="rId3" Type="http://schemas.openxmlformats.org/officeDocument/2006/relationships/audio" Target="../media/TECLA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audio" Target="../media/TECLA.WAV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audio" Target="../media/TECLA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ECLA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ECLA.WAV"/><Relationship Id="rId2" Type="http://schemas.openxmlformats.org/officeDocument/2006/relationships/audio" Target="../media/TECLA.WAV"/><Relationship Id="rId3" Type="http://schemas.openxmlformats.org/officeDocument/2006/relationships/audio" Target="../media/TECLA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ECLA.WAV"/><Relationship Id="rId2" Type="http://schemas.openxmlformats.org/officeDocument/2006/relationships/audio" Target="../media/TECLA.WAV"/><Relationship Id="rId3" Type="http://schemas.openxmlformats.org/officeDocument/2006/relationships/audio" Target="../media/TECLA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657600" y="457200"/>
            <a:ext cx="266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402000"/>
                </a:solidFill>
                <a:latin typeface="Times New Roman"/>
              </a:rPr>
              <a:t>Economía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66680" y="259092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402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Asignación de los recursos escasos a distintos fines rival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66680" y="32767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402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Cómo se enfrentan a la escasez las personas y las sociedad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39625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402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La manera en que las sociedades utilizan los recursos     escasos para producir mercancías valiosas y distribuirlas entre los individu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66680" y="190512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402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Modo en que la sociedad gestiona los recursos escas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7CBA-3572-423E-B406-EB9425A2586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75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75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75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75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8" dur="1" fill="hold"/>
                                  <p:tgtEl>
                                    <p:spTgt spid="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066680" y="533520"/>
            <a:ext cx="74678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4f68e3"/>
                </a:solidFill>
                <a:latin typeface="Times New Roman"/>
              </a:rPr>
              <a:t>CÓMO LAS PERSONAS TOMAN DECISION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43000" y="1752480"/>
            <a:ext cx="70866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Principio 4: las personas responden a incentivo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Times New Roman"/>
              </a:rPr>
              <a:t>Venta de ilegal de cigarrillo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Times New Roman"/>
              </a:rPr>
              <a:t>Asistencia a clas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Times New Roman"/>
              </a:rPr>
              <a:t>Quema de bosqu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Times New Roman"/>
              </a:rPr>
              <a:t>Subsidio al emple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6C82-B401-4CC0-8F8F-48A7BA32B91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04920" y="228600"/>
            <a:ext cx="8839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402000"/>
                </a:solidFill>
                <a:uFillTx/>
                <a:latin typeface="Times New Roman"/>
              </a:rPr>
              <a:t>FLUJO CIRCULAR DEL INGRESO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402000"/>
                </a:solidFill>
                <a:uFillTx/>
                <a:latin typeface="Times New Roman"/>
              </a:rPr>
              <a:t>ECONOMÍA CERRADA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76720" y="34290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Déficit- Superávit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895480" y="1219320"/>
            <a:ext cx="3200400" cy="83304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9a7f32"/>
              </a:gs>
            </a:gsLst>
            <a:lin ang="5400000"/>
          </a:gra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402000"/>
                </a:solidFill>
                <a:latin typeface="Times New Roman"/>
              </a:rPr>
              <a:t>Mercado de factor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402000"/>
                </a:solidFill>
                <a:latin typeface="Times New Roman"/>
              </a:rPr>
              <a:t>productiv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00600" y="2590920"/>
            <a:ext cx="1676520" cy="6426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9a7f32"/>
              </a:gs>
            </a:gsLst>
            <a:lin ang="5400000"/>
          </a:gra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402000"/>
                </a:solidFill>
                <a:latin typeface="Times New Roman"/>
              </a:rPr>
              <a:t>Mercado  financier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05320" y="4082400"/>
            <a:ext cx="1676160" cy="520560"/>
          </a:xfrm>
          <a:prstGeom prst="rect">
            <a:avLst/>
          </a:prstGeom>
          <a:gradFill rotWithShape="0">
            <a:gsLst>
              <a:gs pos="0">
                <a:srgbClr val="eca07a"/>
              </a:gs>
              <a:gs pos="100000">
                <a:srgbClr val="ce9964"/>
              </a:gs>
            </a:gsLst>
            <a:lin ang="5400000"/>
          </a:gra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402000"/>
                </a:solidFill>
                <a:latin typeface="Times New Roman"/>
              </a:rPr>
              <a:t>Gobierno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90920" y="5543640"/>
            <a:ext cx="2666880" cy="6426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9a7f32"/>
              </a:gs>
            </a:gsLst>
            <a:lin ang="5400000"/>
          </a:gra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402000"/>
                </a:solidFill>
                <a:latin typeface="Times New Roman"/>
              </a:rPr>
              <a:t>Mercado de bienes y servici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629400" y="3169440"/>
            <a:ext cx="1828800" cy="520560"/>
          </a:xfrm>
          <a:prstGeom prst="rect">
            <a:avLst/>
          </a:prstGeom>
          <a:gradFill rotWithShape="0">
            <a:gsLst>
              <a:gs pos="0">
                <a:srgbClr val="eca07a"/>
              </a:gs>
              <a:gs pos="100000">
                <a:srgbClr val="ce9964"/>
              </a:gs>
            </a:gsLst>
            <a:lin ang="5400000"/>
          </a:gra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402000"/>
                </a:solidFill>
                <a:latin typeface="Times New Roman"/>
              </a:rPr>
              <a:t>Empresa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14400" y="3201120"/>
            <a:ext cx="1600200" cy="520560"/>
          </a:xfrm>
          <a:prstGeom prst="rect">
            <a:avLst/>
          </a:prstGeom>
          <a:gradFill rotWithShape="0">
            <a:gsLst>
              <a:gs pos="0">
                <a:srgbClr val="eca07a"/>
              </a:gs>
              <a:gs pos="100000">
                <a:srgbClr val="ce9964"/>
              </a:gs>
            </a:gsLst>
            <a:lin ang="5400000"/>
          </a:gra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402000"/>
                </a:solidFill>
                <a:latin typeface="Times New Roman"/>
              </a:rPr>
              <a:t>Hogar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95880" y="1697040"/>
            <a:ext cx="1524240" cy="1427040"/>
          </a:xfrm>
          <a:custGeom>
            <a:avLst/>
            <a:gdLst/>
            <a:ahLst/>
            <a:rect l="l" t="t" r="r" b="b"/>
            <a:pathLst>
              <a:path w="1152" h="1056">
                <a:moveTo>
                  <a:pt x="1152" y="1056"/>
                </a:moveTo>
                <a:lnTo>
                  <a:pt x="1152" y="0"/>
                </a:lnTo>
                <a:lnTo>
                  <a:pt x="0" y="0"/>
                </a:lnTo>
              </a:path>
            </a:pathLst>
          </a:custGeom>
          <a:noFill/>
          <a:ln w="22320">
            <a:solidFill>
              <a:srgbClr val="402000"/>
            </a:solidFill>
            <a:round/>
            <a:headEnd len="lg" type="oval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34120" y="3657600"/>
            <a:ext cx="2286000" cy="2209680"/>
          </a:xfrm>
          <a:custGeom>
            <a:avLst/>
            <a:gdLst/>
            <a:ahLst/>
            <a:rect l="l" t="t" r="r" b="b"/>
            <a:pathLst>
              <a:path w="1104" h="1584">
                <a:moveTo>
                  <a:pt x="0" y="1584"/>
                </a:moveTo>
                <a:lnTo>
                  <a:pt x="1104" y="1584"/>
                </a:lnTo>
                <a:lnTo>
                  <a:pt x="1104" y="0"/>
                </a:lnTo>
              </a:path>
            </a:pathLst>
          </a:custGeom>
          <a:noFill/>
          <a:ln w="22320">
            <a:solidFill>
              <a:srgbClr val="402000"/>
            </a:solidFill>
            <a:round/>
            <a:headEnd len="lg" type="oval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895480"/>
            <a:ext cx="2666880" cy="228600"/>
          </a:xfrm>
          <a:custGeom>
            <a:avLst/>
            <a:gdLst/>
            <a:ahLst/>
            <a:rect l="l" t="t" r="r" b="b"/>
            <a:pathLst>
              <a:path w="1344" h="192">
                <a:moveTo>
                  <a:pt x="0" y="192"/>
                </a:moveTo>
                <a:lnTo>
                  <a:pt x="0" y="0"/>
                </a:lnTo>
                <a:lnTo>
                  <a:pt x="1344" y="0"/>
                </a:lnTo>
              </a:path>
            </a:pathLst>
          </a:custGeom>
          <a:noFill/>
          <a:ln w="22320">
            <a:solidFill>
              <a:srgbClr val="402000"/>
            </a:solidFill>
            <a:round/>
            <a:headEnd len="lg" type="oval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95280" y="1752480"/>
            <a:ext cx="1524240" cy="1444680"/>
          </a:xfrm>
          <a:custGeom>
            <a:avLst/>
            <a:gdLst/>
            <a:ahLst/>
            <a:rect l="l" t="t" r="r" b="b"/>
            <a:pathLst>
              <a:path w="192" h="1056">
                <a:moveTo>
                  <a:pt x="192" y="0"/>
                </a:moveTo>
                <a:lnTo>
                  <a:pt x="0" y="0"/>
                </a:lnTo>
                <a:lnTo>
                  <a:pt x="0" y="1056"/>
                </a:lnTo>
              </a:path>
            </a:pathLst>
          </a:custGeom>
          <a:noFill/>
          <a:ln w="22320">
            <a:solidFill>
              <a:srgbClr val="402000"/>
            </a:solidFill>
            <a:round/>
            <a:headEnd len="lg" type="oval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133720" y="3733920"/>
            <a:ext cx="1371600" cy="571320"/>
          </a:xfrm>
          <a:custGeom>
            <a:avLst/>
            <a:gdLst/>
            <a:ahLst/>
            <a:rect l="l" t="t" r="r" b="b"/>
            <a:pathLst>
              <a:path w="864" h="528">
                <a:moveTo>
                  <a:pt x="0" y="0"/>
                </a:moveTo>
                <a:lnTo>
                  <a:pt x="0" y="528"/>
                </a:lnTo>
                <a:lnTo>
                  <a:pt x="864" y="528"/>
                </a:lnTo>
              </a:path>
            </a:pathLst>
          </a:custGeom>
          <a:noFill/>
          <a:ln w="22320">
            <a:solidFill>
              <a:srgbClr val="402000"/>
            </a:solidFill>
            <a:round/>
            <a:headEnd len="lg" type="oval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95280" y="3733920"/>
            <a:ext cx="1219320" cy="2071440"/>
          </a:xfrm>
          <a:custGeom>
            <a:avLst/>
            <a:gdLst/>
            <a:ahLst/>
            <a:rect l="l" t="t" r="r" b="b"/>
            <a:pathLst>
              <a:path w="768" h="1632">
                <a:moveTo>
                  <a:pt x="0" y="0"/>
                </a:moveTo>
                <a:lnTo>
                  <a:pt x="0" y="1632"/>
                </a:lnTo>
                <a:lnTo>
                  <a:pt x="768" y="1632"/>
                </a:lnTo>
              </a:path>
            </a:pathLst>
          </a:custGeom>
          <a:noFill/>
          <a:ln w="22320">
            <a:solidFill>
              <a:srgbClr val="402000"/>
            </a:solidFill>
            <a:round/>
            <a:headEnd len="lg" type="oval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114800" y="4648320"/>
            <a:ext cx="1440" cy="895320"/>
          </a:xfrm>
          <a:prstGeom prst="line">
            <a:avLst/>
          </a:prstGeom>
          <a:ln w="22320">
            <a:solidFill>
              <a:srgbClr val="402000"/>
            </a:solidFill>
            <a:miter/>
            <a:headEnd len="lg" type="oval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172200" y="1295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Pago a factor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47920" y="1371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Ingres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19320" y="58039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Consum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4120" y="58672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Ingreso de empresa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248520" y="3733920"/>
            <a:ext cx="5014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Inversió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057400" y="24796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Ahorro privad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447920" y="4267080"/>
            <a:ext cx="20574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02000"/>
                </a:solidFill>
                <a:latin typeface="Times New Roman"/>
              </a:rPr>
              <a:t>Impuestos Directos - Transferencias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49528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Gasto del Gobiern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257800" y="3276720"/>
            <a:ext cx="990720" cy="2361960"/>
          </a:xfrm>
          <a:custGeom>
            <a:avLst/>
            <a:gdLst/>
            <a:ahLst/>
            <a:rect l="l" t="t" r="r" b="b"/>
            <a:pathLst>
              <a:path w="624" h="1200">
                <a:moveTo>
                  <a:pt x="624" y="0"/>
                </a:moveTo>
                <a:lnTo>
                  <a:pt x="624" y="1200"/>
                </a:lnTo>
                <a:lnTo>
                  <a:pt x="0" y="1200"/>
                </a:lnTo>
              </a:path>
            </a:pathLst>
          </a:custGeom>
          <a:noFill/>
          <a:ln w="22320">
            <a:solidFill>
              <a:srgbClr val="402000"/>
            </a:solidFill>
            <a:round/>
            <a:headEnd len="lg" type="oval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181480" y="3276720"/>
            <a:ext cx="457200" cy="990360"/>
          </a:xfrm>
          <a:custGeom>
            <a:avLst/>
            <a:gdLst/>
            <a:ahLst/>
            <a:rect l="l" t="t" r="r" b="b"/>
            <a:pathLst>
              <a:path w="624" h="1200">
                <a:moveTo>
                  <a:pt x="624" y="0"/>
                </a:moveTo>
                <a:lnTo>
                  <a:pt x="624" y="1200"/>
                </a:lnTo>
                <a:lnTo>
                  <a:pt x="0" y="1200"/>
                </a:lnTo>
              </a:path>
            </a:pathLst>
          </a:custGeom>
          <a:noFill/>
          <a:ln w="22320">
            <a:solidFill>
              <a:srgbClr val="402000"/>
            </a:solidFill>
            <a:round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572000" y="4572000"/>
            <a:ext cx="0" cy="914400"/>
          </a:xfrm>
          <a:prstGeom prst="line">
            <a:avLst/>
          </a:prstGeom>
          <a:ln w="22320">
            <a:solidFill>
              <a:srgbClr val="402000"/>
            </a:solidFill>
            <a:miter/>
            <a:headEnd len="lg" type="oval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648320" y="4419720"/>
            <a:ext cx="5014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02000"/>
                </a:solidFill>
                <a:latin typeface="Times New Roman"/>
              </a:rPr>
              <a:t>Impuestos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02000"/>
                </a:solidFill>
                <a:latin typeface="Times New Roman"/>
              </a:rPr>
              <a:t>Indirectos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02000"/>
                </a:solidFill>
                <a:latin typeface="Times New Roman"/>
              </a:rPr>
              <a:t>- Subsidios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742C-35D5-42A2-A71F-C3EC8EB4E703}" type="slidenum">
              <a:t>11</a:t>
            </a:fld>
          </a:p>
        </p:txBody>
      </p:sp>
    </p:spTree>
  </p:cSld>
  <p:transition>
    <p:wipe dir="d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3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3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3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 flipV="1">
            <a:off x="2209680" y="1600200"/>
            <a:ext cx="0" cy="4495680"/>
          </a:xfrm>
          <a:prstGeom prst="line">
            <a:avLst/>
          </a:prstGeom>
          <a:ln w="1908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57400" y="5867280"/>
            <a:ext cx="6095880" cy="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09680" y="228600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05320" y="2666880"/>
            <a:ext cx="7596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58128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486400" y="44197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53341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248520" y="5791320"/>
            <a:ext cx="7596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438280"/>
            <a:ext cx="7596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09680" y="2286000"/>
            <a:ext cx="4114800" cy="3581280"/>
          </a:xfrm>
          <a:custGeom>
            <a:avLst/>
            <a:gdLst/>
            <a:ahLst/>
            <a:rect l="l" t="t" r="r" b="b"/>
            <a:pathLst>
              <a:path w="2592" h="2256">
                <a:moveTo>
                  <a:pt x="0" y="0"/>
                </a:moveTo>
                <a:cubicBezTo>
                  <a:pt x="120" y="24"/>
                  <a:pt x="240" y="48"/>
                  <a:pt x="384" y="96"/>
                </a:cubicBezTo>
                <a:cubicBezTo>
                  <a:pt x="528" y="144"/>
                  <a:pt x="664" y="168"/>
                  <a:pt x="864" y="288"/>
                </a:cubicBezTo>
                <a:cubicBezTo>
                  <a:pt x="1064" y="408"/>
                  <a:pt x="1376" y="632"/>
                  <a:pt x="1584" y="816"/>
                </a:cubicBezTo>
                <a:cubicBezTo>
                  <a:pt x="1792" y="1000"/>
                  <a:pt x="1968" y="1208"/>
                  <a:pt x="2112" y="1392"/>
                </a:cubicBezTo>
                <a:cubicBezTo>
                  <a:pt x="2256" y="1576"/>
                  <a:pt x="2368" y="1776"/>
                  <a:pt x="2448" y="1920"/>
                </a:cubicBezTo>
                <a:cubicBezTo>
                  <a:pt x="2528" y="2064"/>
                  <a:pt x="2568" y="2200"/>
                  <a:pt x="2592" y="2256"/>
                </a:cubicBezTo>
              </a:path>
            </a:pathLst>
          </a:custGeom>
          <a:noFill/>
          <a:ln w="28440">
            <a:solidFill>
              <a:srgbClr val="cd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09680" y="2286000"/>
            <a:ext cx="4114800" cy="3581280"/>
          </a:xfrm>
          <a:custGeom>
            <a:avLst/>
            <a:gdLst/>
            <a:ahLst/>
            <a:rect l="l" t="t" r="r" b="b"/>
            <a:pathLst>
              <a:path w="2592" h="2256">
                <a:moveTo>
                  <a:pt x="0" y="0"/>
                </a:moveTo>
                <a:lnTo>
                  <a:pt x="0" y="2256"/>
                </a:lnTo>
                <a:lnTo>
                  <a:pt x="2592" y="2256"/>
                </a:lnTo>
                <a:lnTo>
                  <a:pt x="2496" y="2016"/>
                </a:lnTo>
                <a:lnTo>
                  <a:pt x="2304" y="1680"/>
                </a:lnTo>
                <a:lnTo>
                  <a:pt x="2160" y="1440"/>
                </a:lnTo>
                <a:lnTo>
                  <a:pt x="1968" y="1200"/>
                </a:lnTo>
                <a:lnTo>
                  <a:pt x="1680" y="912"/>
                </a:lnTo>
                <a:lnTo>
                  <a:pt x="1488" y="720"/>
                </a:lnTo>
                <a:lnTo>
                  <a:pt x="1200" y="528"/>
                </a:lnTo>
                <a:lnTo>
                  <a:pt x="1008" y="384"/>
                </a:lnTo>
                <a:lnTo>
                  <a:pt x="864" y="288"/>
                </a:lnTo>
                <a:lnTo>
                  <a:pt x="672" y="192"/>
                </a:lnTo>
                <a:lnTo>
                  <a:pt x="432" y="96"/>
                </a:lnTo>
                <a:lnTo>
                  <a:pt x="192" y="48"/>
                </a:lnTo>
                <a:lnTo>
                  <a:pt x="48" y="0"/>
                </a:lnTo>
                <a:lnTo>
                  <a:pt x="0" y="0"/>
                </a:lnTo>
                <a:close/>
              </a:path>
            </a:pathLst>
          </a:custGeom>
          <a:solidFill>
            <a:srgbClr val="ce99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962520" y="2971800"/>
            <a:ext cx="53316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62520" y="2971800"/>
            <a:ext cx="0" cy="289548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09680" y="2971800"/>
            <a:ext cx="1676520" cy="0"/>
          </a:xfrm>
          <a:prstGeom prst="line">
            <a:avLst/>
          </a:prstGeom>
          <a:ln w="2844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3959280" y="2438280"/>
            <a:ext cx="7920" cy="5335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2895480"/>
            <a:ext cx="152280" cy="152640"/>
          </a:xfrm>
          <a:prstGeom prst="ellipse">
            <a:avLst/>
          </a:prstGeom>
          <a:solidFill>
            <a:srgbClr val="ff6699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95280" y="609480"/>
            <a:ext cx="7315200" cy="9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2000"/>
                </a:solidFill>
                <a:latin typeface="Times New Roman"/>
              </a:rPr>
              <a:t>Frontera de Posibilidades de Producció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2000"/>
                </a:solidFill>
                <a:latin typeface="Times New Roman"/>
              </a:rPr>
              <a:t>Eficienci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09680" y="4343400"/>
            <a:ext cx="2133720" cy="0"/>
          </a:xfrm>
          <a:prstGeom prst="line">
            <a:avLst/>
          </a:prstGeom>
          <a:ln w="2844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4267080"/>
            <a:ext cx="0" cy="160020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346640" y="3716280"/>
            <a:ext cx="11160" cy="550800"/>
          </a:xfrm>
          <a:custGeom>
            <a:avLst/>
            <a:gdLst/>
            <a:ahLst/>
            <a:rect l="l" t="t" r="r" b="b"/>
            <a:pathLst>
              <a:path w="7" h="347">
                <a:moveTo>
                  <a:pt x="0" y="347"/>
                </a:moveTo>
                <a:lnTo>
                  <a:pt x="7" y="0"/>
                </a:lnTo>
              </a:path>
            </a:pathLst>
          </a:custGeom>
          <a:noFill/>
          <a:ln w="9360">
            <a:solidFill>
              <a:srgbClr val="402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343400" y="4343400"/>
            <a:ext cx="5335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267080" y="4267080"/>
            <a:ext cx="152640" cy="152640"/>
          </a:xfrm>
          <a:prstGeom prst="ellipse">
            <a:avLst/>
          </a:prstGeom>
          <a:solidFill>
            <a:srgbClr val="66ff33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4356000" y="3860640"/>
            <a:ext cx="216000" cy="43200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4356000" y="3860640"/>
            <a:ext cx="576360" cy="43200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356000" y="364500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0" y="378936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932360" y="378936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932360" y="429264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A3BB-A26D-4913-B820-966AA8496C2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500"/>
                            </p:stCondLst>
                            <p:childTnLst>
                              <p:par>
                                <p:cTn id="420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6000"/>
                            </p:stCondLst>
                            <p:childTnLst>
                              <p:par>
                                <p:cTn id="425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1500"/>
                            </p:stCondLst>
                            <p:childTnLst>
                              <p:par>
                                <p:cTn id="430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7000"/>
                            </p:stCondLst>
                            <p:childTnLst>
                              <p:par>
                                <p:cTn id="435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22500"/>
                            </p:stCondLst>
                            <p:childTnLst>
                              <p:par>
                                <p:cTn id="440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28000"/>
                            </p:stCondLst>
                            <p:childTnLst>
                              <p:par>
                                <p:cTn id="445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33500"/>
                            </p:stCondLst>
                            <p:childTnLst>
                              <p:par>
                                <p:cTn id="450" nodeType="afterEffect" fill="hold" presetClass="entr" presetID="2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6000"/>
                            </p:stCondLst>
                            <p:childTnLst>
                              <p:par>
                                <p:cTn id="514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1500"/>
                            </p:stCondLst>
                            <p:childTnLst>
                              <p:par>
                                <p:cTn id="519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7000"/>
                            </p:stCondLst>
                            <p:childTnLst>
                              <p:par>
                                <p:cTn id="524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 flipV="1">
            <a:off x="2286000" y="1600200"/>
            <a:ext cx="0" cy="44956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28600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581280" y="266688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58128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562720" y="4419720"/>
            <a:ext cx="7596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172200" y="53341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57913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95480" y="243828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0" y="2286000"/>
            <a:ext cx="4114800" cy="3581280"/>
          </a:xfrm>
          <a:custGeom>
            <a:avLst/>
            <a:gdLst/>
            <a:ahLst/>
            <a:rect l="l" t="t" r="r" b="b"/>
            <a:pathLst>
              <a:path w="2592" h="2256">
                <a:moveTo>
                  <a:pt x="0" y="0"/>
                </a:moveTo>
                <a:cubicBezTo>
                  <a:pt x="120" y="24"/>
                  <a:pt x="240" y="48"/>
                  <a:pt x="384" y="96"/>
                </a:cubicBezTo>
                <a:cubicBezTo>
                  <a:pt x="528" y="144"/>
                  <a:pt x="664" y="168"/>
                  <a:pt x="864" y="288"/>
                </a:cubicBezTo>
                <a:cubicBezTo>
                  <a:pt x="1064" y="408"/>
                  <a:pt x="1376" y="632"/>
                  <a:pt x="1584" y="816"/>
                </a:cubicBezTo>
                <a:cubicBezTo>
                  <a:pt x="1792" y="1000"/>
                  <a:pt x="1968" y="1208"/>
                  <a:pt x="2112" y="1392"/>
                </a:cubicBezTo>
                <a:cubicBezTo>
                  <a:pt x="2256" y="1576"/>
                  <a:pt x="2368" y="1776"/>
                  <a:pt x="2448" y="1920"/>
                </a:cubicBezTo>
                <a:cubicBezTo>
                  <a:pt x="2528" y="2064"/>
                  <a:pt x="2568" y="2200"/>
                  <a:pt x="2592" y="2256"/>
                </a:cubicBezTo>
              </a:path>
            </a:pathLst>
          </a:custGeom>
          <a:noFill/>
          <a:ln w="28440">
            <a:solidFill>
              <a:srgbClr val="cd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0" y="2743200"/>
            <a:ext cx="137160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657600" y="2743200"/>
            <a:ext cx="0" cy="312408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286000" y="3048120"/>
            <a:ext cx="182880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114800" y="3048120"/>
            <a:ext cx="0" cy="281916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4495680"/>
            <a:ext cx="335268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286000" y="5181480"/>
            <a:ext cx="373392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638680" y="4495680"/>
            <a:ext cx="0" cy="137160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95880" y="5181480"/>
            <a:ext cx="0" cy="68580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514600" y="2743200"/>
            <a:ext cx="0" cy="3049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14600" y="4495680"/>
            <a:ext cx="0" cy="68580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76520" y="26668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Δ</a:t>
            </a:r>
            <a:r>
              <a:rPr b="0" lang="es-CL" sz="2400" spc="-1" strike="noStrike" baseline="-25000">
                <a:solidFill>
                  <a:srgbClr val="402000"/>
                </a:solidFill>
                <a:latin typeface="Times New Roman"/>
              </a:rPr>
              <a:t>A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76520" y="45720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Δ</a:t>
            </a:r>
            <a:r>
              <a:rPr b="0" lang="es-CL" sz="2400" spc="-1" strike="noStrike" baseline="-25000">
                <a:solidFill>
                  <a:srgbClr val="402000"/>
                </a:solidFill>
                <a:latin typeface="Times New Roman"/>
              </a:rPr>
              <a:t>A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581280" y="57913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Δ</a:t>
            </a:r>
            <a:r>
              <a:rPr b="0" lang="es-CL" sz="2400" spc="-1" strike="noStrike" baseline="-25000">
                <a:solidFill>
                  <a:srgbClr val="402000"/>
                </a:solidFill>
                <a:latin typeface="Times New Roman"/>
              </a:rPr>
              <a:t>V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657600" y="5486400"/>
            <a:ext cx="4572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638680" y="5486400"/>
            <a:ext cx="4572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562720" y="57913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Δ</a:t>
            </a:r>
            <a:r>
              <a:rPr b="0" lang="es-CL" sz="2400" spc="-1" strike="noStrike" baseline="-25000">
                <a:solidFill>
                  <a:srgbClr val="402000"/>
                </a:solidFill>
                <a:latin typeface="Times New Roman"/>
              </a:rPr>
              <a:t>V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295280" y="533520"/>
            <a:ext cx="7315200" cy="9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2000"/>
                </a:solidFill>
                <a:latin typeface="Times New Roman"/>
              </a:rPr>
              <a:t>Frontera de Posibilidades de Producció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2000"/>
                </a:solidFill>
                <a:latin typeface="Times New Roman"/>
              </a:rPr>
              <a:t>Costo de oportunida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6151-DB86-4FCC-957E-252372632C3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 flipV="1">
            <a:off x="2286000" y="1600200"/>
            <a:ext cx="0" cy="44956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86000" y="228600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81280" y="266688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800600" y="358128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562720" y="4419720"/>
            <a:ext cx="7596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72200" y="53341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324480" y="57913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95480" y="243828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0" y="2286000"/>
            <a:ext cx="4114800" cy="3581280"/>
          </a:xfrm>
          <a:custGeom>
            <a:avLst/>
            <a:gdLst/>
            <a:ahLst/>
            <a:rect l="l" t="t" r="r" b="b"/>
            <a:pathLst>
              <a:path w="2592" h="2256">
                <a:moveTo>
                  <a:pt x="0" y="0"/>
                </a:moveTo>
                <a:cubicBezTo>
                  <a:pt x="120" y="24"/>
                  <a:pt x="240" y="48"/>
                  <a:pt x="384" y="96"/>
                </a:cubicBezTo>
                <a:cubicBezTo>
                  <a:pt x="528" y="144"/>
                  <a:pt x="664" y="168"/>
                  <a:pt x="864" y="288"/>
                </a:cubicBezTo>
                <a:cubicBezTo>
                  <a:pt x="1064" y="408"/>
                  <a:pt x="1376" y="632"/>
                  <a:pt x="1584" y="816"/>
                </a:cubicBezTo>
                <a:cubicBezTo>
                  <a:pt x="1792" y="1000"/>
                  <a:pt x="1968" y="1208"/>
                  <a:pt x="2112" y="1392"/>
                </a:cubicBezTo>
                <a:cubicBezTo>
                  <a:pt x="2256" y="1576"/>
                  <a:pt x="2368" y="1776"/>
                  <a:pt x="2448" y="1920"/>
                </a:cubicBezTo>
                <a:cubicBezTo>
                  <a:pt x="2528" y="2064"/>
                  <a:pt x="2568" y="2200"/>
                  <a:pt x="2592" y="2256"/>
                </a:cubicBezTo>
              </a:path>
            </a:pathLst>
          </a:custGeom>
          <a:noFill/>
          <a:ln w="28440">
            <a:solidFill>
              <a:srgbClr val="cd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0" y="2743200"/>
            <a:ext cx="137160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657600" y="2743200"/>
            <a:ext cx="0" cy="312408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86000" y="3048120"/>
            <a:ext cx="182880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114800" y="3048120"/>
            <a:ext cx="0" cy="281916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86000" y="4495680"/>
            <a:ext cx="335268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86000" y="4800600"/>
            <a:ext cx="358128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638680" y="4495680"/>
            <a:ext cx="0" cy="137160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867280" y="4800600"/>
            <a:ext cx="0" cy="106668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514600" y="2743200"/>
            <a:ext cx="0" cy="3049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514600" y="4495680"/>
            <a:ext cx="0" cy="3049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676520" y="26668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Δ</a:t>
            </a:r>
            <a:r>
              <a:rPr b="0" lang="es-CL" sz="2400" spc="-1" strike="noStrike" baseline="-25000">
                <a:solidFill>
                  <a:srgbClr val="402000"/>
                </a:solidFill>
                <a:latin typeface="Times New Roman"/>
              </a:rPr>
              <a:t>A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76520" y="43434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Δ</a:t>
            </a:r>
            <a:r>
              <a:rPr b="0" lang="es-CL" sz="2400" spc="-1" strike="noStrike" baseline="-25000">
                <a:solidFill>
                  <a:srgbClr val="402000"/>
                </a:solidFill>
                <a:latin typeface="Times New Roman"/>
              </a:rPr>
              <a:t>A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57913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Δ</a:t>
            </a:r>
            <a:r>
              <a:rPr b="0" lang="es-CL" sz="2400" spc="-1" strike="noStrike" baseline="-25000">
                <a:solidFill>
                  <a:srgbClr val="402000"/>
                </a:solidFill>
                <a:latin typeface="Times New Roman"/>
              </a:rPr>
              <a:t>V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486400" y="58672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Δ</a:t>
            </a:r>
            <a:r>
              <a:rPr b="0" lang="es-CL" sz="2400" spc="-1" strike="noStrike" baseline="-25000">
                <a:solidFill>
                  <a:srgbClr val="402000"/>
                </a:solidFill>
                <a:latin typeface="Times New Roman"/>
              </a:rPr>
              <a:t>V</a:t>
            </a:r>
            <a:r>
              <a:rPr b="1" lang="es-CL" sz="16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5486400"/>
            <a:ext cx="4572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638680" y="548640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95280" y="533520"/>
            <a:ext cx="7315200" cy="9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2000"/>
                </a:solidFill>
                <a:latin typeface="Times New Roman"/>
              </a:rPr>
              <a:t>Frontera de Posibilidades de Producció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2000"/>
                </a:solidFill>
                <a:latin typeface="Times New Roman"/>
              </a:rPr>
              <a:t>Costo de oportunida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A669-94C3-432E-ABE1-4623F7FD119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 flipV="1">
            <a:off x="2209680" y="1752120"/>
            <a:ext cx="0" cy="4343400"/>
          </a:xfrm>
          <a:prstGeom prst="line">
            <a:avLst/>
          </a:prstGeom>
          <a:ln w="1908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5867280"/>
            <a:ext cx="6095880" cy="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209680" y="228600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505320" y="2666880"/>
            <a:ext cx="7596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724280" y="358128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86400" y="44197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095880" y="53341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248520" y="5791320"/>
            <a:ext cx="7596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819520" y="2438280"/>
            <a:ext cx="7596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209680" y="2286000"/>
            <a:ext cx="4114800" cy="3581280"/>
          </a:xfrm>
          <a:custGeom>
            <a:avLst/>
            <a:gdLst/>
            <a:ahLst/>
            <a:rect l="l" t="t" r="r" b="b"/>
            <a:pathLst>
              <a:path w="2592" h="2256">
                <a:moveTo>
                  <a:pt x="0" y="0"/>
                </a:moveTo>
                <a:cubicBezTo>
                  <a:pt x="120" y="24"/>
                  <a:pt x="240" y="48"/>
                  <a:pt x="384" y="96"/>
                </a:cubicBezTo>
                <a:cubicBezTo>
                  <a:pt x="528" y="144"/>
                  <a:pt x="664" y="168"/>
                  <a:pt x="864" y="288"/>
                </a:cubicBezTo>
                <a:cubicBezTo>
                  <a:pt x="1064" y="408"/>
                  <a:pt x="1376" y="632"/>
                  <a:pt x="1584" y="816"/>
                </a:cubicBezTo>
                <a:cubicBezTo>
                  <a:pt x="1792" y="1000"/>
                  <a:pt x="1968" y="1208"/>
                  <a:pt x="2112" y="1392"/>
                </a:cubicBezTo>
                <a:cubicBezTo>
                  <a:pt x="2256" y="1576"/>
                  <a:pt x="2368" y="1776"/>
                  <a:pt x="2448" y="1920"/>
                </a:cubicBezTo>
                <a:cubicBezTo>
                  <a:pt x="2528" y="2064"/>
                  <a:pt x="2568" y="2200"/>
                  <a:pt x="2592" y="2256"/>
                </a:cubicBezTo>
              </a:path>
            </a:pathLst>
          </a:custGeom>
          <a:noFill/>
          <a:ln w="28440">
            <a:solidFill>
              <a:srgbClr val="cd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209680" y="2286000"/>
            <a:ext cx="4114800" cy="3581280"/>
          </a:xfrm>
          <a:custGeom>
            <a:avLst/>
            <a:gdLst/>
            <a:ahLst/>
            <a:rect l="l" t="t" r="r" b="b"/>
            <a:pathLst>
              <a:path w="2592" h="2256">
                <a:moveTo>
                  <a:pt x="0" y="0"/>
                </a:moveTo>
                <a:lnTo>
                  <a:pt x="0" y="2256"/>
                </a:lnTo>
                <a:lnTo>
                  <a:pt x="2592" y="2256"/>
                </a:lnTo>
                <a:lnTo>
                  <a:pt x="2496" y="2016"/>
                </a:lnTo>
                <a:lnTo>
                  <a:pt x="2304" y="1680"/>
                </a:lnTo>
                <a:lnTo>
                  <a:pt x="2160" y="1440"/>
                </a:lnTo>
                <a:lnTo>
                  <a:pt x="1968" y="1200"/>
                </a:lnTo>
                <a:lnTo>
                  <a:pt x="1680" y="912"/>
                </a:lnTo>
                <a:lnTo>
                  <a:pt x="1488" y="720"/>
                </a:lnTo>
                <a:lnTo>
                  <a:pt x="1200" y="528"/>
                </a:lnTo>
                <a:lnTo>
                  <a:pt x="1008" y="384"/>
                </a:lnTo>
                <a:lnTo>
                  <a:pt x="864" y="288"/>
                </a:lnTo>
                <a:lnTo>
                  <a:pt x="672" y="192"/>
                </a:lnTo>
                <a:lnTo>
                  <a:pt x="432" y="96"/>
                </a:lnTo>
                <a:lnTo>
                  <a:pt x="192" y="48"/>
                </a:lnTo>
                <a:lnTo>
                  <a:pt x="48" y="0"/>
                </a:lnTo>
                <a:lnTo>
                  <a:pt x="0" y="0"/>
                </a:lnTo>
                <a:close/>
              </a:path>
            </a:pathLst>
          </a:custGeom>
          <a:solidFill>
            <a:srgbClr val="ce99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62520" y="2971800"/>
            <a:ext cx="53316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962520" y="2971800"/>
            <a:ext cx="0" cy="289548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209680" y="2971800"/>
            <a:ext cx="1676520" cy="0"/>
          </a:xfrm>
          <a:prstGeom prst="line">
            <a:avLst/>
          </a:prstGeom>
          <a:ln w="2844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 flipV="1">
            <a:off x="3959280" y="2438280"/>
            <a:ext cx="7920" cy="5335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86200" y="2895480"/>
            <a:ext cx="152280" cy="152640"/>
          </a:xfrm>
          <a:prstGeom prst="ellipse">
            <a:avLst/>
          </a:prstGeom>
          <a:solidFill>
            <a:srgbClr val="ff6699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295280" y="609480"/>
            <a:ext cx="7315200" cy="9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2000"/>
                </a:solidFill>
                <a:latin typeface="Times New Roman"/>
              </a:rPr>
              <a:t>Frontera de Posibilidades de Producció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2000"/>
                </a:solidFill>
                <a:latin typeface="Times New Roman"/>
              </a:rPr>
              <a:t>Crecimiento económic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09680" y="2286000"/>
            <a:ext cx="5562720" cy="3581280"/>
          </a:xfrm>
          <a:custGeom>
            <a:avLst/>
            <a:gdLst/>
            <a:ahLst/>
            <a:rect l="l" t="t" r="r" b="b"/>
            <a:pathLst>
              <a:path w="2592" h="2256">
                <a:moveTo>
                  <a:pt x="0" y="0"/>
                </a:moveTo>
                <a:cubicBezTo>
                  <a:pt x="120" y="24"/>
                  <a:pt x="240" y="48"/>
                  <a:pt x="384" y="96"/>
                </a:cubicBezTo>
                <a:cubicBezTo>
                  <a:pt x="528" y="144"/>
                  <a:pt x="664" y="168"/>
                  <a:pt x="864" y="288"/>
                </a:cubicBezTo>
                <a:cubicBezTo>
                  <a:pt x="1064" y="408"/>
                  <a:pt x="1376" y="632"/>
                  <a:pt x="1584" y="816"/>
                </a:cubicBezTo>
                <a:cubicBezTo>
                  <a:pt x="1792" y="1000"/>
                  <a:pt x="1968" y="1208"/>
                  <a:pt x="2112" y="1392"/>
                </a:cubicBezTo>
                <a:cubicBezTo>
                  <a:pt x="2256" y="1576"/>
                  <a:pt x="2368" y="1776"/>
                  <a:pt x="2448" y="1920"/>
                </a:cubicBezTo>
                <a:cubicBezTo>
                  <a:pt x="2528" y="2064"/>
                  <a:pt x="2568" y="2200"/>
                  <a:pt x="2592" y="2256"/>
                </a:cubicBezTo>
              </a:path>
            </a:pathLst>
          </a:custGeom>
          <a:noFill/>
          <a:ln w="28440">
            <a:solidFill>
              <a:srgbClr val="cd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2A34-DF8D-4D66-889F-4E8507BF2CA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 flipV="1">
            <a:off x="2209680" y="1752120"/>
            <a:ext cx="0" cy="4343400"/>
          </a:xfrm>
          <a:prstGeom prst="line">
            <a:avLst/>
          </a:prstGeom>
          <a:ln w="1908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057400" y="5867280"/>
            <a:ext cx="6095880" cy="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228600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05320" y="2666880"/>
            <a:ext cx="7596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724280" y="358128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486400" y="44197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5880" y="53341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48520" y="5791320"/>
            <a:ext cx="7596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819520" y="2438280"/>
            <a:ext cx="7596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209680" y="2286000"/>
            <a:ext cx="4114800" cy="3581280"/>
          </a:xfrm>
          <a:custGeom>
            <a:avLst/>
            <a:gdLst/>
            <a:ahLst/>
            <a:rect l="l" t="t" r="r" b="b"/>
            <a:pathLst>
              <a:path w="2592" h="2256">
                <a:moveTo>
                  <a:pt x="0" y="0"/>
                </a:moveTo>
                <a:cubicBezTo>
                  <a:pt x="120" y="24"/>
                  <a:pt x="240" y="48"/>
                  <a:pt x="384" y="96"/>
                </a:cubicBezTo>
                <a:cubicBezTo>
                  <a:pt x="528" y="144"/>
                  <a:pt x="664" y="168"/>
                  <a:pt x="864" y="288"/>
                </a:cubicBezTo>
                <a:cubicBezTo>
                  <a:pt x="1064" y="408"/>
                  <a:pt x="1376" y="632"/>
                  <a:pt x="1584" y="816"/>
                </a:cubicBezTo>
                <a:cubicBezTo>
                  <a:pt x="1792" y="1000"/>
                  <a:pt x="1968" y="1208"/>
                  <a:pt x="2112" y="1392"/>
                </a:cubicBezTo>
                <a:cubicBezTo>
                  <a:pt x="2256" y="1576"/>
                  <a:pt x="2368" y="1776"/>
                  <a:pt x="2448" y="1920"/>
                </a:cubicBezTo>
                <a:cubicBezTo>
                  <a:pt x="2528" y="2064"/>
                  <a:pt x="2568" y="2200"/>
                  <a:pt x="2592" y="2256"/>
                </a:cubicBezTo>
              </a:path>
            </a:pathLst>
          </a:custGeom>
          <a:noFill/>
          <a:ln w="28440">
            <a:solidFill>
              <a:srgbClr val="cd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09680" y="2286000"/>
            <a:ext cx="4114800" cy="3581280"/>
          </a:xfrm>
          <a:custGeom>
            <a:avLst/>
            <a:gdLst/>
            <a:ahLst/>
            <a:rect l="l" t="t" r="r" b="b"/>
            <a:pathLst>
              <a:path w="2592" h="2256">
                <a:moveTo>
                  <a:pt x="0" y="0"/>
                </a:moveTo>
                <a:lnTo>
                  <a:pt x="0" y="2256"/>
                </a:lnTo>
                <a:lnTo>
                  <a:pt x="2592" y="2256"/>
                </a:lnTo>
                <a:lnTo>
                  <a:pt x="2496" y="2016"/>
                </a:lnTo>
                <a:lnTo>
                  <a:pt x="2304" y="1680"/>
                </a:lnTo>
                <a:lnTo>
                  <a:pt x="2160" y="1440"/>
                </a:lnTo>
                <a:lnTo>
                  <a:pt x="1968" y="1200"/>
                </a:lnTo>
                <a:lnTo>
                  <a:pt x="1680" y="912"/>
                </a:lnTo>
                <a:lnTo>
                  <a:pt x="1488" y="720"/>
                </a:lnTo>
                <a:lnTo>
                  <a:pt x="1200" y="528"/>
                </a:lnTo>
                <a:lnTo>
                  <a:pt x="1008" y="384"/>
                </a:lnTo>
                <a:lnTo>
                  <a:pt x="864" y="288"/>
                </a:lnTo>
                <a:lnTo>
                  <a:pt x="672" y="192"/>
                </a:lnTo>
                <a:lnTo>
                  <a:pt x="432" y="96"/>
                </a:lnTo>
                <a:lnTo>
                  <a:pt x="192" y="48"/>
                </a:lnTo>
                <a:lnTo>
                  <a:pt x="48" y="0"/>
                </a:lnTo>
                <a:lnTo>
                  <a:pt x="0" y="0"/>
                </a:lnTo>
                <a:close/>
              </a:path>
            </a:pathLst>
          </a:custGeom>
          <a:solidFill>
            <a:srgbClr val="ce99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962520" y="2971800"/>
            <a:ext cx="38088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962520" y="2971800"/>
            <a:ext cx="0" cy="289548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209680" y="2971800"/>
            <a:ext cx="1676520" cy="0"/>
          </a:xfrm>
          <a:prstGeom prst="line">
            <a:avLst/>
          </a:prstGeom>
          <a:ln w="2844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 flipV="1">
            <a:off x="3961080" y="2666520"/>
            <a:ext cx="5760" cy="3049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86200" y="2895480"/>
            <a:ext cx="152280" cy="152640"/>
          </a:xfrm>
          <a:prstGeom prst="ellipse">
            <a:avLst/>
          </a:prstGeom>
          <a:solidFill>
            <a:srgbClr val="ff6699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2057400"/>
            <a:ext cx="5410440" cy="3809880"/>
          </a:xfrm>
          <a:custGeom>
            <a:avLst/>
            <a:gdLst/>
            <a:ahLst/>
            <a:rect l="l" t="t" r="r" b="b"/>
            <a:pathLst>
              <a:path w="2592" h="2256">
                <a:moveTo>
                  <a:pt x="0" y="0"/>
                </a:moveTo>
                <a:cubicBezTo>
                  <a:pt x="120" y="24"/>
                  <a:pt x="240" y="48"/>
                  <a:pt x="384" y="96"/>
                </a:cubicBezTo>
                <a:cubicBezTo>
                  <a:pt x="528" y="144"/>
                  <a:pt x="664" y="168"/>
                  <a:pt x="864" y="288"/>
                </a:cubicBezTo>
                <a:cubicBezTo>
                  <a:pt x="1064" y="408"/>
                  <a:pt x="1376" y="632"/>
                  <a:pt x="1584" y="816"/>
                </a:cubicBezTo>
                <a:cubicBezTo>
                  <a:pt x="1792" y="1000"/>
                  <a:pt x="1968" y="1208"/>
                  <a:pt x="2112" y="1392"/>
                </a:cubicBezTo>
                <a:cubicBezTo>
                  <a:pt x="2256" y="1576"/>
                  <a:pt x="2368" y="1776"/>
                  <a:pt x="2448" y="1920"/>
                </a:cubicBezTo>
                <a:cubicBezTo>
                  <a:pt x="2528" y="2064"/>
                  <a:pt x="2568" y="2200"/>
                  <a:pt x="2592" y="2256"/>
                </a:cubicBezTo>
              </a:path>
            </a:pathLst>
          </a:custGeom>
          <a:noFill/>
          <a:ln w="28440">
            <a:solidFill>
              <a:srgbClr val="cd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295280" y="533520"/>
            <a:ext cx="7315200" cy="9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2000"/>
                </a:solidFill>
                <a:latin typeface="Times New Roman"/>
              </a:rPr>
              <a:t>Frontera de Posibilidades de Producció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2000"/>
                </a:solidFill>
                <a:latin typeface="Times New Roman"/>
              </a:rPr>
              <a:t>Crecimiento económic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8E0D-0BA5-47D7-921F-7024D788928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3962520" y="380880"/>
            <a:ext cx="22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402000"/>
                </a:solidFill>
                <a:latin typeface="Times New Roman"/>
              </a:rPr>
              <a:t>Mercado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1143000" y="533520"/>
            <a:ext cx="22860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Asignar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6553080" y="457200"/>
            <a:ext cx="21337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Racionar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19320" y="1752480"/>
            <a:ext cx="7467480" cy="45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80"/>
                </a:solidFill>
                <a:latin typeface="Times New Roman"/>
              </a:rPr>
              <a:t>Oferta y Demanda se refieren a la forma que interrelacionan las personas en los mercado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buClr>
                <a:srgbClr val="000080"/>
              </a:buClr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80"/>
                </a:solidFill>
                <a:latin typeface="Times New Roman"/>
              </a:rPr>
              <a:t>Demanda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Deseos, necesidades, gustos, preferencia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Preci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Ingres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Alternativa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Futur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3DA6-48DA-47E0-B6FF-0305763F688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3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3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3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30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300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300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300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3962520" y="380880"/>
            <a:ext cx="22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402000"/>
                </a:solidFill>
                <a:latin typeface="Times New Roman"/>
              </a:rPr>
              <a:t>Mercado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1143000" y="533520"/>
            <a:ext cx="22860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Asignar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553080" y="457200"/>
            <a:ext cx="21337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Racionar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219320" y="1752480"/>
            <a:ext cx="7467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80"/>
                </a:solidFill>
                <a:latin typeface="Times New Roman"/>
              </a:rPr>
              <a:t>Oferta y Demanda se refieren a la forma que se interrelacionan las personas en los mercado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buClr>
                <a:srgbClr val="000080"/>
              </a:buClr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80"/>
                </a:solidFill>
                <a:latin typeface="Times New Roman"/>
              </a:rPr>
              <a:t>Oferta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Tecnología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Preci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Cost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Alternativa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Futur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3E1B-96F7-4D67-8198-AC309289D10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3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3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3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300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300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300"/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300"/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352680" y="457200"/>
            <a:ext cx="266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402000"/>
                </a:solidFill>
                <a:latin typeface="Times New Roman"/>
              </a:rPr>
              <a:t>Economía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019920" y="2819520"/>
            <a:ext cx="2574720" cy="17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46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Recurso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971800" y="4648320"/>
            <a:ext cx="39625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Escasez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14400" y="3200400"/>
            <a:ext cx="40384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Necesidades 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514600" y="1676520"/>
            <a:ext cx="40384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4f68e3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Deseos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4f68e3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A94B-1915-42DE-A63F-037A34A8EC4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657600" y="380880"/>
            <a:ext cx="266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402000"/>
                </a:solidFill>
                <a:latin typeface="Times New Roman"/>
              </a:rPr>
              <a:t>Economía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 rot="21335400">
            <a:off x="1294920" y="4647960"/>
            <a:ext cx="7391520" cy="88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¿Para quién se producen los bienes?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0" name=""/>
          <p:cNvSpPr txBox="1"/>
          <p:nvPr/>
        </p:nvSpPr>
        <p:spPr>
          <a:xfrm rot="128400">
            <a:off x="1828440" y="3047760"/>
            <a:ext cx="60199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¿Cómo producirlos?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1" name=""/>
          <p:cNvSpPr txBox="1"/>
          <p:nvPr/>
        </p:nvSpPr>
        <p:spPr>
          <a:xfrm rot="21504600">
            <a:off x="1064880" y="1828440"/>
            <a:ext cx="769608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4f68e3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¿Qué bienes y en qué cantidades?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4f68e3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143000" y="533520"/>
            <a:ext cx="22860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Asignar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553080" y="457200"/>
            <a:ext cx="21337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Racionar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ABA7-C105-40E2-9948-A305A2F2008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00000" y="456840"/>
            <a:ext cx="78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996633"/>
                </a:solidFill>
                <a:latin typeface="Times New Roman"/>
              </a:rPr>
              <a:t>Funciones de una organización social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7772400" cy="40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2001"/>
              </a:spcBef>
              <a:buClr>
                <a:srgbClr val="402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2000"/>
                </a:solidFill>
                <a:latin typeface="Times New Roman"/>
              </a:rPr>
              <a:t>Fijar prioridades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1749"/>
              </a:spcBef>
              <a:buClr>
                <a:srgbClr val="402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402000"/>
                </a:solidFill>
                <a:latin typeface="Times New Roman"/>
              </a:rPr>
              <a:t>¿qué producir?, ¿cuánto producir?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buClr>
                <a:srgbClr val="402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2000"/>
                </a:solidFill>
                <a:latin typeface="Times New Roman"/>
              </a:rPr>
              <a:t>Organización de la producció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1749"/>
              </a:spcBef>
              <a:buClr>
                <a:srgbClr val="402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2000"/>
                </a:solidFill>
                <a:latin typeface="Times New Roman"/>
              </a:rPr>
              <a:t>¿cómo producir?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buClr>
                <a:srgbClr val="402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2000"/>
                </a:solidFill>
                <a:latin typeface="Times New Roman"/>
              </a:rPr>
              <a:t>Distribución del product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1749"/>
              </a:spcBef>
              <a:buClr>
                <a:srgbClr val="402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2000"/>
                </a:solidFill>
                <a:latin typeface="Times New Roman"/>
              </a:rPr>
              <a:t>¿cómo se distribuye los producido?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3C84-3884-4215-AAF3-A6A4F4BAACE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657600" y="457200"/>
            <a:ext cx="266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402000"/>
                </a:solidFill>
                <a:latin typeface="Times New Roman"/>
              </a:rPr>
              <a:t>Economía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828800" y="22096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Describe </a:t>
            </a:r>
            <a:r>
              <a:rPr b="0" i="1" lang="es-CL" sz="2400" spc="-1" strike="noStrike">
                <a:solidFill>
                  <a:srgbClr val="402000"/>
                </a:solidFill>
                <a:latin typeface="Times New Roman"/>
              </a:rPr>
              <a:t>el cómo es..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38862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402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Economía Normativ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167652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402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Economía Positiv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76520" y="45720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Prescripciones de </a:t>
            </a:r>
            <a:r>
              <a:rPr b="0" i="1" lang="es-CL" sz="2400" spc="-1" strike="noStrike">
                <a:solidFill>
                  <a:srgbClr val="402000"/>
                </a:solidFill>
                <a:latin typeface="Times New Roman"/>
              </a:rPr>
              <a:t>cómo debería ser</a:t>
            </a: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402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05120" y="28954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El salario mínimo provoca desemple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51814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El gobierno debe subir el salario mínim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05120" y="33526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Un impuesto a las ventas reduce la cantidad transada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05120" y="556272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No deben cobrarse impuestos por la venta de libros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8A07-544F-4E4B-9A37-65279EB0424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75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75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75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75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75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75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75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75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657600" y="457200"/>
            <a:ext cx="266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402000"/>
                </a:solidFill>
                <a:latin typeface="Times New Roman"/>
              </a:rPr>
              <a:t>Economía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828800" y="2209680"/>
            <a:ext cx="647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Estudia el modo en que los hogares y la empresas toman decisiones, y de la forma en que interactúan en los mercados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66680" y="38862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402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Macroeconomí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66680" y="167652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402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Microeconomí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676520" y="4572000"/>
            <a:ext cx="693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Estudio de los fenómenos que afectan al conjunto de la economía, entre los que se encuentran la inflación, el desempleo y el crecimiento económico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318E-E1A4-4240-9888-4CD16002AEA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75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75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75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75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371600" y="1752480"/>
            <a:ext cx="73915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Principio 1: Se enfrentan disyuntiva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Tiempo de un estudiant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Presupuesto mensual de una famili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Presupuesto naciona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Ingreso y calidad ambienta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Equidad y eficienci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66680" y="533520"/>
            <a:ext cx="74678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4f68e3"/>
                </a:solidFill>
                <a:latin typeface="Times New Roman"/>
              </a:rPr>
              <a:t>CÓMO LAS PERSONAS TOMAN DECISION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7D3C-75DC-4BC4-8554-171F25D756C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75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066680" y="533520"/>
            <a:ext cx="74678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4f68e3"/>
                </a:solidFill>
                <a:latin typeface="Times New Roman"/>
              </a:rPr>
              <a:t>CÓMO LAS PERSONAS TOMAN DECISION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19320" y="1752480"/>
            <a:ext cx="74674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    </a:t>
            </a: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Principio 2: el costo de algo es lo que se debe renunciar por obtenerl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Times New Roman"/>
              </a:rPr>
              <a:t>Estudiar una carrera en la Universida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Times New Roman"/>
              </a:rPr>
              <a:t>Ir a clas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Times New Roman"/>
              </a:rPr>
              <a:t>Militares a Haití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Matrimoni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Reclama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B927-4DEB-4E57-8CDB-3CAEC2AD14F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066680" y="533520"/>
            <a:ext cx="74678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4f68e3"/>
                </a:solidFill>
                <a:latin typeface="Times New Roman"/>
              </a:rPr>
              <a:t>CÓMO LAS PERSONAS TOMAN DECISION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4400" y="1676520"/>
            <a:ext cx="79246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    </a:t>
            </a: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Principio 3: las personas racionales piensan en términos marginal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Times New Roman"/>
              </a:rPr>
              <a:t>Aumenta su “combo”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Times New Roman"/>
              </a:rPr>
              <a:t>Estudiar en otra ciuda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DA39-4775-4FA7-986B-992488AB3B0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6T16:03:53Z</dcterms:created>
  <dc:creator>XX</dc:creator>
  <dc:description/>
  <dc:language>en-US</dc:language>
  <cp:lastModifiedBy> Marco Hauva</cp:lastModifiedBy>
  <dcterms:modified xsi:type="dcterms:W3CDTF">2006-03-13T16:05:09Z</dcterms:modified>
  <cp:revision>23</cp:revision>
  <dc:subject/>
  <dc:title>Sin título de diapositiva</dc:title>
</cp:coreProperties>
</file>