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48F-5B58-4C78-A1C0-8A0E1EEB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D30-8928-4ACD-A9B9-9CCDAB43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D43-0E8A-4FCE-825F-6F6E766E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907-0411-40AD-8B1F-DBB7186F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6061-A3D5-4058-A37C-8C401C6E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B5DD-21F1-4858-AF81-121BEBB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BAC1-44B7-49F9-902B-80D225C2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D2B7-6C64-4BA8-BAD3-5E22FE3F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221B-14DE-4A0D-8CDA-53CFF67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889A-4726-41E2-B054-0E57CDF7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FE70-ADBD-49F2-96DF-E9339FC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39D-078E-495D-9E72-663F93B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A787-F7B7-4708-B84C-89EF358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FB4-2EB4-4CF5-B2B5-AD5E462D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0A90-8F63-4061-BED4-25DB6369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BEB7-942D-4E15-B611-9E254EBE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F75-54E4-4807-8E77-5820B5CA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F95-F80E-4890-961C-C4EDB46B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D98-5D5D-42D7-BD90-0153805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E3B-8172-4312-AAF3-7579004E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AF9-192F-4742-BD38-2F61588C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DB3-D791-4E83-91D9-2506E9EE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DAC-A978-4241-A3C8-41727605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B2E-7350-4A4D-B08F-0623C18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B941-E6BB-4E11-A315-D82F3DC4333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6E7C-5C05-4CB6-A5DF-B0135C77978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   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E0D-2A91-487C-A373-301E1DA8F8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CF8-AF23-4F14-B88D-1E25F61404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251-6503-4971-B9F9-65484745A860}" type="slidenum">
              <a:t>11</a:t>
            </a:fld>
          </a:p>
        </p:txBody>
      </p:sp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3716280"/>
            <a:ext cx="11160" cy="550800"/>
          </a:xfrm>
          <a:custGeom>
            <a:avLst/>
            <a:gdLst/>
            <a:ahLst/>
            <a:rect l="l" t="t" r="r" b="b"/>
            <a:pathLst>
              <a:path w="7" h="347">
                <a:moveTo>
                  <a:pt x="0" y="347"/>
                </a:moveTo>
                <a:lnTo>
                  <a:pt x="7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56000" y="3860640"/>
            <a:ext cx="21600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56000" y="3860640"/>
            <a:ext cx="57636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64500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29264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328-5186-41C8-BE9F-C7016CBAB8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3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849-381D-4EE9-A6A0-1517F3903D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815-F394-4154-BDA9-A9B3E021D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111-84C0-4374-8AD4-12B37DF70D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46F-457D-44BC-9EEF-D1D245C7EA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2E5-C433-48A4-A62D-D99638EAC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3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3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3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3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3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603-9FEE-43AF-BAFC-CA4B2CBFFC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3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3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3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3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3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3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19920" y="281952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71800" y="464832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32004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167652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se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7C2-743B-4AEA-BD04-934390956E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540-EBDC-4222-8832-1576C7CAF0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5684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996633"/>
                </a:solidFill>
                <a:latin typeface="Times New Roman"/>
              </a:rPr>
              <a:t>Funciones de una organización social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Fijar prioridad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qué producir?, ¿cuánt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Organización de la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Distribución del produc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se distribuye los producido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5E9-9283-4A6E-ADD8-F86A2758C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cómo debería ser</a:t>
            </a: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562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No deben cobrarse impuestos por la venta de libro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6FE-09D0-4153-8553-5BE56CE188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2C2-8300-401D-B101-D717463C4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1752480"/>
            <a:ext cx="73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Se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B93-8FD2-4C58-98A6-853973A4A5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438-3728-4854-9C74-E0C585675D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67652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F64-C9B0-4D28-A072-98B98E4241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3-13T16:05:09Z</dcterms:modified>
  <cp:revision>23</cp:revision>
  <dc:subject/>
  <dc:title>Sin título de diapositiva</dc:title>
</cp:coreProperties>
</file>