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C63-3E12-4FD2-AEAB-8623243C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C7F-2605-4FD9-8A1B-F18BF80A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04A-F33E-4E8F-B322-3E95EC94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0AB-BA5C-4D82-B508-709786CC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3C0-60A9-4ABE-9E42-0C8B5032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FE41-A21A-4FAB-A176-2C1C7B1B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B637-69B8-429C-85B9-F7A18B47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C30D-0575-4120-A772-FFF1693A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921C-6D15-424A-9483-CFDB1867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906F-6574-4EA2-8B1A-E016340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C85C-1992-46A7-B53A-65802EB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540-2500-4338-9D98-9982FE71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7302-E4C1-4CB3-89BF-9E8FB81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98BA-57AC-425C-A888-7D6648E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0E7D-E18C-4D10-9042-1100187F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D13B-3E4D-4A95-848E-67929BF2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DFB9-7B4C-4A6E-8BA9-0577D553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627-19EA-4287-9F57-E8A78890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184-2DF0-4D6C-8516-21721EBE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121-8834-4652-A234-5B4BE2D0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C21-D234-44B8-A3B8-ED47F395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45A-4F2C-4781-A5E4-94561976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737-1F61-472E-A982-80F8F35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F3B-2DA7-4F85-96F6-9481FA9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DCF2-1B4A-4455-8F1F-1FA4C5132CA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334-107E-46ED-B877-2CAAE6B14E9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   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92B-6F2E-446E-A620-18E15A9FE9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B18-74E4-4989-821E-380B7657A7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3DD-DD2E-4B60-B071-57167D48A1E0}" type="slidenum">
              <a:t>11</a:t>
            </a:fld>
          </a:p>
        </p:txBody>
      </p:sp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3716280"/>
            <a:ext cx="11160" cy="550800"/>
          </a:xfrm>
          <a:custGeom>
            <a:avLst/>
            <a:gdLst/>
            <a:ahLst/>
            <a:rect l="l" t="t" r="r" b="b"/>
            <a:pathLst>
              <a:path w="7" h="347">
                <a:moveTo>
                  <a:pt x="0" y="347"/>
                </a:moveTo>
                <a:lnTo>
                  <a:pt x="7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56000" y="3860640"/>
            <a:ext cx="216000" cy="43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56000" y="3860640"/>
            <a:ext cx="576360" cy="43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364500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78936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378936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429264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71A-4F3E-45A9-A0B8-D141ADAFEE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3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91C-4D9F-414F-88FA-B7B84C76C9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C3B-E0E2-4D4B-B4B9-0AD6EB2E74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1E9-3FC0-402F-99F0-19F227879C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63C-C3C8-47B7-879D-3153A8F16E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Deseos, 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10F-EA51-4879-9BF6-7C94DFAF64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3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3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3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3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3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CA9-0E58-4280-A9CB-09A8D5AF13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3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3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3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3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3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3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3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19920" y="281952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971800" y="4648320"/>
            <a:ext cx="3962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32004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167652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se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7D9-7150-4F39-BE6E-69F5AC227E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DE1-23E7-4802-92EF-78A0D070A3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5684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996633"/>
                </a:solidFill>
                <a:latin typeface="Times New Roman"/>
              </a:rPr>
              <a:t>Funciones de una organización social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Fijar prioridad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qué producir?, ¿cuánto produci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Organización de la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cómo produci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Distribución del produc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cómo se distribuye los producido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CFD-71E4-4948-B575-003553C984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cómo debería ser</a:t>
            </a: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562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No deben cobrarse impuestos por la venta de libro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22A-4200-4416-A0C3-DE866C64AE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04A-8ABD-4316-BAAB-5B53B7DB4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1752480"/>
            <a:ext cx="739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Se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042-20B2-41BA-9863-FF08511854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973-87BF-43C5-9FC7-836E41F42E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67652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258-E7A5-4870-A32B-AD00935EFD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3-13T16:05:09Z</dcterms:modified>
  <cp:revision>23</cp:revision>
  <dc:subject/>
  <dc:title>Sin título de diapositiva</dc:title>
</cp:coreProperties>
</file>