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887-7DDA-4444-9FAD-930E75DD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228-FA72-433C-835E-199A482A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8C4-2779-47A9-B72C-3175D425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9E2-66D2-41C6-B0FD-F096FF4E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8C6-782B-41D3-A73A-61ADE803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EB45-0273-4F8B-BCA9-8F69AD83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EA3-F3FB-46B0-ACCF-EC9F5295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1EB-11A3-4244-9A3B-753726D5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7F0-FEA6-468C-8499-97B4C973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A44-363F-4B55-8988-F38AF32C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CD8B-635E-4070-9230-AA3A058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CC3-B4B3-485E-A496-D395801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1FFE-30F6-45F9-910D-336F296F7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resa que es la única que vende un producto que no tiene sustitutos cer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rreras a la ent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recurso clave es propiedad de una so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creados por el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zones histó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FECTOS DE AUMENTO DE VENTAS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vende a un precio más bajo tod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CISIONES DE P Y Q DE UN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ximización de 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 &gt; IMg = C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sto social: Ineficiencia se debe a menor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mbios en excedente: efecto redistribución y efecto inefi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 CON LOS MONOPOLI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gislación antimonopo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f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vi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ide coordinar 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ul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típico monopolios natu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P = CMg, monopolio natural tiene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bsidiar las pérdida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quiere impuestos en otros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brar costo medio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voca pérdida de 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reducir costo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que se quede con parte de los beneficios de disminuir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HACER... (Cont.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 públ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centivos a la efi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icitar por un cierto número de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trucción, administración, man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hacer 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dad de cobrar precios distintos a distintos consumidores, no asociado a diferencias de co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traer disposición a p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puede haber “arbitraj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mayor mientras más inelástica sea la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fecto de discriminación perfecta de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2:24:20Z</dcterms:created>
  <dc:creator>UNIVERSIDAD DE CHILE.</dc:creator>
  <dc:description/>
  <dc:language>en-US</dc:language>
  <cp:lastModifiedBy>UNIVERSIDAD DE CHILE.</cp:lastModifiedBy>
  <dcterms:modified xsi:type="dcterms:W3CDTF">2006-05-29T12:24:42Z</dcterms:modified>
  <cp:revision>1</cp:revision>
  <dc:subject/>
  <dc:title>Diapositiva 1</dc:title>
</cp:coreProperties>
</file>