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B79-D08E-484D-A91D-CAB44C9F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E68E-4E45-4707-A8BB-C6334686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EE2-E1D9-4211-A6D0-2C3743D2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4CCD-169B-4B90-9443-4CAB0F7B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D27-2F50-4FFE-87EA-C01EF339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520-DF01-43EA-BF8E-3EA04FA8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3AB-AFB4-4105-8D14-D37BD404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9244-BD92-4FCE-8585-9F87457C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B2D-EE76-422B-A30A-0D941E2A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AC6-398E-497C-B39C-4BB0585A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1B1-1487-46B9-9B6A-3CF61875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A9E2-C62F-47C6-A4B1-38A2D3E5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6C32-64BF-4F57-A492-4095C731D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resa que es la única que vende un producto que no tiene sustitutos cer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rreras a la en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recurso clave es propiedad de una so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creados por el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zones histó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FECTOS DE AUMENTO DE VENTAS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vende a un precio más bajo tod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ISIONES DE P Y Q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ximización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 &gt; IMg = C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 social: Ineficiencia se debe a menor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os en excedente: efecto redistribución y efecto in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 CON LOS MONOPOL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gislación antimonop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f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coordinar 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típico monopolios natu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 = CMg, monopolio natural tiene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bsidiar las pérdida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quiere impuestos en otr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brar costo medio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oca pérdida de efi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reducir costo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que se quede con parte de los beneficios de disminuir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... (Cont.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la efi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citar por un cierto número de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rucción, administración, ma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cer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 de cobrar precios distintos a distintos consumidores, no asociado a diferencias de co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traer disposición a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puede haber “arbitraj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mayor mientras más inelástica se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de discriminación perfecta de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2:24:20Z</dcterms:created>
  <dc:creator>UNIVERSIDAD DE CHILE.</dc:creator>
  <dc:description/>
  <dc:language>en-US</dc:language>
  <cp:lastModifiedBy>UNIVERSIDAD DE CHILE.</cp:lastModifiedBy>
  <dcterms:modified xsi:type="dcterms:W3CDTF">2006-05-29T12:24:42Z</dcterms:modified>
  <cp:revision>1</cp:revision>
  <dc:subject/>
  <dc:title>Diapositiva 1</dc:title>
</cp:coreProperties>
</file>