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53F0-D58F-4997-8D03-EF6B3669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790-E1EF-4090-8F87-082583E3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E35D-79CE-4A93-B57F-CB01DBBC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FABF-DD5E-4C69-8187-1DA96F18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410F-0E07-40C0-8B45-8DD979E5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D6A-2950-40F5-B90E-6CBBC8B7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6D2-30A6-4B37-A76A-C40489E4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E68D-0476-4454-B00E-C6AF01BE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46A5-B154-4ECF-9D8D-1E02C582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F6E-429C-4DE4-89DC-F5082870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6439-235A-499B-83C7-0208DD1D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C7BF-3DFB-437A-9B89-1DEF13A8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983A-D1C1-49CC-BBEB-2A7000BA9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presa que es la única que vende un producto que no tiene sustitutos cerc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rreras a la entr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 recurso clave es propiedad de una so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nopolios creados por el gobi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nopolios na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zones histó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FECTOS DE AUMENTO DE VENTAS DE UN 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fecto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fecto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vende a un precio más bajo toda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CISIONES DE P Y Q DE UN 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ximización de ut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 &gt; IMg = C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sto social: Ineficiencia se debe a menor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mbios en excedente: efecto redistribución y efecto inefi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HACER CON LOS MONOPOLI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gislación antimonopol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ide fu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i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ide coordinar ac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ulació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típico monopolios natur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P = CMg, monopolio natural tiene pér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bsidiar las pérdidas?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quiere impuestos en otr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brar costo medio?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voca pérdida de efi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entivos a reducir costos?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mitir que se quede con parte de los beneficios de disminuir co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HACER... (Cont.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edad pú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entivos a la eficien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citar por un cierto número de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rucción, administración, ma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cer n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CRIMINACIÓN DE PRE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 de cobrar precios distintos a distintos consumidores, no asociado a diferencias de co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traer disposición a p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puede haber “arbitraj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cio mayor mientras más inelástica sea la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fecto de discriminación perfecta de pre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12:24:20Z</dcterms:created>
  <dc:creator>UNIVERSIDAD DE CHILE.</dc:creator>
  <dc:description/>
  <dc:language>en-US</dc:language>
  <cp:lastModifiedBy>UNIVERSIDAD DE CHILE.</cp:lastModifiedBy>
  <dcterms:modified xsi:type="dcterms:W3CDTF">2006-05-29T12:24:42Z</dcterms:modified>
  <cp:revision>1</cp:revision>
  <dc:subject/>
  <dc:title>Diapositiva 1</dc:title>
</cp:coreProperties>
</file>