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EC72-350B-4721-89BC-CD54C8C38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FAA7-A18B-493A-A2AF-73953658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656A-AC65-4BA7-B04E-E8E87276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241E-FE61-4FEA-87D8-ACF6A8043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D236-CEFE-4D5F-83C1-A5AFA366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C5AD-19BC-464B-AB04-0E76E3B3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08B4-CF26-48B5-958C-A0E4BA6A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E360-CFAE-47DF-9EFE-320DE9C6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F8B2-C1C9-455D-9132-2182096A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E061-7799-4E91-971A-CA9224D5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283C-38E8-40EC-AC34-5D66393F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9E03-84C0-4E7B-8636-303C661E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784D-F9F1-4C19-9CDC-C68918E06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NOP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presa que es la única que vende un producto que no tiene sustitutos cerc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arreras a la entr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 recurso clave es propiedad de una sola emp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nopolios creados por el gobi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nopolios natu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zones histó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FECTOS DE AUMENTO DE VENTAS DE UN MONOP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fecto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fecto pre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vende a un precio más bajo toda la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CISIONES DE P Y Q DE UN MONOP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ximización de uti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 &gt; IMg = C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sto social: Ineficiencia se debe a menor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mbios en excedente: efecto redistribución y efecto inefici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HACER CON LOS MONOPOLI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gislación antimonopol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ide fu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vide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ide coordinar activ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gulación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típico monopolios natur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P = CMg, monopolio natural tiene pér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bsidiar las pérdidas?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quiere impuestos en otros mer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brar costo medio?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voca pérdida de efici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centivos a reducir costos?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mitir que se quede con parte de los beneficios de disminuir co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HACER... (Cont.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piedad púb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centivos a la eficienc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icitar por un cierto número de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trucción, administración, man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hacer na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CRIMINACIÓN DE PRE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 de cobrar precios distintos a distintos consumidores, no asociado a diferencias de co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traer disposición a pa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puede haber “arbitraj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cio mayor mientras más inelástica sea la dem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fecto de discriminación perfecta de pre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9T12:24:20Z</dcterms:created>
  <dc:creator>UNIVERSIDAD DE CHILE.</dc:creator>
  <dc:description/>
  <dc:language>en-US</dc:language>
  <cp:lastModifiedBy>UNIVERSIDAD DE CHILE.</cp:lastModifiedBy>
  <dcterms:modified xsi:type="dcterms:W3CDTF">2006-05-29T12:24:42Z</dcterms:modified>
  <cp:revision>1</cp:revision>
  <dc:subject/>
  <dc:title>Diapositiva 1</dc:title>
</cp:coreProperties>
</file>