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0A32-A48C-4BEF-93B4-66037903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D3E8-563A-46DF-A05C-25BF4CEA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4E22-440A-46B8-9FA2-3E59303A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E7B-ABA1-48DA-A8A0-774AE8A1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09D-511E-4D9C-9F62-AFBF4173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E82-8C51-4658-AE3C-8EC0E786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3A0-C4EA-41A2-A8CE-8E5D96BC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B669-5220-4E34-9B49-61B04B99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9E65-92DB-46DE-A9D5-870C278F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4A6-2FFF-4DA6-A5A6-0CB349E3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876-6162-49E9-B45B-79F06407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6C4-32B9-4287-8827-F03AB66F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9064-BC40-4F67-B1F1-59F68B7ED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presa que es la única que vende un producto que no tiene sustitutos cerc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rreras a la ent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 recurso clave es propiedad de una so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nopolios creados por el gobi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nopolios na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zones histó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FECTOS DE AUMENTO DE VENTAS DE UN 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fecto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fecto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vende a un precio más bajo toda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CISIONES DE P Y Q DE UN 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ximización de ut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 &gt; IMg = C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sto social: Ineficiencia se debe a menor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mbios en excedente: efecto redistribución y efecto inefi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HACER CON LOS MONOPOLI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gislación antimonopo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ide f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i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ide coordinar ac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ulació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típico monopolios natur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P = CMg, monopolio natural tiene pér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bsidiar las pérdidas?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quiere impuestos en otr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brar costo medio?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voca pérdida de efi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entivos a reducir costos?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mitir que se quede con parte de los beneficios de disminuir c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HACER... (Cont.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edad pú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entivos a la eficien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citar por un cierto número de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rucción, administración, ma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cer n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CRIMINACIÓN DE PRE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 de cobrar precios distintos a distintos consumidores, no asociado a diferencias de co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traer disposición a p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puede haber “arbitraj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cio mayor mientras más inelástica sea la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fecto de discriminación perfecta de pre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12:24:20Z</dcterms:created>
  <dc:creator>UNIVERSIDAD DE CHILE.</dc:creator>
  <dc:description/>
  <dc:language>en-US</dc:language>
  <cp:lastModifiedBy>UNIVERSIDAD DE CHILE.</cp:lastModifiedBy>
  <dcterms:modified xsi:type="dcterms:W3CDTF">2006-05-29T12:24:42Z</dcterms:modified>
  <cp:revision>1</cp:revision>
  <dc:subject/>
  <dc:title>Diapositiva 1</dc:title>
</cp:coreProperties>
</file>