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C604-DC5C-477E-965A-2CEFF3612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e gráfico nos muestra la curva CSM, el costo social marginal de cada unidad de emisión de contaminantes, que es creciente con el nivel de emisiones por período de tiempo, y la curva CMR, que es el costo marginal de reducir la contaminación por parte de la empresa, desde el nivel de costo 0 y emisión Ê, es decir el equilibrio de libre mercado. Suponemos que la decisión de producción y de emisión son independientes, y que ya ha elegido un nivel de producción y está lista para elegir su nivel de emis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alizar porqué E* es el óptimo de contaminación, con ejemplos E inferior o superior al óptimo. Nuevamente no es 0, porque los bienes que las empresas producen tienen un valor y porque reducir la contaminación provocada por esa producción tiene un cos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norma óptima sería fijar el nivel de emisiones máximo en E*. El impuesto óptimo es t: analizar porqué a la empresa le conviene reducir sus emisiones de Ê a E*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pongamos que el costo de las emisiones de dos empresas es el mismo, pero A tiene menores costos marginales de reducción que B. Cada una emite Ê en el equilibrio de libre mercado. Supongamos que el óptimo social requiere que la reducción total de ambas sea 2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. El método más barato para lograr eso es que A reduzca en 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 y B reduzca en 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 (en que 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+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 = 2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. Si el organismo controlador coloca una norma pareja de emisiones, ambas tendrían que reducir 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. Esta medida no puede ser minimizadora del costo total porque podríamos transferir reducciones de B a A y ahorrar costos (de hecho B estaría dispuesta a pagarle a A porque reduzca a cambio que la autoridad le deje emitir más; este intercambio sería mutuamente provechoso hasta llegar a 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y 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e sería precisamente el resultado que se lograría con una tasa 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área A es más pequeña que el área B + C + D. Es más barato reducir las emisiones con tasas cuando las empresas tienen distintos costos marginales de reducir las emisiones porque la que tiene menores costos marginales de reducción disminuye m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Si hay una norma lo introducirá y reducirá hasta la norma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. Si hay una tasa reducirá hasta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Suponga ahora que en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aba cumpliendo la norma. Entonces el incentivo a introducir la tecnología menos contaminante sería ahorrar el área E, y seguiría contaminando lo mismo. Si existiese una tasa, reduciría su emisión a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 y ganaría el área E, más el rectángulo t(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-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)-(A+D) [chequea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formación limitada sobre costos y beneficios de la reducción de la contaminación, lleva a fijar mal norma y ta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rror de 5% en la tasa provoca una producción de emisiones más grande mientras más elástica CMR, y esto tiene un costo social muy elevado mientras más inelástica sea C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La norma permite más certeza sobre los niveles finales de emi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autoridad emite permisos por E*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oferta de permisos queda fija en E*. Esto significa que los permisos se transarán en el mercado a un precio P. Las empresas que se quedarán con los permisos son aquellas que tienen costos marginales de reducción por encima de P (a las les resulta conveniente pagar el preci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los permisos son asignados a empresas con costo marginal de reducción por debajo de p (curva CMR a la derecha de E*) o a personas que no contaminan, estos los venderán a las empresas que están dispuestas a pagar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x g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(G) - cg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062-1D9C-47AA-A125-29600718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CB7-B293-46E7-90AA-2CD9A3E9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50E-F185-4161-9CAE-DA22D500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320-B377-402B-8640-84DECD13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EF73-3BAB-452C-B131-EBB3F942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7578-DEA0-4183-A196-60552596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3FA9-948F-4191-AB72-9E181751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FC8C-B745-47D6-9D64-585530FB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980C-5E96-41EC-AA04-F5E686B6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83CE-0858-4603-B3C7-F806638D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2219-3BC2-4025-A5F9-F4612C93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757-1111-4DD0-ADC2-E8EC0A16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01C0-4D0A-47E2-AF76-07C056E5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E4E9-8508-4473-82B0-65B3651E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5394-71A3-4491-A3F2-0B6404FE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3EE9-6B40-47B8-8504-FD13BDD9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663D-D222-4036-A0D0-5523283E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B73-0572-4B56-BEB3-F6EABEC2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486-372D-4B6E-8090-0B685E27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CF3-929F-4052-8917-0602009D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719-F625-4AD0-AA68-67B0E053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188-0D46-42D3-A74B-26A35D45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653-3B40-4C04-8CE9-05C84F44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779-9113-413C-A691-6235060B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0513-B3FC-490B-9C54-6A8DF122B6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7D4F-2FAD-46F0-9CC9-33A5137D2A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609480"/>
            <a:ext cx="6172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78360" y="8701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590920"/>
            <a:ext cx="74674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590920"/>
            <a:ext cx="104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ternalidad:  Influencia de las acciones de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ona en el bienestar de otra (no transmi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r el sistema de preci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267080"/>
            <a:ext cx="75438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8560" y="4267080"/>
            <a:ext cx="714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rnalización de una externalidad:  Alteración de los incentivos de tal manera que las personas tengan en cuenta los efectos externos de sus a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Análisis efectos normas e impuestos (tas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la empresa que produce la externalidad tiene una tecnología de producción de proporciones fijas, la externalidad sólo puede reducirse si la empresa disminuye la p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fortunadamente, la mayoría de las empresas puede sustituir unos factores por otros en el proceso de producción alternado su elección de tecn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LECCIÓN DE TECNOLOGÍ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95280"/>
            <a:ext cx="5790960" cy="4267440"/>
          </a:xfrm>
          <a:custGeom>
            <a:avLst/>
            <a:gdLst/>
            <a:ahLst/>
            <a:rect l="l" t="t" r="r" b="b"/>
            <a:pathLst>
              <a:path w="3648" h="2688">
                <a:moveTo>
                  <a:pt x="0" y="2688"/>
                </a:moveTo>
                <a:cubicBezTo>
                  <a:pt x="824" y="2336"/>
                  <a:pt x="1648" y="1984"/>
                  <a:pt x="2256" y="1536"/>
                </a:cubicBezTo>
                <a:cubicBezTo>
                  <a:pt x="2864" y="1088"/>
                  <a:pt x="3416" y="256"/>
                  <a:pt x="3648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600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5410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LECCIÓN DE TECNOLOGÍ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295280"/>
            <a:ext cx="5790960" cy="4267440"/>
          </a:xfrm>
          <a:custGeom>
            <a:avLst/>
            <a:gdLst/>
            <a:ahLst/>
            <a:rect l="l" t="t" r="r" b="b"/>
            <a:pathLst>
              <a:path w="3648" h="2688">
                <a:moveTo>
                  <a:pt x="0" y="2688"/>
                </a:moveTo>
                <a:cubicBezTo>
                  <a:pt x="824" y="2336"/>
                  <a:pt x="1648" y="1984"/>
                  <a:pt x="2256" y="1536"/>
                </a:cubicBezTo>
                <a:cubicBezTo>
                  <a:pt x="2864" y="1088"/>
                  <a:pt x="3416" y="256"/>
                  <a:pt x="3648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1600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5410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45720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62120" y="4648320"/>
            <a:ext cx="2286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¿NORMAS O TASA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 favor de las tasas: ejemplo empresas con distintos CM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 favor de las normas: cuando hay incertidumbre o información limitada sobre los costos y los beneficios de la reducción de la contam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TASA MINIMIZA CT DE REDUCI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2895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r>
              <a:rPr b="1" lang="es-CL" sz="20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5720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760" y="4648320"/>
            <a:ext cx="4647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s-CL" sz="24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3733920"/>
            <a:ext cx="0" cy="24382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45720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1371600"/>
            <a:ext cx="5257800" cy="4724280"/>
          </a:xfrm>
          <a:custGeom>
            <a:avLst/>
            <a:gdLst/>
            <a:ahLst/>
            <a:rect l="l" t="t" r="r" b="b"/>
            <a:pathLst>
              <a:path w="3168" h="3216">
                <a:moveTo>
                  <a:pt x="3168" y="3216"/>
                </a:moveTo>
                <a:cubicBezTo>
                  <a:pt x="2184" y="2452"/>
                  <a:pt x="1200" y="1688"/>
                  <a:pt x="672" y="1152"/>
                </a:cubicBezTo>
                <a:cubicBezTo>
                  <a:pt x="144" y="616"/>
                  <a:pt x="112" y="192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1905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r>
              <a:rPr b="1" lang="es-CL" sz="2000" spc="-1" strike="noStrike" baseline="30000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6248520"/>
            <a:ext cx="838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4040" y="60958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s-CL" sz="2400" spc="-1" strike="noStrike" baseline="30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6324480"/>
            <a:ext cx="609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6095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s-CL" sz="24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5486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114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5105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5715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52578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57913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ACIÓN TASA VRS NOR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80880" y="1847880"/>
          <a:ext cx="7329600" cy="44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47880"/>
                    <a:ext cx="732960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A FAVOR DE IMPUES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uando deben establecerse las mismas normas para todas las empresas, las tasas consiguen las mismas reducciones a un menor costo to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s tasas dan un mayor incentivo a introducir nuevos equipos que le permitan a la empresa reducir aún más las emisiones (ahorra el pago de impuestos; por ejemplo considerar que Empresa B puede incorporar nueva tecnología a cero costo que desplace su CMR a CMR</a:t>
            </a:r>
            <a:r>
              <a:rPr b="0" lang="es-CL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A FAVOR DE NOR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6324480"/>
            <a:ext cx="8229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3520" y="1066320"/>
            <a:ext cx="0" cy="5257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914040" y="4038480"/>
            <a:ext cx="533412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95480" y="1219320"/>
            <a:ext cx="1219320" cy="457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3520" y="4419720"/>
            <a:ext cx="2743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419720"/>
            <a:ext cx="0" cy="1904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4572000"/>
            <a:ext cx="3429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962520" y="1828800"/>
            <a:ext cx="0" cy="4495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205740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rror de subestimación de 5% en la t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A FAVOR DE NOR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6324480"/>
            <a:ext cx="8229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33520" y="1066320"/>
            <a:ext cx="0" cy="5257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914040" y="4038480"/>
            <a:ext cx="533412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895480" y="1219320"/>
            <a:ext cx="1219320" cy="457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4419720"/>
            <a:ext cx="0" cy="1904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205740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rror de subestimación de 5% en n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505320" y="3504960"/>
            <a:ext cx="0" cy="2819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A FAVOR DE NOR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6324480"/>
            <a:ext cx="8229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33520" y="1066320"/>
            <a:ext cx="0" cy="5257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914040" y="4038480"/>
            <a:ext cx="533412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895480" y="1219320"/>
            <a:ext cx="1219320" cy="457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33520" y="4419720"/>
            <a:ext cx="2743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419720"/>
            <a:ext cx="0" cy="1904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572000"/>
            <a:ext cx="3429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962520" y="1828800"/>
            <a:ext cx="0" cy="4495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20574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05320" y="3504960"/>
            <a:ext cx="0" cy="2819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86200" y="2209680"/>
            <a:ext cx="76320" cy="2286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243828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2438280"/>
            <a:ext cx="152640" cy="4572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2743200"/>
            <a:ext cx="228600" cy="6858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3124080"/>
            <a:ext cx="381240" cy="9144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05320" y="3657600"/>
            <a:ext cx="457200" cy="9144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4191120"/>
            <a:ext cx="228600" cy="30456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33920" y="4038480"/>
            <a:ext cx="228600" cy="4572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505320" y="3505320"/>
            <a:ext cx="457200" cy="9144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505320" y="2971800"/>
            <a:ext cx="457200" cy="99072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657600" y="2361960"/>
            <a:ext cx="304920" cy="6858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98880" y="2735280"/>
            <a:ext cx="34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ayor costo de error de 5% en la tasa es el área achur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sitivas o negativ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la producción o en el consu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gente causante y agente afect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ductor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ductor: I&amp;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umidor: Contaminación daña la salud de la pobl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umidor: congestión vehicular retrasa otros automov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ductor: congestión vehicular retrasa sistema de locomoción colec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FICULTADES PARA DET. IMPUESTO ÓPTIM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Qué actividades producen contaminant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Cuál es el daño de cada unidad de contamina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Qué contaminantes causan dañ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Cuál es el valor del daño causa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camiones en EEUU (1,2 MM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PERMISOS TRANSAB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r ley, se ordena que para emitir contaminantes las empresas deben contar con un permiso. Al fijar el número total de permisos, la autoridad fija cuanta emisión está dispuesta a tolera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cierto sentido es equivalente a la norma, pues fija el total de emisiones (no tiene el problema de la tasa cuando existe incertidumbre), pero también permite la reducción óptima de acuerdo a los CMR de cada empr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ERMISOS TRANS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295280"/>
            <a:ext cx="5791320" cy="4267440"/>
          </a:xfrm>
          <a:custGeom>
            <a:avLst/>
            <a:gdLst/>
            <a:ahLst/>
            <a:rect l="l" t="t" r="r" b="b"/>
            <a:pathLst>
              <a:path w="3648" h="2688">
                <a:moveTo>
                  <a:pt x="0" y="2688"/>
                </a:moveTo>
                <a:cubicBezTo>
                  <a:pt x="824" y="2336"/>
                  <a:pt x="1648" y="1984"/>
                  <a:pt x="2256" y="1536"/>
                </a:cubicBezTo>
                <a:cubicBezTo>
                  <a:pt x="2864" y="1088"/>
                  <a:pt x="3416" y="256"/>
                  <a:pt x="3648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1600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5410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45720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90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ERMISOS TRANS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5410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0" cy="47242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62120" y="4572000"/>
            <a:ext cx="2286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048120" y="563868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048120" y="495252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209680" y="457200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142640" y="4572000"/>
            <a:ext cx="609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PERMISOS vrs. IMPUES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n la incertidumbre r/al nivel final de contam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cación de las tasas de impuestos puede requerir procesos administrativos larg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se pueden comprar derechos de contaminación para impedir que nuevas empresas entren al merc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14400" y="990720"/>
            <a:ext cx="73915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38680" y="1098720"/>
            <a:ext cx="45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ENES PÚBL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 RECURSOS DE USO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3200400"/>
            <a:ext cx="73911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78160" y="3333600"/>
            <a:ext cx="60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e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cluib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 Un bien es excluible cuando es posible im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 lo utilice una perso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5257800"/>
            <a:ext cx="7391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17680" y="5315040"/>
            <a:ext cx="66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en Rival:  Un bien es rival cuando su uso por parte de una pers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uce su uso por parte de o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838080" y="114300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15800" y="1352520"/>
            <a:ext cx="61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enes Privados:  Bienes que son tanto excluibles como riv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266688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90320" y="2800440"/>
            <a:ext cx="579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enes Públicos:  Bienes que no son ni excluibles ni rival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449568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88160" y="4629240"/>
            <a:ext cx="612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ursos Comunes:  Bienes que son rivales pero no exclui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CLASIFICACIÓN DE BIE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886040"/>
          <a:ext cx="8178840" cy="4172040"/>
        </p:xfrm>
        <a:graphic>
          <a:graphicData uri="http://schemas.openxmlformats.org/drawingml/2006/table">
            <a:tbl>
              <a:tblPr/>
              <a:tblGrid>
                <a:gridCol w="2725560"/>
                <a:gridCol w="2727360"/>
                <a:gridCol w="2725920"/>
              </a:tblGrid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LU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EXCLU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enes priv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ursos de uso comú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RI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enes “club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ene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CURSOS DE USO COMÚN O BIENES DE LIBRE ACCE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ienes rivales no exclu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 Tragedia de los comu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 campesinos (i=1,..., 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n comprar las cabras que deseen a un costo de c y llevarlas a pastar a un pasto comú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a gi el número de cabras del campesino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 =                  total de cabras; v valor de cada cabra, que depende de cuánto eng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cule: a) Equilibrio de libre acc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) Óptimo 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286000" y="4419720"/>
                <a:ext cx="9144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91120" y="3808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U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219320" y="457200"/>
            <a:ext cx="0" cy="586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6324480"/>
            <a:ext cx="71625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 rot="10800000">
            <a:off x="1219320" y="3429000"/>
            <a:ext cx="5637600" cy="57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3429000"/>
            <a:ext cx="4876560" cy="57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219320" y="2666880"/>
            <a:ext cx="5562360" cy="3657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295280" y="990720"/>
            <a:ext cx="5562720" cy="3657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680" y="6172200"/>
            <a:ext cx="456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60760" y="59436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37339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88620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64612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L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cuando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646128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609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v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886040"/>
          <a:ext cx="8178840" cy="4172040"/>
        </p:xfrm>
        <a:graphic>
          <a:graphicData uri="http://schemas.openxmlformats.org/drawingml/2006/table">
            <a:tbl>
              <a:tblPr/>
              <a:tblGrid>
                <a:gridCol w="2725560"/>
                <a:gridCol w="2727360"/>
                <a:gridCol w="2725920"/>
              </a:tblGrid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i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 el consu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cunarse, educa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mar, beber y conduc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 la pro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l de abejas y fru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ve de una mina, empresa que contam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NO EXCLUIB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NO RIVALES EN EL CONSUM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jemplo: empresario considerando espectáculo de fuegos artificia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735280"/>
            <a:ext cx="817884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sto $1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00 habitantes lo valoran en $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es posible excluir en el consu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realización del espectáculo también se puede ver como una externalidad posi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a vertical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o el mundo consume la misma cant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o su valoración marginal puede ser distin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 un bien privado todo los consumidores asignan el mismo valor marginal al bien y consume cantidades distin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ANDA POR 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29718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81280" y="53341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ANDA POR 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371600"/>
            <a:ext cx="1371600" cy="342900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28600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800600"/>
            <a:ext cx="2438280" cy="129528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3276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04960" y="380880"/>
            <a:ext cx="5257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ÓPTIMO DE PROVISIÓN DE BIENES PÚBLICOS: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 EL COSTO ES C..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1371600"/>
            <a:ext cx="1371600" cy="342900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28600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0" y="4800600"/>
            <a:ext cx="2438280" cy="129528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3505320"/>
            <a:ext cx="3429000" cy="0"/>
          </a:xfrm>
          <a:prstGeom prst="line">
            <a:avLst/>
          </a:prstGeom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ÓPTIMO DE PROVISIÓN DE BIENES PÚBLICO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.. El óptimo es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Black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1371600"/>
            <a:ext cx="1371600" cy="342900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28600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0" y="4800600"/>
            <a:ext cx="2438280" cy="129528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505320"/>
            <a:ext cx="3429000" cy="0"/>
          </a:xfrm>
          <a:prstGeom prst="line">
            <a:avLst/>
          </a:prstGeom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52480" y="35053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6400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257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¿CÓMO DEBERÍA FINANCIARL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371600"/>
            <a:ext cx="1371600" cy="342900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28600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0" y="4800600"/>
            <a:ext cx="2438280" cy="129528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3505320"/>
            <a:ext cx="3429000" cy="0"/>
          </a:xfrm>
          <a:prstGeom prst="line">
            <a:avLst/>
          </a:prstGeom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52480" y="35053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6400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914400" y="4800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914400" y="4572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nanciamiento 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mpuestos de Lindhal: cada uno paga su disposición marginal a pag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ásito o bolsero:  Persona que recibe el beneficio de un bien, pero evita pagar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álisis Coste-Beneficio:  Estudio que compara los costes y los beneficios que tiene para la sociedad la provisión de un bien públ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99072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6172200"/>
            <a:ext cx="71625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676520" y="1523520"/>
            <a:ext cx="6172200" cy="4038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523880" y="914400"/>
            <a:ext cx="4724640" cy="4038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143000"/>
            <a:ext cx="6248520" cy="4419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914040" y="281952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90360" y="35053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205740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281952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2133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971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31240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1240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2743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4191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05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SI HAY EXTERNALIDADES, EL EQUILIBRIO DE LIBRE MERCADO ES INEFICIEN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114800" y="2209320"/>
            <a:ext cx="762120" cy="6858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2361960"/>
            <a:ext cx="685800" cy="60948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343400" y="2590920"/>
            <a:ext cx="533520" cy="4572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95680" y="2819520"/>
            <a:ext cx="381240" cy="30456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572000" y="2971440"/>
            <a:ext cx="304920" cy="2286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3200040"/>
            <a:ext cx="152640" cy="15228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828800" y="4495320"/>
            <a:ext cx="6095880" cy="1295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77320" y="4343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16002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∑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MP = ofe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143000"/>
            <a:ext cx="9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MS = ∑CMP + D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ACIÓN EXCENDEN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2200" y="1847880"/>
          <a:ext cx="8247240" cy="50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1847880"/>
                    <a:ext cx="824724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SOLUCIONES AL PROBLEMA DE LAS EXTERNAL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olución priv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mpue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ermisos trans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1752480"/>
            <a:ext cx="7010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9960" y="1962000"/>
            <a:ext cx="617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eorema de Coase:  Si las partes privadas pueden negociar s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ingún coste sobre la asignación de los recursos, pue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solver por sí solas el problema de las external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3505320"/>
            <a:ext cx="7010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15600" y="3638520"/>
            <a:ext cx="62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es de transacción:  Costes en que incurren las partes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o de ponerse de acuerdo y de velar por su cumpli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334120"/>
            <a:ext cx="7010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79440" y="5467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Soluciones priv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563868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jemplo del perro que ladra durante la no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os vecinos… de acuerdo, veinte… más compli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STOS DE LAS TRANSACCIO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chas personas involucr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 del parási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icultad de identificar las fuentes de los daños (quién y cuánto contami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ción asimétrica sobre preferencias y oportun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NORMAS E IMPUES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a norma fija la cantidad de contam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mpuesto de Pigou o “Pigouviano”:  Impuesto aprobado para corregir los efectos de una externalidad negativa. Fija un precio por contaminar. Recaudación es 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5T17:10:10Z</dcterms:created>
  <dc:creator>DII</dc:creator>
  <dc:description/>
  <dc:language>en-US</dc:language>
  <cp:lastModifiedBy>UNIVERSIDAD DE CHILE.</cp:lastModifiedBy>
  <cp:lastPrinted>2000-06-08T18:23:18Z</cp:lastPrinted>
  <dcterms:modified xsi:type="dcterms:W3CDTF">2006-05-26T12:19:38Z</dcterms:modified>
  <cp:revision>27</cp:revision>
  <dc:subject/>
  <dc:title>Sin título de diapositiva</dc:title>
</cp:coreProperties>
</file>