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4A1D6-87D8-434A-BC6D-63778B7BE7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ste gráfico nos muestra la curva CSM, el costo social marginal de cada unidad de emisión de contaminantes, que es creciente con el nivel de emisiones por período de tiempo, y la curva CMR, que es el costo marginal de reducir la contaminación por parte de la empresa, desde el nivel de costo 0 y emisión Ê, es decir el equilibrio de libre mercado. Suponemos que la decisión de producción y de emisión son independientes, y que ya ha elegido un nivel de producción y está lista para elegir su nivel de emision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nalizar porqué E* es el óptimo de contaminación, con ejemplos E inferior o superior al óptimo. Nuevamente no es 0, porque los bienes que las empresas producen tienen un valor y porque reducir la contaminación provocada por esa producción tiene un cos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a norma óptima sería fijar el nivel de emisiones máximo en E*. El impuesto óptimo es t: analizar porqué a la empresa le conviene reducir sus emisiones de Ê a E*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upongamos que el costo de las emisiones de dos empresas es el mismo, pero A tiene menores costos marginales de reducción que B. Cada una emite Ê en el equilibrio de libre mercado. Supongamos que el óptimo social requiere que la reducción total de ambas sea 2(Ê-E</a:t>
            </a:r>
            <a:r>
              <a:rPr b="0" lang="es-CL" sz="1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). El método más barato para lograr eso es que A reduzca en (Ê-E</a:t>
            </a:r>
            <a:r>
              <a:rPr b="0" lang="es-CL" sz="18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) y B reduzca en (Ê-E</a:t>
            </a:r>
            <a:r>
              <a:rPr b="0" lang="es-CL" sz="18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) (en que (Ê-E</a:t>
            </a:r>
            <a:r>
              <a:rPr b="0" lang="es-CL" sz="18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)+(Ê-E</a:t>
            </a:r>
            <a:r>
              <a:rPr b="0" lang="es-CL" sz="18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) = 2(Ê-E</a:t>
            </a:r>
            <a:r>
              <a:rPr b="0" lang="es-CL" sz="1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). Si el organismo controlador coloca una norma pareja de emisiones, ambas tendrían que reducir (Ê-E</a:t>
            </a:r>
            <a:r>
              <a:rPr b="0" lang="es-CL" sz="1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). Esta medida no puede ser minimizadora del costo total porque podríamos transferir reducciones de B a A y ahorrar costos (de hecho B estaría dispuesta a pagarle a A porque reduzca a cambio que la autoridad le deje emitir más; este intercambio sería mutuamente provechoso hasta llegar a E</a:t>
            </a:r>
            <a:r>
              <a:rPr b="0" lang="es-CL" sz="18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y E</a:t>
            </a:r>
            <a:r>
              <a:rPr b="0" lang="es-CL" sz="18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ste sería precisamente el resultado que se lograría con una tasa 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l área A es más pequeña que el área B + C + D. Es más barato reducir las emisiones con tasas cuando las empresas tienen distintos costos marginales de reducir las emisiones porque la que tiene menores costos marginales de reducción disminuye má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Si hay una norma lo introducirá y reducirá hasta la norma E</a:t>
            </a:r>
            <a:r>
              <a:rPr b="0" lang="es-CL" sz="1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. Si hay una tasa reducirá hasta E</a:t>
            </a:r>
            <a:r>
              <a:rPr b="0" lang="es-CL" sz="12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Suponga ahora que en E</a:t>
            </a:r>
            <a:r>
              <a:rPr b="0" lang="es-CL" sz="1200" spc="-1" strike="noStrike" baseline="30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estaba cumpliendo la norma. Entonces el incentivo a introducir la tecnología menos contaminante sería ahorrar el área E, y seguiría contaminando lo mismo. Si existiese una tasa, reduciría su emisión a E</a:t>
            </a:r>
            <a:r>
              <a:rPr b="0" lang="es-CL" sz="12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 y ganaría el área E, más el rectángulo t(E</a:t>
            </a:r>
            <a:r>
              <a:rPr b="0" lang="es-CL" sz="1200" spc="-1" strike="noStrike" baseline="30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- E</a:t>
            </a:r>
            <a:r>
              <a:rPr b="0" lang="es-CL" sz="12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)-(A+D) [chequear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Información limitada sobre costos y beneficios de la reducción de la contaminación, lleva a fijar mal norma y tas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Error de 5% en la tasa provoca una producción de emisiones más grande mientras más elástica CMR, y esto tiene un costo social muy elevado mientras más inelástica sea C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La norma permite más certeza sobre los niveles finales de emis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a autoridad emite permisos por E*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a oferta de permisos queda fija en E*. Esto significa que los permisos se transarán en el mercado a un precio P. Las empresas que se quedarán con los permisos son aquellas que tienen costos marginales de reducción por encima de P (a las les resulta conveniente pagar el precio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i los permisos son asignados a empresas con costo marginal de reducción por debajo de p (curva CMR a la derecha de E*) o a personas que no contaminan, estos los venderán a las empresas que están dispuestas a pagar 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ax g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v(G) - cg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7B9C-8086-4489-9C7F-20513DE5E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9A01-6528-4215-8D9C-4A1380B55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AA87-393E-46C4-905A-0827342BC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AE74-9C2D-464B-B60E-0EF0DB39D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05A59-BA9B-4F0A-88D9-EF956B0BA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85FB8-030F-4435-A287-9853DB06A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F9040-0046-487A-9332-7F620A0A8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5752A-EC2E-4744-A629-88D271F16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9B1F4-E087-42E6-B00E-E5863B36F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88C11-20B1-4ADC-BD6B-4C537563A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D35AC-0F57-4B99-B1DF-8C08BAA6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0CE5-45E8-4E0F-B66A-004B98499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B882C-7311-4B2B-88D9-F8C520A48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4831A-62E6-466D-91B7-2DD726D3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94102-B9DB-44C9-AED1-3080BC9C5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E5118-91E6-4B92-A36D-BFA5554C4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7F9DB-5C72-4463-ABC4-BB71A0E90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D3E0-1984-45BB-BD30-C137C470D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EE7C-6B64-474E-9E2F-2173CDA08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E012-F6B7-4B14-88AC-09A27CE18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A848-19CF-4F03-9BC2-63CE6ABD5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C8A1-2606-4B82-AEF8-60E80EF57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9DF5-CB78-4339-A64C-1062A0351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54C1-2505-4565-8EF3-AD10895C8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9E5FC-B826-4836-8082-E2C09C7EE4A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5C376-DB71-4E40-B076-8034E308C4C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447920" y="609480"/>
            <a:ext cx="61722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78360" y="870120"/>
            <a:ext cx="28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XTERNA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2590920"/>
            <a:ext cx="746748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2590920"/>
            <a:ext cx="1048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xternalidad:  Influencia de las acciones de u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ersona en el bienestar de otra (no transmit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or el sistema de precio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4267080"/>
            <a:ext cx="75438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98560" y="4267080"/>
            <a:ext cx="714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Internalización de una externalidad:  Alteración de los incentivos de tal manera que las personas tengan en cuenta los efectos externos de sus ac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Análisis efectos normas e impuestos (tas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Si la empresa que produce la externalidad tiene una tecnología de producción de proporciones fijas, la externalidad sólo puede reducirse si la empresa disminuye la produc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Afortunadamente, la mayoría de las empresas puede sustituir unos factores por otros en el proceso de producción alternado su elección de tecnologí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ELECCIÓN DE TECNOLOGÍ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762120" y="990360"/>
            <a:ext cx="0" cy="51814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62120" y="6172200"/>
            <a:ext cx="7848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19320" y="1143000"/>
            <a:ext cx="6476760" cy="5029200"/>
          </a:xfrm>
          <a:custGeom>
            <a:avLst/>
            <a:gdLst/>
            <a:ahLst/>
            <a:rect l="l" t="t" r="r" b="b"/>
            <a:pathLst>
              <a:path w="4080" h="3168">
                <a:moveTo>
                  <a:pt x="4080" y="3168"/>
                </a:moveTo>
                <a:cubicBezTo>
                  <a:pt x="3408" y="3080"/>
                  <a:pt x="2736" y="2992"/>
                  <a:pt x="2256" y="2832"/>
                </a:cubicBezTo>
                <a:cubicBezTo>
                  <a:pt x="1776" y="2672"/>
                  <a:pt x="1488" y="2448"/>
                  <a:pt x="1200" y="2208"/>
                </a:cubicBezTo>
                <a:cubicBezTo>
                  <a:pt x="912" y="1968"/>
                  <a:pt x="712" y="1680"/>
                  <a:pt x="528" y="1392"/>
                </a:cubicBezTo>
                <a:cubicBezTo>
                  <a:pt x="344" y="1104"/>
                  <a:pt x="184" y="712"/>
                  <a:pt x="96" y="480"/>
                </a:cubicBezTo>
                <a:cubicBezTo>
                  <a:pt x="8" y="248"/>
                  <a:pt x="16" y="80"/>
                  <a:pt x="0" y="0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90720" y="1295280"/>
            <a:ext cx="5790960" cy="4267440"/>
          </a:xfrm>
          <a:custGeom>
            <a:avLst/>
            <a:gdLst/>
            <a:ahLst/>
            <a:rect l="l" t="t" r="r" b="b"/>
            <a:pathLst>
              <a:path w="3648" h="2688">
                <a:moveTo>
                  <a:pt x="0" y="2688"/>
                </a:moveTo>
                <a:cubicBezTo>
                  <a:pt x="824" y="2336"/>
                  <a:pt x="1648" y="1984"/>
                  <a:pt x="2256" y="1536"/>
                </a:cubicBezTo>
                <a:cubicBezTo>
                  <a:pt x="2864" y="1088"/>
                  <a:pt x="3416" y="256"/>
                  <a:pt x="3648" y="0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6002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C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181480" y="54100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CM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153280" y="6172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320" y="1066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391520" y="6248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ELECCIÓN DE TECNOLOGÍ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762120" y="990360"/>
            <a:ext cx="0" cy="51814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6172200"/>
            <a:ext cx="7848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19320" y="1143000"/>
            <a:ext cx="6476760" cy="5029200"/>
          </a:xfrm>
          <a:custGeom>
            <a:avLst/>
            <a:gdLst/>
            <a:ahLst/>
            <a:rect l="l" t="t" r="r" b="b"/>
            <a:pathLst>
              <a:path w="4080" h="3168">
                <a:moveTo>
                  <a:pt x="4080" y="3168"/>
                </a:moveTo>
                <a:cubicBezTo>
                  <a:pt x="3408" y="3080"/>
                  <a:pt x="2736" y="2992"/>
                  <a:pt x="2256" y="2832"/>
                </a:cubicBezTo>
                <a:cubicBezTo>
                  <a:pt x="1776" y="2672"/>
                  <a:pt x="1488" y="2448"/>
                  <a:pt x="1200" y="2208"/>
                </a:cubicBezTo>
                <a:cubicBezTo>
                  <a:pt x="912" y="1968"/>
                  <a:pt x="712" y="1680"/>
                  <a:pt x="528" y="1392"/>
                </a:cubicBezTo>
                <a:cubicBezTo>
                  <a:pt x="344" y="1104"/>
                  <a:pt x="184" y="712"/>
                  <a:pt x="96" y="480"/>
                </a:cubicBezTo>
                <a:cubicBezTo>
                  <a:pt x="8" y="248"/>
                  <a:pt x="16" y="80"/>
                  <a:pt x="0" y="0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90720" y="1295280"/>
            <a:ext cx="5790960" cy="4267440"/>
          </a:xfrm>
          <a:custGeom>
            <a:avLst/>
            <a:gdLst/>
            <a:ahLst/>
            <a:rect l="l" t="t" r="r" b="b"/>
            <a:pathLst>
              <a:path w="3648" h="2688">
                <a:moveTo>
                  <a:pt x="0" y="2688"/>
                </a:moveTo>
                <a:cubicBezTo>
                  <a:pt x="824" y="2336"/>
                  <a:pt x="1648" y="1984"/>
                  <a:pt x="2256" y="1536"/>
                </a:cubicBezTo>
                <a:cubicBezTo>
                  <a:pt x="2864" y="1088"/>
                  <a:pt x="3416" y="256"/>
                  <a:pt x="3648" y="0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324480" y="16002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C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181480" y="54100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CM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3280" y="6172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320" y="1066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391520" y="6248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48120" y="4572000"/>
            <a:ext cx="0" cy="16002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762120" y="4648320"/>
            <a:ext cx="22860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909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E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" y="4495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 Black"/>
              </a:rPr>
              <a:t>¿NORMAS O TASAS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A favor de las tasas: ejemplo empresas con distintos CM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A favor de las normas: cuando hay incertidumbre o información limitada sobre los costos y los beneficios de la reducción de la contamin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 Black"/>
              </a:rPr>
              <a:t>TASA MINIMIZA CT DE REDUCIR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62120" y="990360"/>
            <a:ext cx="0" cy="51814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6172200"/>
            <a:ext cx="7848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19320" y="1143000"/>
            <a:ext cx="6476760" cy="5029200"/>
          </a:xfrm>
          <a:custGeom>
            <a:avLst/>
            <a:gdLst/>
            <a:ahLst/>
            <a:rect l="l" t="t" r="r" b="b"/>
            <a:pathLst>
              <a:path w="4080" h="3168">
                <a:moveTo>
                  <a:pt x="4080" y="3168"/>
                </a:moveTo>
                <a:cubicBezTo>
                  <a:pt x="3408" y="3080"/>
                  <a:pt x="2736" y="2992"/>
                  <a:pt x="2256" y="2832"/>
                </a:cubicBezTo>
                <a:cubicBezTo>
                  <a:pt x="1776" y="2672"/>
                  <a:pt x="1488" y="2448"/>
                  <a:pt x="1200" y="2208"/>
                </a:cubicBezTo>
                <a:cubicBezTo>
                  <a:pt x="912" y="1968"/>
                  <a:pt x="712" y="1680"/>
                  <a:pt x="528" y="1392"/>
                </a:cubicBezTo>
                <a:cubicBezTo>
                  <a:pt x="344" y="1104"/>
                  <a:pt x="184" y="712"/>
                  <a:pt x="96" y="480"/>
                </a:cubicBezTo>
                <a:cubicBezTo>
                  <a:pt x="8" y="248"/>
                  <a:pt x="16" y="80"/>
                  <a:pt x="0" y="0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52480" y="28954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CMR</a:t>
            </a:r>
            <a:r>
              <a:rPr b="1" lang="es-CL" sz="2000" spc="-1" strike="noStrike" baseline="30000">
                <a:solidFill>
                  <a:srgbClr val="000000"/>
                </a:solidFill>
                <a:latin typeface="Verdan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153280" y="6172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320" y="1066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391520" y="6248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48120" y="4572000"/>
            <a:ext cx="0" cy="16002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761760" y="4648320"/>
            <a:ext cx="46479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909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s-CL" sz="2400" spc="-1" strike="noStrike" baseline="30000">
                <a:solidFill>
                  <a:srgbClr val="000000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" y="4495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191120" y="3733920"/>
            <a:ext cx="0" cy="24382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10080" y="4572000"/>
            <a:ext cx="0" cy="16002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6000" y="1371600"/>
            <a:ext cx="5257800" cy="4724280"/>
          </a:xfrm>
          <a:custGeom>
            <a:avLst/>
            <a:gdLst/>
            <a:ahLst/>
            <a:rect l="l" t="t" r="r" b="b"/>
            <a:pathLst>
              <a:path w="3168" h="3216">
                <a:moveTo>
                  <a:pt x="3168" y="3216"/>
                </a:moveTo>
                <a:cubicBezTo>
                  <a:pt x="2184" y="2452"/>
                  <a:pt x="1200" y="1688"/>
                  <a:pt x="672" y="1152"/>
                </a:cubicBezTo>
                <a:cubicBezTo>
                  <a:pt x="144" y="616"/>
                  <a:pt x="112" y="192"/>
                  <a:pt x="0" y="0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590920" y="19051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CMR</a:t>
            </a:r>
            <a:r>
              <a:rPr b="1" lang="es-CL" sz="2000" spc="-1" strike="noStrike" baseline="30000">
                <a:solidFill>
                  <a:srgbClr val="000000"/>
                </a:solidFill>
                <a:latin typeface="Verdan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029200" y="6248520"/>
            <a:ext cx="838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44040" y="6095880"/>
            <a:ext cx="4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s-CL" sz="2400" spc="-1" strike="noStrike" baseline="30000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86200" y="6324480"/>
            <a:ext cx="6094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86200" y="6095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s-CL" sz="24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124080" y="54864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41148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43400" y="510552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343400" y="57150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62720" y="525780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257800" y="579132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ACIÓN TASA VRS NOR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380880" y="1847880"/>
          <a:ext cx="7329600" cy="4475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47880"/>
                    <a:ext cx="7329600" cy="44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 Black"/>
              </a:rPr>
              <a:t>A FAVOR DE IMPUESTO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uando deben establecerse las mismas normas para todas las empresas, las tasas consiguen las mismas reducciones a un menor costo tot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Las tasas dan un mayor incentivo a introducir nuevos equipos que le permitan a la empresa reducir aún más las emisiones (ahorra el pago de impuestos; por ejemplo considerar que Empresa B puede incorporar nueva tecnología a cero costo que desplace su CMR a CMR</a:t>
            </a:r>
            <a:r>
              <a:rPr b="0" lang="es-CL" sz="2800" spc="-1" strike="noStrike" baseline="30000">
                <a:solidFill>
                  <a:srgbClr val="000000"/>
                </a:solidFill>
                <a:latin typeface="Tahoma"/>
              </a:rPr>
              <a:t>A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 Black"/>
              </a:rPr>
              <a:t>A FAVOR DE NORMA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6324480"/>
            <a:ext cx="82296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533520" y="1066320"/>
            <a:ext cx="0" cy="52578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914040" y="4038480"/>
            <a:ext cx="5334120" cy="9144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2895480" y="1219320"/>
            <a:ext cx="1219320" cy="4572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533520" y="4419720"/>
            <a:ext cx="27432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276720" y="4419720"/>
            <a:ext cx="0" cy="19047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3520" y="4572000"/>
            <a:ext cx="34290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3962520" y="1828800"/>
            <a:ext cx="0" cy="44956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486400" y="205740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Error de subestimación de 5% en la t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 Black"/>
              </a:rPr>
              <a:t>A FAVOR DE NORMA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6" name=""/>
          <p:cNvSpPr/>
          <p:nvPr/>
        </p:nvSpPr>
        <p:spPr>
          <a:xfrm>
            <a:off x="533520" y="6324480"/>
            <a:ext cx="82296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533520" y="1066320"/>
            <a:ext cx="0" cy="52578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 flipV="1">
            <a:off x="914040" y="4038480"/>
            <a:ext cx="5334120" cy="9144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895480" y="1219320"/>
            <a:ext cx="1219320" cy="4572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276720" y="4419720"/>
            <a:ext cx="0" cy="19047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486400" y="205740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Error de subestimación de 5% en no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3505320" y="3504960"/>
            <a:ext cx="0" cy="28191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 Black"/>
              </a:rPr>
              <a:t>A FAVOR DE NORMA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"/>
          <p:cNvSpPr/>
          <p:nvPr/>
        </p:nvSpPr>
        <p:spPr>
          <a:xfrm>
            <a:off x="533520" y="6324480"/>
            <a:ext cx="82296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33520" y="1066320"/>
            <a:ext cx="0" cy="52578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914040" y="4038480"/>
            <a:ext cx="5334120" cy="9144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2895480" y="1219320"/>
            <a:ext cx="1219320" cy="4572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533520" y="4419720"/>
            <a:ext cx="27432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76720" y="4419720"/>
            <a:ext cx="0" cy="19047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3520" y="4572000"/>
            <a:ext cx="34290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3962520" y="1828800"/>
            <a:ext cx="0" cy="44956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486400" y="20574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3505320" y="3504960"/>
            <a:ext cx="0" cy="28191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86200" y="2209680"/>
            <a:ext cx="76320" cy="228600"/>
          </a:xfrm>
          <a:prstGeom prst="line">
            <a:avLst/>
          </a:prstGeom>
          <a:ln cap="rnd" w="126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09880" y="2438280"/>
            <a:ext cx="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09880" y="2438280"/>
            <a:ext cx="152640" cy="457200"/>
          </a:xfrm>
          <a:prstGeom prst="line">
            <a:avLst/>
          </a:prstGeom>
          <a:ln cap="rnd" w="126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733920" y="2743200"/>
            <a:ext cx="228600" cy="685800"/>
          </a:xfrm>
          <a:prstGeom prst="line">
            <a:avLst/>
          </a:prstGeom>
          <a:ln cap="rnd" w="126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581280" y="3124080"/>
            <a:ext cx="381240" cy="914400"/>
          </a:xfrm>
          <a:prstGeom prst="line">
            <a:avLst/>
          </a:prstGeom>
          <a:ln cap="rnd" w="126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505320" y="3657600"/>
            <a:ext cx="457200" cy="914400"/>
          </a:xfrm>
          <a:prstGeom prst="line">
            <a:avLst/>
          </a:prstGeom>
          <a:ln cap="rnd" w="126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505320" y="4191120"/>
            <a:ext cx="228600" cy="304560"/>
          </a:xfrm>
          <a:prstGeom prst="line">
            <a:avLst/>
          </a:prstGeom>
          <a:ln cap="rnd" w="126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3733920" y="4038480"/>
            <a:ext cx="228600" cy="457200"/>
          </a:xfrm>
          <a:prstGeom prst="line">
            <a:avLst/>
          </a:prstGeom>
          <a:ln cap="rnd" w="126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505320" y="3505320"/>
            <a:ext cx="457200" cy="914400"/>
          </a:xfrm>
          <a:prstGeom prst="line">
            <a:avLst/>
          </a:prstGeom>
          <a:ln cap="rnd" w="126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505320" y="2971800"/>
            <a:ext cx="457200" cy="990720"/>
          </a:xfrm>
          <a:prstGeom prst="line">
            <a:avLst/>
          </a:prstGeom>
          <a:ln cap="rnd" w="126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3657600" y="2361960"/>
            <a:ext cx="304920" cy="685800"/>
          </a:xfrm>
          <a:prstGeom prst="line">
            <a:avLst/>
          </a:prstGeom>
          <a:ln cap="rnd" w="126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98880" y="2735280"/>
            <a:ext cx="348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Mayor costo de error de 5% en la tasa es el área achura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 Black"/>
              </a:rPr>
              <a:t>TIPOS DE EXTERNALIDAD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ositivas o negativ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n la producción o en el consum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Agente causante y agente afectad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Productor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productor: I&amp;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Productor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onsumidor: Contaminación daña la salud de la pobl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onsumidor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onsumidor: congestión vehicular retrasa otros automov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onsumidor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productor: congestión vehicular retrasa sistema de locomoción colectiv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IFICULTADES PARA DET. IMPUESTO ÓPTIM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¿Qué actividades producen contaminant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¿Cuál es el daño de cada unidad de contaminació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¿Qué contaminantes causan dañ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¿Cuál es el valor del daño causad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 camiones en EEUU (1,2 MM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 Black"/>
              </a:rPr>
              <a:t>PERMISOS TRANSABL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or ley, se ordena que para emitir contaminantes las empresas deben contar con un permiso. Al fijar el número total de permisos, la autoridad fija cuanta emisión está dispuesta a tolerar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n cierto sentido es equivalente a la norma, pues fija el total de emisiones (no tiene el problema de la tasa cuando existe incertidumbre), pero también permite la reducción óptima de acuerdo a los CMR de cada empre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PERMISOS TRANS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762120" y="990360"/>
            <a:ext cx="0" cy="51814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62120" y="6172200"/>
            <a:ext cx="7848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219320" y="1143000"/>
            <a:ext cx="6476760" cy="5029200"/>
          </a:xfrm>
          <a:custGeom>
            <a:avLst/>
            <a:gdLst/>
            <a:ahLst/>
            <a:rect l="l" t="t" r="r" b="b"/>
            <a:pathLst>
              <a:path w="4080" h="3168">
                <a:moveTo>
                  <a:pt x="4080" y="3168"/>
                </a:moveTo>
                <a:cubicBezTo>
                  <a:pt x="3408" y="3080"/>
                  <a:pt x="2736" y="2992"/>
                  <a:pt x="2256" y="2832"/>
                </a:cubicBezTo>
                <a:cubicBezTo>
                  <a:pt x="1776" y="2672"/>
                  <a:pt x="1488" y="2448"/>
                  <a:pt x="1200" y="2208"/>
                </a:cubicBezTo>
                <a:cubicBezTo>
                  <a:pt x="912" y="1968"/>
                  <a:pt x="712" y="1680"/>
                  <a:pt x="528" y="1392"/>
                </a:cubicBezTo>
                <a:cubicBezTo>
                  <a:pt x="344" y="1104"/>
                  <a:pt x="184" y="712"/>
                  <a:pt x="96" y="480"/>
                </a:cubicBezTo>
                <a:cubicBezTo>
                  <a:pt x="8" y="248"/>
                  <a:pt x="16" y="80"/>
                  <a:pt x="0" y="0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914400" y="1295280"/>
            <a:ext cx="5791320" cy="4267440"/>
          </a:xfrm>
          <a:custGeom>
            <a:avLst/>
            <a:gdLst/>
            <a:ahLst/>
            <a:rect l="l" t="t" r="r" b="b"/>
            <a:pathLst>
              <a:path w="3648" h="2688">
                <a:moveTo>
                  <a:pt x="0" y="2688"/>
                </a:moveTo>
                <a:cubicBezTo>
                  <a:pt x="824" y="2336"/>
                  <a:pt x="1648" y="1984"/>
                  <a:pt x="2256" y="1536"/>
                </a:cubicBezTo>
                <a:cubicBezTo>
                  <a:pt x="2864" y="1088"/>
                  <a:pt x="3416" y="256"/>
                  <a:pt x="3648" y="0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324480" y="16002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C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181480" y="54100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CM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153280" y="6172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6320" y="1066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391520" y="6248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048120" y="4572000"/>
            <a:ext cx="0" cy="16002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5909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E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PERMISOS TRANS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762120" y="990360"/>
            <a:ext cx="0" cy="51814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62120" y="6172200"/>
            <a:ext cx="7848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219320" y="1143000"/>
            <a:ext cx="6476760" cy="5029200"/>
          </a:xfrm>
          <a:custGeom>
            <a:avLst/>
            <a:gdLst/>
            <a:ahLst/>
            <a:rect l="l" t="t" r="r" b="b"/>
            <a:pathLst>
              <a:path w="4080" h="3168">
                <a:moveTo>
                  <a:pt x="4080" y="3168"/>
                </a:moveTo>
                <a:cubicBezTo>
                  <a:pt x="3408" y="3080"/>
                  <a:pt x="2736" y="2992"/>
                  <a:pt x="2256" y="2832"/>
                </a:cubicBezTo>
                <a:cubicBezTo>
                  <a:pt x="1776" y="2672"/>
                  <a:pt x="1488" y="2448"/>
                  <a:pt x="1200" y="2208"/>
                </a:cubicBezTo>
                <a:cubicBezTo>
                  <a:pt x="912" y="1968"/>
                  <a:pt x="712" y="1680"/>
                  <a:pt x="528" y="1392"/>
                </a:cubicBezTo>
                <a:cubicBezTo>
                  <a:pt x="344" y="1104"/>
                  <a:pt x="184" y="712"/>
                  <a:pt x="96" y="480"/>
                </a:cubicBezTo>
                <a:cubicBezTo>
                  <a:pt x="8" y="248"/>
                  <a:pt x="16" y="80"/>
                  <a:pt x="0" y="0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181480" y="54100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CM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153280" y="6172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6320" y="1066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391520" y="6248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048120" y="1447920"/>
            <a:ext cx="0" cy="47242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762120" y="4572000"/>
            <a:ext cx="22860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5909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E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4419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3048120" y="5638680"/>
            <a:ext cx="0" cy="5335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3048120" y="4952520"/>
            <a:ext cx="0" cy="3812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2209680" y="4572000"/>
            <a:ext cx="4572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1142640" y="4572000"/>
            <a:ext cx="60948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Black"/>
              </a:rPr>
              <a:t>PERMISOS vrs. IMPUESTO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ucen la incertidumbre r/al nivel final de contamin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ificación de las tasas de impuestos puede requerir procesos administrativos larg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o se pueden comprar derechos de contaminación para impedir que nuevas empresas entren al mercad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914400" y="990720"/>
            <a:ext cx="73915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038680" y="1098720"/>
            <a:ext cx="450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IENES PÚBLIC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Y RECURSOS DE USO COMÚ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990720" y="3200400"/>
            <a:ext cx="739116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478160" y="3333600"/>
            <a:ext cx="6062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ien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Excluibl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  Un bien es excluible cuando es posible imped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ue lo utilice una person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914400" y="5257800"/>
            <a:ext cx="73915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417680" y="5315040"/>
            <a:ext cx="666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ien Rival:  Un bien es rival cuando su uso por parte de una perso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duce su uso por parte de otr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838080" y="1143000"/>
            <a:ext cx="7391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315800" y="1352520"/>
            <a:ext cx="615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ienes Privados:  Bienes que son tanto excluibles como riva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38080" y="2666880"/>
            <a:ext cx="7391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390320" y="2800440"/>
            <a:ext cx="579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ienes Públicos:  Bienes que no son ni excluibles ni rivales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38080" y="4495680"/>
            <a:ext cx="7391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388160" y="4629240"/>
            <a:ext cx="612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cursos Comunes:  Bienes que son rivales pero no excluib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 Black"/>
              </a:rPr>
              <a:t>CLASIFICACIÓN DE BIEN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457200" y="1886040"/>
          <a:ext cx="8178840" cy="4172040"/>
        </p:xfrm>
        <a:graphic>
          <a:graphicData uri="http://schemas.openxmlformats.org/drawingml/2006/table">
            <a:tbl>
              <a:tblPr/>
              <a:tblGrid>
                <a:gridCol w="2725560"/>
                <a:gridCol w="2727360"/>
                <a:gridCol w="2725920"/>
              </a:tblGrid>
              <a:tr h="13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CLUI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 EXCLUI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IV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ienes privad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cursos de uso comú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 RIV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ienes “club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ienes públic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CURSOS DE USO COMÚN O BIENES DE LIBRE ACCES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71629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Bienes rivales no exclui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jemplo: Tragedia de los comu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 campesinos (i=1,..., 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ueden comprar las cabras que deseen a un costo de c y llevarlas a pastar a un pasto comú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a gi el número de cabras del campesino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G =                  total de cabras; v valor de cada cabra, que depende de cuánto engor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lcule: a) Equilibrio de libre acces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b) Óptimo soci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2286000" y="4419720"/>
                <a:ext cx="91440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191120" y="380880"/>
            <a:ext cx="4495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UCIÓ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1219320" y="457200"/>
            <a:ext cx="0" cy="58672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19320" y="6324480"/>
            <a:ext cx="71625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 rot="10800000">
            <a:off x="1219320" y="3429000"/>
            <a:ext cx="5637600" cy="5790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sq"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600200" y="3429000"/>
            <a:ext cx="4876560" cy="5790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sq"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1219320" y="2666880"/>
            <a:ext cx="5562360" cy="3657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1295280" y="990720"/>
            <a:ext cx="5562720" cy="3657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219680" y="6172200"/>
            <a:ext cx="45648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760760" y="5943600"/>
            <a:ext cx="30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105520" y="3733920"/>
            <a:ext cx="0" cy="25905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438280" y="3886200"/>
            <a:ext cx="0" cy="2438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419720" y="6461280"/>
            <a:ext cx="3429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L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cuando 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05120" y="6461280"/>
            <a:ext cx="1066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E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09480" y="6094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v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 Black"/>
              </a:rPr>
              <a:t>TIPOS DE EXTERNALIDAD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57200" y="1886040"/>
          <a:ext cx="8178840" cy="4172040"/>
        </p:xfrm>
        <a:graphic>
          <a:graphicData uri="http://schemas.openxmlformats.org/drawingml/2006/table">
            <a:tbl>
              <a:tblPr/>
              <a:tblGrid>
                <a:gridCol w="2725560"/>
                <a:gridCol w="2727360"/>
                <a:gridCol w="2725920"/>
              </a:tblGrid>
              <a:tr h="13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sitiv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gativ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 el consum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cunarse, educar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umar, beber y conduc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 la prod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el de abejas y frut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lave de una mina, empresa que contami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 Black"/>
              </a:rPr>
              <a:t>BIENES PÚBLICO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 Black"/>
              </a:rPr>
              <a:t>NO EXCLUIBL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 Black"/>
              </a:rPr>
              <a:t>NO RIVALES EN EL CONSUMO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jemplo: empresario considerando espectáculo de fuegos artificial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2735280"/>
            <a:ext cx="8178840" cy="33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osto $10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500 habitantes lo valoran en $1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No es posible excluir en el consum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La realización del espectáculo también se puede ver como una externalidad positi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IENES PÚBLICO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ma vertical de deman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do el mundo consume la misma canti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o su valoración marginal puede ser distin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 un bien privado todo los consumidores asignan el mismo valor marginal al bien y consume cantidades distint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504960" y="380520"/>
            <a:ext cx="5257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MANDA POR BIENES PÚBLICO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8" name=""/>
          <p:cNvSpPr/>
          <p:nvPr/>
        </p:nvSpPr>
        <p:spPr>
          <a:xfrm>
            <a:off x="914400" y="6095880"/>
            <a:ext cx="762012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914400" y="456840"/>
            <a:ext cx="0" cy="56386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14400" y="4114800"/>
            <a:ext cx="3809880" cy="19810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2666880"/>
            <a:ext cx="1371600" cy="3429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38080" y="297180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581280" y="5334120"/>
            <a:ext cx="1067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504960" y="380520"/>
            <a:ext cx="5257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MANDA POR BIENES PÚBLICO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5" name=""/>
          <p:cNvSpPr/>
          <p:nvPr/>
        </p:nvSpPr>
        <p:spPr>
          <a:xfrm>
            <a:off x="914400" y="6095880"/>
            <a:ext cx="762012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914400" y="456840"/>
            <a:ext cx="0" cy="56386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914400" y="4114800"/>
            <a:ext cx="3809880" cy="19810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14400" y="2666880"/>
            <a:ext cx="1371600" cy="3429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914400" y="1371600"/>
            <a:ext cx="1371600" cy="3429000"/>
          </a:xfrm>
          <a:prstGeom prst="line">
            <a:avLst/>
          </a:prstGeom>
          <a:ln cap="sq"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2286000" y="48006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86000" y="4800600"/>
            <a:ext cx="2438280" cy="1295280"/>
          </a:xfrm>
          <a:prstGeom prst="line">
            <a:avLst/>
          </a:prstGeom>
          <a:ln cap="sq"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47920" y="327672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504960" y="380880"/>
            <a:ext cx="52578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ÓPTIMO DE PROVISIÓN DE BIENES PÚBLICOS: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I EL COSTO ES C..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4" name=""/>
          <p:cNvSpPr/>
          <p:nvPr/>
        </p:nvSpPr>
        <p:spPr>
          <a:xfrm>
            <a:off x="914400" y="6095880"/>
            <a:ext cx="762012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914400" y="456840"/>
            <a:ext cx="0" cy="56386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14400" y="4114800"/>
            <a:ext cx="3809880" cy="19810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914400" y="2666880"/>
            <a:ext cx="1371600" cy="3429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914400" y="1371600"/>
            <a:ext cx="1371600" cy="3429000"/>
          </a:xfrm>
          <a:prstGeom prst="line">
            <a:avLst/>
          </a:prstGeom>
          <a:ln cap="sq"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2286000" y="48006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0" y="4800600"/>
            <a:ext cx="2438280" cy="1295280"/>
          </a:xfrm>
          <a:prstGeom prst="line">
            <a:avLst/>
          </a:prstGeom>
          <a:ln cap="sq"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914400" y="3505320"/>
            <a:ext cx="3429000" cy="0"/>
          </a:xfrm>
          <a:prstGeom prst="line">
            <a:avLst/>
          </a:prstGeom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3276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504960" y="380520"/>
            <a:ext cx="5257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ÓPTIMO DE PROVISIÓN DE BIENES PÚBLICOS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... El óptimo es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Black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4" name=""/>
          <p:cNvSpPr/>
          <p:nvPr/>
        </p:nvSpPr>
        <p:spPr>
          <a:xfrm>
            <a:off x="914400" y="6095880"/>
            <a:ext cx="762012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914400" y="456840"/>
            <a:ext cx="0" cy="56386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914400" y="4114800"/>
            <a:ext cx="3809880" cy="19810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14400" y="2666880"/>
            <a:ext cx="1371600" cy="3429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914400" y="1371600"/>
            <a:ext cx="1371600" cy="3429000"/>
          </a:xfrm>
          <a:prstGeom prst="line">
            <a:avLst/>
          </a:prstGeom>
          <a:ln cap="sq"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2286000" y="48006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286000" y="4800600"/>
            <a:ext cx="2438280" cy="1295280"/>
          </a:xfrm>
          <a:prstGeom prst="line">
            <a:avLst/>
          </a:prstGeom>
          <a:ln cap="sq"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3505320"/>
            <a:ext cx="3429000" cy="0"/>
          </a:xfrm>
          <a:prstGeom prst="line">
            <a:avLst/>
          </a:prstGeom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3276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752480" y="3505320"/>
            <a:ext cx="0" cy="25905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47920" y="6400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504960" y="380520"/>
            <a:ext cx="5257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¿CÓMO DEBERÍA FINANCIARLO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6" name=""/>
          <p:cNvSpPr/>
          <p:nvPr/>
        </p:nvSpPr>
        <p:spPr>
          <a:xfrm>
            <a:off x="914400" y="6095880"/>
            <a:ext cx="762012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914400" y="456840"/>
            <a:ext cx="0" cy="56386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914400" y="4114800"/>
            <a:ext cx="3809880" cy="19810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914400" y="2666880"/>
            <a:ext cx="1371600" cy="3429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914400" y="1371600"/>
            <a:ext cx="1371600" cy="3429000"/>
          </a:xfrm>
          <a:prstGeom prst="line">
            <a:avLst/>
          </a:prstGeom>
          <a:ln cap="sq"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2286000" y="48006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286000" y="4800600"/>
            <a:ext cx="2438280" cy="1295280"/>
          </a:xfrm>
          <a:prstGeom prst="line">
            <a:avLst/>
          </a:prstGeom>
          <a:ln cap="sq"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914400" y="3505320"/>
            <a:ext cx="3429000" cy="0"/>
          </a:xfrm>
          <a:prstGeom prst="line">
            <a:avLst/>
          </a:prstGeom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3276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752480" y="3505320"/>
            <a:ext cx="0" cy="25905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447920" y="6400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914400" y="48006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914400" y="45720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inanciamiento bienes público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Impuestos de Lindhal: cada uno paga su disposición marginal a pag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arásito o bolsero:  Persona que recibe el beneficio de un bien, pero evita pagar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Análisis Coste-Beneficio:  Estudio que compara los costes y los beneficios que tiene para la sociedad la provisión de un bien públic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990720" y="990720"/>
            <a:ext cx="0" cy="51814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6172200"/>
            <a:ext cx="71625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1676520" y="1523520"/>
            <a:ext cx="6172200" cy="40388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1523880" y="914400"/>
            <a:ext cx="4724640" cy="40384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00200" y="1143000"/>
            <a:ext cx="6248520" cy="4419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914040" y="2819520"/>
            <a:ext cx="3048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90360" y="3505320"/>
            <a:ext cx="3886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76920" y="2057400"/>
            <a:ext cx="0" cy="4114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38480" y="2819520"/>
            <a:ext cx="0" cy="3352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52480" y="21337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05120" y="29718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57600" y="312408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91120" y="3124080"/>
            <a:ext cx="30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274320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40384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66880" y="419112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350532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Black"/>
              </a:rPr>
              <a:t>SI HAY EXTERNALIDADES, EL EQUILIBRIO DE LIBRE MERCADO ES INEFICIENT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4114800" y="2209320"/>
            <a:ext cx="762120" cy="685800"/>
          </a:xfrm>
          <a:prstGeom prst="line">
            <a:avLst/>
          </a:prstGeom>
          <a:ln cap="rnd" w="126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191120" y="2361960"/>
            <a:ext cx="685800" cy="609480"/>
          </a:xfrm>
          <a:prstGeom prst="line">
            <a:avLst/>
          </a:prstGeom>
          <a:ln cap="rnd" w="126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343400" y="2590920"/>
            <a:ext cx="533520" cy="457200"/>
          </a:xfrm>
          <a:prstGeom prst="line">
            <a:avLst/>
          </a:prstGeom>
          <a:ln cap="rnd" w="126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495680" y="2819520"/>
            <a:ext cx="381240" cy="304560"/>
          </a:xfrm>
          <a:prstGeom prst="line">
            <a:avLst/>
          </a:prstGeom>
          <a:ln cap="rnd" w="126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4572000" y="2971440"/>
            <a:ext cx="304920" cy="228600"/>
          </a:xfrm>
          <a:prstGeom prst="line">
            <a:avLst/>
          </a:prstGeom>
          <a:ln cap="rnd" w="126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724280" y="3200040"/>
            <a:ext cx="152640" cy="152280"/>
          </a:xfrm>
          <a:prstGeom prst="line">
            <a:avLst/>
          </a:prstGeom>
          <a:ln cap="rnd" w="126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828800" y="4495320"/>
            <a:ext cx="6095880" cy="1295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077320" y="43434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D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238880" y="1600200"/>
            <a:ext cx="152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∑</a:t>
            </a: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CMP = ofer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4120" y="1143000"/>
            <a:ext cx="99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CMS = ∑CMP + D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ACIÓN EXCENDEN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22200" y="1847880"/>
          <a:ext cx="8247240" cy="500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2200" y="1847880"/>
                    <a:ext cx="8247240" cy="50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SOLUCIONES AL PROBLEMA DE LAS EXTERNALIDA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Solución priva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Norm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Impuest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ermisos transab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990720" y="1752480"/>
            <a:ext cx="701028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479960" y="1962000"/>
            <a:ext cx="617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Teorema de Coase:  Si las partes privadas pueden negociar s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ningún coste sobre la asignación de los recursos, pued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resolver por sí solas el problema de las externalidad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3505320"/>
            <a:ext cx="7010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15600" y="3638520"/>
            <a:ext cx="62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stes de transacción:  Costes en que incurren las partes en 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o de ponerse de acuerdo y de velar por su cumplimient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90720" y="5334120"/>
            <a:ext cx="70102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79440" y="546732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 Black"/>
              </a:rPr>
              <a:t>Soluciones privada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"/>
          <p:cNvSpPr/>
          <p:nvPr/>
        </p:nvSpPr>
        <p:spPr>
          <a:xfrm>
            <a:off x="1600200" y="5638680"/>
            <a:ext cx="601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Ejemplo del perro que ladra durante la no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Dos vecinos… de acuerdo, veinte… más complic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STOS DE LAS TRANSACCION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chas personas involucrad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lema del parási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icultad de identificar las fuentes de los daños (quién y cuánto contamin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ción asimétrica sobre preferencias y oportunida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 Black"/>
              </a:rPr>
              <a:t>NORMAS E IMPUESTO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Una norma fija la cantidad de contamin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Impuesto de Pigou o “Pigouviano”:  Impuesto aprobado para corregir los efectos de una externalidad negativa. Fija un precio por contaminar. Recaudación es 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5T17:10:10Z</dcterms:created>
  <dc:creator>DII</dc:creator>
  <dc:description/>
  <dc:language>en-US</dc:language>
  <cp:lastModifiedBy>UNIVERSIDAD DE CHILE.</cp:lastModifiedBy>
  <cp:lastPrinted>2000-06-08T18:23:18Z</cp:lastPrinted>
  <dcterms:modified xsi:type="dcterms:W3CDTF">2006-05-26T12:19:38Z</dcterms:modified>
  <cp:revision>27</cp:revision>
  <dc:subject/>
  <dc:title>Sin título de diapositiva</dc:title>
</cp:coreProperties>
</file>