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D753-85B8-4FA0-B1E2-3B13187E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e gráfico nos muestra la curva CSM, el costo social marginal de cada unidad de emisión de contaminantes, que es creciente con el nivel de emisiones por período de tiempo, y la curva CMR, que es el costo marginal de reducir la contaminación por parte de la empresa, desde el nivel de costo 0 y emisión Ê, es decir el equilibrio de libre mercado. Suponemos que la decisión de producción y de emisión son independientes, y que ya ha elegido un nivel de producción y está lista para elegir su nivel de emis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alizar porqué E* es el óptimo de contaminación, con ejemplos E inferior o superior al óptimo. Nuevamente no es 0, porque los bienes que las empresas producen tienen un valor y porque reducir la contaminación provocada por esa producción tiene un cos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norma óptima sería fijar el nivel de emisiones máximo en E*. El impuesto óptimo es t: analizar porqué a la empresa le conviene reducir sus emisiones de Ê a E*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pongamos que el costo de las emisiones de dos empresas es el mismo, pero A tiene menores costos marginales de reducción que B. Cada una emite Ê en el equilibrio de libre mercado. Supongamos que el óptimo social requiere que la reducción total de ambas sea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l método más barato para lograr eso es que A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y B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(en que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+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=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Si el organismo controlador coloca una norma pareja de emisiones, ambas tendrían que reducir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sta medida no puede ser minimizadora del costo total porque podríamos transferir reducciones de B a A y ahorrar costos (de hecho B estaría dispuesta a pagarle a A porque reduzca a cambio que la autoridad le deje emitir más; este intercambio sería mutuamente provechoso hasta llegar a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y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e sería precisamente el resultado que se lograría con una tasa 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área A es más pequeña que el área B + C + D. Es más barato reducir las emisiones con tasas cuando las empresas tienen distintos costos marginales de reducir las emisiones porque la que tiene menores costos marginales de reducción disminuye 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hay una norma lo introducirá y reducirá hasta la norm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Si hay una tasa reducirá hast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uponga ahora que en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aba cumpliendo la norma. Entonces el incentivo a introducir la tecnología menos contaminante sería ahorrar el área E, y seguiría contaminando lo mismo. Si existiese una tasa, reduciría su emisión 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 y ganaría el área E, más el rectángulo t(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)-(A+D) [chequea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formación limitada sobre costos y beneficios de la reducción de la contaminación, lleva a fijar mal norma y ta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rror de 5% en la tasa provoca una producción de emisiones más grande mientras más elástica CMR, y esto tiene un costo social muy elevado mientras más inelástica sea C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a norma permite más certeza sobre los niveles finales de emi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autoridad emite permisos por E*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oferta de permisos queda fija en E*. Esto significa que los permisos se transarán en el mercado a un precio P. Las empresas que se quedarán con los permisos son aquellas que tienen costos marginales de reducción por encima de P (a las les resulta conveniente pagar el prec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los permisos son asignados a empresas con costo marginal de reducción por debajo de p (curva CMR a la derecha de E*) o a personas que no contaminan, estos los venderán a las empresas que están dispuestas a pagar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x 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(G) - c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4E7-3D39-43C8-8582-108977CC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0D2-BB38-45EC-9AAF-776DD7F9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B97-B7C9-4191-91D5-75D27A11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98A9-BEA5-4BA8-B3FA-13BA9D37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5F99-B331-4743-895F-578F2DD0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9ED-1D88-4CB1-9648-CF0AE3E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5A4B-2B8E-4DC1-B193-86E5243F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A8C5-CE88-440B-A59B-8619B93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71AD-8021-4B5A-AECB-7551B61B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42AD-DE87-4D3C-876B-B01A0633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1040-CC52-4921-A19A-0CF09C8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B4E-7153-42CC-9FF9-2FA3E28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BEFD-50E9-4833-8DDE-088175A7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55ED-2D43-4793-8DA0-B290581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B330-7343-421A-B733-90A99EEC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67B9-B0F1-45F7-963C-9D4902A2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4878-DDAE-45AC-8096-FD7818B0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DDA-600F-4080-AE3D-739D12E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B48-E481-4A9A-A2A8-D76971E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F4A-A058-4198-8CE1-3D5CD756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C44-C3E4-4FF4-8910-4C6403F6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EEA-51F2-4751-8A1C-74D685C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CFD-CFFB-46D1-BFDE-CEA7480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C8F-E80D-4227-9DBA-3F55D63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F91-48EE-42BD-A845-9BCC8E0E3B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8A5F-F1CD-445B-B50D-EF1320404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609480"/>
            <a:ext cx="6172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8360" y="8701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5909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590920"/>
            <a:ext cx="104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ternalidad:  Influencia de las acciones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 en el bienestar de otra (no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el sistema de preci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2670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426708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 tal manera que las personas tengan en cuenta los efectos externos de sus 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Análisis efectos normas e impuestos (tas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 empresa que produce la externalidad tiene una tecnología de producción de proporciones fijas, la externalidad sólo puede reducirse si la empresa disminuye la p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fortunadamente, la mayoría de las empresas puede sustituir unos factores por otros en el proceso de producción alternado su elección de tecn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2120" y="464832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¿NORMAS O TASA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tasas: ejemplo empresas con distintos CM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normas: cuando hay incertidumbre o información limitada sobre los costos y los beneficios de la reducción de la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TASA MINIMIZA CT DE REDUCI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895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760" y="4648320"/>
            <a:ext cx="4647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733920"/>
            <a:ext cx="0" cy="2438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1371600"/>
            <a:ext cx="5257800" cy="4724280"/>
          </a:xfrm>
          <a:custGeom>
            <a:avLst/>
            <a:gdLst/>
            <a:ahLst/>
            <a:rect l="l" t="t" r="r" b="b"/>
            <a:pathLst>
              <a:path w="3168" h="3216">
                <a:moveTo>
                  <a:pt x="3168" y="3216"/>
                </a:moveTo>
                <a:cubicBezTo>
                  <a:pt x="2184" y="2452"/>
                  <a:pt x="1200" y="1688"/>
                  <a:pt x="672" y="1152"/>
                </a:cubicBezTo>
                <a:cubicBezTo>
                  <a:pt x="144" y="616"/>
                  <a:pt x="112" y="192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1905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248520"/>
            <a:ext cx="838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4040" y="60958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63244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105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5715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5791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TASA VRS NOR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1847880"/>
          <a:ext cx="732960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7880"/>
                    <a:ext cx="73296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ando deben establecerse las mismas normas para todas las empresas, las tasas consiguen las mismas reducciones a un menor costo to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tasas dan un mayor incentivo a introducir nuevos equipos que le permitan a la empresa reducir aún más las emisiones (ahorra el pago de impuestos; por ejemplo considerar que Empresa B puede incorporar nueva tecnología a cero costo que desplace su CMR a CMR</a:t>
            </a:r>
            <a:r>
              <a:rPr b="0" lang="es-CL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la 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209680"/>
            <a:ext cx="763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4382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438280"/>
            <a:ext cx="15264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2743200"/>
            <a:ext cx="22860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3124080"/>
            <a:ext cx="38124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65760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4191120"/>
            <a:ext cx="22860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33920" y="4038480"/>
            <a:ext cx="22860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05320" y="350532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05320" y="2971800"/>
            <a:ext cx="457200" cy="99072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2361960"/>
            <a:ext cx="3049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98880" y="2735280"/>
            <a:ext cx="34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ayor costo de error de 5% en la tasa es el área achu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tivas o nega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la producción o en el consu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gente causante y agente afect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I&amp;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taminación daña la salud de la pob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gestión vehicular retrasa otros automo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congestión vehicular retrasa sistema de locomoción colec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FICULTADES PARA DET. IMPUESTO ÓPTI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camiones en EEUU (1,2 MM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r ley, se ordena que para emitir contaminantes las empresas deben contar con un permiso. Al fijar el número total de permisos, la autoridad fija cuanta emisión está dispuesta a toler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cierto sentido es equivalente a la norma, pues fija el total de emisiones (no tiene el problema de la tasa cuando existe incertidumbre), pero también permite la reducción óptima de acuerdo a los CMR de cad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295280"/>
            <a:ext cx="579132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0" cy="4724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62120" y="457200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48120" y="56386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48120" y="495252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09680" y="45720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457200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PERMISOS vrs.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14400" y="990720"/>
            <a:ext cx="7391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38680" y="109872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ENES PÚBL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RECURSOS DE US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78160" y="3333600"/>
            <a:ext cx="60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clui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17680" y="531504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38080" y="114300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5800" y="135252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26668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90320" y="280044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4956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88160" y="462924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CLASIFICACIÓN DE BIE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riv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ursos de uso comú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“club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RSOS DE USO COMÚN O BIENES DE LIBRE ACCE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ienes rivales no exclu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 Tragedia de los comu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 campesinos (i=1,...,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n comprar las cabras que deseen a un costo de c y llevarlas a pastar a un pasto comú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a gi el número de cabras del campesino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 =                  total de cabras; v valor de cada cabra, que depende de cuánto eng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cule: a) Equilibrio de libre ac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) Óptimo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86000" y="4419720"/>
                <a:ext cx="914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1120" y="3808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219320" y="457200"/>
            <a:ext cx="0" cy="586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632448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 rot="10800000">
            <a:off x="1219320" y="3429000"/>
            <a:ext cx="563760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429000"/>
            <a:ext cx="487656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219320" y="2666880"/>
            <a:ext cx="556236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295280" y="990720"/>
            <a:ext cx="556272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6172200"/>
            <a:ext cx="456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60760" y="59436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37339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8862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6461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cuando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646128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v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l consu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cunarse, educa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mar, beber y conduc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la 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l de abejas y fru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ve de una mina, empresa que cont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EXCLUI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RIVALES EN EL CONSUM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jemplo: empresario considerando espectáculo de fuegos artifici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735280"/>
            <a:ext cx="817884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to $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00 habitantes lo valoran en $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es posible excluir en el cons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realización del espectáculo también se puede ver como una externalidad posi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a vertical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o el mundo consume la misma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o su valoración marginal puede ser disti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un bien privado todo los consumidores asignan el mismo valor marginal al bien y consume cantidades disti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3341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3276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 EL COSTO ES C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. El óptimo es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CÓMO DEBERÍA FINANCIAR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914400" y="480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914400" y="4572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nciamiento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s de Lindhal: cada uno paga su disposición marginal a pag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ásito o bolsero:  Persona que recibe el beneficio de un bien, pero evita pagar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 Coste-Beneficio:  Estudio que compara los costes y los beneficios que tiene para la sociedad la provisión de un bien públ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99072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17220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1523520"/>
            <a:ext cx="6172200" cy="4038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23880" y="914400"/>
            <a:ext cx="4724640" cy="403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143000"/>
            <a:ext cx="6248520" cy="4419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914040" y="28195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90360" y="35053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195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133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3124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124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2743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05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SI HAY EXTERNALIDADES, EL EQUILIBRIO DE LIBRE MERCADO ES INEFICIE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14800" y="2209320"/>
            <a:ext cx="7621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2361960"/>
            <a:ext cx="685800" cy="6094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2590920"/>
            <a:ext cx="53352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2819520"/>
            <a:ext cx="38124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572000" y="2971440"/>
            <a:ext cx="3049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3200040"/>
            <a:ext cx="152640" cy="1522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4495320"/>
            <a:ext cx="609588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4343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16002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∑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P = 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14300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S = ∑CMP + D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EXCENDEN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2200" y="1847880"/>
          <a:ext cx="824724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847880"/>
                    <a:ext cx="824724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SOLUCIONES AL PROBLEMA DE LAS EXTERNAL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ución priv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752480"/>
            <a:ext cx="7010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9960" y="1962000"/>
            <a:ext cx="617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olver 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505320"/>
            <a:ext cx="701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5600" y="3638520"/>
            <a:ext cx="62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334120"/>
            <a:ext cx="7010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79440" y="5467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Soluciones priv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jemplo del perro que ladra durante la n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os vecinos… de acuerdo, veinte… más compl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OS DE LAS TRANSACCIO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NORMAS 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norma fija la cantidad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 de Pigou o “Pigouviano”:  Impuesto aprobado para corregir los efectos de una externalidad negativa. Fija un precio por contaminar. Recaudación es 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7:10:10Z</dcterms:created>
  <dc:creator>DII</dc:creator>
  <dc:description/>
  <dc:language>en-US</dc:language>
  <cp:lastModifiedBy>UNIVERSIDAD DE CHILE.</cp:lastModifiedBy>
  <cp:lastPrinted>2000-06-08T18:23:18Z</cp:lastPrinted>
  <dcterms:modified xsi:type="dcterms:W3CDTF">2006-05-26T12:19:38Z</dcterms:modified>
  <cp:revision>27</cp:revision>
  <dc:subject/>
  <dc:title>Sin título de diapositiva</dc:title>
</cp:coreProperties>
</file>