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8A25-3F9A-4147-9EDD-9DF01B760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7306-3ABD-4E67-972C-B1068D7C0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85800"/>
            <a:ext cx="4471920" cy="335448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7D4DB-3BE3-4AFA-855F-301BF1BE9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1550-30AF-4C0F-87C8-10E42FAB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B71B1-D69A-48FB-941A-11A43A2EC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F98EE-AA77-4410-A818-A17E3FED9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F27E-B8BA-4D6B-9810-D09D51B3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2C1D-336C-4A11-AD75-0E523F68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F202E-36DB-4C10-B053-24B8E93D6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A03D-311A-44B4-B03C-034A8B63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6D1C2-BB79-4D8D-BF59-642BED80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A81C-77C5-4382-A7B3-658F2C640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D444-B043-4B4C-9D79-BFE0280A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C55E-E84A-42EE-BFF9-F61A39514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7FE6-05E6-49B3-868A-6CE606A85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05-03T02:53:07Z</dcterms:modified>
  <cp:revision>16</cp:revision>
  <dc:subject/>
  <dc:title>EFICIENCIA Y COMPETENCIA PERFECTA</dc:title>
</cp:coreProperties>
</file>