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D4DF-755E-45B5-8DE8-F4C009E22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8453-1A63-4F66-82BB-5AC269CBC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85800"/>
            <a:ext cx="4471920" cy="335448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587EC-9AE8-40B0-9AC5-D905D3E62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A828-2895-4C62-A437-424B339FA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D8E13-20E0-4A2E-ACE4-F7CE170C2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125A1-815B-4CB4-B630-A312F91C7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FBF3-3217-42D1-AE2C-47D048AF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9D243-E69C-4E4B-A7E9-602F8E6B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2553E-BBC7-4EA6-8E8A-50C541FE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DC45C-7C47-4C6A-8002-B327DE46B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638C6-28DB-4DB6-AD14-889DAB59D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FD53-AEEF-4948-B24B-F8FDF2EC5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65A-61B5-4536-AE17-EB506D269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5E41A-240A-477C-9463-D2587C4B0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3039-D36E-4783-8D30-60C7C1B45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05-03T02:53:07Z</dcterms:modified>
  <cp:revision>16</cp:revision>
  <dc:subject/>
  <dc:title>EFICIENCIA Y COMPETENCIA PERFECTA</dc:title>
</cp:coreProperties>
</file>