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E83-6F7E-44B0-B23F-1515EC6C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9122-6A62-4767-92CE-69DD5B4D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4F9-9384-41DE-96F8-A2AD0D7D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5DF-456D-4446-8D4F-EDD57EF3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F0F3-1774-4D38-B7E6-72523C1C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28BF-7ADB-4556-89D9-835DCC93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898-8976-4BE8-A81C-47904BF9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F63D-C9A9-4CAF-BDBA-D08A243A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8586-E265-4746-AE22-0472BC84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A25-7D6B-44ED-9C6E-AA949E8F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3735-A830-49FF-B3FB-D5F4123D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60F-7B45-4616-B04E-1265A0FB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3C24-B921-4D70-AEF2-D6667050A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0b3"/>
                </a:solidFill>
                <a:latin typeface="Times New Roman"/>
              </a:rPr>
              <a:t>Alteración Hidroterm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(Meyer y Hemley, 1967)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ropilítica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Presencia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epidota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y/o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clorita,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comúnmente se presentan también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lbita, calcita y pirit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a. Bajo grado de hidrólisis de los minerales de las rocas </a:t>
            </a:r>
            <a:r>
              <a:rPr b="0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posición mar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rgílica Intermedi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Importantes cantidades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caolinita, montmorillonit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smectita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o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rcillas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amorfas reemplazando a plagioclasas. Puede haber sericita acompañando a las arcillas; el feldespato potásico fresco argilizado. Grado más alto de hidrólisis relativo a la alteración propilí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ítica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o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cuarzo-sericític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: Ambos feldespatos (plagioclasas y feldespato potásico) transformados principalmente a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sericita y cuarz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o, con cantidades menores de caolinita. Minerales máficos también están completamente destruidos en este tipo de alt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 (Meyer y Hemley, 1967)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rgílica avanzad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Minerales transformados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 dickita, caolinita, pirofilita, diásporo, alunita y cuarzo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. Ataque hidrolítico extremo de las rocas en que incluso se rompen los fuertes enlaces del aluminio en los silicatos originando sulfato de Al (alunita) y óxidos de Al (diáspor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otásic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Alteración de plagioclasas y minerales máficos a feldespato potásico y/o biotita. Intercambio catiónico (cambio de base) con la adición de K: No implica hidrólisis </a:t>
            </a:r>
            <a:r>
              <a:rPr b="0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ocurre en condiciones de pH neutro o alcalino a altas temperaturas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lteración Tardimagmática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y se presenta en la porción central o núcleo de zonas alteradas ligadas al emplazamiento de plutones intrus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lteración Sódico-Cálcica Carten (1986)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asociación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ctinolita, albita-oligoclasa- andesina, epidota, magnetita, clorita, cuarzo, escapolita.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ocurre en la porción profunda de pórfidos cupríferos y se desarrolla en forma simultánea con la alteración potásica a niveles más al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Alteración tipo skarn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:  transformación de rocas carbonatadas (calizas, dolomitas) a minerales 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alcosilicatados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en zonas adyacentes a intrusivos. Presencia de 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granates (andradita y grosularita), wollastonita, epidota, diópsido, idocrasa, clorita, actinolita.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Carbonatos Magnésicos (dolomitas): incluye: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 forsterita, serpentina, talco,tremolita, clorit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a. Uso generalizado para depósitos minerales relacionados a fenómenos de metamorfismo de contacto y metasomatismo ligados a intrusiones que cortan secuencias de rocas carbonatadas. litología original es determinante en la asociación mineral resul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89548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24382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ndiciones de pH y T de las alt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3809520"/>
            <a:ext cx="8610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Ocurre a través d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transformación de fases minerales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crecimiento de nuevos minerales, disolución de minerales y/o precipitación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- reacciones de intercambio iónico entre los minerales constituyentes de una roca y el fluido caliente que circuló por la misma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405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omposición litológic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influencia en la mineralogía hidrote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º y pH del fluido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factores más relevantes en la asociación mineralógica resultante de los procesos de alteración hidrote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Orden relativo de susceptibilidad a alteración de los minerales: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Olivino &gt; magnetita &gt; hiperstena &gt; hornblenda &gt; biotita = plagiocl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uarzo no se alter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Recristalización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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300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racterística AH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versión de un conjunto mineral inicial en una nueva asociación de minerales estable bajo condiciones hidrotermales de temperatura, presión y composición de fl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Involucra circulación de volúmenes relativamente grandes de fluidos calientes atravesando las rocas permeable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presencia de fisuras o poros interconec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fluido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nsiderablemente fuera de equilibrio termodinámico con las rocas adyacente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odificaciones en la composición mineralógica original de las ro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Fact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MPERATURA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más caliente &gt; efecto sobre la mineralogía ori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OSICIÓN DEL FLUIDO (pH)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menor pH, mayor ef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URACIÓN Y VARIACIONES INTERACCIÓN AGUA/ROCA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mayor volumen circulación aguas calientes y mayor tiempo </a:t>
            </a:r>
            <a:r>
              <a:rPr b="0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modificaciones mineralógicas más compl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Fact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-COMPOSICIÓN DE LA ROCA: distintos minerales tienen susceptibilidad </a:t>
            </a:r>
            <a:r>
              <a:rPr b="0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 a ser alterados. Alteraciones intensas </a:t>
            </a:r>
            <a:r>
              <a:rPr b="0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 mineralogía resultante esencialmente independiente del tipo de roca original</a:t>
            </a:r>
            <a:r>
              <a:rPr b="0" lang="en-US" sz="2000" spc="-1" strike="noStrike">
                <a:solidFill>
                  <a:srgbClr val="fff0b3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obliteración de la textura origi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PRESIÓN: efecto indirecto </a:t>
            </a:r>
            <a:r>
              <a:rPr b="0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 procesos secundarios: profundidad de ebullición de fluidos, fracturamiento hidráulico (generación de brechas hidrotermales) y erupción o explosiones hidroter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0b3"/>
                </a:solidFill>
                <a:latin typeface="Symbol"/>
                <a:ea typeface="Symbol"/>
              </a:rPr>
              <a:t></a:t>
            </a: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T y composición del fluido hidrotermal: más import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eración Pervasiva</a:t>
            </a: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se refiere a aquella en que una roca está completamente alterada en todo su volumen 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(no confundir con alteració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NSIVA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 que se refiere a la extensión de la alteración y no al gr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0b3"/>
                </a:solidFill>
                <a:latin typeface="Times New Roman"/>
              </a:rPr>
              <a:t>Alteración Hidrotermal (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ocesos debidos a la alteración hidrote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positación directa: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minerales se depositan directamente a partir de soluciones hidrotermale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fluido pueda moverse dentro de ro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j: diaclasas, fallas, fracturas hidráulicas, discordancias, zonas brechosas, huecos, poros y fis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emplazo:</a:t>
            </a:r>
            <a:r>
              <a:rPr b="0" lang="es-ES_tradnl" sz="36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Minerales de las rocas inestables a ambiente hidrotermal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reemplazo por nuevos minerales estables en nuevas con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xiviación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mponentes químicos de las roca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extraídos por fluidos hidrotermales al atravesarlas (cationes metálicos)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roca deprimida en dichos componentes o lixivi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j: Textura cuarzo Oquerosa (Vuggy Silica): condensación vapor acidificado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por oxidación de H2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H2SO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0b3"/>
                </a:solidFill>
                <a:latin typeface="Times New Roman"/>
              </a:rPr>
              <a:t>Alteración Hidrotermal (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lasificación de Alteración Hidrote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0b3"/>
                </a:solidFill>
                <a:latin typeface="Times New Roman"/>
              </a:rPr>
              <a:t>Método más simple </a:t>
            </a:r>
            <a:r>
              <a:rPr b="0" lang="es-ES_tradnl" sz="32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fff0b3"/>
                </a:solidFill>
                <a:latin typeface="Times New Roman"/>
              </a:rPr>
              <a:t> utilización del mineral más abundante y más obvio en roca alterada.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nominación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encia dominante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licificación                           sílice o cuar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ricitización                          seric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gilización                            minerales de arci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oritización                           clor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pidotización                          epido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nolitización                      actinol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0b3"/>
                </a:solidFill>
                <a:latin typeface="Times New Roman"/>
              </a:rPr>
              <a:t>Alteración Hidrotermal (V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acciones de Hidró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stabilidad de feldespatos, micas y arcillas en procesos de alteración hidrotermal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múnmente controlada por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idrólisis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Minerales a solucion: K + , Na + , Ca 2+ , y otros cationes 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H +: fases sólidas rema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drólisis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s una reacción de descomposición que involucra la participación de a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n geología: reacción entre minerales silicatado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agua pura o solución acuosa, iones H + y OH -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nsumidos sel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 + + OH - = H2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Importantes en procesos de alteración hidrotermal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y algunos tipos de alteraciones son el resultado de distinto grado de hidrólisis de los minerales constituyentes de las ro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0b3"/>
                </a:solidFill>
                <a:latin typeface="Times New Roman"/>
              </a:rPr>
              <a:t>Reacciones de Hidró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ndesina 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               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0.75 Na2CaAl4Si8O2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2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K + = KAl3Si3O10(OH)2 +1.5 Na+ + 0.75 Ca 2+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3Si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 (mica potásica)                               caoli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KAl3Si3O10(OH)2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1.5 H2O = 1.5 Al2Si2O5(OH)4 + K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ndesina                                           caolinita               cuar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Na2CaAl4Si8O2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H2O = 2 Al2Si2O5(OH)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SiO2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Na + + Ca 2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                                                 alunita               cuar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KAl3Si3O10(OH)2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SO 2- = KAl3(SO4)2(OH)6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3Si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                    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ácido sulfú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31:41Z</dcterms:created>
  <dc:creator>Natalia Astudillo</dc:creator>
  <dc:description/>
  <dc:language>en-US</dc:language>
  <cp:lastModifiedBy>carola</cp:lastModifiedBy>
  <cp:lastPrinted>2003-08-10T22:33:46Z</cp:lastPrinted>
  <dcterms:modified xsi:type="dcterms:W3CDTF">2007-03-23T01:29:11Z</dcterms:modified>
  <cp:revision>9</cp:revision>
  <dc:subject/>
  <dc:title>Alteración Hidrotermal</dc:title>
</cp:coreProperties>
</file>