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81C8-A5F2-4F53-B7E2-E0F4567D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FFEC-6A76-4580-9339-4A108588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8DA-63B8-418B-B29B-AE286D12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823-F0EE-494A-BA0A-82E58384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7885-1349-41E0-B6E4-4BEA608A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9E5D-53E2-4779-B813-D08D8C98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80CB-70A6-462F-A3C9-C26381A9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5BA4-3F8B-4D03-B033-C746F5F2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1FDE-6AAF-49EB-967A-BE1F0218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C1FD-CE17-4389-AA99-74F52F0C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3DAA-9F16-4B32-9E94-70FD61AF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616-5555-4BF0-94AF-FBD7101C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14A0-08A0-453B-A11C-70206423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18B1-160F-4CD5-9BD7-773C4AAA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4A98-C2D8-44C2-A0A1-3B06A056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5FE7-FA9A-4F3C-98E4-B458E5CD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4000-7F24-4CDC-BB84-D4B123FB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765-24CC-4784-9811-DF5A05F2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926-E318-4CC6-B170-847EC049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FCA-43E5-48BB-8BD2-5F3E90F4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82E-EFB4-479B-A31F-C68AB052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6E4E-28FD-44F9-8DA9-8C29CE4E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723-E640-435C-A2E9-3107E533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409-2004-4097-9834-17F97154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9E06-2803-4C9B-B03D-AAE97D2094E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6553-FEFA-4782-8587-0FC27CB62DD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5560" y="0"/>
            <a:ext cx="76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66"/>
                </a:solidFill>
                <a:latin typeface="Arial"/>
              </a:rPr>
              <a:t>Yacimientos de hierro chileno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5280" y="914400"/>
            <a:ext cx="766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Franja Ferrífera Chilena </a:t>
            </a:r>
            <a:r>
              <a:rPr b="0" lang="es-CL" sz="2000" spc="-1" strike="noStrike">
                <a:solidFill>
                  <a:srgbClr val="66ffff"/>
                </a:solidFill>
                <a:latin typeface="Wingdings"/>
                <a:ea typeface="Wingdings"/>
              </a:rPr>
              <a:t>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 Cordillera de la Costa III y IV Reg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7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.2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74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.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000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 ton 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de mineral 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producid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 en el año 200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ffff"/>
                </a:solidFill>
                <a:latin typeface="Arial"/>
              </a:rPr>
              <a:t>Compañía Minera del</a:t>
            </a: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 Pacíf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964640" y="0"/>
            <a:ext cx="11556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315200" y="1371600"/>
            <a:ext cx="811080" cy="1785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394344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886200" y="44006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Cálculos Geológicos El Romeral"/>
          <p:cNvPicPr/>
          <p:nvPr/>
        </p:nvPicPr>
        <p:blipFill>
          <a:blip r:embed="rId5"/>
          <a:stretch/>
        </p:blipFill>
        <p:spPr>
          <a:xfrm>
            <a:off x="3886200" y="2286000"/>
            <a:ext cx="3276720" cy="2162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Minas El Algarrobo"/>
          <p:cNvPicPr/>
          <p:nvPr/>
        </p:nvPicPr>
        <p:blipFill>
          <a:blip r:embed="rId6"/>
          <a:stretch/>
        </p:blipFill>
        <p:spPr>
          <a:xfrm>
            <a:off x="0" y="2286000"/>
            <a:ext cx="3886200" cy="2689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80" y="495288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ina El Algarrob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6800" y="228600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ina Romera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intrusión del magma de Fe-P produciría la alteración/ metamorfismo de contacto de las rocas huéspedes formándose actinolita y biotita, escapolita, apatito y magnetita; la clorita sería ya sea del mismo origen o un reemplazo retrógrado de la actinolita y bioti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uiz, (1943, 1965) planteó que los yacimientos de hierro son de tipo metamórfico de contacto relacionados genéticamente a intrusiones de granitoides en las rocas volcánicas neocomian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ookstrom (1977): en El Romeral la depositación de la magnetita fue </a:t>
            </a: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hidrotermal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y fue acompañada de actinolitización penetrativa, principalmente en el rango de temperatura de 475º-550º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Vivallo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Times New Roman"/>
              </a:rPr>
              <a:t>El yacimiento de hierro de El Laco; un depósito de Magnetita-Apatito asociado a un complejo volcánico Plioceno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534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yacimiento de hierro 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El Laco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e ubica en la Cordillera Principal de la II Región de Antofagasta (23º48’S – 67º30’W)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á formado por 7 cuerpos de mena que rodean al Pico Laco, un aparato volcánico andesítico a rio-dacítico que ha sido datado en 2,0 </a:t>
            </a:r>
            <a:r>
              <a:rPr b="0" lang="es-ES_tradnl" sz="2400" spc="-1" strike="noStrike">
                <a:solidFill>
                  <a:srgbClr val="ffffcc"/>
                </a:solidFill>
                <a:latin typeface="TimesNewRomanPSMT;TimesNewRoman"/>
              </a:rPr>
              <a:t>±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,3 Ma (K-Ar roca total; Gardeweg y Ramírez, 1985) y 2,1 </a:t>
            </a:r>
            <a:r>
              <a:rPr b="0" lang="es-ES_tradnl" sz="2400" spc="-1" strike="noStrike">
                <a:solidFill>
                  <a:srgbClr val="ffffcc"/>
                </a:solidFill>
                <a:latin typeface="TimesNewRomanPSMT;TimesNewRoman"/>
              </a:rPr>
              <a:t>±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0,1 Ma (trazas de fisión en apatito; Maksaev et al., 1988)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e constituye un ejemplo a nivel mundial de mineralización de Fe ligada a actividad volcánic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054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095880" y="76320"/>
            <a:ext cx="30481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El Laco volcá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Plioceno, 2.1 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Contiene depósi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de magnetita maciz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con apati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Descritos como lavas 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intrusivos de magneti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Park, 1961; Henriquez 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l., 1975, 1978, et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Nyström y Henriquez, 199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Naslund et al., 200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stos autores plantean u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inobjetable origen volcánico de El La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Times New Roman"/>
              </a:rPr>
              <a:t>Sin embargo, Rhodes et al.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Times New Roman"/>
              </a:rPr>
              <a:t>1999 y Sillitoe y Burrows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Times New Roman"/>
              </a:rPr>
              <a:t>2002, plantean un origen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Times New Roman"/>
              </a:rPr>
              <a:t>por reemplazo hidrotermal</a:t>
            </a:r>
            <a:r>
              <a:rPr b="0" lang="es-CL" sz="20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Yacimientos de Fierro Chilen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yacimientos de hierro chilenos más importantes de Chile se encuentran en la Cordillera de la Costa de las regiones de Atacama y Coquimbo (III y IV Regiones) constituyendo la denominada 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Franja Ferrífera de la Cordillera de la Costa o Franja Ferrífera Chile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 es una franja longitudinal de depósitos ferríferos que se extiende por más de 600 km, entre las latitudes 26º y 32ºS y que coincide con la posición de una faja de intrusivos del Albiano </a:t>
            </a:r>
            <a:r>
              <a:rPr b="0" lang="es-ES_tradnl" sz="2400" spc="-1" strike="noStrike">
                <a:solidFill>
                  <a:srgbClr val="ffffcc"/>
                </a:solidFill>
                <a:latin typeface="TimesNewRomanPSMT;TimesNewRoman"/>
              </a:rPr>
              <a:t>(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10-100 Ma; Cretácico Inferior alto) y con la posición de la Zona de Falla de Atacama en su extremo su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274464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019920" y="30492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Yacimientos de Fierro Chilen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Franja Ferrífera de la Cordillera de la Cos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28600"/>
            <a:ext cx="27432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s minas de Fe chilenas más importantes son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Mina </a:t>
            </a:r>
            <a:r>
              <a:rPr b="1" lang="es-ES_tradnl" sz="1800" spc="-1" strike="noStrike">
                <a:solidFill>
                  <a:srgbClr val="ffffcc"/>
                </a:solidFill>
                <a:latin typeface="TimesNewRomanPSMT;Symbol;TimesN"/>
              </a:rPr>
              <a:t>Los Colorado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s: inaugurada en 1998 y ubicada al interior del Valle del Huasco en la III Región con reservas de 245 Mt, ley media de 48% F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Mina </a:t>
            </a:r>
            <a:r>
              <a:rPr b="1" lang="es-ES_tradnl" sz="1800" spc="-1" strike="noStrike">
                <a:solidFill>
                  <a:srgbClr val="ffffcc"/>
                </a:solidFill>
                <a:latin typeface="TimesNewRomanPSMT;Symbol;TimesN"/>
              </a:rPr>
              <a:t>El Algarrob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o: ubicada en la III Región y en explotación desde 1959, reservas medidas alcanzan a 3,6 Mt con 47,5% F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Mina </a:t>
            </a:r>
            <a:r>
              <a:rPr b="1" lang="es-ES_tradnl" sz="1800" spc="-1" strike="noStrike">
                <a:solidFill>
                  <a:srgbClr val="ffffcc"/>
                </a:solidFill>
                <a:latin typeface="TimesNewRomanPSMT;Symbol;TimesN"/>
              </a:rPr>
              <a:t>El Romera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: ubicada en la IV Región, reservas medidas alcanzan a 44,5 Mt con 49,1% F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Yacimientos Chilen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depósitos de hierro chilenos interpretados com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NewRomanPSMT;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Yacimientos de magnetita-apatito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(Ruiz et al., 1965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NewRomanPSMT;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Magnetita hospedada en rocas volcánicas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(Cox y Singer, 1986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TimesNewRomanPSMT;TimesNew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Yacimientos tipo Kiruna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(Vivallo y Henríquez, 199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cuerpos de menas corresponden principalmente a magnetita masiva y forman lentes o bolsonadas irregulares, pero muchos son vetiformes o mantiformes. Las dimensiones de los principales cuerpos individuales varían entre 100-1000 m de longitud y desde decenas a 200 m de ancho con una extensión vertical que varía desde pocas decenas de metros hasta 650 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39625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spinoza (1990) presentó una clasificación de los yacimientos de Fe chilenos, basado en la forma y rocas encajadoras de los mismos, a saber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Tipo Carmen: masas de magnetita aproximadamente lenticulares o de variadas formas y actitudes hospedados por rocas volcánic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Tipo Bandurrias: estratos ferríferos intercalados en secuencias sedimentari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Tipo Algarrobo: depósitos irregulares emplazados en rocas volcánicas en zonas de contacto con cuerpos intrusivos. Estos son los cuerpos de mayor tamaño y </a:t>
            </a:r>
            <a:r>
              <a:rPr b="1" lang="es-ES_tradnl" sz="1800" spc="-1" strike="noStrike">
                <a:solidFill>
                  <a:srgbClr val="ffffcc"/>
                </a:solidFill>
                <a:latin typeface="TimesNewRomanPSMT;Symbol;TimesN"/>
              </a:rPr>
              <a:t>los únicos en explotación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Tipo La Suerte: vetas de magnetita emplazadas en rocas intrusiv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Symbol;TimesNewRomanPSMT"/>
              </a:rPr>
              <a:t>Tipo Desvío Norte: depósitos aluviales con rodados (clastos) de mineral de F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4168800" cy="5562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62520" y="5489640"/>
            <a:ext cx="5181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cc"/>
                </a:solidFill>
                <a:latin typeface="Times New Roman"/>
              </a:rPr>
              <a:t>1. Andesitas neocomianas y metaandesitas; 2. Rocas sedimentarias del Grupo Chañarcillo; 3. Pseudobrecha con mineralización de baja ley; 4. Cuerpos masivos de alta ley; 5. Dioritas neocomianas del batolito costero con diques andesíticos; 6. Stocks dioríticos y apófisis; 7. Aluvio Plio-Pleistoceno con clastos de magnetita; 8. Aluvio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;TimesNewRomanPSMT"/>
              </a:rPr>
              <a:t>Los depósitos más relevantes desde el punto de vista económico son los de tipo Algarrobo, es decir los depósitos irregulares hospedados por rocas volcánicas o metavolcánicas en la vecindad de cuerpos intrusivo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;TimesNewRomanPSMT"/>
              </a:rPr>
              <a:t>En estos yacimientos el mineral de mena primario más abundante es la magnetita con especularita subordinada (hematita en hojas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;TimesNewRomanPSMT"/>
              </a:rPr>
              <a:t>La magnetita ha experimentado oxidación secundaria o martitización en distintos grados, la que en casos extremos ha transformado toda la magnetita a hematit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;TimesNewRomanPSMT"/>
              </a:rPr>
              <a:t>Los minerales de ganga son escasos, principalmente apatito (clorapatito), actinolita y clorit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Symbol;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;TimesNewRomanPSMT"/>
              </a:rPr>
              <a:t>La mena es compacta y dura de color negro, pero en parte tiene textura granular debido a que está constituida por octaedros de magneti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andesitas que hospedan a los cuerpos de óxido de hierro presentan coloración gris verdosa oscura o negra y una fuerte alteración/metamorfismo de contacto que incluye: Actinolita, Escapolita, Biotita, Turmalina, Clorita, Clorapatito, Titanita, Escaso granate, Escasa pirit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 asociación de minerales representa una alteración de alta temperatura que frecuentemente oblitera completamente la textura original de las rocas volcánic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demás existen amplios halos externos de rocas blanqueadas con alteración de sílice–arcillas–sericita; estas rocas alteradas frecuentemente presentan anomalías geoquímicas de Cu y Au, con algunas vetas mesotermales menores de magnetita con calcopirita o minerales oxidados de cobre, pero sin yacimientos de relevancia económic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depósitos de hierro de la Franja Ferrífera se localizan dentro del dominio de la Zona de Falla de Atacam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gunos cuerpos de mena de Fe presenta control estructural por fallas pertenecientes a este sistema region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rocas metavolcánicas que constituyen la roca huésped de los cuerpos de magnetita se ubican a corta distancia de cuerpos intrusivos tonalíticos, monzoníticos, dioríticos o granodioríticos; en muchos casos las volcanitas son roof-pendants elongados longitudinalmente e incluidos en los intrusiv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Times New Roman"/>
              </a:rPr>
              <a:t>Génesis de la mineralización ferrífera Chilena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xiste una controversia clásica y no concluyente respecto al origen de los depósitos de magnetita-apatito chilen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erivados de cristalización de magmas, magmas de mena de óxido de hierro (Ej. Nyström and Henríquez, 1994, 1995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epósitos de reemplazo hidrotermal (metasomático; Ej. Hirtzman et al., 1992; Bookstrom, 1995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mparados también a depósitos de Fe-P </a:t>
            </a: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Tipo Kirun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(Suecia), productos de inyección de magmas de ox. Fe (separación de magmas inmiscibles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16:05:24Z</dcterms:created>
  <dc:creator>Brian K. Townley</dc:creator>
  <dc:description/>
  <dc:language>en-US</dc:language>
  <cp:lastModifiedBy>Brian</cp:lastModifiedBy>
  <dcterms:modified xsi:type="dcterms:W3CDTF">2005-05-19T05:54:43Z</dcterms:modified>
  <cp:revision>6</cp:revision>
  <dc:subject/>
  <dc:title>Yacimientos de Fierro Chilenos</dc:title>
</cp:coreProperties>
</file>