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9.jpeg" ContentType="image/jpeg"/>
  <Override PartName="/ppt/media/image7.png" ContentType="image/png"/>
  <Override PartName="/ppt/media/image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DC3F-25F7-4399-A8B0-A097F10D7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95AF-E116-4FA1-A3EB-C2CA7F967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12CD-8F2F-41D9-AFF5-A32E64A40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9E3A-31D9-4B28-9E21-7D7932490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D4DCE-9988-44CF-9269-859B2E80B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55805-DA64-4A04-9AAC-95C7D86B2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2B6F9-E7BA-4EB8-8153-56EB674CC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77C15-1456-4FDA-B811-AB4CD3D38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35D16-1E07-4603-9040-2C7CFD0A9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1DD7D-8CC3-4E5D-8088-AEC04471F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0DBCB-0F0B-455A-AE46-AFD9C758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15D8-580A-452B-9559-03DEEA9C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666DB-44C9-4119-9D24-C9CAB70D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34780-4781-493C-B1B5-322156E9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07544-B4BB-4C63-B459-5E3CB143A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BCE0B-E7A0-410A-974F-7FA46E72C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445E8-B12F-4DCE-B836-5A8CEA2DE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DF20-0FAC-42EF-8980-992B05C1E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5448-0408-4A68-AE02-E3D346DC3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10A7-F8D4-4806-95FE-6CD3DD5F2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A7A0-FAB6-4F69-ADA9-5967C3CF8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4850-ADF6-4A96-AB2C-D7E8AD48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E6B5-6274-4EEC-A9F8-7D26D4FE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E4F5-9790-4A0E-B8B9-762E702D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4377-E849-4F9A-A0DB-A372FD20DAD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CE9FB-3653-4C8D-A4EB-FB45CFA51D9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ffff66"/>
                </a:solidFill>
                <a:latin typeface="Times New Roman"/>
              </a:rPr>
              <a:t>Yacimientos de óxidos Fe-Cu-Au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457200"/>
            <a:ext cx="80010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66ffff"/>
                </a:solidFill>
                <a:latin typeface="Times New Roman"/>
              </a:rPr>
              <a:t>Mineralogía: abundantes óxidos de Fe y escasos sulfuros de Fe.  Ambos tipos de depósitos (Fe-P y Fe-Cu-Au) pueden contener abundante carbonato, Ba, P o F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Alteración: intensa en rocas encajadoras, asociación depende de la composición de las rocas.  En los de Fe-P: AH sódica a sódica-cálcica, pudiendo gradar hacia arriba a sistemas ricos en hematita asociados con alteración potásica o sericítica (hidrolítica)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Los de Fe-Cu-Au: AH sódico-potásica, potásica o hidrolítica dependiendo del grado de interacción con fluidos meteóricos o connatos.  Las zonas sódicas tienden a ser extensas (de decenas a centenas de km</a:t>
            </a:r>
            <a:r>
              <a:rPr b="0" lang="es-CL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Fluidos mineralizadores acuosos salinos, oxidados, pobres en azufre y a t°&gt;250°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Times New Roman"/>
              </a:rPr>
              <a:t>Profundidad de emplazamiento de la mineralización de 4 a 6 km hasta la superfici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cc66"/>
                </a:solidFill>
                <a:latin typeface="Times New Roman"/>
              </a:rPr>
              <a:t>YACIMIENTOS DE ÓXIDOS DE Fe-Cu-Au CHILENOS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l descubrimiento, a mediados de los ochenta, y posterior explotación de los yacimientos </a:t>
            </a:r>
            <a:r>
              <a:rPr b="1" lang="es-ES_tradnl" sz="2400" spc="-1" strike="noStrike">
                <a:solidFill>
                  <a:srgbClr val="ffffcc"/>
                </a:solidFill>
                <a:latin typeface="TimesNewRomanPSMT;TimesNewRoman"/>
              </a:rPr>
              <a:t>Candelaria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y </a:t>
            </a:r>
            <a:r>
              <a:rPr b="1" lang="es-ES_tradnl" sz="2400" spc="-1" strike="noStrike">
                <a:solidFill>
                  <a:srgbClr val="ffffcc"/>
                </a:solidFill>
                <a:latin typeface="TimesNewRomanPSMT;TimesNewRoman"/>
              </a:rPr>
              <a:t>Manto Verde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n la Cordillera de la Costa de la III Región, ha hecho que este tipo de mineralización cuprífera y aurífera, ligada a minerales de hierro, adquiriera notable importancia económica y atracción por su exploración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l yacimiento Candelaria se ubica 4 km al SW del </a:t>
            </a:r>
            <a:r>
              <a:rPr b="1" lang="es-ES_tradnl" sz="2400" spc="-1" strike="noStrike">
                <a:solidFill>
                  <a:srgbClr val="ffffcc"/>
                </a:solidFill>
                <a:latin typeface="TimesNewRomanPSMT;TimesNewRoman"/>
              </a:rPr>
              <a:t>Distrito Punta del Cobre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donde existen varios yacimientos de óxido-Fe-Cu-(Au) conocidos desde el Siglo 17, incluyendo vetas, cuerpos tabulares o lentiformes, stockworks y estratoligados (Marschik and Fonboté, 1996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cc66"/>
                </a:solidFill>
                <a:latin typeface="Times New Roman"/>
              </a:rPr>
              <a:t>Candelaria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Fue descubierto en 1987 por la compañía minera Phelps Dodge y actualmente se explota mediante rajos abiertos procesando 28.000 t de mineral por dí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os cuerpos mineralizados son mantiformes o lenticulares hospedados por los niveles inferiores de tobas y andesitas de la Formación Punta del Cobre del Jurásico Superior a Cretácico Inferior. Los cuerpos mineralizados se extienden aproximadamente por 2.000 m en sentido N-S, con un ancho de 600 m y una potencia acumulada de más de 350 m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as reservas mineras en 1995 alcanzaban a 366 Mt con 1,08 % Cu y 0,26 g/t Au (Ryan et al., 1995).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516096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486400" y="615636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Figure 1. Mapa geológico de are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Candelaria-Punta del Cobr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69560" y="380880"/>
            <a:ext cx="3583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Marschik, R. and Leveille, R.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(1998): The Candelaria-Punt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del Cobre iron oxide copper-gol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deposits, Chile. Geological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Society of America,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Abstracts with Programs, A-37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34720" y="2819520"/>
            <a:ext cx="3332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El Distrito Punta del Cobre 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el yacimiento La Candelaria s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localizan a 20 km al sur d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Copiapó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04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99280" y="6156360"/>
            <a:ext cx="736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Figure 2. Sección esquemática desde Batolito Copiapo hasta el distri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Punta del Cobre. Posición estratigráfica de depósitos es mostrad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5680" y="5610240"/>
            <a:ext cx="49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3300"/>
                </a:solidFill>
                <a:latin typeface="Times New Roman"/>
              </a:rPr>
              <a:t>Marschik, R. and Leveille, R.A. (1998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567684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267080" y="5791320"/>
            <a:ext cx="20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(modificado de Martin et al. 1997).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64400" y="533520"/>
            <a:ext cx="304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Estratigrafía d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Candela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321960" y="2514600"/>
            <a:ext cx="25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Distribución de l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Tipos de alter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hidroterm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247080" y="4800600"/>
            <a:ext cx="258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Posición del cuer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mineraliz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7160" y="4479840"/>
            <a:ext cx="488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3300"/>
                </a:solidFill>
                <a:latin typeface="Times New Roman"/>
              </a:rPr>
              <a:t>470 Mt @ 0.95% Cu, 0.22 g/t Au; 0.22 g/t A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48960" y="1409760"/>
            <a:ext cx="2000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Marschik, R. and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Leveille, R.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(1998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7080" y="5791320"/>
            <a:ext cx="525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Mina Candelaria desde Sierra El Bronce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Vista hacia el SW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85800" y="404640"/>
            <a:ext cx="7932600" cy="5234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477120" y="4876920"/>
            <a:ext cx="266688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8001000" cy="52718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11040" y="5638680"/>
            <a:ext cx="8853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Mineralización típica en la mina Candelaria. Chalcopirita-pirit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mineralización esta superpuesta a roca con intenso metasomatismo de Fe (magneti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Volcánicas - volcanoclást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62120" y="374760"/>
            <a:ext cx="7924680" cy="5263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289160" y="5867280"/>
            <a:ext cx="550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Veta con calcopirita-pirita de rumbo NNW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Candelaria, Rajo Sur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a mineralización consiste en magnetita, calcopirita y pirita subordinada (la proporción de calcopirita/pirita es de 5/1); en la parte superior del depósito se presenta pirrotina en vez de pirita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l oro se presenta en granos cuyo tamaño es de pocos micrones. Electrum rico en Au contenido en la estructura interna de calcopirita y en menor medida en pirita; los minerales de mena se presentan en venillas, rellenos de brechas y diseminación en rocas volcánicas intensamente alterada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as rocas volcánicas huésped de la mineralización de Candelaria fueron afectadas por una alteración potásica temprana que se caracterizó por una biotitización penetrativa con introducción menor de feldespato-K y depositación de magnetita y apatito en las rocas;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cc66"/>
                </a:solidFill>
                <a:latin typeface="Times New Roman"/>
              </a:rPr>
              <a:t>Candelaria: Mineralización y Alteración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ffff66"/>
                </a:solidFill>
                <a:latin typeface="Times New Roman"/>
              </a:rPr>
              <a:t>Yacimientos de óxidos Fe-Cu-Au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175248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Clan amplio y no muy bien definido de depósitos minerales caracterizados primariamente por su contenido de magnetita y hematita (especularita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Presentes en una variedad de ambientes tectono-magmático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Se explotan por Cu, con Au como subproducto.  Pueden contener Co, U, REE, Mo, Zn, Ag, entre otro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La faja más joven de estos depósitos está en la Cordillera de la Costa del N de Chile y S de Perú. Jurásico-Cretácico Inferior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Existe actualmente gran interés en la exploración de este tipo de depósitos ya que constituyen blancos potencialmente rentables por Cu y Au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80520" y="45720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una etapa posterior (sobreimpuesta) de alteración sódico-cálcica caracterizada por la asociación actinolita, escapolita y albita más la formación de hornblenda y hedenbergita e introducción principalmente de calcopirita y de otros sulfuros muy subordinados (en Candelaria se ha descrito la presencia de: pirita, pirrotina, marcasita, esfalerita, galena, cubanita, arsenopirita y molibdenita, pero estos sulfuros son proporcionalmente menores y el único mineral relevante de cobre es la calcopirita que constituye lejos el sulfuro dominante);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Una etapa retrógrada caracterizada por anfíbola, clorita, epidota, clinozoicita y sericita menor afectó el conjunto y finalmente ocurrió la introducción tardía de feldespato-K (post-mineralización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533160" y="6858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n los niveles sobreyacentes al yacimiento Candelaria (que corresponden a rocas sedimentarias carbonatadas neocomianas del Grupo Chañarcillo) se presenta alteración de tipo skarn de andradita-diópsido, asociado con depósitos de tipo skarn de cobre, que constituyen cuerpos mantiformes menores como los explotados en las minas Lar y El Bronce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a existencia de dicha mineralización de cobre es lo que llevó a explorar el área y al posterior descubrimiento del depósito mayor subyacente hospedado por rocas volcánica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54100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51800" y="5791320"/>
            <a:ext cx="61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Distrito Punta del Cobre desde Sierra El Bronce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Vista hacia el es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6477120" y="5106960"/>
            <a:ext cx="266688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458200" cy="68882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635080" y="3581280"/>
            <a:ext cx="327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Times New Roman"/>
              </a:rPr>
              <a:t>Marschik, R. &amp; Leveille, R.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ff3300"/>
                </a:solidFill>
                <a:latin typeface="Times New Roman"/>
              </a:rPr>
              <a:t>(1998)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990720" y="372960"/>
            <a:ext cx="7238880" cy="49611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09480" y="5486400"/>
            <a:ext cx="798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Mineralización estratiforme sobre el contacto rocas volcanicas/ sedimentarias (Mina Socavón Rampa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90520" y="5791320"/>
            <a:ext cx="85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Mineralización chalcopirita-pirita (Mina Socavón Rampa-Trinidad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09480" y="419040"/>
            <a:ext cx="792504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7315200" cy="48099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437120" y="5410080"/>
            <a:ext cx="666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Brecha con fragmentos de rocas volcánicas en una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matriz de chalcopirita-pirita (Mina Socavón Rampa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4411440" cy="65372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871160" y="2743200"/>
            <a:ext cx="3786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Veta de magnetita masiva e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Contacto con veta d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calcopirita-pirit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Esta relación espacial ilustr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la relación espacial entre do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etapas distintas separadas d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mineralización-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(Mina Carola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9734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206720" y="5638680"/>
            <a:ext cx="695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Secuencia paragenética preliminar de mineralización y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principales eventos de alter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27920" y="5299200"/>
            <a:ext cx="418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Marschik, R. and Leveille, R.A. (1998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600" spc="-1" strike="noStrike">
                <a:solidFill>
                  <a:srgbClr val="ffff66"/>
                </a:solidFill>
                <a:latin typeface="Times New Roman"/>
              </a:rPr>
              <a:t>Edades para Candelaria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baseline="30000">
                <a:solidFill>
                  <a:srgbClr val="ffffcc"/>
                </a:solidFill>
                <a:latin typeface="Times New Roman"/>
              </a:rPr>
              <a:t>40</a:t>
            </a: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Ar/</a:t>
            </a:r>
            <a:r>
              <a:rPr b="0" lang="es-CL" sz="2000" spc="-1" strike="noStrike" baseline="30000">
                <a:solidFill>
                  <a:srgbClr val="ffffcc"/>
                </a:solidFill>
                <a:latin typeface="Times New Roman"/>
              </a:rPr>
              <a:t>39</a:t>
            </a: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Ar Biotita temprana plateau 116.51 ± 0.26 Ma (Marschick y Fonboté, 2001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baseline="30000">
                <a:solidFill>
                  <a:srgbClr val="ffffcc"/>
                </a:solidFill>
                <a:latin typeface="Times New Roman"/>
              </a:rPr>
              <a:t>40</a:t>
            </a: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Ar/</a:t>
            </a:r>
            <a:r>
              <a:rPr b="0" lang="es-CL" sz="2000" spc="-1" strike="noStrike" baseline="30000">
                <a:solidFill>
                  <a:srgbClr val="ffffcc"/>
                </a:solidFill>
                <a:latin typeface="Times New Roman"/>
              </a:rPr>
              <a:t>39</a:t>
            </a: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Ar Biotita asociada a calcopirita-pirita plateau 115.14 ± 0.18 Ma (Marschik y Fontboté, 2001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baseline="30000">
                <a:solidFill>
                  <a:srgbClr val="ffffcc"/>
                </a:solidFill>
                <a:latin typeface="Times New Roman"/>
              </a:rPr>
              <a:t>40</a:t>
            </a: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Ar/</a:t>
            </a:r>
            <a:r>
              <a:rPr b="0" lang="es-CL" sz="2000" spc="-1" strike="noStrike" baseline="30000">
                <a:solidFill>
                  <a:srgbClr val="ffffcc"/>
                </a:solidFill>
                <a:latin typeface="Times New Roman"/>
              </a:rPr>
              <a:t>39</a:t>
            </a: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Ar Biotita etapa temprana fusión total </a:t>
            </a: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114.9±1.0 Ma </a:t>
            </a: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Marschik </a:t>
            </a: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y</a:t>
            </a: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 Leveille, 1998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Biotita temprana asociada a metasomatismo de magnetita 114.2 ± 0.8 y 114.1 ± 0.7 Ma (Ulrich y Clark, 1999)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baseline="30000">
                <a:solidFill>
                  <a:srgbClr val="66ffff"/>
                </a:solidFill>
                <a:latin typeface="Times New Roman"/>
              </a:rPr>
              <a:t>40</a:t>
            </a:r>
            <a:r>
              <a:rPr b="0" lang="es-CL" sz="2000" spc="-1" strike="noStrike">
                <a:solidFill>
                  <a:srgbClr val="66ffff"/>
                </a:solidFill>
                <a:latin typeface="Times New Roman"/>
              </a:rPr>
              <a:t>Ar/</a:t>
            </a:r>
            <a:r>
              <a:rPr b="0" lang="es-CL" sz="2000" spc="-1" strike="noStrike" baseline="30000">
                <a:solidFill>
                  <a:srgbClr val="66ffff"/>
                </a:solidFill>
                <a:latin typeface="Times New Roman"/>
              </a:rPr>
              <a:t>39</a:t>
            </a:r>
            <a:r>
              <a:rPr b="0" lang="es-CL" sz="2000" spc="-1" strike="noStrike">
                <a:solidFill>
                  <a:srgbClr val="66ffff"/>
                </a:solidFill>
                <a:latin typeface="Times New Roman"/>
              </a:rPr>
              <a:t>Ar Biotita 111.0 ± 1.7 Ma; 110.7 ± 1.6 Ma : edad de mineralización coincidente con deformación de cizalle dúctil de rocas y menas (Arévalo et al., 2000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baseline="30000">
                <a:solidFill>
                  <a:srgbClr val="66ffff"/>
                </a:solidFill>
                <a:latin typeface="Times New Roman"/>
              </a:rPr>
              <a:t>40</a:t>
            </a:r>
            <a:r>
              <a:rPr b="0" lang="es-CL" sz="2000" spc="-1" strike="noStrike">
                <a:solidFill>
                  <a:srgbClr val="66ffff"/>
                </a:solidFill>
                <a:latin typeface="Times New Roman"/>
              </a:rPr>
              <a:t>Ar/</a:t>
            </a:r>
            <a:r>
              <a:rPr b="0" lang="es-CL" sz="2000" spc="-1" strike="noStrike" baseline="30000">
                <a:solidFill>
                  <a:srgbClr val="66ffff"/>
                </a:solidFill>
                <a:latin typeface="Times New Roman"/>
              </a:rPr>
              <a:t>39</a:t>
            </a:r>
            <a:r>
              <a:rPr b="0" lang="es-CL" sz="2000" spc="-1" strike="noStrike">
                <a:solidFill>
                  <a:srgbClr val="66ffff"/>
                </a:solidFill>
                <a:latin typeface="Times New Roman"/>
              </a:rPr>
              <a:t>Ar Anfíbola relacionada a calcopirita 111.7 ± 0.8 Ma (Ulrich y Clark, 1999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66"/>
                </a:solidFill>
                <a:latin typeface="Times New Roman"/>
              </a:rPr>
              <a:t>Re/Os Molibdenita 114.2 ± 0.6 y 115.2 ± 0.6 Ma: edad de mineralización;  las edades de 110 a 112 Ma deben corresponder a un evento más joven de alteración o mineralización (Mathur et al., 2002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2144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256720" y="184320"/>
            <a:ext cx="366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66"/>
                </a:solidFill>
                <a:latin typeface="Times New Roman"/>
              </a:rPr>
              <a:t>Yacimientos de Fe-apatita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66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ffff66"/>
                </a:solidFill>
                <a:latin typeface="Times New Roman"/>
              </a:rPr>
              <a:t>Ox. Fe-Cu-Au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2760" y="6172200"/>
            <a:ext cx="155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3300"/>
                </a:solidFill>
                <a:latin typeface="Times New Roman"/>
              </a:rPr>
              <a:t>Sillitoe, 2003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20440" y="1600200"/>
            <a:ext cx="3673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Sillitoe (2003) plantea qu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los depósitos de Fe-apat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y los de Ox. Fe-Cu-Au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pertenecen a un mismo clan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de depósitos en el que los d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Fe-apatito representan un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miembro extremo deficien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en Cu (¿transición?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85960" y="4724280"/>
            <a:ext cx="3656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6ffff"/>
                </a:solidFill>
                <a:latin typeface="Times New Roman"/>
              </a:rPr>
              <a:t>Pero todavía hay controversi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6ffff"/>
                </a:solidFill>
                <a:latin typeface="Times New Roman"/>
              </a:rPr>
              <a:t>sobre el origen de los yacimien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6ffff"/>
                </a:solidFill>
                <a:latin typeface="Times New Roman"/>
              </a:rPr>
              <a:t>de Fe-apatito y también respec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6ffff"/>
                </a:solidFill>
                <a:latin typeface="Times New Roman"/>
              </a:rPr>
              <a:t>al tipo de fluidos que originan 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6ffff"/>
                </a:solidFill>
                <a:latin typeface="Times New Roman"/>
              </a:rPr>
              <a:t>los de Ox. Fe-Cu-Au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6ffff"/>
                </a:solidFill>
                <a:latin typeface="Times New Roman"/>
              </a:rPr>
              <a:t>     </a:t>
            </a: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Magmático vs de cuenc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l gran tamaño del depósito, su profusa mineralización, su alteración potásica temprana, mineralogía simple, limitado conjunto de metales contenidos y su abundante apatito recristalizado sugieren que la mineralización original puede haber estado relacionada a un sistema de pórfido emplazado en la pila de rocas volcánicas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as rocas volcánicas huésped, la ausencia de un intrusivo relacionado a la mineralización, la forma tabular mantiforme del depósito y la abundancia de magnetita son rasgos atípicos de depósitos de tipo pórfido cuprífero. Sin embargo, algunas de estas características de Candelaria están presentes en pórfidos de Cu-Au relacionados a intrusivos alcalinos en British Columbia, Canadá (Lang et al., 1995) y también con el depósito proterozoico australiano de Olympic Dam (Oreskes y Hirtzman, 1993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600" spc="-1" strike="noStrike">
                <a:solidFill>
                  <a:srgbClr val="ffff66"/>
                </a:solidFill>
                <a:latin typeface="Times New Roman"/>
              </a:rPr>
              <a:t>Clasificación para Candelaria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Por otra parte, Candelaria se ubica en la porción oriental de la Faja Ferrífera Chilena, tiene una edad similar a la mineralización de magnetita-apatito de esta faja e incluye la presencia de abundante magnetita (10 a 15 % de la mena) y apatito recristalizado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Consecuentemente puede considerarse también como un yacimiento de hierro que tuvo adiciones paragenéticamente tardías de cobre y oro (Ej. Sillitoe, 1996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o expuesto anteriormente ha llevado a considerar a Candelaria como un depósito intermedio entre depósitos de tipo magnetita-apatito y pórfidos cupríferos (Marschik y Fonboté, 1996)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n realidad el yacimiento Candelaria es un depósito de origen metasomático con particularidades que lo hacen uno en su tipo, de modo que perfectamente podría calificarse como una mineralización de óxido-Fe-Cu-Au “Tipo Candelaria”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cc66"/>
                </a:solidFill>
                <a:latin typeface="Times New Roman"/>
              </a:rPr>
              <a:t>Manto Verde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l yacimiento de cobre Manto Verde se localiza 32 km al SE de Chañaral dentro de la Zona de Falla de Atacam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a mineralización está hospedada en rocas cataclásticas andesíticas e intrusivas (pórfido diorítico) del Cretácico Inferior, existiendo tres unidades de brechas paralelas a la Falla Manto Verde que tiene rumbo NNW y manteo de 40º-50ºE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 corresponde a una estructura subsidiaria de 12 km de longitud presente entre dos fallas maestras N-S del sistema de Falla de Atacama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380880" y="353880"/>
          <a:ext cx="4219560" cy="650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53880"/>
                    <a:ext cx="4219560" cy="650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4875120" y="482760"/>
            <a:ext cx="4248360" cy="62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66"/>
                </a:solidFill>
                <a:latin typeface="Times New Roman"/>
              </a:rPr>
              <a:t>Mina Manto Verd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3300"/>
                </a:solidFill>
                <a:latin typeface="Times New Roman"/>
              </a:rPr>
              <a:t>32 km SE de Chañar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Brechas con matriz d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especularita y miner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oxidados de Cu en fall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subsidiaria de Sistema de Fall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de Atacam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66ffff"/>
                </a:solidFill>
                <a:latin typeface="Times New Roman"/>
              </a:rPr>
              <a:t>Recurso de oxidado 120 Mt @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66ffff"/>
                </a:solidFill>
                <a:latin typeface="Times New Roman"/>
              </a:rPr>
              <a:t>0.72% Cu (ley de corte 0.2% Cu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Reservas 85 Mt @ 0.82% Cu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66ffff"/>
                </a:solidFill>
                <a:latin typeface="Times New Roman"/>
              </a:rPr>
              <a:t>&gt;400 Mt @ 0.52% Cu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66ffff"/>
                </a:solidFill>
                <a:latin typeface="Times New Roman"/>
              </a:rPr>
              <a:t>Recurso de sulfuros e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66ffff"/>
                </a:solidFill>
                <a:latin typeface="Times New Roman"/>
              </a:rPr>
              <a:t>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9139320" cy="51166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0" y="609480"/>
            <a:ext cx="120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Brecha d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fall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1219320"/>
            <a:ext cx="152280" cy="144756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40840" y="609480"/>
            <a:ext cx="136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Brech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hidroterm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914040" y="1295280"/>
            <a:ext cx="304920" cy="99072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197160" y="380880"/>
            <a:ext cx="2111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Sericita- carbona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sobreimpuestos 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microclina-clori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244560" y="457200"/>
            <a:ext cx="2487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Envolvente de miner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ley de corte 0.4% Cu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oxidado y sulfura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39120" y="575316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3300"/>
                </a:solidFill>
                <a:latin typeface="Times New Roman"/>
              </a:rPr>
              <a:t>Vila et al., 199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600" spc="-1" strike="noStrike">
                <a:solidFill>
                  <a:srgbClr val="ffff66"/>
                </a:solidFill>
                <a:latin typeface="Times New Roman"/>
              </a:rPr>
              <a:t>Manto Verd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Brechas con abundante especularita con minerales oxidados de Cu hasta 200 m de profundidad.  Mineral primario en profundidad con magnetita, calcopirita y pirita (Cpy/Py = 5/1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66ffff"/>
                </a:solidFill>
                <a:latin typeface="Times New Roman"/>
              </a:rPr>
              <a:t>Sulfuros depositados al mismo tiempo y posteriores a especularita (Mgt en profundidad)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Existían cuerpos vetiformes de mayor ley de Cu-Au que fueron explotados en forma subterránea previo a la operación a rajo abierto desde 1995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0000"/>
                </a:solidFill>
                <a:latin typeface="Times New Roman"/>
              </a:rPr>
              <a:t>Se explotan 15.000 t/día con lixiviación en pilas y electroobtención de Cu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609480"/>
            <a:ext cx="845820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Times New Roman"/>
              </a:rPr>
              <a:t>Inclusiones fluidas indican fluidos a ~180°-250°C y evidencias de ebullición, sugerente de condiciones hidrostáticas durante la mineralización y relativamente poca profundidad.  La salinidad era alta (30-50% NaCl eq.) sugerente de fluidos de origen magmático.  Manto Verde sería más somero que Candelari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Las rocas en Manto Verde fueron afectadas por una alteración potásica con entrecrecimiento de microclina y clorita, con cuarzo y hematita.  En parte de las brechas la asociación anterior está alterada a sericita y arcillas, con más especularita, cuarzo y turmalina finamente diseminada.  Además, vetilleo tardío de calcita.  La alteración hidrolítica (sericita, arcillas) es también una diferencia con Candelaria donde ésta prácticamente no exist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66ffff"/>
                </a:solidFill>
                <a:latin typeface="Times New Roman"/>
              </a:rPr>
              <a:t>Edades K-Ar 121 a 117 Ma (Aptiano) en andesitas y diques alterados (Vila et al., 1996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cc66"/>
                </a:solidFill>
                <a:latin typeface="Times New Roman"/>
              </a:rPr>
              <a:t>Hipótesis sobre el origen de los depósitos de óxidos-Fe-Cu-Au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os depósitos de óxido-Fe-Cu-Au pertenecen a una clase de depósitos caracterizados por abundante mineralización de Fe, pero pobre en Ti, conocida como depósitos de óxido-Fe de clase (Cu-U-Au-REE) o clasificados como depósitos de Cu-Au con bajo contenido de azufre (Ej., Hirtzman et al., 1992, Barton and Johnson, 1996)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a relación genética con rocas plutónicas contemporáneas es controvertid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Si bien el origen hidrotermal metasomático no se discute, la fuente de fluidos es también controvertid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lgunos autores favorecen fluidos de origen hidrotermal-magmático (Ej. ., Gow et al., 1994, Rotherham et al., 1998, Williams, 1998, Williams et al., 1999)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Mientras que otros proponen fluidos derivados de evaporitas y movilizados termalmente para lixiviar y redepositar metales y azufre (Battles and Barton, 1995, Barton and Johnson, 1996, Barton et al., 1998, Ulrich and Clark, 1999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Otro modelo genético intenta relacionar entre sí los depósitos Cretácicos de magnetita-apatito, óxido-Fe-Cu-Au y estratoligados de Cu (Ag) hospedados en rocas volcánicas, donde se consideran como distintos niveles de emplazamiento y liberación de fluidos hidrotermales desde intrusiones de magma de Fe-P, siguiendo básicamente el modelo de inyección de magmas de mena tipo Kiruna (Vivallo and Henriquez, 1997, Gelcich, 1999, Nyström and Henríquez, 1994, 1995, Naslund et al., 2002)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116000" y="476280"/>
            <a:ext cx="698508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07240" y="457200"/>
            <a:ext cx="8291520" cy="61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3300"/>
                </a:solidFill>
                <a:latin typeface="Arial"/>
              </a:rPr>
              <a:t>Olympic Dam, Australia </a:t>
            </a:r>
            <a:r>
              <a:rPr b="0" lang="es-CL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</a:t>
            </a:r>
            <a:r>
              <a:rPr b="0" lang="es-CL" sz="2400" spc="-1" strike="noStrike">
                <a:solidFill>
                  <a:srgbClr val="ff3300"/>
                </a:solidFill>
                <a:latin typeface="Arial"/>
              </a:rPr>
              <a:t> Descubierto en 1975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66ffff"/>
                </a:solidFill>
                <a:latin typeface="Arial"/>
              </a:rPr>
              <a:t>Yacimiento de óx.Fe-Cu-U-Au-RE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66ffff"/>
                </a:solidFill>
                <a:latin typeface="Arial"/>
              </a:rPr>
              <a:t>2000 Mt 1.6% Cu, 0.06% U</a:t>
            </a:r>
            <a:r>
              <a:rPr b="0" lang="es-CL" sz="2400" spc="-1" strike="noStrike" baseline="-25000">
                <a:solidFill>
                  <a:srgbClr val="66ffff"/>
                </a:solidFill>
                <a:latin typeface="Arial"/>
              </a:rPr>
              <a:t>3</a:t>
            </a:r>
            <a:r>
              <a:rPr b="0" lang="es-CL" sz="2400" spc="-1" strike="noStrike">
                <a:solidFill>
                  <a:srgbClr val="66ffff"/>
                </a:solidFill>
                <a:latin typeface="Arial"/>
              </a:rPr>
              <a:t>O</a:t>
            </a:r>
            <a:r>
              <a:rPr b="0" lang="es-CL" sz="2400" spc="-1" strike="noStrike" baseline="-25000">
                <a:solidFill>
                  <a:srgbClr val="66ffff"/>
                </a:solidFill>
                <a:latin typeface="Arial"/>
              </a:rPr>
              <a:t>8</a:t>
            </a:r>
            <a:r>
              <a:rPr b="0" lang="es-CL" sz="2400" spc="-1" strike="noStrike">
                <a:solidFill>
                  <a:srgbClr val="66ffff"/>
                </a:solidFill>
                <a:latin typeface="Arial"/>
              </a:rPr>
              <a:t>, 0.6 g/t Au, 3.5 g/t A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En 1983 las labores mineras abrieron Olympic Dam mostrando que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se trata de un “complejo de brecha hidrotermal” rico en óxido de Fe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(hematita).  Edad 1.588 ± 5 Ma (Proterozoico Medio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Esto llevó al reconocimiento de los depósitos de óxidos Fe-Cu-Au com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una clase aparte y produjo el subsecuente interés de explor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66"/>
                </a:solidFill>
                <a:latin typeface="Arial"/>
              </a:rPr>
              <a:t>Conduciendo al hallazgo de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66"/>
                </a:solidFill>
                <a:latin typeface="Arial"/>
              </a:rPr>
              <a:t>Ernest Henry, Australi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66"/>
                </a:solidFill>
                <a:latin typeface="Arial"/>
              </a:rPr>
              <a:t>Candelaria, Chile (1987) Phelps Dodg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66"/>
                </a:solidFill>
                <a:latin typeface="Arial"/>
              </a:rPr>
              <a:t>Manto Verde, Chile (1988) Anglo American (Mantos Blan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66"/>
                </a:solidFill>
                <a:latin typeface="Arial"/>
              </a:rPr>
              <a:t>Salobo, Brasi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66"/>
                </a:solidFill>
                <a:latin typeface="Arial"/>
              </a:rPr>
              <a:t>Sossego, Brasi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60948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os datos de inclusiones fluidas de Manto Verde indican temperaturas menores de formación (180º-320ºC) y ebullición de los fluidos hidrotermales durante la mineralización (Vila et al., 1996)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Sin embargo, estos autores favorecen un origen magmático-hidrotermal y plantean un origen similar para los depósitos de magnetita-apatito de la Franja Ferrifera Chilena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Manto Verde es visto por Vila et al. (1996) como un miembro extremo rico en cobre de un continuo de depósitos que se extiende desde los depósitos de magnetita-apatito pobres en cobre en el otro extremo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12360" y="684360"/>
            <a:ext cx="8228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Actualmente están en producción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Olympic Dam, Austral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Ernest Henry, Austral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Candelaria, Chi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Manto Verde, Chi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66ffff"/>
                </a:solidFill>
                <a:latin typeface="Arial"/>
              </a:rPr>
              <a:t>Estos depósitos contribuyen con &lt;5% del Cu  y &lt;1% Au d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66ffff"/>
                </a:solidFill>
                <a:latin typeface="Arial"/>
              </a:rPr>
              <a:t>la producción mundial, pero en Chile son actualmente lo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66ffff"/>
                </a:solidFill>
                <a:latin typeface="Arial"/>
              </a:rPr>
              <a:t>segundos en producción cuprífera despúes de los pórfi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66ffff"/>
                </a:solidFill>
                <a:latin typeface="Arial"/>
              </a:rPr>
              <a:t>cupífero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Están en desarrollo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Salobo, Brasi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66"/>
                </a:solidFill>
                <a:latin typeface="Arial"/>
              </a:rPr>
              <a:t>Sossego, Brasi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93680" y="1112760"/>
            <a:ext cx="8755200" cy="46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92120" y="0"/>
            <a:ext cx="487836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437080" y="498600"/>
            <a:ext cx="3714840" cy="61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Times New Roman"/>
              </a:rPr>
              <a:t>Depósitos de Ox.Fe-apat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Times New Roman"/>
              </a:rPr>
              <a:t>y de Ox.Fe-Cu-Au ocurre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Times New Roman"/>
              </a:rPr>
              <a:t>en distintos mar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Times New Roman"/>
              </a:rPr>
              <a:t>tectónicos (distintos tipos?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6ffff"/>
                </a:solidFill>
                <a:latin typeface="Times New Roman"/>
              </a:rPr>
              <a:t>Notar que en todos los esquema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6ffff"/>
                </a:solidFill>
                <a:latin typeface="Times New Roman"/>
              </a:rPr>
              <a:t>los de Ox.Fe-Cu-Au son más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6ffff"/>
                </a:solidFill>
                <a:latin typeface="Times New Roman"/>
              </a:rPr>
              <a:t>someros que los de Ox. Fe-apatit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En Chile los depósitos está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Ligados a un arco magmá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relacionado a subdu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del Cretácico Inferior y 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Volcanismo Neógen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66ffff"/>
                </a:solidFill>
                <a:latin typeface="Times New Roman"/>
              </a:rPr>
              <a:t>Candelaria en posi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66ffff"/>
                </a:solidFill>
                <a:latin typeface="Times New Roman"/>
              </a:rPr>
              <a:t>de tras-arco; en l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66ffff"/>
                </a:solidFill>
                <a:latin typeface="Times New Roman"/>
              </a:rPr>
              <a:t>cuenca Chañarcill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66"/>
                </a:solidFill>
                <a:latin typeface="Times New Roman"/>
              </a:rPr>
              <a:t>Características Generales de los yacimientos de óx.Fe-Cu-Au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175248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Relación con plutones y sistemas de falla. Espacial y temporal.  Algunos en fallas subsidiarias de sistemas regional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66"/>
                </a:solidFill>
                <a:latin typeface="Times New Roman"/>
              </a:rPr>
              <a:t>Formas: vetas, brechas hidrotermales, mantos de reemplazo, skarn cálcicos y combinacion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Alteraciones: Sódica, cálcica, potásic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66ffff"/>
                </a:solidFill>
                <a:latin typeface="Times New Roman"/>
              </a:rPr>
              <a:t>Zonación hacia el exterior y hacia arriba desde magnetita-actinolita-apatita a especularita-clorita-sericit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Signatura geoquímica de Cu-Au-Co-Ni-As-Mo-U-(LREE)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457200"/>
            <a:ext cx="777240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Asociados a plutones dioríticos oxidados. Aunque en algunos yacimientos de Ox. Fe-Cu-Au no parecen tener relación directa con intrusivos específicos al nivel de mineralización, Ej. Candelari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66ffff"/>
                </a:solidFill>
                <a:latin typeface="Times New Roman"/>
              </a:rPr>
              <a:t>Edad Proterozoico a Plioceno; en Chile los depósitos económicos son del Cretácico Inferior, pero también hay depósitos ferríferos asociados a volcanes del Mioceno Superior – Plioceno (El Laco, Incahuasi, Magnetita Pedernales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Asociación con evaporitas con halita marina o lacustre en muchos distritos.  Barton y Johnsons (1996) propusieron un modelo en que las fluidos y azufre provenientes de secuencias de evaporitas calentadas por una masa ígnea serían la fuente de los fluidos hidrotermales para generar depósitos de Ox. Fe-Cu-Au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9T16:05:28Z</dcterms:created>
  <dc:creator>Brian K. Townley</dc:creator>
  <dc:description/>
  <dc:language>en-US</dc:language>
  <cp:lastModifiedBy>Brian</cp:lastModifiedBy>
  <dcterms:modified xsi:type="dcterms:W3CDTF">2005-05-19T04:05:45Z</dcterms:modified>
  <cp:revision>2</cp:revision>
  <dc:subject/>
  <dc:title>YACIMIENTOS DE ÓXIDOS DE Fe-Cu-Au CHILENOS</dc:title>
</cp:coreProperties>
</file>