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0568DB5-D2AD-42D7-AE37-FC737D035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11D9C47-48A4-4AAB-A44D-9F5FD5808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63F4C67-3F31-4ECB-A97A-C04729559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9C75574-776F-4033-ADFC-0735F9678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E0FEA-8667-479E-AD17-2C686D1186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D87A9-5BB7-4B8E-B017-F0CD5E50E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CE004-2649-49AB-A576-83BC5F6A6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E78F5-AF91-4583-AEEC-D16BCA546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3DABA-E6DA-495A-81E9-C6691AC2D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E335B-44F7-4D26-B78D-B2B57F62B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79620-0AB3-4918-9B3F-2DAB3EF3B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AB667CD-366C-41BD-912D-49DCF4277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77C67-0171-45D0-A5C7-67722E5BF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1F18D-7229-428D-BE8C-57A254603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70773-C4E1-4B72-A908-AA42622A6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00AD0F-9706-4394-A1D2-80A0A4AB9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8189D-DA1D-4AD0-9141-7CA29F196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2866D29-86B2-4395-B903-5FE0208B2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7D44496-1283-44D8-B103-05286D558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8EDBD65-5453-4CA8-8F68-A11D8FA00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F9231F1-D030-4AAC-B0E8-3EF584C72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D693FD-6596-496E-94B4-7A58DE467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51F54FF-4EFE-4D82-9ECE-76EA4E900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0317A0D-966C-4CAC-9A73-CDBED6883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10A39-FA78-4F90-B580-D49EB2259D0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Narrow"/>
              </a:rPr>
              <a:t>Click to edit the title text format</a:t>
            </a:r>
            <a:endParaRPr b="1" lang="en-US" sz="4000" spc="-1" strike="noStrike">
              <a:solidFill>
                <a:srgbClr val="e5e5ff"/>
              </a:solidFill>
              <a:latin typeface="Arial Narrow"/>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cond Outline Level</a:t>
            </a:r>
            <a:endParaRPr b="0" lang="en-US" sz="3200" spc="-1" strike="noStrike">
              <a:solidFill>
                <a:srgbClr val="ffffff"/>
              </a:solidFill>
              <a:latin typeface="Arial Narrow"/>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ird Outline Level</a:t>
            </a:r>
            <a:endParaRPr b="0" lang="en-US" sz="3200" spc="-1" strike="noStrike">
              <a:solidFill>
                <a:srgbClr val="ffffff"/>
              </a:solidFill>
              <a:latin typeface="Arial Narrow"/>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ourth Outline Level</a:t>
            </a:r>
            <a:endParaRPr b="0" lang="en-US" sz="3200" spc="-1" strike="noStrike">
              <a:solidFill>
                <a:srgbClr val="ffffff"/>
              </a:solidFill>
              <a:latin typeface="Arial Narrow"/>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ifth Outline Level</a:t>
            </a:r>
            <a:endParaRPr b="0" lang="en-US" sz="3200" spc="-1" strike="noStrike">
              <a:solidFill>
                <a:srgbClr val="ffffff"/>
              </a:solidFill>
              <a:latin typeface="Arial Narrow"/>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ixth Outline Level</a:t>
            </a:r>
            <a:endParaRPr b="0" lang="en-US" sz="3200" spc="-1" strike="noStrike">
              <a:solidFill>
                <a:srgbClr val="ffffff"/>
              </a:solidFill>
              <a:latin typeface="Arial Narrow"/>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venth Outline Level</a:t>
            </a:r>
            <a:endParaRPr b="0"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Arial Narrow"/>
              </a:rPr>
              <a:t>Click to edit the title text format</a:t>
            </a:r>
            <a:endParaRPr b="1" lang="en-US" sz="5400" spc="-1" strike="noStrike">
              <a:solidFill>
                <a:srgbClr val="e5e5ff"/>
              </a:solidFill>
              <a:latin typeface="Arial Narrow"/>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9083-615B-4796-BD78-77E81F6CD60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Narrow"/>
              </a:rPr>
              <a:t>Yacimientos de metales base en rocas sedimentarias</a:t>
            </a:r>
            <a:endParaRPr b="1" lang="en-US" sz="3600" spc="-1" strike="noStrike">
              <a:solidFill>
                <a:srgbClr val="e5e5ff"/>
              </a:solidFill>
              <a:latin typeface="Arial Narrow"/>
            </a:endParaRPr>
          </a:p>
        </p:txBody>
      </p:sp>
      <p:sp>
        <p:nvSpPr>
          <p:cNvPr id="100"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Si existen iones complejos metálicos disueltos en aguas de una cuenca y condiciones redox para la precipitación, existe la posibilidad de formar un depósito mineral sedimentario.</a:t>
            </a:r>
            <a:endParaRPr b="0" lang="en-US" sz="2400" spc="-1" strike="noStrike">
              <a:solidFill>
                <a:srgbClr val="ffffff"/>
              </a:solidFill>
              <a:latin typeface="Arial Narrow"/>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Esta</a:t>
            </a:r>
            <a:r>
              <a:rPr b="0" lang="en-US" sz="2400" spc="-1" strike="noStrike">
                <a:solidFill>
                  <a:srgbClr val="ffffff"/>
                </a:solidFill>
                <a:latin typeface="Arial Narrow"/>
              </a:rPr>
              <a:t>s</a:t>
            </a:r>
            <a:r>
              <a:rPr b="0" lang="es-ES" sz="2400" spc="-1" strike="noStrike">
                <a:solidFill>
                  <a:srgbClr val="ffffff"/>
                </a:solidFill>
                <a:latin typeface="Arial Narrow"/>
              </a:rPr>
              <a:t> condiciones pueden darse en cuencas sedimentarias donde restos de materia orgánica en descomposición o la acción bacteriana genera excepcionalmente un medio reductor y donde la depositación clástica es prácticamente nula.</a:t>
            </a:r>
            <a:endParaRPr b="0" lang="en-US" sz="2400" spc="-1" strike="noStrike">
              <a:solidFill>
                <a:srgbClr val="ffffff"/>
              </a:solidFill>
              <a:latin typeface="Arial Narrow"/>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Si bien, el mecanismo de precipitación de metales tiene una base química inobjetable en un medio sedimentario reductor, se plantea el problema de la fuente de los metales, ya que el agua de mar no los contiene en cantidad suficiente.</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Arial Narrow"/>
              </a:rPr>
              <a:t>Origen</a:t>
            </a:r>
            <a:endParaRPr b="1" lang="en-US" sz="4000" spc="-1" strike="noStrike">
              <a:solidFill>
                <a:srgbClr val="e5e5ff"/>
              </a:solidFill>
              <a:latin typeface="Arial Narrow"/>
            </a:endParaRPr>
          </a:p>
        </p:txBody>
      </p:sp>
      <p:sp>
        <p:nvSpPr>
          <p:cNvPr id="120" name="PlaceHolder 2"/>
          <p:cNvSpPr>
            <a:spLocks noGrp="1"/>
          </p:cNvSpPr>
          <p:nvPr>
            <p:ph/>
          </p:nvPr>
        </p:nvSpPr>
        <p:spPr>
          <a:xfrm>
            <a:off x="685800" y="981000"/>
            <a:ext cx="7772400" cy="5616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Muchos autores europeos, han sugerido un origen sedimentario singenético para los sulfuros metálicos del Kupferschiefer</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Otros prefieren un origen exhalativo sedimentario similar a los SEDEX, donde el aporte metálico provendría de fuentes termales derivadas del volcanismo submarino o gradientes térmicas anómalas.  </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Las texturas de reemplazo y la existencia de zonas rojas de probable origen diagenético a las que se relacionan los cuerpos de mayor ley de cobre indican que hubo movilización de metales durante los procesos de litificación de la secuencia sedimentaria Pérmica, pero esto no necesariamente descarta que los metales fueran precipitados químicamente en un mar somero, puesto que la diagénesis puede haber removilizado metales previamente sedimentados.</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Sin embargo, el gran volumen de metales contenidos en el Kupferschiefer plantea ciertamente interrogantes respecto a su fuente de los mismo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Arial Narrow"/>
              </a:rPr>
              <a:t>La Franja Cuprífera de Zambia</a:t>
            </a:r>
            <a:endParaRPr b="1" lang="en-US" sz="4000" spc="-1" strike="noStrike">
              <a:solidFill>
                <a:srgbClr val="e5e5ff"/>
              </a:solidFill>
              <a:latin typeface="Arial Narrow"/>
            </a:endParaRPr>
          </a:p>
        </p:txBody>
      </p:sp>
      <p:sp>
        <p:nvSpPr>
          <p:cNvPr id="122"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s parte de una faja mayor la Franja Cuprífera de Africa Central (Zambia y Congo)</a:t>
            </a: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sta produjo 17% del Cu del mundo occidental en los ochentas.</a:t>
            </a: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n 1984 Zambia produjo 531.000 ton de Cu y el mineral extraído variaba de 1.49% a 2.81% Cu, con Co como subproducto.</a:t>
            </a: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La industria cuprífera de Zambia ha decaído desde entonces produciendo 330.000 ton de Cu el año 2002, mismo en que Angloamerican decidió abandonar sus operaciones en ese país.  </a:t>
            </a: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l Congo también posee una de las mayores concentraciones de Cu y Co de alta ley, pero solo produjo 32.300 ton de Cu el año 2002 y su industria minera utiliza menos del 10% de su capacidad.</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324000" y="1773360"/>
            <a:ext cx="8569080" cy="4500360"/>
          </a:xfrm>
          <a:prstGeom prst="rect">
            <a:avLst/>
          </a:prstGeom>
          <a:ln w="0">
            <a:noFill/>
          </a:ln>
        </p:spPr>
      </p:pic>
      <p:sp>
        <p:nvSpPr>
          <p:cNvPr id="124" name=""/>
          <p:cNvSpPr/>
          <p:nvPr/>
        </p:nvSpPr>
        <p:spPr>
          <a:xfrm>
            <a:off x="539640" y="333360"/>
            <a:ext cx="7772400" cy="1150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Ubicación de la Franja Cuprífera de Africa Central</a:t>
            </a:r>
            <a:endParaRPr b="0" lang="en-US" sz="2400" spc="-1" strike="noStrike">
              <a:solidFill>
                <a:srgbClr val="ffffff"/>
              </a:solidFill>
              <a:latin typeface="Arial"/>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Los depósitos se ubican en Zambia y la República Democrática del Congo en una antigua zona de rif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24000" y="2062080"/>
            <a:ext cx="8820000" cy="4795920"/>
          </a:xfrm>
          <a:prstGeom prst="rect">
            <a:avLst/>
          </a:prstGeom>
          <a:ln w="0">
            <a:noFill/>
          </a:ln>
        </p:spPr>
      </p:pic>
      <p:sp>
        <p:nvSpPr>
          <p:cNvPr id="126" name=""/>
          <p:cNvSpPr/>
          <p:nvPr/>
        </p:nvSpPr>
        <p:spPr>
          <a:xfrm>
            <a:off x="539640" y="260280"/>
            <a:ext cx="7772400" cy="18734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Cu-Co en lutitas, lutitas dolomíticas y areniscas del Neoproterozoico con metamorfismo de facies de esquistos verdes (en gran parte esquistos de biotita) que sobreyacen un basamento de granito y esquistos</a:t>
            </a:r>
            <a:endParaRPr b="0" lang="en-US" sz="2400" spc="-1" strike="noStrike">
              <a:solidFill>
                <a:srgbClr val="ffffff"/>
              </a:solidFill>
              <a:latin typeface="Arial"/>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Niveles de 15-20 m de potencia con Bo, Cp y Cs, con Co y F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Arial Narrow"/>
              </a:rPr>
              <a:t>Depósitos estratiformes de metales base en rocas sedimentarias</a:t>
            </a:r>
            <a:endParaRPr b="1" lang="en-US" sz="3600" spc="-1" strike="noStrike">
              <a:solidFill>
                <a:srgbClr val="e5e5ff"/>
              </a:solidFill>
              <a:latin typeface="Arial Narrow"/>
            </a:endParaRPr>
          </a:p>
        </p:txBody>
      </p:sp>
      <p:sp>
        <p:nvSpPr>
          <p:cNvPr id="102" name="PlaceHolder 2"/>
          <p:cNvSpPr>
            <a:spLocks noGrp="1"/>
          </p:cNvSpPr>
          <p:nvPr>
            <p:ph/>
          </p:nvPr>
        </p:nvSpPr>
        <p:spPr>
          <a:xfrm>
            <a:off x="684360" y="1700280"/>
            <a:ext cx="7772400" cy="4611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Los depósitos de cobre estratiformes en rocas sedimentarias en cuanto a producción se ubican segundos después de los pórfidos cupríferos a nivel mundial.</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Representan la fuente más importante de cobalto, además de contener recursos de muchos otros metales como Pb, Zn, Au, Ag, U, Au, PGE y Re.</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Los más importantes son el Kupferschiefer (o lutita cuprífera) del Permo-Triásico de Europa Central y la Faja Cuprífera de Africa Central del Neoproterozoico. Existen también ejemplos en norteamérica, Kazajstan, Bolivia y China.</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La formación de los depósitos mayores parece coincidir con los períodos de amalgamación de los supercontinentes: Rodinia en el Neoproterozoico y Pangea en el Pérmo-Triásico</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498680" y="387360"/>
            <a:ext cx="6146640" cy="608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Arial Narrow"/>
              </a:rPr>
              <a:t>Kupferschiefer del Norte de Europa </a:t>
            </a:r>
            <a:endParaRPr b="1" lang="en-US" sz="4000" spc="-1" strike="noStrike">
              <a:solidFill>
                <a:srgbClr val="e5e5ff"/>
              </a:solidFill>
              <a:latin typeface="Arial Narrow"/>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Pizarra o lutita rica en cobre (pizarra calcárea bituminosa) que yace cerca de la base de la Formación Zechstain del Pérmico Medio</a:t>
            </a:r>
            <a:endParaRPr b="0" lang="en-US" sz="2800" spc="-1" strike="noStrike">
              <a:solidFill>
                <a:srgbClr val="ffffff"/>
              </a:solidFill>
              <a:latin typeface="Arial Narrow"/>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El Kupferschiefer tiene en general solo 60 cm de potencia media, pero se extiende desde el norte de Inglaterra hacia el este a través de Holanda, Alemania y hasta Polonia en un área de 600.000 km</a:t>
            </a:r>
            <a:r>
              <a:rPr b="0" lang="es-ES" sz="2800" spc="-1" strike="noStrike" baseline="30000">
                <a:solidFill>
                  <a:srgbClr val="ffffff"/>
                </a:solidFill>
                <a:latin typeface="Arial Narrow"/>
              </a:rPr>
              <a:t>2</a:t>
            </a:r>
            <a:r>
              <a:rPr b="0" lang="es-ES" sz="2800" spc="-1" strike="noStrike">
                <a:solidFill>
                  <a:srgbClr val="ffffff"/>
                </a:solidFill>
                <a:latin typeface="Arial Narrow"/>
              </a:rPr>
              <a:t> </a:t>
            </a:r>
            <a:endParaRPr b="0" lang="en-US" sz="2800" spc="-1" strike="noStrike">
              <a:solidFill>
                <a:srgbClr val="ffffff"/>
              </a:solidFill>
              <a:latin typeface="Arial Narrow"/>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No toda el área posee leyes económicas, solo 1% del área posee leyes &gt;0,3% Cu y 5% de ella tiene &gt;0,3% Zn</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50920" y="1844640"/>
            <a:ext cx="8713800" cy="4584600"/>
          </a:xfrm>
          <a:prstGeom prst="rect">
            <a:avLst/>
          </a:prstGeom>
          <a:ln w="0">
            <a:noFill/>
          </a:ln>
        </p:spPr>
      </p:pic>
      <p:sp>
        <p:nvSpPr>
          <p:cNvPr id="107" name=""/>
          <p:cNvSpPr/>
          <p:nvPr/>
        </p:nvSpPr>
        <p:spPr>
          <a:xfrm>
            <a:off x="685800" y="0"/>
            <a:ext cx="7772400" cy="175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Arial Narrow"/>
              </a:rPr>
              <a:t>Extensión del mar somero del Zechstein (Pérmico Superior) de  Europa Centr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Arial Narrow"/>
              </a:rPr>
              <a:t>Explotación</a:t>
            </a:r>
            <a:endParaRPr b="1" lang="en-US" sz="4000" spc="-1" strike="noStrike">
              <a:solidFill>
                <a:srgbClr val="e5e5ff"/>
              </a:solidFill>
              <a:latin typeface="Arial Narrow"/>
            </a:endParaRPr>
          </a:p>
        </p:txBody>
      </p:sp>
      <p:sp>
        <p:nvSpPr>
          <p:cNvPr id="109" name="PlaceHolder 2"/>
          <p:cNvSpPr>
            <a:spLocks noGrp="1"/>
          </p:cNvSpPr>
          <p:nvPr>
            <p:ph/>
          </p:nvPr>
        </p:nvSpPr>
        <p:spPr>
          <a:xfrm>
            <a:off x="685800" y="1628640"/>
            <a:ext cx="7772400" cy="48247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El Kupferschiefer se ha explotado en Mansfield, Alemania por aproximadamente 1000 años produciendo Cu y cantidades menores de Ag, Pb, Zn, (Mo, Re, V, U, Co, Ge).</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Los depósitos estratiformes más relevantes se encuentran en Polonia donde el Kupferschiefer presenta de 0,4 a 5,5 m de potencia </a:t>
            </a:r>
            <a:r>
              <a:rPr b="0" lang="en-US" sz="2800" spc="-1" strike="noStrike">
                <a:solidFill>
                  <a:srgbClr val="ffffff"/>
                </a:solidFill>
                <a:latin typeface="Arial Narrow"/>
              </a:rPr>
              <a:t>con</a:t>
            </a:r>
            <a:r>
              <a:rPr b="0" lang="es-ES" sz="2800" spc="-1" strike="noStrike">
                <a:solidFill>
                  <a:srgbClr val="ffffff"/>
                </a:solidFill>
                <a:latin typeface="Arial Narrow"/>
              </a:rPr>
              <a:t> contenido de 1,5% Cu.  </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Los depósitos polacos se distribuyen en un área de 30 x 60 km y se encuentran de 600 a 1500 m de profundidad, con reservas de 3000 Mt con 1% Cu, lo que hace que Polonia sea el mayor productor de cobre de Europa.</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Arial Narrow"/>
              </a:rPr>
              <a:t>Kupferschiefer</a:t>
            </a:r>
            <a:endParaRPr b="1" lang="en-US" sz="3600" spc="-1" strike="noStrike">
              <a:solidFill>
                <a:srgbClr val="e5e5ff"/>
              </a:solidFill>
              <a:latin typeface="Arial Narrow"/>
            </a:endParaRPr>
          </a:p>
        </p:txBody>
      </p:sp>
      <p:sp>
        <p:nvSpPr>
          <p:cNvPr id="111" name="PlaceHolder 2"/>
          <p:cNvSpPr>
            <a:spLocks noGrp="1"/>
          </p:cNvSpPr>
          <p:nvPr>
            <p:ph/>
          </p:nvPr>
        </p:nvSpPr>
        <p:spPr>
          <a:xfrm>
            <a:off x="684360" y="836280"/>
            <a:ext cx="7772400" cy="57610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Se trata de una secuencia transgresiva que incluye un conglomerado basal (debajo del nivel cuprífero) y está cubierto por calizas del Zechstein en lo que parece corresponder a un largo brazo de mar somero del Pérmico de Europa.</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La secuencia tiene una base de capas rojas del Pérmico Inferior (conglomerados y areniscas rojas; Rotliegendes), seguido de la lutita del Kupferschiefer y de las calizas del Zechstein del Pérmico Medio a Superior </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El ambiente de sedimentación del Kupferschiefer correspondería a planicies costeras dentro del nivel de mareas o levemente encima de ellas y en condiciones de clima árido a semi-árido (sabkha); este ambiente se desarrolló a medida que el mar Pérmico transgredió las arenas del desierto</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Arial Narrow"/>
              </a:rPr>
              <a:t>Distribución de menas</a:t>
            </a:r>
            <a:endParaRPr b="1" lang="en-US" sz="4000" spc="-1" strike="noStrike">
              <a:solidFill>
                <a:srgbClr val="e5e5ff"/>
              </a:solidFill>
              <a:latin typeface="Arial Narrow"/>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La mineralización se presenta principalmente en el nivel de lutitas Kupferschiefer, pero se extiende dentro de las calizas superiores y las areniscas rojas del Rotliegendes infrayacentes.</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El cobre y otros metales están diseminados en la matriz de las rocas como sulfuros de grano fino e incluyen principalmente: bornita, calcosina, calcopirita, galena y esfalerita.</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Estos minerales comúnmente reemplazan cemento de calcita pre-existente, fragmentos líticos y granos de cuarzo, así como a otros sulfuro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2276640"/>
            <a:ext cx="8496000" cy="3657600"/>
          </a:xfrm>
          <a:prstGeom prst="rect">
            <a:avLst/>
          </a:prstGeom>
          <a:ln w="0">
            <a:noFill/>
          </a:ln>
        </p:spPr>
      </p:pic>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5e5ff"/>
                </a:solidFill>
                <a:latin typeface="Arial Narrow"/>
              </a:rPr>
              <a:t>Sección esquemática de los depósitos del Kupferschiefer</a:t>
            </a:r>
            <a:endParaRPr b="0" lang="en-US" sz="2800" spc="-1" strike="noStrike">
              <a:solidFill>
                <a:srgbClr val="ffffff"/>
              </a:solidFill>
              <a:latin typeface="Arial"/>
            </a:endParaRPr>
          </a:p>
        </p:txBody>
      </p:sp>
      <p:sp>
        <p:nvSpPr>
          <p:cNvPr id="116" name=""/>
          <p:cNvSpPr/>
          <p:nvPr/>
        </p:nvSpPr>
        <p:spPr>
          <a:xfrm>
            <a:off x="4916160" y="3927600"/>
            <a:ext cx="160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Narrow"/>
              </a:rPr>
              <a:t>Areniscas rojas</a:t>
            </a:r>
            <a:endParaRPr b="0" lang="en-US" sz="2000" spc="-1" strike="noStrike">
              <a:solidFill>
                <a:srgbClr val="ffffff"/>
              </a:solidFill>
              <a:latin typeface="Arial"/>
            </a:endParaRPr>
          </a:p>
        </p:txBody>
      </p:sp>
      <p:sp>
        <p:nvSpPr>
          <p:cNvPr id="117" name=""/>
          <p:cNvSpPr/>
          <p:nvPr/>
        </p:nvSpPr>
        <p:spPr>
          <a:xfrm>
            <a:off x="4933800" y="371628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Narrow"/>
              </a:rPr>
              <a:t>Lutitas con Cu</a:t>
            </a:r>
            <a:endParaRPr b="0" lang="en-US" sz="2000" spc="-1" strike="noStrike">
              <a:solidFill>
                <a:srgbClr val="ffffff"/>
              </a:solidFill>
              <a:latin typeface="Arial"/>
            </a:endParaRPr>
          </a:p>
        </p:txBody>
      </p:sp>
      <p:sp>
        <p:nvSpPr>
          <p:cNvPr id="118" name=""/>
          <p:cNvSpPr/>
          <p:nvPr/>
        </p:nvSpPr>
        <p:spPr>
          <a:xfrm>
            <a:off x="4503960" y="3429000"/>
            <a:ext cx="193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Narrow"/>
              </a:rPr>
              <a:t>Calizas, evaporit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9T19:19:48Z</dcterms:created>
  <dc:creator>Victor Maksaev</dc:creator>
  <dc:description/>
  <dc:language>en-US</dc:language>
  <cp:lastModifiedBy>Odin the Great</cp:lastModifiedBy>
  <dcterms:modified xsi:type="dcterms:W3CDTF">2005-05-20T04:56:13Z</dcterms:modified>
  <cp:revision>2</cp:revision>
  <dc:subject/>
  <dc:title>Yacimientos de metales base en rocas sedimentarias</dc:title>
</cp:coreProperties>
</file>