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F2A-6A48-49B4-A70F-D9CB4C73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DFE-1D49-4D05-9CBF-805AFB1E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217-B42A-483E-8CBC-A77618F5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B51-86F1-4125-8156-6631378D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B948-2C7F-4460-9FD1-C675C58E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445-2AB5-4C89-8F0E-1431B9A2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6C6D-9FE9-4DEA-B856-02B9BABD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D7F0-9394-4E83-B45E-035DF6E2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BC49-7C84-4B52-9D67-22CC1EDF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BC3A-BBF5-46FF-AE89-A61F9AB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C0C0-D278-48C0-BE8C-A75AF20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295-E301-47EA-9538-165CF4D9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9DAB-7004-4698-B11A-10AB48A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F732-E041-44FA-9147-84A841F7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CD5B-18C0-4016-BEC2-2CCF6C3F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81DD-D14C-40DA-9114-BD501CE5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290E-334E-4924-878C-6DEE1634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819-5D2D-4F79-907F-F4A027EA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5B8-63F6-471C-BD38-6343AF8E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F7F-1048-4ED1-9F00-9ADE08E0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50D-7A3D-4A3D-9C01-9770B3DD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C68-7D16-4D1B-82A8-57A202D2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519-7CFF-4B22-8767-CA13F1D2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F06-B0B5-4229-AAED-D08CB82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AA76-520E-491E-A135-5D54C2558E5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0656-0B60-43BF-BB54-22E90778B78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5560" y="0"/>
            <a:ext cx="76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Arial"/>
              </a:rPr>
              <a:t>Yacimientos de hierro chilen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5280" y="914400"/>
            <a:ext cx="766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Franja Ferrífera Chilena </a:t>
            </a:r>
            <a:r>
              <a:rPr b="0" lang="es-CL" sz="2000" spc="-1" strike="noStrike">
                <a:solidFill>
                  <a:srgbClr val="66ffff"/>
                </a:solidFill>
                <a:latin typeface="Wingdings"/>
                <a:ea typeface="Wingdings"/>
              </a:rPr>
              <a:t>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 Cordillera de la Costa III y IV Reg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7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.2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74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.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000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ton 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de mineral 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producid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en el año 200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Compañía Minera del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 Pacíf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64640" y="0"/>
            <a:ext cx="11556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81108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8620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álculos Geológicos El Romeral"/>
          <p:cNvPicPr/>
          <p:nvPr/>
        </p:nvPicPr>
        <p:blipFill>
          <a:blip r:embed="rId5"/>
          <a:stretch/>
        </p:blipFill>
        <p:spPr>
          <a:xfrm>
            <a:off x="3886200" y="2286000"/>
            <a:ext cx="327672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Minas El Algarrobo"/>
          <p:cNvPicPr/>
          <p:nvPr/>
        </p:nvPicPr>
        <p:blipFill>
          <a:blip r:embed="rId6"/>
          <a:stretch/>
        </p:blipFill>
        <p:spPr>
          <a:xfrm>
            <a:off x="0" y="2286000"/>
            <a:ext cx="3886200" cy="268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80" y="495288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ina El Algarrob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6800" y="22860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ina Romer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intrusión del magma de Fe-P produciría la alteración/ metamorfismo de contacto de las rocas huéspedes formándose actinolita y biotita, escapolita, apatito y magnetita; la clorita sería ya sea del mismo origen o un reemplazo retrógrado de la actinolita y bio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uiz, (1943, 1965) planteó que los yacimientos de hierro son de tipo metamórfico de contacto relacionados genéticamente a intrusiones de granitoides en las rocas volcánicas neocomian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ookstrom (1977): en El Romeral la depositación de la magnetita fue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hidrotermal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 fue acompañada de actinolitización penetrativa, principalmente en el rango de temperatura de 475º-550º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Vivallo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El yacimiento de hierro de El Laco; un depósito de Magnetita-Apatito asociado a un complejo volcánico Pliocen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de hierro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l Laco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 ubica en la Cordillera Principal de la II Región de Antofagasta (23º48’S – 67º30’W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á formado por 7 cuerpos de mena que rodean al Pico Laco, un aparato volcánico andesítico a rio-dacítico que ha sido datado en 2,0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±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,3 Ma (K-Ar roca total; Gardeweg y Ramírez, 1985) y 2,1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±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,1 Ma (trazas de fisión en apatito; Maksaev et al., 1988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e constituye un ejemplo a nivel mundial de mineralización de Fe ligada a actividad volcánic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5880" y="76320"/>
            <a:ext cx="3048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El Laco volcá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Plioceno, 2.1 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Contiene depósi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de magnetita maciz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con apa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Descritos como lavas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intrusivos de magneti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Park, 1961; Henriquez 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l., 1975, 1978, et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yström y Henriquez, 199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aslund et al.,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tos autores plantean u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inobjetable origen volcánico de El La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Sin embargo, Rhodes et al.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1999 y Sillitoe y Burrow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2002, plantean un orige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por reemplazo hidrotermal</a:t>
            </a:r>
            <a:r>
              <a:rPr b="0" lang="es-CL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Yacimientos de Fierro Chilen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yacimientos de hierro chilenos más importantes de Chile se encuentran en la Cordillera de la Costa de las regiones de Atacama y Coquimbo (III y IV Regiones) constituyendo la denominada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Franja Ferrífera de la Cordillera de la Costa o Franja Ferrífera Chile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es una franja longitudinal de depósitos ferríferos que se extiende por más de 600 km, entre las latitudes 26º y 32ºS y que coincide con la posición de una faja de intrusivos del Albiano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(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10-100 Ma; Cretácico Inferior alto) y con la posición de la Zona de Falla de Atacama en su extremo su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27446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9920" y="3049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acimientos de Fierro Chilen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ranja Ferrífera de la Cordillera de la Cos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8600"/>
            <a:ext cx="27432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s minas de Fe chilenas más importantes son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Los Colorado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s: inaugurada en 1998 y ubicada al interior del Valle del Huasco en la III Región con reservas de 245 Mt, ley media de 48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El Algarrob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o: ubicada en la III Región y en explotación desde 1959, reservas medidas alcanzan a 3,6 Mt con 47,5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El Romera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: ubicada en la IV Región, reservas medidas alcanzan a 44,5 Mt con 49,1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Yacimientos Chilen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epósitos de hierro chilenos interpretados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Yacimientos de magnetita-apatito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Ruiz et al., 196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Magnetita hospedada en rocas volcánicas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Cox y Singer, 198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Yacimientos tipo Kiruna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Vivallo y Henríquez, 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cuerpos de menas corresponden principalmente a magnetita masiva y forman lentes o bolsonadas irregulares, pero muchos son vetiformes o mantiformes. Las dimensiones de los principales cuerpos individuales varían entre 100-1000 m de longitud y desde decenas a 200 m de ancho con una extensión vertical que varía desde pocas decenas de metros hasta 650 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3962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spinoza (1990) presentó una clasificación de los yacimientos de Fe chilenos, basado en la forma y rocas encajadoras de los mismos, a saber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Carmen: masas de magnetita aproximadamente lenticulares o de variadas formas y actitudes hospedados por rocas volcánic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Bandurrias: estratos ferríferos intercalados en secuencias sedimentari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Algarrobo: depósitos irregulares emplazados en rocas volcánicas en zonas de contacto con cuerpos intrusivos. Estos son los cuerpos de mayor tamaño y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los únicos en explotación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La Suerte: vetas de magnetita emplazadas en rocas intrusiv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;TimesNewRomanPSMT"/>
              </a:rPr>
              <a:t>Tipo Desvío Norte: depósitos aluviales con rodados (clastos) de mineral de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4168800" cy="5562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62520" y="5489640"/>
            <a:ext cx="5181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1. Andesitas neocomianas y metaandesitas; 2. Rocas sedimentarias del Grupo Chañarcillo; 3. Pseudobrecha con mineralización de baja ley; 4. Cuerpos masivos de alta ley; 5. Dioritas neocomianas del batolito costero con diques andesíticos; 6. Stocks dioríticos y apófisis; 7. Aluvio Plio-Pleistoceno con clastos de magnetita; 8. Aluvi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os depósitos más relevantes desde el punto de vista económico son los de tipo Algarrobo, es decir los depósitos irregulares hospedados por rocas volcánicas o metavolcánicas en la vecindad de cuerpos intrusiv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En estos yacimientos el mineral de mena primario más abundante es la magnetita con especularita subordinada (hematita en hojas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a magnetita ha experimentado oxidación secundaria o martitización en distintos grados, la que en casos extremos ha transformado toda la magnetita a hemat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os minerales de ganga son escasos, principalmente apatito (clorapatito), actinolita y clor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a mena es compacta y dura de color negro, pero en parte tiene textura granular debido a que está constituida por octaedros de magne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andesitas que hospedan a los cuerpos de óxido de hierro presentan coloración gris verdosa oscura o negra y una fuerte alteración/metamorfismo de contacto que incluye: Actinolita, Escapolita, Biotita, Turmalina, Clorita, Clorapatito, Titanita, Escaso granate, Escasa pir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asociación de minerales representa una alteración de alta temperatura que frecuentemente oblitera completamente la textura original de las rocas volcánic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 existen amplios halos externos de rocas blanqueadas con alteración de sílice–arcillas–sericita; estas rocas alteradas frecuentemente presentan anomalías geoquímicas de Cu y Au, con algunas vetas mesotermales menores de magnetita con calcopirita o minerales oxidados de cobre, pero sin yacimientos de relevancia económ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epósitos de hierro de la Franja Ferrífera se localizan dentro del dominio de la Zona de Falla de Atac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gunos cuerpos de mena de Fe presenta control estructural por fallas pertenecientes a este sistema regio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metavolcánicas que constituyen la roca huésped de los cuerpos de magnetita se ubican a corta distancia de cuerpos intrusivos tonalíticos, monzoníticos, dioríticos o granodioríticos; en muchos casos las volcanitas son roof-pendants elongados longitudinalmente e incluidos en los intrusiv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Génesis de la mineralización ferrífera Chilen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xiste una controversia clásica y no concluyente respecto al origen de los depósitos de magnetita-apatito chilen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rivados de cristalización de magmas, magmas de mena de óxido de hierro (Ej. Nyström and Henríquez, 1994, 199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pósitos de reemplazo hidrotermal (metasomático; Ej. Hirtzman et al., 1992; Bookstrom, 199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arados también a depósitos de Fe-P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Tipo Kirun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Suecia), productos de inyección de magmas de ox. Fe (separación de magmas inmiscible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6:05:24Z</dcterms:created>
  <dc:creator>Brian K. Townley</dc:creator>
  <dc:description/>
  <dc:language>en-US</dc:language>
  <cp:lastModifiedBy>Brian</cp:lastModifiedBy>
  <dcterms:modified xsi:type="dcterms:W3CDTF">2005-05-19T05:54:43Z</dcterms:modified>
  <cp:revision>6</cp:revision>
  <dc:subject/>
  <dc:title>Yacimientos de Fierro Chilenos</dc:title>
</cp:coreProperties>
</file>