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7D3-E8DA-44F9-88EB-4585E304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F15-96DB-487C-901D-9F40E2E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917-0784-4136-A3BB-E131DED2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1A2-0E57-4F79-A9A3-43C0434E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452-A281-48AC-88E1-DF48EE36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C22A-B363-4CE5-BA9F-12BC8B3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F410-88AC-4371-AB61-B3FACF4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984A-49C3-4C3D-8CCC-1E3EF66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A8C-9D48-404B-974D-268BB86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888-3438-41AE-A7D9-15BD62D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ECB-3E28-494A-9E0C-422749C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250-2F3B-4D64-82AD-35FE9D7B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5C0B-FFD9-461B-81EE-233AAB0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D89-134A-4B4D-B0E0-6C8A5937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37F6-C93F-45F9-BA62-DDB51B1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05DF-D96A-40D9-B244-A892CC33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66F2-C803-4A6B-B6FC-FE280945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CB0-9B9F-4256-A14E-37F7514C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9C3-4D45-4413-A1B7-A2FFD04E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F1C-1F79-4A7E-83D2-310FD40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027-471E-451E-8008-819DCF6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531-12F8-4EC6-852F-A93EC43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1CE-4F94-4B2C-B5FD-B7CE6B9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FAA-D523-4E17-B845-03DFA4F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08DC-6BC5-44A7-A912-8E5C1A2A689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370-DA45-41BA-A16F-E989888BE51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5560" y="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Arial"/>
              </a:rPr>
              <a:t>Yacimientos de hierro chilen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5280" y="914400"/>
            <a:ext cx="766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Franja Ferrífera Chilena </a:t>
            </a:r>
            <a:r>
              <a:rPr b="0" lang="es-CL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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Cordillera de la Costa III y IV Reg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2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4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ton 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de mineral 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producid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en el año 200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Compañía Minera del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Pacíf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64640" y="0"/>
            <a:ext cx="11556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81108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álculos Geológicos El Romeral"/>
          <p:cNvPicPr/>
          <p:nvPr/>
        </p:nvPicPr>
        <p:blipFill>
          <a:blip r:embed="rId5"/>
          <a:stretch/>
        </p:blipFill>
        <p:spPr>
          <a:xfrm>
            <a:off x="3886200" y="22860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Minas El Algarrobo"/>
          <p:cNvPicPr/>
          <p:nvPr/>
        </p:nvPicPr>
        <p:blipFill>
          <a:blip r:embed="rId6"/>
          <a:stretch/>
        </p:blipFill>
        <p:spPr>
          <a:xfrm>
            <a:off x="0" y="228600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" y="495288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El Algarrob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0" y="22860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Romer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intrusión del magma de Fe-P produciría la alteración/ metamorfismo de contacto de las rocas huéspedes formándose actinolita y biotita, escapolita, apatito y magnetita; la clorita sería ya sea del mismo origen o un reemplazo retrógrado de la actinolita y bio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z, (1943, 1965) planteó que los yacimientos de hierro son de tipo metamórfico de contacto relacionados genéticamente a intrusiones de granitoides en las rocas volcánicas neocomian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ookstrom (1977): en El Romeral la depositación de la magnetita fue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hidrotermal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fue acompañada de actinolitización penetrativa, principalmente en el rango de temperatura de 475º-550º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ivallo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El yacimiento de hierro de El Laco; un depósito de Magnetita-Apatito asociado a un complejo volcánico Pliocen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hierro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l Lac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ubica en la Cordillera Principal de la II Región de Antofagasta (23º48’S – 67º30’W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á formado por 7 cuerpos de mena que rodean al Pico Laco, un aparato volcánico andesítico a rio-dacítico que ha sido datado en 2,0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3 Ma (K-Ar roca total; Gardeweg y Ramírez, 1985) y 2,1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1 Ma (trazas de fisión en apatito; Maksaev et al., 1988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e constituye un ejemplo a nivel mundial de mineralización de Fe ligada a actividad volcánic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76320"/>
            <a:ext cx="3048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l Laco volc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lioceno, 2.1 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tiene depós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 magnetita maciz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 apa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scritos como lava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intrusivos de magnet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ark, 1961; Henriquez 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., 1975, 1978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yström y Henriquez, 199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aslund et al.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os autores plantean u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inobjetable origen volcánico de El La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Sin embargo, Rhodes et al.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1999 y Sillitoe y Burrow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2002, plantean un orig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por reemplazo hidrotermal</a:t>
            </a:r>
            <a:r>
              <a:rPr b="0" lang="es-CL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de Fierro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yacimientos de hierro chilenos más importantes de Chile se encuentran en la Cordillera de la Costa de las regiones de Atacama y Coquimbo (III y IV Regiones) constituyendo la denominada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 o Franja Ferrífera Chile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es una franja longitudinal de depósitos ferríferos que se extiende por más de 600 km, entre las latitudes 26º y 32ºS y que coincide con la posición de una faja de intrusivos del Albiano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(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0-100 Ma; Cretácico Inferior alto) y con la posición de la Zona de Falla de Atacama en su extrem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744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9920" y="304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acimientos de Fierr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2743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s minas de Fe chilenas más importantes so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Colorad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s: inaugurada en 1998 y ubicada al interior del Valle del Huasco en la III Región con reservas de 245 Mt, ley media de 48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Algarrob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: ubicada en la III Región y en explotación desde 1959, reservas medidas alcanzan a 3,6 Mt con 47,5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Romer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: ubicada en la IV Región, reservas medidas alcanzan a 44,5 Mt con 49,1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chilenos interpretado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de magnetita-apatit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Ruiz et al., 196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gnetita hospedada en rocas volcánicas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x y Singer, 198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tipo Kirun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Vivallo y Henríquez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de menas corresponden principalmente a magnetita masiva y forman lentes o bolsonadas irregulares, pero muchos son vetiformes o mantiformes. Las dimensiones de los principales cuerpos individuales varían entre 100-1000 m de longitud y desde decenas a 200 m de ancho con una extensión vertical que varía desde pocas decenas de metros hasta 65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pinoza (1990) presentó una clasificación de los yacimientos de Fe chilenos, basado en la forma y rocas encajadoras de los mismos, a sabe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Carmen: masas de magnetita aproximadamente lenticulares o de variadas formas y actitudes hospedados por rocas volcánic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Bandurrias: estratos ferríferos intercalados en secuencias sedimentari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Algarrobo: depósitos irregulares emplazados en rocas volcánicas en zonas de contacto con cuerpos intrusivos. Estos son los cuerpos de mayor tamaño y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únicos en explotación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La Suerte: vetas de magnetita emplazadas en rocas intrusiv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;TimesNewRomanPSMT"/>
              </a:rPr>
              <a:t>Tipo Desvío Norte: depósitos aluviales con rodados (clastos) de mineral de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4168800" cy="556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2520" y="5489640"/>
            <a:ext cx="5181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1. Andesitas neocomianas y metaandesitas; 2. Rocas sedimentarias del Grupo Chañarcillo; 3. Pseudobrecha con mineralización de baja ley; 4. Cuerpos masivos de alta ley; 5. Dioritas neocomianas del batolito costero con diques andesíticos; 6. Stocks dioríticos y apófisis; 7. Aluvio Plio-Pleistoceno con clastos de magnetita; 8. Aluv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depósitos más relevantes desde el punto de vista económico son los de tipo Algarrobo, es decir los depósitos irregulares hospedados por rocas volcánicas o metavolcánicas en la vecindad de cuerpos intrusiv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En estos yacimientos el mineral de mena primario más abundante es la magnetita con especularita subordinada (hematita en hoja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agnetita ha experimentado oxidación secundaria o martitización en distintos grados, la que en casos extremos ha transformado toda la magnetita a hemat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minerales de ganga son escasos, principalmente apatito (clorapatito), actinolita y clo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ena es compacta y dura de color negro, pero en parte tiene textura granular debido a que está constituida por octaedros de magne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andesitas que hospedan a los cuerpos de óxido de hierro presentan coloración gris verdosa oscura o negra y una fuerte alteración/metamorfismo de contacto que incluye: Actinolita, Escapolita, Biotita, Turmalina, Clorita, Clorapatito, Titanita, Escaso granate, Escasa pir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asociación de minerales representa una alteración de alta temperatura que frecuentemente oblitera completamente la textura original de las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 existen amplios halos externos de rocas blanqueadas con alteración de sílice–arcillas–sericita; estas rocas alteradas frecuentemente presentan anomalías geoquímicas de Cu y Au, con algunas vetas mesotermales menores de magnetita con calcopirita o minerales oxidados de cobre, pero sin yacimientos de relevancia económ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de la Franja Ferrífera se localizan dentro del domini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cuerpos de mena de Fe presenta control estructural por fallas pertenecientes a este sistema regio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metavolcánicas que constituyen la roca huésped de los cuerpos de magnetita se ubican a corta distancia de cuerpos intrusivos tonalíticos, monzoníticos, dioríticos o granodioríticos; en muchos casos las volcanitas son roof-pendants elongados longitudinalmente e incluidos en los intrusi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Génesis de la mineralización ferrífera Chilen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iste una controversia clásica y no concluyente respecto al origen de los depósitos de magnetita-apatit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ados de cristalización de magmas, magmas de mena de óxido de hierro (Ej. Nyström and Henríquez, 1994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pósitos de reemplazo hidrotermal (metasomático; Ej. Hirtzman et al., 1992; Bookstrom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ados también a depósitos de Fe-P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Tipo Kirun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uecia), productos de inyección de magmas de ox. Fe (separación de magmas inmiscib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05:24Z</dcterms:created>
  <dc:creator>Brian K. Townley</dc:creator>
  <dc:description/>
  <dc:language>en-US</dc:language>
  <cp:lastModifiedBy>Brian</cp:lastModifiedBy>
  <dcterms:modified xsi:type="dcterms:W3CDTF">2005-05-19T05:54:43Z</dcterms:modified>
  <cp:revision>6</cp:revision>
  <dc:subject/>
  <dc:title>Yacimientos de Fierro Chilenos</dc:title>
</cp:coreProperties>
</file>