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93C-6B0A-4F86-A94A-75916C78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6B0-AAB8-47F2-AF37-B3BC658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E25-1CEF-4468-B2AA-FEE2170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8FF-8E24-4A3D-8294-5268EF47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6741-9C74-4DB0-BF50-F863D64F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ACD4-FFC4-41EE-AF92-677B98F6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E6EE-1538-4BE0-A478-DD2F82B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DE75-A576-4881-8A03-AF65A35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E8EE-9CE4-469B-9BEC-7AFCDD80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D0E-1B72-4319-B4E5-80D73DF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9366-B6DF-4C09-A3BE-9A1C1C6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998-849D-4168-8B23-8C96CB9F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56D-4971-4731-A3DF-D55BB3E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015E-7E08-4CE1-9969-BFC00EC4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646-692C-469C-942E-AE22DDF9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D990-5CA2-4BE8-BCC2-9D88BAB3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8DB1-8C04-4A3D-8ADB-562765BA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497-E1B5-4595-888F-2EBCDB49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D3B-71EC-45B8-BB7F-0FD83B7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C92-E522-45F6-AF82-1D399E82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DF8-6584-4FF8-9B7F-75ECBAA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632-137F-4D5F-917E-1640150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92C-DA67-4973-B5EF-82D14F9B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BB3-DDDD-44AE-920B-1D5B4D1D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87CD-C74D-4A9A-8F8E-AFCE963391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CE6C-B65A-4453-942B-C4B036641A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8001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Mineralogía: abundantes óxidos de Fe y escasos sulfuros de Fe.  Ambos tipos de depósitos (Fe-P y Fe-Cu-Au) pueden contener abundante carbonato, Ba, P o 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lteración: intensa en rocas encajadoras, asociación depende de la composición de las rocas.  En los de Fe-P: AH sódica a sódica-cálcica, pudiendo gradar hacia arriba a sistemas ricos en hematita asociados con alteración potásica o sericítica (hidrolítica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de Fe-Cu-Au: AH sódico-potásica, potásica o hidrolítica dependiendo del grado de interacción con fluidos meteóricos o connatos.  Las zonas sódicas tienden a ser extensas (de decenas a centenas de km</a:t>
            </a:r>
            <a:r>
              <a:rPr b="0" lang="es-CL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luidos mineralizadores acuosos salinos, oxidados, pobres en azufre y a t°&gt;250°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rofundidad de emplazamiento de la mineralización de 4 a 6 km hasta la superfic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YACIMIENTOS DE ÓXIDOS DE Fe-Cu-Au CHILEN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descubrimiento, a mediados de los ochenta, y posterior explotación de los yacimientos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Candelari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nto Verd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a Cordillera de la Costa de la III Región, ha hecho que este tipo de mineralización cuprífera y aurífera, ligada a minerales de hierro, adquiriera notable importancia económica y atracción por su exploració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Candelaria se ubica 4 km al SW del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Distrito Punta del Cobr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onde existen varios yacimientos de óxido-Fe-Cu-(Au) conocidos desde el Siglo 17, incluyendo vetas, cuerpos tabulares o lentiformes, stockworks y estratoligados (Marschik and Fonboté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ue descubierto en 1987 por la compañía minera Phelps Dodge y actualmente se explota mediante rajos abiertos procesando 28.000 t de mineral por d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mineralizados son mantiformes o lenticulares hospedados por los niveles inferiores de tobas y andesitas de la Formación Punta del Cobre del Jurásico Superior a Cretácico Inferior. Los cuerpos mineralizados se extienden aproximadamente por 2.000 m en sentido N-S, con un ancho de 600 m y una potencia acumulada de más de 350 m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eservas mineras en 1995 alcanzaban a 366 Mt con 1,08 % Cu y 0,26 g/t Au (Ryan et al., 1995).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86400" y="615636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1. Mapa geológico de are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Candelaria-Punta del Cob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9560" y="380880"/>
            <a:ext cx="358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: The Candelaria-Pun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l Cobre iron oxide copper-g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posits, Chile. Geologic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Society of Americ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Abstracts with Programs, A-37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2819520"/>
            <a:ext cx="333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Distrito Punta del Cobre 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yacimiento La Candelaria 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ocalizan a 20 km al sur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piap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99280" y="6156360"/>
            <a:ext cx="73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2. Sección esquemática desde Batolito Copiapo hasta el distri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Punta del Cobre. Posición estratigráfica de depósitos es mostra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680" y="56102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Marschik, R. and Leveille, R.A. (199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56768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67080" y="579132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modificado de Martin et al. 1997)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4400" y="53352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tratigrafía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andela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1960" y="251460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stribución de l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pos de alte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7080" y="480060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osición del cuer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eraliz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7160" y="4479840"/>
            <a:ext cx="48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470 Mt @ 0.95% Cu, 0.22 g/t Au; 0.22 g/t A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48960" y="1409760"/>
            <a:ext cx="20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5791320"/>
            <a:ext cx="52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a Candelaria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SW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404640"/>
            <a:ext cx="7932600" cy="523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27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1040" y="5638680"/>
            <a:ext cx="885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típica en la mina Candelaria. Chalcopirita-piri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esta superpuesta a roca con intenso metasomatismo de Fe (magneti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Volcánicas - volcanoclást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374760"/>
            <a:ext cx="7924680" cy="526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89160" y="586728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con calcopirita-pirita de rumbo NN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ndelaria, Raj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consiste en magnetita, calcopirita y pirita subordinada (la proporción de calcopirita/pirita es de 5/1); en la parte superior del depósito se presenta pirrotina en vez de pi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oro se presenta en granos cuyo tamaño es de pocos micrones. Electrum rico en Au contenido en la estructura interna de calcopirita y en menor medida en pirita; los minerales de mena se presentan en venillas, rellenos de brechas y diseminación en rocas volcánicas intensamente alterad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 de la mineralización de Candelaria fueron afectadas por una alteración potásica temprana que se caracterizó por una biotitización penetrativa con introducción menor de feldespato-K y depositación de magnetita y apatito en las roca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Times New Roman"/>
              </a:rPr>
              <a:t>Candelaria: Mineralización y Alteració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lan amplio y no muy bien definido de depósitos minerales caracterizados primariamente por su contenido de magnetita y hematita (especularit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resentes en una variedad de ambientes tectono-magmát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explotan por Cu, con Au como subproducto.  Pueden contener Co, U, REE, Mo, Zn, Ag, entre ot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faja más joven de estos depósitos está en la Cordillera de la Costa del N de Chile y S de Perú. Jurásico-Cretácico Inferi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xiste actualmente gran interés en la exploración de este tipo de depósitos ya que constituyen blancos potencialmente rentables por Cu y 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posterior (sobreimpuesta) de alteración sódico-cálcica caracterizada por la asociación actinolita, escapolita y albita más la formación de hornblenda y hedenbergita e introducción principalmente de calcopirita y de otros sulfuros muy subordinados (en Candelaria se ha descrito la presencia de: pirita, pirrotina, marcasita, esfalerita, galena, cubanita, arsenopirita y molibdenita, pero estos sulfuros son proporcionalmente menores y el único mineral relevante de cobre es la calcopirita que constituye lejos el sulfuro dominante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retrógrada caracterizada por anfíbola, clorita, epidota, clinozoicita y sericita menor afectó el conjunto y finalmente ocurrió la introducción tardía de feldespato-K (post-mineralización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os niveles sobreyacentes al yacimiento Candelaria (que corresponden a rocas sedimentarias carbonatadas neocomianas del Grupo Chañarcillo) se presenta alteración de tipo skarn de andradita-diópsido, asociado con depósitos de tipo skarn de cobre, que constituyen cuerpos mantiformes menores como los explotados en las minas Lar y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existencia de dicha mineralización de cobre es lo que llevó a explorar el área y al posterior descubrimiento del depósito mayor subyacente hospedado por rocas volcánic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1800" y="57913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trito Punta del Cobre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e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477120" y="510696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5080" y="3581280"/>
            <a:ext cx="32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arschik, R. &amp;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1998)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372960"/>
            <a:ext cx="7238880" cy="496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548640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estratiforme sobre el contacto rocas volcanicas/ sedimentarias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0520" y="579132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chalcopirita-pirita (Mina Socavón Rampa-Trinidad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419040"/>
            <a:ext cx="7925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152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37120" y="541008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Brecha con fragmentos de rocas volcánicas en un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atriz de chalcopirita-pirita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411440" cy="653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71160" y="2743200"/>
            <a:ext cx="37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de magnetita masiva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ntacto con veta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lcopirita-pir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sta relación espacial ilu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lación espacial entre 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tapas distintas separada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-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(Mina Carol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97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6720" y="563868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cuencia paragenética preliminar de mineralización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ncipales eventos de alter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7920" y="5299200"/>
            <a:ext cx="41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 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Edades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temprana plateau 116.51 ± 0.26 Ma (Marschick y Fonboté, 2001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asociada a calcopirita-pirita plateau 115.14 ± 0.18 Ma (Marschik y Fontboté, 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etapa temprana fusión total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114.9±1.0 Ma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Leveille, 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iotita temprana asociada a metasomatismo de magnetita 114.2 ± 0.8 y 114.1 ± 0.7 Ma (Ulrich y Clark, 1999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Biotita 111.0 ± 1.7 Ma; 110.7 ± 1.6 Ma : edad de mineralización coincidente con deformación de cizalle dúctil de rocas y menas (Arévalo et al., 200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Anfíbola relacionada a calcopirita 111.7 ± 0.8 Ma (Ulrich y Clark, 1999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Re/Os Molibdenita 114.2 ± 0.6 y 115.2 ± 0.6 Ma: edad de mineralización;  las edades de 110 a 112 Ma deben corresponder a un evento más joven de alteración o mineralización (Mathur et al., 2002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6720" y="1843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acimientos de Fe-apati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Ox. Fe-Cu-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760" y="61722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Sillitoe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20440" y="1600200"/>
            <a:ext cx="36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llitoe (2003) plantea 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os depósitos de 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y los de Ox. Fe-Cu-A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ertenecen a un mismo cl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depósitos en el que lo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e-apatito representan u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embro extremo defic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n Cu (¿transición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5960" y="4724280"/>
            <a:ext cx="365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ero todavía hay controvers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bre el origen de los yacimien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 Fe-apatito y también respec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 tipo de fluidos que originan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 Fe-Cu-A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agmático vs de cuen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gran tamaño del depósito, su profusa mineralización, su alteración potásica temprana, mineralogía simple, limitado conjunto de metales contenidos y su abundante apatito recristalizado sugieren que la mineralización original puede haber estado relacionada a un sistema de pórfido emplazado en la pila de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, la ausencia de un intrusivo relacionado a la mineralización, la forma tabular mantiforme del depósito y la abundancia de magnetita son rasgos atípicos de depósitos de tipo pórfido cuprífero. Sin embargo, algunas de estas características de Candelaria están presentes en pórfidos de Cu-Au relacionados a intrusivos alcalinos en British Columbia, Canadá (Lang et al., 1995) y también con el depósito proterozoico australiano de Olympic Dam (Oreskes y Hirtzman, 1993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Clasificación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or otra parte, Candelaria se ubica en la porción oriental de la Faja Ferrífera Chilena, tiene una edad similar a la mineralización de magnetita-apatito de esta faja e incluye la presencia de abundante magnetita (10 a 15 % de la mena) y apatito recristalizad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secuentemente puede considerarse también como un yacimiento de hierro que tuvo adiciones paragenéticamente tardías de cobre y oro (Ej. Sillitoe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 expuesto anteriormente ha llevado a considerar a Candelaria como un depósito intermedio entre depósitos de tipo magnetita-apatito y pórfidos cupríferos (Marschik y Fonboté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realidad el yacimiento Candelaria es un depósito de origen metasomático con particularidades que lo hacen uno en su tipo, de modo que perfectamente podría calificarse como una mineralización de óxido-Fe-Cu-Au “Tipo Candelaria”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Manto Ver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cobre Manto Verde se localiza 32 km al SE de Chañaral dentr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está hospedada en rocas cataclásticas andesíticas e intrusivas (pórfido diorítico) del Cretácico Inferior, existiendo tres unidades de brechas paralelas a la Falla Manto Verde que tiene rumbo NNW y manteo de 40º-50º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corresponde a una estructura subsidiaria de 12 km de longitud presente entre dos fallas maestras N-S del sistema de Falla de Atacam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353880"/>
          <a:ext cx="4219560" cy="65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3880"/>
                    <a:ext cx="421956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875120" y="482760"/>
            <a:ext cx="42483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Mina Manto Ver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32 km SE de Chaña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Brechas con matriz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pecularita y miner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oxidados de Cu en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ubsidiaria de Sistema de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Atac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oxidado 120 Mt @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0.72% Cu (ley de corte 0.2% C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servas 85 Mt @ 0.8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&gt;400 Mt @ 0.5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sulfuros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39320" cy="5116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0948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fal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9320"/>
            <a:ext cx="152280" cy="14475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0840" y="6094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14040" y="1295280"/>
            <a:ext cx="304920" cy="9907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97160" y="38088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ricita- carbon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obreimpuestos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icroclina-clor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4560" y="457200"/>
            <a:ext cx="248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volvente de mine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ey de corte 0.4% C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oxidado y sulfu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9120" y="57531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Vila et al., 19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Manto Ver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Brechas con abundante especularita con minerales oxidados de Cu hasta 200 m de profundidad.  Mineral primario en profundidad con magnetita, calcopirita y pirita (Cpy/Py = 5/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Sulfuros depositados al mismo tiempo y posteriores a especularita (Mgt en profundidad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xistían cuerpos vetiformes de mayor ley de Cu-Au que fueron explotados en forma subterránea previo a la operación a rajo abierto desde 199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e explotan 15.000 t/día con lixiviación en pilas y electroobtención de C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Inclusiones fluidas indican fluidos a ~180°-250°C y evidencias de ebullición, sugerente de condiciones hidrostáticas durante la mineralización y relativamente poca profundidad.  La salinidad era alta (30-50% NaCl eq.) sugerente de fluidos de origen magmático.  Manto Verde sería más somero que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s rocas en Manto Verde fueron afectadas por una alteración potásica con entrecrecimiento de microclina y clorita, con cuarzo y hematita.  En parte de las brechas la asociación anterior está alterada a sericita y arcillas, con más especularita, cuarzo y turmalina finamente diseminada.  Además, vetilleo tardío de calcita.  La alteración hidrolítica (sericita, arcillas) es también una diferencia con Candelaria donde ésta prácticamente no exis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es K-Ar 121 a 117 Ma (Aptiano) en andesitas y diques alterados (Vila et al.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Hipótesis sobre el origen de los depósitos de óxidos-Fe-Cu-Au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os depósitos de óxido-Fe-Cu-Au pertenecen a una clase de depósitos caracterizados por abundante mineralización de Fe, pero pobre en Ti, conocida como depósitos de óxido-Fe de clase (Cu-U-Au-REE) o clasificados como depósitos de Cu-Au con bajo contenido de azufre (Ej., Hirtzman et al., 1992, Barton and Johnson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relación genética con rocas plutónicas contemporáneas es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 bien el origen hidrotermal metasomático no se discute, la fuente de fluidos es también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autores favorecen fluidos de origen hidrotermal-magmático (Ej. ., Gow et al., 1994, Rotherham et al., 1998, Williams, 1998, Williams et al., 1999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ientras que otros proponen fluidos derivados de evaporitas y movilizados termalmente para lixiviar y redepositar metales y azufre (Battles and Barton, 1995, Barton and Johnson, 1996, Barton et al., 1998, Ulrich and Clark, 199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tro modelo genético intenta relacionar entre sí los depósitos Cretácicos de magnetita-apatito, óxido-Fe-Cu-Au y estratoligados de Cu (Ag) hospedados en rocas volcánicas, donde se consideran como distintos niveles de emplazamiento y liberación de fluidos hidrotermales desde intrusiones de magma de Fe-P, siguiendo básicamente el modelo de inyección de magmas de mena tipo Kiruna (Vivallo and Henriquez, 1997, Gelcich, 1999, Nyström and Henríquez, 1994, 1995, Naslund et al., 200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850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7240" y="457200"/>
            <a:ext cx="8291520" cy="61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Olympic Dam, Australia </a:t>
            </a:r>
            <a:r>
              <a:rPr b="0" lang="es-C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 Descubierto en 197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Yacimiento de óx.Fe-Cu-U-Au-R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2000 Mt 1.6% Cu, 0.06% U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8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, 0.6 g/t Au, 3.5 g/t 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1983 las labores mineras abrieron Olympic Dam mostrando qu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trata de un “complejo de brecha hidrotermal” rico en óxido de F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(hematita).  Edad 1.588 ± 5 Ma (Proterozoico Medio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llevó al reconocimiento de los depósitos de óxidos Fe-Cu-Au co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una clase aparte y produjo el subsecuente interés de explor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onduciendo al hallazgo d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andelaria, Chile (1987) Phelps Do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Manto Verde, Chile (1988) Anglo American (Mantos Blan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atos de inclusiones fluidas de Manto Verde indican temperaturas menores de formación (180º-320ºC) y ebullición de los fluidos hidrotermales durante la mineralización (Vila et al.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n embargo, estos autores favorecen un origen magmático-hidrotermal y plantean un origen similar para los depósitos de magnetita-apatito de la Franja Ferrifera Chilen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nto Verde es visto por Vila et al. (1996) como un miembro extremo rico en cobre de un continuo de depósitos que se extiende desde los depósitos de magnetita-apatito pobres en cobre en el otro extrem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2360" y="684360"/>
            <a:ext cx="822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Actualmente están en produc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Olympic Dam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Candelaria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Manto Verde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Estos depósitos contribuyen con &lt;5% del Cu  y &lt;1% Au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la producción mundial, pero en Chile son actualmente l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segundos en producción cuprífera despúes de los pórf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cupíf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stán en desarroll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680" y="1112760"/>
            <a:ext cx="87552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212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37080" y="498600"/>
            <a:ext cx="371484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pósitos de Ox.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y de Ox.Fe-Cu-Au ocur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n distintos 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tectónicos (distintos tipos?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otar que en todos los esquem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Fe-Cu-Au son má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meros que los de Ox. Fe-apati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 Chile los depósitos est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igados a un arco magmá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relacionado a subdu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del Cretácico Inferior y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Volcanismo Neógen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andelaria en posi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de tras-arco; en 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uenca Chañarcil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66"/>
                </a:solidFill>
                <a:latin typeface="Times New Roman"/>
              </a:rPr>
              <a:t>Características Generales de los yacimientos de óx.Fe-Cu-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Relación con plutones y sistemas de falla. Espacial y temporal.  Algunos en fallas subsidiarias de sistemas reg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Formas: vetas, brechas hidrotermales, mantos de reemplazo, skarn cálcicos y combinaci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lteraciones: Sódica, cálcica, potás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Zonación hacia el exterior y hacia arriba desde magnetita-actinolita-apatita a especularita-clorita-serici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Signatura geoquímica de Cu-Au-Co-Ni-As-Mo-U-(LRE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dos a plutones dioríticos oxidados. Aunque en algunos yacimientos de Ox. Fe-Cu-Au no parecen tener relación directa con intrusivos específicos al nivel de mineralización, Ej.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 Proterozoico a Plioceno; en Chile los depósitos económicos son del Cretácico Inferior, pero también hay depósitos ferríferos asociados a volcanes del Mioceno Superior – Plioceno (El Laco, Incahuasi, Magnetita Pederna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ción con evaporitas con halita marina o lacustre en muchos distritos.  Barton y Johnsons (1996) propusieron un modelo en que las fluidos y azufre provenientes de secuencias de evaporitas calentadas por una masa ígnea serían la fuente de los fluidos hidrotermales para generar depósitos de Ox. Fe-Cu-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6:05:28Z</dcterms:created>
  <dc:creator>Brian K. Townley</dc:creator>
  <dc:description/>
  <dc:language>en-US</dc:language>
  <cp:lastModifiedBy>Brian</cp:lastModifiedBy>
  <dcterms:modified xsi:type="dcterms:W3CDTF">2005-05-19T04:05:45Z</dcterms:modified>
  <cp:revision>2</cp:revision>
  <dc:subject/>
  <dc:title>YACIMIENTOS DE ÓXIDOS DE Fe-Cu-Au CHILENOS</dc:title>
</cp:coreProperties>
</file>