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83D-66F8-41E2-9F2B-161D720A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F7E-611B-4236-B289-199505C4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37A-A59E-412F-8704-424BABB4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898-3543-424C-B260-C5EFB3C7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0874-8C5C-4714-9BEC-0107A588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EC0F-1407-4368-A169-A75595E2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47C3-DD1F-4F55-A1AF-646D38CB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511F-3BF4-4A10-A6E4-3395D190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BA13-E108-4FB4-AAB0-A74E53AD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5F62-0855-461D-958C-CBD9E9EE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79C7-041F-4AFB-9762-80365609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AD1-9430-4DAA-A7C3-764BB575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E6D6-8410-4D98-804C-609D17BD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8681-AFE8-409D-973A-00B868B7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112E-AA5E-406A-BC64-07F21C62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4EA9-D412-4432-A8BA-17CF4009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4F15-263B-4A12-89BE-C622EF27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512-209F-40C1-8EFA-B1F9399F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E5D-2032-4471-853F-AECC062B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7F65-A61A-43E8-8C01-4D8AE86D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3323-7248-43A5-8F84-C9CE48BC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BD5-9D41-486C-9715-67E77D40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BAE-9CBA-4BF6-AE29-A0296CC0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7A2-E277-44BC-BF08-A60CFD06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0633-1B0E-46FB-BE3D-A54418DE3D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5FD2-4F49-4279-B329-786FFC4EE72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ffff66"/>
                </a:solidFill>
                <a:latin typeface="Times New Roman"/>
              </a:rPr>
              <a:t>Yacimientos de óxidos Fe-Cu-Au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457200"/>
            <a:ext cx="8001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Mineralogía: abundantes óxidos de Fe y escasos sulfuros de Fe.  Ambos tipos de depósitos (Fe-P y Fe-Cu-Au) pueden contener abundante carbonato, Ba, P o F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Alteración: intensa en rocas encajadoras, asociación depende de la composición de las rocas.  En los de Fe-P: AH sódica a sódica-cálcica, pudiendo gradar hacia arriba a sistemas ricos en hematita asociados con alteración potásica o sericítica (hidrolítica)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os de Fe-Cu-Au: AH sódico-potásica, potásica o hidrolítica dependiendo del grado de interacción con fluidos meteóricos o connatos.  Las zonas sódicas tienden a ser extensas (de decenas a centenas de km</a:t>
            </a:r>
            <a:r>
              <a:rPr b="0" lang="es-CL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Fluidos mineralizadores acuosos salinos, oxidados, pobres en azufre y a t°&gt;250°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Profundidad de emplazamiento de la mineralización de 4 a 6 km hasta la superfic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YACIMIENTOS DE ÓXIDOS DE Fe-Cu-Au CHILENO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descubrimiento, a mediados de los ochenta, y posterior explotación de los yacimientos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Candelaria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y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Manto Verde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la Cordillera de la Costa de la III Región, ha hecho que este tipo de mineralización cuprífera y aurífera, ligada a minerales de hierro, adquiriera notable importancia económica y atracción por su exploración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yacimiento Candelaria se ubica 4 km al SW del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Distrito Punta del Cobre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onde existen varios yacimientos de óxido-Fe-Cu-(Au) conocidos desde el Siglo 17, incluyendo vetas, cuerpos tabulares o lentiformes, stockworks y estratoligados (Marschik and Fonboté, 1996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Candelari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ue descubierto en 1987 por la compañía minera Phelps Dodge y actualmente se explota mediante rajos abiertos procesando 28.000 t de mineral por dí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cuerpos mineralizados son mantiformes o lenticulares hospedados por los niveles inferiores de tobas y andesitas de la Formación Punta del Cobre del Jurásico Superior a Cretácico Inferior. Los cuerpos mineralizados se extienden aproximadamente por 2.000 m en sentido N-S, con un ancho de 600 m y una potencia acumulada de más de 350 m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reservas mineras en 1995 alcanzaban a 366 Mt con 1,08 % Cu y 0,26 g/t Au (Ryan et al., 1995).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51609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486400" y="615636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Figure 1. Mapa geológico de are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Candelaria-Punta del Cob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9560" y="380880"/>
            <a:ext cx="358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arschik, R. and Leveille, R.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(1998): The Candelaria-Punt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del Cobre iron oxide copper-g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deposits, Chile. Geological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Society of America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Abstracts with Programs, A-37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2819520"/>
            <a:ext cx="333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l Distrito Punta del Cobre 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l yacimiento La Candelaria 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localizan a 20 km al sur 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Copiapó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0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99280" y="6156360"/>
            <a:ext cx="736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Figure 2. Sección esquemática desde Batolito Copiapo hasta el distri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Punta del Cobre. Posición estratigráfica de depósitos es mostrad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5680" y="5610240"/>
            <a:ext cx="49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Times New Roman"/>
              </a:rPr>
              <a:t>Marschik, R. and Leveille, R.A. (1998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56768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267080" y="5791320"/>
            <a:ext cx="20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modificado de Martin et al. 1997)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4400" y="533520"/>
            <a:ext cx="30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stratigrafía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Candela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1960" y="2514600"/>
            <a:ext cx="25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istribución de l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Tipos de alter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hidroterm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7080" y="4800600"/>
            <a:ext cx="25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Posición del cuer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neraliz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7160" y="4479840"/>
            <a:ext cx="48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3300"/>
                </a:solidFill>
                <a:latin typeface="Times New Roman"/>
              </a:rPr>
              <a:t>470 Mt @ 0.95% Cu, 0.22 g/t Au; 0.22 g/t A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48960" y="1409760"/>
            <a:ext cx="200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arschik, R. an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Leveille, R.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(1998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7080" y="5791320"/>
            <a:ext cx="52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a Candelaria desde Sierra El Bronc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Vista hacia el SW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" y="404640"/>
            <a:ext cx="7932600" cy="5234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477120" y="4876920"/>
            <a:ext cx="2666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5271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1040" y="5638680"/>
            <a:ext cx="885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ineralización típica en la mina Candelaria. Chalcopirita-pirit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ineralización esta superpuesta a roca con intenso metasomatismo de Fe (magneti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Volcánicas - volcanoclást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374760"/>
            <a:ext cx="7924680" cy="5263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89160" y="5867280"/>
            <a:ext cx="550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Veta con calcopirita-pirita de rumbo NN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andelaria, Rajo Su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mineralización consiste en magnetita, calcopirita y pirita subordinada (la proporción de calcopirita/pirita es de 5/1); en la parte superior del depósito se presenta pirrotina en vez de pirit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oro se presenta en granos cuyo tamaño es de pocos micrones. Electrum rico en Au contenido en la estructura interna de calcopirita y en menor medida en pirita; los minerales de mena se presentan en venillas, rellenos de brechas y diseminación en rocas volcánicas intensamente alterad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rocas volcánicas huésped de la mineralización de Candelaria fueron afectadas por una alteración potásica temprana que se caracterizó por una biotitización penetrativa con introducción menor de feldespato-K y depositación de magnetita y apatito en las rocas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66"/>
                </a:solidFill>
                <a:latin typeface="Times New Roman"/>
              </a:rPr>
              <a:t>Candelaria: Mineralización y Alteración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ffff66"/>
                </a:solidFill>
                <a:latin typeface="Times New Roman"/>
              </a:rPr>
              <a:t>Yacimientos de óxidos Fe-Cu-A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7524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Clan amplio y no muy bien definido de depósitos minerales caracterizados primariamente por su contenido de magnetita y hematita (especularita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Presentes en una variedad de ambientes tectono-magmátic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e explotan por Cu, con Au como subproducto.  Pueden contener Co, U, REE, Mo, Zn, Ag, entre otr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La faja más joven de estos depósitos está en la Cordillera de la Costa del N de Chile y S de Perú. Jurásico-Cretácico Inferi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xiste actualmente gran interés en la exploración de este tipo de depósitos ya que constituyen blancos potencialmente rentables por Cu y A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una etapa posterior (sobreimpuesta) de alteración sódico-cálcica caracterizada por la asociación actinolita, escapolita y albita más la formación de hornblenda y hedenbergita e introducción principalmente de calcopirita y de otros sulfuros muy subordinados (en Candelaria se ha descrito la presencia de: pirita, pirrotina, marcasita, esfalerita, galena, cubanita, arsenopirita y molibdenita, pero estos sulfuros son proporcionalmente menores y el único mineral relevante de cobre es la calcopirita que constituye lejos el sulfuro dominante)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Una etapa retrógrada caracterizada por anfíbola, clorita, epidota, clinozoicita y sericita menor afectó el conjunto y finalmente ocurrió la introducción tardía de feldespato-K (post-mineralización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160" y="6858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los niveles sobreyacentes al yacimiento Candelaria (que corresponden a rocas sedimentarias carbonatadas neocomianas del Grupo Chañarcillo) se presenta alteración de tipo skarn de andradita-diópsido, asociado con depósitos de tipo skarn de cobre, que constituyen cuerpos mantiformes menores como los explotados en las minas Lar y El Bronc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existencia de dicha mineralización de cobre es lo que llevó a explorar el área y al posterior descubrimiento del depósito mayor subyacente hospedado por rocas volcánic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410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1800" y="579132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Distrito Punta del Cobre desde Sierra El Bronc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Vista hacia el es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477120" y="5106960"/>
            <a:ext cx="2666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6888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635080" y="3581280"/>
            <a:ext cx="327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Marschik, R. &amp; Leveille, R.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(1998)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372960"/>
            <a:ext cx="7238880" cy="4961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548640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eralización estratiforme sobre el contacto rocas volcanicas/ sedimentarias (Mina Socavón Rampa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90520" y="5791320"/>
            <a:ext cx="85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eralización chalcopirita-pirita (Mina Socavón Rampa-Trinidad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480" y="419040"/>
            <a:ext cx="79250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3152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37120" y="5410080"/>
            <a:ext cx="66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Brecha con fragmentos de rocas volcánicas en un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atriz de chalcopirita-pirita (Mina Socavón Rampa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411440" cy="6537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871160" y="2743200"/>
            <a:ext cx="37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Veta de magnetita masiva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ontacto con veta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alcopirita-piri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sta relación espacial ilust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la relación espacial entre d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tapas distintas separadas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eralización-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(Mina Carola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973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06720" y="5638680"/>
            <a:ext cx="69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ecuencia paragenética preliminar de mineralización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principales eventos de alter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27920" y="5299200"/>
            <a:ext cx="41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arschik, R. and Leveille, R.A. (1998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66"/>
                </a:solidFill>
                <a:latin typeface="Times New Roman"/>
              </a:rPr>
              <a:t>Edades para Candelari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 Biotita temprana plateau 116.51 ± 0.26 Ma (Marschick y Fonboté, 2001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 Biotita asociada a calcopirita-pirita plateau 115.14 ± 0.18 Ma (Marschik y Fontboté, 200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 Biotita etapa temprana fusión total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114.9±1.0 Ma 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arschik 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Leveille, 1998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Biotita temprana asociada a metasomatismo de magnetita 114.2 ± 0.8 y 114.1 ± 0.7 Ma (Ulrich y Clark, 1999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66ffff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66ffff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r Biotita 111.0 ± 1.7 Ma; 110.7 ± 1.6 Ma : edad de mineralización coincidente con deformación de cizalle dúctil de rocas y menas (Arévalo et al., 2000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66ffff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66ffff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r Anfíbola relacionada a calcopirita 111.7 ± 0.8 Ma (Ulrich y Clark, 1999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Re/Os Molibdenita 114.2 ± 0.6 y 115.2 ± 0.6 Ma: edad de mineralización;  las edades de 110 a 112 Ma deben corresponder a un evento más joven de alteración o mineralización (Mathur et al., 2002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21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56720" y="184320"/>
            <a:ext cx="36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66"/>
                </a:solidFill>
                <a:latin typeface="Times New Roman"/>
              </a:rPr>
              <a:t>Yacimientos de Fe-apatit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66"/>
                </a:solidFill>
                <a:latin typeface="Times New Roman"/>
              </a:rPr>
              <a:t>Ox. Fe-Cu-A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2760" y="617220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3300"/>
                </a:solidFill>
                <a:latin typeface="Times New Roman"/>
              </a:rPr>
              <a:t>Sillitoe, 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20440" y="1600200"/>
            <a:ext cx="367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illitoe (2003) plantea q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los depósitos de Fe-apat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y los de Ox. Fe-Cu-Au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pertenecen a un mismo cla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e depósitos en el que los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Fe-apatito representan u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embro extremo defici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n Cu (¿transición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85960" y="4724280"/>
            <a:ext cx="365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Pero todavía hay controvers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sobre el origen de los yacimien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de Fe-apatito y también respec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l tipo de fluidos que originan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los de Ox. Fe-Cu-A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Magmático vs de cuenc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gran tamaño del depósito, su profusa mineralización, su alteración potásica temprana, mineralogía simple, limitado conjunto de metales contenidos y su abundante apatito recristalizado sugieren que la mineralización original puede haber estado relacionada a un sistema de pórfido emplazado en la pila de rocas volcánic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rocas volcánicas huésped, la ausencia de un intrusivo relacionado a la mineralización, la forma tabular mantiforme del depósito y la abundancia de magnetita son rasgos atípicos de depósitos de tipo pórfido cuprífero. Sin embargo, algunas de estas características de Candelaria están presentes en pórfidos de Cu-Au relacionados a intrusivos alcalinos en British Columbia, Canadá (Lang et al., 1995) y también con el depósito proterozoico australiano de Olympic Dam (Oreskes y Hirtzman, 1993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66"/>
                </a:solidFill>
                <a:latin typeface="Times New Roman"/>
              </a:rPr>
              <a:t>Clasificación para Candelari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or otra parte, Candelaria se ubica en la porción oriental de la Faja Ferrífera Chilena, tiene una edad similar a la mineralización de magnetita-apatito de esta faja e incluye la presencia de abundante magnetita (10 a 15 % de la mena) y apatito recristalizado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nsecuentemente puede considerarse también como un yacimiento de hierro que tuvo adiciones paragenéticamente tardías de cobre y oro (Ej. Sillitoe, 1996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 expuesto anteriormente ha llevado a considerar a Candelaria como un depósito intermedio entre depósitos de tipo magnetita-apatito y pórfidos cupríferos (Marschik y Fonboté, 1996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realidad el yacimiento Candelaria es un depósito de origen metasomático con particularidades que lo hacen uno en su tipo, de modo que perfectamente podría calificarse como una mineralización de óxido-Fe-Cu-Au “Tipo Candelaria”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Manto Verd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yacimiento de cobre Manto Verde se localiza 32 km al SE de Chañaral dentro de la Zona de Falla de Atacam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mineralización está hospedada en rocas cataclásticas andesíticas e intrusivas (pórfido diorítico) del Cretácico Inferior, existiendo tres unidades de brechas paralelas a la Falla Manto Verde que tiene rumbo NNW y manteo de 40º-50º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 corresponde a una estructura subsidiaria de 12 km de longitud presente entre dos fallas maestras N-S del sistema de Falla de Atacam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80880" y="353880"/>
          <a:ext cx="4219560" cy="650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3880"/>
                    <a:ext cx="4219560" cy="65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875120" y="482760"/>
            <a:ext cx="424836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66"/>
                </a:solidFill>
                <a:latin typeface="Times New Roman"/>
              </a:rPr>
              <a:t>Mina Manto Ver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3300"/>
                </a:solidFill>
                <a:latin typeface="Times New Roman"/>
              </a:rPr>
              <a:t>32 km SE de Chaña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Brechas con matriz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specularita y miner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oxidados de Cu en fa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ubsidiaria de Sistema de Fa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e Atac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Recurso de oxidado 120 Mt @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0.72% Cu (ley de corte 0.2% C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Reservas 85 Mt @ 0.82% C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&gt;400 Mt @ 0.52% C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Recurso de sulfuros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39320" cy="5116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09480"/>
            <a:ext cx="120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Brecha 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fall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219320"/>
            <a:ext cx="152280" cy="144756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0840" y="60948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Brech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hidroterm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914040" y="1295280"/>
            <a:ext cx="304920" cy="9907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97160" y="380880"/>
            <a:ext cx="211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Sericita- carbona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sobreimpuestos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microclina-clori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4560" y="457200"/>
            <a:ext cx="248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nvolvente de mine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ley de corte 0.4% Cu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oxidado y sulfura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39120" y="575316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Vila et al., 199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66"/>
                </a:solidFill>
                <a:latin typeface="Times New Roman"/>
              </a:rPr>
              <a:t>Manto Verd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Brechas con abundante especularita con minerales oxidados de Cu hasta 200 m de profundidad.  Mineral primario en profundidad con magnetita, calcopirita y pirita (Cpy/Py = 5/1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66ffff"/>
                </a:solidFill>
                <a:latin typeface="Times New Roman"/>
              </a:rPr>
              <a:t>Sulfuros depositados al mismo tiempo y posteriores a especularita (Mgt en profundidad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Existían cuerpos vetiformes de mayor ley de Cu-Au que fueron explotados en forma subterránea previo a la operación a rajo abierto desde 1995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Se explotan 15.000 t/día con lixiviación en pilas y electroobtención de Cu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609480"/>
            <a:ext cx="84582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Inclusiones fluidas indican fluidos a ~180°-250°C y evidencias de ebullición, sugerente de condiciones hidrostáticas durante la mineralización y relativamente poca profundidad.  La salinidad era alta (30-50% NaCl eq.) sugerente de fluidos de origen magmático.  Manto Verde sería más somero que Candelar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Las rocas en Manto Verde fueron afectadas por una alteración potásica con entrecrecimiento de microclina y clorita, con cuarzo y hematita.  En parte de las brechas la asociación anterior está alterada a sericita y arcillas, con más especularita, cuarzo y turmalina finamente diseminada.  Además, vetilleo tardío de calcita.  La alteración hidrolítica (sericita, arcillas) es también una diferencia con Candelaria donde ésta prácticamente no exis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Edades K-Ar 121 a 117 Ma (Aptiano) en andesitas y diques alterados (Vila et al., 1996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Hipótesis sobre el origen de los depósitos de óxidos-Fe-Cu-Au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os depósitos de óxido-Fe-Cu-Au pertenecen a una clase de depósitos caracterizados por abundante mineralización de Fe, pero pobre en Ti, conocida como depósitos de óxido-Fe de clase (Cu-U-Au-REE) o clasificados como depósitos de Cu-Au con bajo contenido de azufre (Ej., Hirtzman et al., 1992, Barton and Johnson, 1996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relación genética con rocas plutónicas contemporáneas es controverti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i bien el origen hidrotermal metasomático no se discute, la fuente de fluidos es también controverti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gunos autores favorecen fluidos de origen hidrotermal-magmático (Ej. ., Gow et al., 1994, Rotherham et al., 1998, Williams, 1998, Williams et al., 1999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ientras que otros proponen fluidos derivados de evaporitas y movilizados termalmente para lixiviar y redepositar metales y azufre (Battles and Barton, 1995, Barton and Johnson, 1996, Barton et al., 1998, Ulrich and Clark, 1999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Otro modelo genético intenta relacionar entre sí los depósitos Cretácicos de magnetita-apatito, óxido-Fe-Cu-Au y estratoligados de Cu (Ag) hospedados en rocas volcánicas, donde se consideran como distintos niveles de emplazamiento y liberación de fluidos hidrotermales desde intrusiones de magma de Fe-P, siguiendo básicamente el modelo de inyección de magmas de mena tipo Kiruna (Vivallo and Henriquez, 1997, Gelcich, 1999, Nyström and Henríquez, 1994, 1995, Naslund et al., 2002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98508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07240" y="457200"/>
            <a:ext cx="8291520" cy="61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Arial"/>
              </a:rPr>
              <a:t>Olympic Dam, Australia </a:t>
            </a:r>
            <a:r>
              <a:rPr b="0" lang="es-CL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</a:t>
            </a:r>
            <a:r>
              <a:rPr b="0" lang="es-CL" sz="2400" spc="-1" strike="noStrike">
                <a:solidFill>
                  <a:srgbClr val="ff3300"/>
                </a:solidFill>
                <a:latin typeface="Arial"/>
              </a:rPr>
              <a:t> Descubierto en 1975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Yacimiento de óx.Fe-Cu-U-Au-RE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2000 Mt 1.6% Cu, 0.06% U</a:t>
            </a:r>
            <a:r>
              <a:rPr b="0" lang="es-CL" sz="2400" spc="-1" strike="noStrike" baseline="-25000">
                <a:solidFill>
                  <a:srgbClr val="66ffff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O</a:t>
            </a:r>
            <a:r>
              <a:rPr b="0" lang="es-CL" sz="2400" spc="-1" strike="noStrike" baseline="-25000">
                <a:solidFill>
                  <a:srgbClr val="66ffff"/>
                </a:solidFill>
                <a:latin typeface="Arial"/>
              </a:rPr>
              <a:t>8</a:t>
            </a: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, 0.6 g/t Au, 3.5 g/t A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1983 las labores mineras abrieron Olympic Dam mostrando qu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e trata de un “complejo de brecha hidrotermal” rico en óxido de F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(hematita).  Edad 1.588 ± 5 Ma (Proterozoico Medio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to llevó al reconocimiento de los depósitos de óxidos Fe-Cu-Au com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una clase aparte y produjo el subsecuente interés de explor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Conduciendo al hallazgo de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Ernest Henry, Austral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Candelaria, Chile (1987) Phelps Dodg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Manto Verde, Chile (1988) Anglo American (Mantos Blan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Salobo, Brasi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Sossego, Brasi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datos de inclusiones fluidas de Manto Verde indican temperaturas menores de formación (180º-320ºC) y ebullición de los fluidos hidrotermales durante la mineralización (Vila et al., 1996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n embargo, estos autores favorecen un origen magmático-hidrotermal y plantean un origen similar para los depósitos de magnetita-apatito de la Franja Ferrifera Chilen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anto Verde es visto por Vila et al. (1996) como un miembro extremo rico en cobre de un continuo de depósitos que se extiende desde los depósitos de magnetita-apatito pobres en cobre en el otro extrem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2360" y="684360"/>
            <a:ext cx="8228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Actualmente están en producció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Olympic Dam, Austral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Ernest Henry, Austral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Candelaria, Ch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Manto Verde, Ch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Estos depósitos contribuyen con &lt;5% del Cu  y &lt;1% Au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la producción mundial, pero en Chile son actualmente l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segundos en producción cuprífera despúes de los pórfi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cupífer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Están en desarroll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Salobo, Bras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Sossego, Bras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3680" y="1112760"/>
            <a:ext cx="87552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2120" y="0"/>
            <a:ext cx="48783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437080" y="498600"/>
            <a:ext cx="3714840" cy="61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Depósitos de Ox.Fe-apat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y de Ox.Fe-Cu-Au ocurr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en distintos mar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tectónicos (distintos tipos?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Notar que en todos los esquem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los de Ox.Fe-Cu-Au son má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someros que los de Ox. Fe-apatit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n Chile los depósitos está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Ligados a un arco magmá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relacionado a subdu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del Cretácico Inferior y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Volcanismo Neógen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Candelaria en posi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de tras-arco; en 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cuenca Chañarcil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66"/>
                </a:solidFill>
                <a:latin typeface="Times New Roman"/>
              </a:rPr>
              <a:t>Características Generales de los yacimientos de óx.Fe-Cu-A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7524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Relación con plutones y sistemas de falla. Espacial y temporal.  Algunos en fallas subsidiarias de sistemas region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66"/>
                </a:solidFill>
                <a:latin typeface="Times New Roman"/>
              </a:rPr>
              <a:t>Formas: vetas, brechas hidrotermales, mantos de reemplazo, skarn cálcicos y combinacion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Alteraciones: Sódica, cálcica, potás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66ffff"/>
                </a:solidFill>
                <a:latin typeface="Times New Roman"/>
              </a:rPr>
              <a:t>Zonación hacia el exterior y hacia arriba desde magnetita-actinolita-apatita a especularita-clorita-sericit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Signatura geoquímica de Cu-Au-Co-Ni-As-Mo-U-(LREE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Asociados a plutones dioríticos oxidados. Aunque en algunos yacimientos de Ox. Fe-Cu-Au no parecen tener relación directa con intrusivos específicos al nivel de mineralización, Ej. Candelar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Edad Proterozoico a Plioceno; en Chile los depósitos económicos son del Cretácico Inferior, pero también hay depósitos ferríferos asociados a volcanes del Mioceno Superior – Plioceno (El Laco, Incahuasi, Magnetita Pedernales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Asociación con evaporitas con halita marina o lacustre en muchos distritos.  Barton y Johnsons (1996) propusieron un modelo en que las fluidos y azufre provenientes de secuencias de evaporitas calentadas por una masa ígnea serían la fuente de los fluidos hidrotermales para generar depósitos de Ox. Fe-Cu-A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16:05:28Z</dcterms:created>
  <dc:creator>Brian K. Townley</dc:creator>
  <dc:description/>
  <dc:language>en-US</dc:language>
  <cp:lastModifiedBy>Brian</cp:lastModifiedBy>
  <dcterms:modified xsi:type="dcterms:W3CDTF">2005-05-19T04:05:45Z</dcterms:modified>
  <cp:revision>2</cp:revision>
  <dc:subject/>
  <dc:title>YACIMIENTOS DE ÓXIDOS DE Fe-Cu-Au CHILENOS</dc:title>
</cp:coreProperties>
</file>