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28.png" ContentType="image/png"/>
  <Override PartName="/ppt/media/image8.jpeg" ContentType="image/jpeg"/>
  <Override PartName="/ppt/media/image9.png" ContentType="image/png"/>
  <Override PartName="/ppt/media/image13.png" ContentType="image/png"/>
  <Override PartName="/ppt/media/image30.png" ContentType="image/png"/>
  <Override PartName="/ppt/media/image3.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2AA80-7D5F-4E70-8B59-EB05EB286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F31F-B19D-424D-8DDD-DDDD0E51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3DE5C-6D7F-45E7-9740-716CBEE7A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1515F-60B1-492A-BCE2-D0536923A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278B0-4AC2-4635-B344-04A8400F6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7CFB5-01EA-4E70-934F-48F3C9457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2E686-EA67-436B-B6A5-190D98017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F2992-FF3C-4C53-8D7B-46F24FE67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A1045-8339-4DF1-981B-1E61A2EA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EBE4F-A8F1-4729-A171-38BE3395A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53165-1FDD-46D8-B6CD-C6C361A0A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EFE48-BE90-4775-894B-1654D3B9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208ED-8566-485A-854A-62C6A3AB4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85E1-0023-4491-A16F-0CF4077D4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F103B-6B70-41FE-98E0-2F00D7FFD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5D26F-3945-4310-82A1-6AC31046A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B0B2C-A5F8-433A-A9C9-22FCF97FD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D6E07-2061-49F6-ADF2-BCFD312F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D556-C429-4E6D-A16F-22725654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D206-6C0D-4FD7-800B-308690AF2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3F19-76E4-4840-B356-15199AD99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EB30-08E5-4DB8-A5FC-400EA432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E6E5-22E1-4571-8D70-D0B1DBBE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D1951-10F5-4B2E-881C-5D0D2D7C7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8D05-8376-44D6-BE38-6C85F53529B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EB8-9A5D-48DC-999B-C7C5E26588E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1828800"/>
            <a:ext cx="9144000" cy="4827600"/>
          </a:xfrm>
          <a:prstGeom prst="rect">
            <a:avLst/>
          </a:prstGeom>
          <a:ln w="0">
            <a:noFill/>
          </a:ln>
        </p:spPr>
      </p:pic>
      <p:sp>
        <p:nvSpPr>
          <p:cNvPr id="85"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Sulfuros masivos volcanogénicos VMS</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6553080" y="1447920"/>
            <a:ext cx="2419560" cy="5181480"/>
          </a:xfrm>
          <a:prstGeom prst="rect">
            <a:avLst/>
          </a:prstGeom>
          <a:ln w="0">
            <a:noFill/>
          </a:ln>
        </p:spPr>
      </p:pic>
      <p:pic>
        <p:nvPicPr>
          <p:cNvPr id="106" name="" descr=""/>
          <p:cNvPicPr/>
          <p:nvPr/>
        </p:nvPicPr>
        <p:blipFill>
          <a:blip r:embed="rId3"/>
          <a:stretch/>
        </p:blipFill>
        <p:spPr>
          <a:xfrm>
            <a:off x="228600" y="304920"/>
            <a:ext cx="2943360" cy="3171600"/>
          </a:xfrm>
          <a:prstGeom prst="rect">
            <a:avLst/>
          </a:prstGeom>
          <a:ln w="0">
            <a:noFill/>
          </a:ln>
        </p:spPr>
      </p:pic>
      <p:pic>
        <p:nvPicPr>
          <p:cNvPr id="107" name="" descr=""/>
          <p:cNvPicPr/>
          <p:nvPr/>
        </p:nvPicPr>
        <p:blipFill>
          <a:blip r:embed="rId4"/>
          <a:stretch/>
        </p:blipFill>
        <p:spPr>
          <a:xfrm>
            <a:off x="1295280" y="4191120"/>
            <a:ext cx="3787920" cy="2143080"/>
          </a:xfrm>
          <a:prstGeom prst="rect">
            <a:avLst/>
          </a:prstGeom>
          <a:ln w="0">
            <a:noFill/>
          </a:ln>
        </p:spPr>
      </p:pic>
      <p:pic>
        <p:nvPicPr>
          <p:cNvPr id="108" name="" descr=""/>
          <p:cNvPicPr/>
          <p:nvPr/>
        </p:nvPicPr>
        <p:blipFill>
          <a:blip r:embed="rId5"/>
          <a:stretch/>
        </p:blipFill>
        <p:spPr>
          <a:xfrm>
            <a:off x="3276720" y="1295280"/>
            <a:ext cx="3124080" cy="25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9640" y="0"/>
            <a:ext cx="8136000" cy="6105600"/>
          </a:xfrm>
          <a:prstGeom prst="rect">
            <a:avLst/>
          </a:prstGeom>
          <a:ln w="0">
            <a:noFill/>
          </a:ln>
        </p:spPr>
      </p:pic>
      <p:sp>
        <p:nvSpPr>
          <p:cNvPr id="110" name=""/>
          <p:cNvSpPr/>
          <p:nvPr/>
        </p:nvSpPr>
        <p:spPr>
          <a:xfrm>
            <a:off x="2484360" y="263700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2484360" y="256536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609120" y="579132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Tambo Grande, Perú; Cu, Zn, Au, Ag</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La Plata, Ecuador; Cu, Zn, Pb, Au, Ag</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n Chile</a:t>
            </a:r>
            <a:endParaRPr b="0" lang="en-US" sz="4400" spc="-1" strike="noStrike">
              <a:solidFill>
                <a:srgbClr val="ccecff"/>
              </a:solidFill>
              <a:latin typeface="Times New Roman"/>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Mantos con Py, Po, Cpy, Esf en esquistos verdes paleozoicos de la Cordillera de la Costa de Valdivia.</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Depósitos: Tirúa, Casa de Piedra, Hueñalihuen, Trovolhue, Pirén y Corral (Alfaro y Collao, 199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También sulfuros masivos en esquistos y metabasaltos de la zona costera de la XII Región; depósitos La Serena y Cutter Cove (Vivallo, 200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Punta del Cobre, Copiapó (Camus, 1985)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
        <p:nvSpPr>
          <p:cNvPr id="11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e presentan en grupos y en áreas específicas o distritos están restringidos a un nivel o a cierto número limitado de niveles estratigráficos.</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tos horizontes pueden representar cambios en la composición de las rocas volcánicas, un cambio desde volcanismo a sedimentación o simplemente a pausas en actividad volcánica submarina.</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xiste una asociación con rocas volcanoclásticas y muchos cuerpos de mena sobreyacen productos explosivos de domos riolítico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bajo de los depósitos de sulfuros normalmente existe un stockwork de venillas de sulfuros en rocas intensamente alteradas, el cual ha sido el alimentador de los fluidos hidrotermales que penetraron para formar el cuerpo de sulfuro masivo sobreyacente.</a:t>
            </a:r>
            <a:endParaRPr b="0" lang="en-US" sz="3200" spc="-1" strike="noStrike">
              <a:solidFill>
                <a:srgbClr val="ccecff"/>
              </a:solidFill>
              <a:latin typeface="Times New Roman"/>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n ocasiones el stockwork mismo puede tener leyes económicas.</a:t>
            </a:r>
            <a:endParaRPr b="0" lang="en-US" sz="3200" spc="-1" strike="noStrike">
              <a:solidFill>
                <a:srgbClr val="ccecff"/>
              </a:solidFill>
              <a:latin typeface="Times New Roman"/>
            </a:endParaRPr>
          </a:p>
        </p:txBody>
      </p:sp>
      <p:sp>
        <p:nvSpPr>
          <p:cNvPr id="11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teración hidrotermal</a:t>
            </a:r>
            <a:endParaRPr b="0" lang="en-US" sz="4400" spc="-1" strike="noStrike">
              <a:solidFill>
                <a:srgbClr val="ccecff"/>
              </a:solidFill>
              <a:latin typeface="Times New Roman"/>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hidrotermal normalmente se restringe a las rocas subyacentes, siendo la sericitización y cloritización los tipos más comunes.</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tiene una forma general de chimenea y hacia su porción central contiene el stockwork con calcopirita.  </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l diámetro de la chimenea alterada aumenta hacia arriba (en forma de cono invertido) y su porción más ancha coincide con la mena masiva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68360" y="1557360"/>
            <a:ext cx="8280360" cy="4626000"/>
          </a:xfrm>
          <a:prstGeom prst="rect">
            <a:avLst/>
          </a:prstGeom>
          <a:ln w="0">
            <a:noFill/>
          </a:ln>
        </p:spPr>
      </p:pic>
      <p:sp>
        <p:nvSpPr>
          <p:cNvPr id="12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Zonación de alteración hidrotermal</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ahoma"/>
              </a:rPr>
              <a:t>La génesis de los depósitos de sulfuros masivos puede tener variaciones, pero la evolución general es la siguiente:</a:t>
            </a:r>
            <a:endParaRPr b="0" lang="en-US" sz="2400" spc="-1" strike="noStrike">
              <a:solidFill>
                <a:srgbClr val="ccecff"/>
              </a:solidFill>
              <a:latin typeface="Times New Roman"/>
            </a:endParaRPr>
          </a:p>
        </p:txBody>
      </p:sp>
      <p:sp>
        <p:nvSpPr>
          <p:cNvPr id="124" name=""/>
          <p:cNvSpPr/>
          <p:nvPr/>
        </p:nvSpPr>
        <p:spPr>
          <a:xfrm>
            <a:off x="0" y="1143000"/>
            <a:ext cx="8915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1:  Precipitación de esfalerita, galena, pirita, tetrahedrita, baritina con cantidades menores de calcopirita por mezcla de fluido a 200ºC con agua de mar.</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2:  Recristalización y aumento del tamaño del grano de minerales por efecto de circulación de fluido a 250ºC, continúa la depositación de esfalerita, galena, etc.</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3: Influjo de soluciones ricas en Cu a 300ºC, produciendo el reemplazo de la porción inferior (mena amarilla) y redepositación de minerales reemplazados más arriba.</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4: Circulación de fluidos calientes sub-saturados en Cu disolución de calcopirita y reemplazo por pirita en la base del depósito.</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5: Depositación de exhalitas de chert-hematita en torno al depósito (esto también ocurre en las etapas previas), mucho SiO</a:t>
            </a:r>
            <a:r>
              <a:rPr b="0" lang="es-ES" sz="2000" spc="-1" strike="noStrike" baseline="-25000">
                <a:solidFill>
                  <a:srgbClr val="ccecff"/>
                </a:solidFill>
                <a:latin typeface="Tahoma"/>
              </a:rPr>
              <a:t>2</a:t>
            </a:r>
            <a:r>
              <a:rPr b="0" lang="es-ES" sz="2000" spc="-1" strike="noStrike">
                <a:solidFill>
                  <a:srgbClr val="ccecff"/>
                </a:solidFill>
                <a:latin typeface="Tahoma"/>
              </a:rPr>
              <a:t> se deposita en el stockwork subyacente.</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6: Preservación por cubierta de lavas o sedimentos.  Los depósitos que quedan expuestos a la acción marina se oxidan y se destruyen por acción de meteorización submarina transformándose en capas de "ocre" constituidas por cuarzo, goethita, illita, jarosita.  </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olo si los depósitos son cubiertos y se evita la meteorización submarina y los depósitos pueden preservars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47640" y="1200240"/>
            <a:ext cx="6264360" cy="5657760"/>
          </a:xfrm>
          <a:prstGeom prst="rect">
            <a:avLst/>
          </a:prstGeom>
          <a:ln w="0">
            <a:noFill/>
          </a:ln>
        </p:spPr>
      </p:pic>
      <p:sp>
        <p:nvSpPr>
          <p:cNvPr id="126" name=""/>
          <p:cNvSpPr/>
          <p:nvPr/>
        </p:nvSpPr>
        <p:spPr>
          <a:xfrm>
            <a:off x="46836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tapas de formación de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Desde el punto de vista económico existen esencialmente solo dos grupos de VMS: los de </a:t>
            </a:r>
            <a:r>
              <a:rPr b="1" lang="es-ES" sz="2400" spc="-1" strike="noStrike">
                <a:solidFill>
                  <a:srgbClr val="ccecff"/>
                </a:solidFill>
                <a:latin typeface="Tahoma"/>
              </a:rPr>
              <a:t>Cu-Zn</a:t>
            </a:r>
            <a:r>
              <a:rPr b="0" lang="es-ES" sz="2400" spc="-1" strike="noStrike">
                <a:solidFill>
                  <a:srgbClr val="ccecff"/>
                </a:solidFill>
                <a:latin typeface="Tahoma"/>
              </a:rPr>
              <a:t> y los de </a:t>
            </a:r>
            <a:r>
              <a:rPr b="1" lang="es-ES" sz="2400" spc="-1" strike="noStrike">
                <a:solidFill>
                  <a:srgbClr val="ccecff"/>
                </a:solidFill>
                <a:latin typeface="Tahoma"/>
              </a:rPr>
              <a:t>Zn-Pb-Cu</a:t>
            </a:r>
            <a:r>
              <a:rPr b="0" lang="es-ES" sz="2400" spc="-1" strike="noStrike">
                <a:solidFill>
                  <a:srgbClr val="ccecff"/>
                </a:solidFill>
                <a:latin typeface="Tahoma"/>
              </a:rPr>
              <a:t>.  </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os depósitos pueden contener cantidades importantes de Ag y/o Au.</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Si bien en términos generales existen estos dos grupos principales de sulfuros masivos, existen varios tipos en la literatura dependiendo del marco tectónico y las rocas volcánicas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4568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Depositos del tipo Volcano Exhalativos (VMS)</a:t>
            </a:r>
            <a:br>
              <a:rPr sz="3200"/>
            </a:br>
            <a:r>
              <a:rPr b="0" lang="en-US" sz="2400" spc="-1" strike="noStrike">
                <a:solidFill>
                  <a:srgbClr val="ccffff"/>
                </a:solidFill>
                <a:latin typeface="Tahoma"/>
              </a:rPr>
              <a:t>Generalidades</a:t>
            </a:r>
            <a:endParaRPr b="0" lang="en-US" sz="2400" spc="-1" strike="noStrike">
              <a:solidFill>
                <a:srgbClr val="ccffff"/>
              </a:solidFill>
              <a:latin typeface="Tahoma"/>
            </a:endParaRPr>
          </a:p>
        </p:txBody>
      </p:sp>
      <p:sp>
        <p:nvSpPr>
          <p:cNvPr id="87" name="PlaceHolder 2"/>
          <p:cNvSpPr>
            <a:spLocks noGrp="1"/>
          </p:cNvSpPr>
          <p:nvPr>
            <p:ph/>
          </p:nvPr>
        </p:nvSpPr>
        <p:spPr>
          <a:xfrm>
            <a:off x="228600" y="1752120"/>
            <a:ext cx="8610480" cy="48006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del tipo VMS (Volcanic Massive Sulphides) o volcano – exhalativos corresponden a yacimientos de carácter estrato ligado, en este caso generalmente directa o indirectamente asociados con su roca huesped.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on yacimientos de origen volcanogénico submarino o continental (de carácter metasomático y en algunos casos asociados con sedimentación).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luidos hidrotermales asociados ocurren a temperaturas entre 50° y 400°C.</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l caso de depositos submarinos, estos ocurren a profundidades del orden de 1000 a 6000 m, bajo condiciones de presión hidroestática.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Chipre</a:t>
            </a:r>
            <a:r>
              <a:rPr b="0" lang="es-ES" sz="2400" spc="-1" strike="noStrike">
                <a:solidFill>
                  <a:srgbClr val="ccecff"/>
                </a:solidFill>
                <a:latin typeface="Tahoma"/>
              </a:rPr>
              <a:t> ("Cyprus"): Cu (±Zn) ±Au, asociados a basaltos toleíticos de conjuntos ofiolíticos (generación de corteza oceánica).  Formados en fondos oceánicos profundos con volcanismo basáltico.  Los ejemplos típicos se presentan en la isla de Chipre en el mar Mediterráne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Besshi</a:t>
            </a:r>
            <a:r>
              <a:rPr b="0" lang="es-ES" sz="2400" spc="-1" strike="noStrike">
                <a:solidFill>
                  <a:srgbClr val="ccecff"/>
                </a:solidFill>
                <a:latin typeface="Tahoma"/>
              </a:rPr>
              <a:t>: Cu-Zn±Au±Ag, asociados a rocas sedimentarias con aporte terrígeno, grauvacas y turbiditas asociadas con basaltos de intraplaca.  Formados en cuencas sedimentarias marinas profundas con volcanismo basáltico. </a:t>
            </a:r>
            <a:endParaRPr b="0" lang="en-US" sz="2400" spc="-1" strike="noStrike">
              <a:solidFill>
                <a:srgbClr val="ccecff"/>
              </a:solidFill>
              <a:latin typeface="Times New Roman"/>
            </a:endParaRPr>
          </a:p>
        </p:txBody>
      </p:sp>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2"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Kuroko</a:t>
            </a:r>
            <a:r>
              <a:rPr b="0" lang="es-ES" sz="2400" spc="-1" strike="noStrike">
                <a:solidFill>
                  <a:srgbClr val="ccecff"/>
                </a:solidFill>
                <a:latin typeface="Tahoma"/>
              </a:rPr>
              <a:t>: Cu-Zn-Pb±Au±Ag, asociados a volcanismo bimodal con lavas toleíticas y lavas y piroclastos calco-alcalinos.  Formados en cuencas marinas someras con volcanismo explosivo con formación de calderas en sectores de trás-arco.  Los ejemplos típicos se encuentran en Japón formados en una cuenca margina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Noranda o Primitivos</a:t>
            </a:r>
            <a:r>
              <a:rPr b="0" lang="es-ES" sz="2400" spc="-1" strike="noStrike">
                <a:solidFill>
                  <a:srgbClr val="ccecff"/>
                </a:solidFill>
                <a:latin typeface="Tahoma"/>
              </a:rPr>
              <a:t>: Cu-Zn±Au±Ag, asociados a rocas volcánicas totalmente diferenciadas desde basaltos a riolitas en cuencas marinas de &lt;1 km de profundidad.  Actualmente presentes en las fajas de rocas verdes en los escudos precámbricos (como en Canadá).  Su marco tectónico es materia de debate, pero parecen haberse formado en cuencas subsidentes limitadas por fallas, posiblemente en secciones de tras-arc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4"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SEDEX</a:t>
            </a:r>
            <a:r>
              <a:rPr b="0" lang="es-ES" sz="2400" spc="-1" strike="noStrike">
                <a:solidFill>
                  <a:srgbClr val="ccecff"/>
                </a:solidFill>
                <a:latin typeface="Tahoma"/>
              </a:rPr>
              <a:t>: Zn-Pb±Ag, asociados a rocas sedimentarias como lutitas negras carbonosas, areniscas y rocas carbonatadas.  Estos se asocian a fluidos expelidos desde cuencas sedimentarias por celdas convectivas de aguas marinas probablemente generadas por calor derivado de fuentes magmáticas subyacentes.  </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j. Mina Aguilar en el noroeste de Argentin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ahoma"/>
              </a:rPr>
              <a:t>Cabe recordar que los depósitos de sulfuros masivos se forman en fondos marinos, de modo que su incorporación a áreas continentales, donde ellos se explotan, se produce por fenómenos tectónicos, principalmente por acreción o colisión continental.  Esto significa que los depósitos generalmente presentan una notable deformación tectónica incluyendo pliegues y fall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84360" y="1125360"/>
            <a:ext cx="8137440" cy="5364360"/>
          </a:xfrm>
          <a:prstGeom prst="rect">
            <a:avLst/>
          </a:prstGeom>
          <a:ln w="0">
            <a:noFill/>
          </a:ln>
        </p:spPr>
      </p:pic>
      <p:sp>
        <p:nvSpPr>
          <p:cNvPr id="136"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Yacimientos VMS tipo Chipr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rPr>
              <a:t>Depositos VMS del tipo Chipre (Troodos)</a:t>
            </a:r>
            <a:endParaRPr b="0" lang="en-US" sz="2800" spc="-1" strike="noStrike">
              <a:solidFill>
                <a:srgbClr val="ccffff"/>
              </a:solidFill>
              <a:latin typeface="Tahoma"/>
            </a:endParaRPr>
          </a:p>
        </p:txBody>
      </p:sp>
      <p:sp>
        <p:nvSpPr>
          <p:cNvPr id="138" name="PlaceHolder 2"/>
          <p:cNvSpPr>
            <a:spLocks noGrp="1"/>
          </p:cNvSpPr>
          <p:nvPr>
            <p:ph/>
          </p:nvPr>
        </p:nvSpPr>
        <p:spPr>
          <a:xfrm>
            <a:off x="228240" y="837720"/>
            <a:ext cx="3886200" cy="495324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l caso representativo es el deposito Troodos, yacimiento de cobre hospedado en una secuencia volcánica máfica del tipo ofiolítico, principalmente en lavas de almohadilla. </a:t>
            </a:r>
            <a:endParaRPr b="0" lang="en-US" sz="2200" spc="-1" strike="noStrike">
              <a:solidFill>
                <a:srgbClr val="ccecff"/>
              </a:solidFill>
              <a:latin typeface="Tahoma"/>
            </a:endParaRPr>
          </a:p>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mineralización de sulfuro masivo ocurre en la interfase de lavas de almohadilla inferior y la zona basal, o bien a lo largo de la secuencia de lavas de almohadilla inferior y superior. </a:t>
            </a:r>
            <a:endParaRPr b="0" lang="en-US" sz="2200" spc="-1" strike="noStrike">
              <a:solidFill>
                <a:srgbClr val="ccecff"/>
              </a:solidFill>
              <a:latin typeface="Tahoma"/>
            </a:endParaRPr>
          </a:p>
        </p:txBody>
      </p:sp>
      <p:pic>
        <p:nvPicPr>
          <p:cNvPr id="139" name="" descr=""/>
          <p:cNvPicPr/>
          <p:nvPr/>
        </p:nvPicPr>
        <p:blipFill>
          <a:blip r:embed="rId2"/>
          <a:stretch/>
        </p:blipFill>
        <p:spPr>
          <a:xfrm>
            <a:off x="4343400" y="914400"/>
            <a:ext cx="4800600" cy="43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304920"/>
            <a:ext cx="3809880" cy="6248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VMS tipo Troodos</a:t>
            </a:r>
            <a:endParaRPr b="0" lang="en-US" sz="24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consiste principalmente de pirita y calcopirita con menor esfalerita, con desarrollo de cuerpos masivos y también de stockwork inferior, a lo largo de conductos alimentadores.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están asociados directamente a fallas normales sinvolcánicas en zonas de extensión o rifting de fondo oceánico, ya sea en dorsales oceánicas o en cuencas de tras arco con volcanismo submarin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alteración hidrotermal consiste principalmente en zeolita – epidota – clorita.</a:t>
            </a:r>
            <a:endParaRPr b="0" lang="en-US" sz="2000" spc="-1" strike="noStrike">
              <a:solidFill>
                <a:srgbClr val="ccecff"/>
              </a:solidFill>
              <a:latin typeface="Tahoma"/>
            </a:endParaRPr>
          </a:p>
        </p:txBody>
      </p:sp>
      <p:pic>
        <p:nvPicPr>
          <p:cNvPr id="141" name="" descr=""/>
          <p:cNvPicPr/>
          <p:nvPr/>
        </p:nvPicPr>
        <p:blipFill>
          <a:blip r:embed="rId2"/>
          <a:stretch/>
        </p:blipFill>
        <p:spPr>
          <a:xfrm>
            <a:off x="4267080" y="1676520"/>
            <a:ext cx="4876920" cy="315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Beshi</a:t>
            </a:r>
            <a:endParaRPr b="0" lang="en-US" sz="32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rresponden a yacimientos de Zn-Cu hospedados en secuencias de rocas volcánicas máficas en complejos estructurales y secuencias de sedimentos marinos.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ineralización consiste principalmente de pirita-esfalerita-calcopirita, de carácter estratiforme.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Ocurren en ambiente de arco isla asociados a magmatismo calcoalcalino temprano.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jemplos son Sambagawa, Japón y Folldal, Norueg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Kuroko</a:t>
            </a:r>
            <a:endParaRPr b="0" lang="en-US" sz="3200" spc="-1" strike="noStrike">
              <a:solidFill>
                <a:srgbClr val="ccffff"/>
              </a:solidFill>
              <a:latin typeface="Tahoma"/>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Corresponden a cuerpos de sulfuros masivos (polimetálicos) estratiformes o lenticulares concordantes con la sedimentación, sobreyacente a un cuerpo de tipo stockwork con mineralización diseminada. </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metálica consiste en pirita, calcopirita, esfalerita, galena, tetrahederita, tenantita con mayor o menor oro y plata, asociados con cuarzo y baritina. </a:t>
            </a:r>
            <a:endParaRPr b="0" lang="en-US" sz="20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xiste una zonación vertical estratificada, en orden ascendente:</a:t>
            </a:r>
            <a:r>
              <a:rPr b="0" lang="en-US" sz="2400" spc="-1" strike="noStrike">
                <a:solidFill>
                  <a:srgbClr val="ccecff"/>
                </a:solidFill>
                <a:latin typeface="Tahoma"/>
              </a:rPr>
              <a:t> </a:t>
            </a:r>
            <a:endParaRPr b="0" lang="en-US" sz="24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zona Keiko, mineral siliceo con py, cpy y qz en stockwork;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zona Seikhoko, mineral de anhidrita y yeso con py, cpy, sph, ga y qz con arcillas,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zona Ryukoko, con mineralización de py y menor cpy y qz,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v) zona Oko, mena amarilla con mineralización de py y cpy, con menor sph, qz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 zona Kuroko, mena negra con mineralización de sph, ga, cpy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 zona de baritina,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i) y finalmente una zona de silice más hematit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762120"/>
            <a:ext cx="4857840" cy="5333760"/>
          </a:xfrm>
          <a:prstGeom prst="rect">
            <a:avLst/>
          </a:prstGeom>
          <a:ln w="0">
            <a:noFill/>
          </a:ln>
        </p:spPr>
      </p:pic>
      <p:sp>
        <p:nvSpPr>
          <p:cNvPr id="147" name=""/>
          <p:cNvSpPr/>
          <p:nvPr/>
        </p:nvSpPr>
        <p:spPr>
          <a:xfrm>
            <a:off x="4876920" y="0"/>
            <a:ext cx="426708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Composición típica de las menas: 2% Cu, 5% Zn, 1.5% Pb, 12% Ba, 1.5 g/t Au, 95 g/t Ag</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Depósitos de 1 a 60 Mt (promedio 1.3 Mt)</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Evolución: mena negr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amarill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pirita (limites gradacionales)</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masiva negra y baritina son de grano fino y están laminadas cerca del techo</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negra es más gruesa hacia abajo y es masiva en la parte inferior</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amarilla es gruesa y masiva y se forma por reemplazo de mena negra con remobilización del Pb y Zn al techo de la pi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403280" y="584280"/>
            <a:ext cx="6121440" cy="58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sp>
        <p:nvSpPr>
          <p:cNvPr id="89" name="PlaceHolder 2"/>
          <p:cNvSpPr>
            <a:spLocks noGrp="1"/>
          </p:cNvSpPr>
          <p:nvPr>
            <p:ph/>
          </p:nvPr>
        </p:nvSpPr>
        <p:spPr>
          <a:xfrm>
            <a:off x="0" y="1066680"/>
            <a:ext cx="9144000" cy="13716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ambiente submarino esta mineralización tiene un carácter exhalativo – sedimentario donde el equivalente actual es representado por fumarolas submarinas (black smockers).</a:t>
            </a:r>
            <a:endParaRPr b="0" lang="en-US" sz="2400" spc="-1" strike="noStrike">
              <a:solidFill>
                <a:srgbClr val="ccecff"/>
              </a:solidFill>
              <a:latin typeface="Tahoma"/>
            </a:endParaRPr>
          </a:p>
        </p:txBody>
      </p:sp>
      <p:pic>
        <p:nvPicPr>
          <p:cNvPr id="90" name="" descr=""/>
          <p:cNvPicPr/>
          <p:nvPr/>
        </p:nvPicPr>
        <p:blipFill>
          <a:blip r:embed="rId2"/>
          <a:stretch/>
        </p:blipFill>
        <p:spPr>
          <a:xfrm>
            <a:off x="1403280" y="2565360"/>
            <a:ext cx="6096240" cy="393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5800" y="609480"/>
            <a:ext cx="8001000" cy="551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228600" y="1447920"/>
            <a:ext cx="8686800" cy="4338360"/>
          </a:xfrm>
          <a:prstGeom prst="rect">
            <a:avLst/>
          </a:prstGeom>
          <a:ln w="0">
            <a:noFill/>
          </a:ln>
        </p:spPr>
      </p:pic>
      <p:sp>
        <p:nvSpPr>
          <p:cNvPr id="151" name=""/>
          <p:cNvSpPr/>
          <p:nvPr/>
        </p:nvSpPr>
        <p:spPr>
          <a:xfrm>
            <a:off x="2893320" y="838080"/>
            <a:ext cx="302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quema de Alteraci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133720" y="15840"/>
            <a:ext cx="4800600" cy="684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380880" y="3714840"/>
            <a:ext cx="4743720" cy="3143160"/>
          </a:xfrm>
          <a:prstGeom prst="rect">
            <a:avLst/>
          </a:prstGeom>
          <a:ln w="0">
            <a:noFill/>
          </a:ln>
        </p:spPr>
      </p:pic>
      <p:pic>
        <p:nvPicPr>
          <p:cNvPr id="154" name="" descr=""/>
          <p:cNvPicPr/>
          <p:nvPr/>
        </p:nvPicPr>
        <p:blipFill>
          <a:blip r:embed="rId3"/>
          <a:stretch/>
        </p:blipFill>
        <p:spPr>
          <a:xfrm>
            <a:off x="5334120" y="3733920"/>
            <a:ext cx="3590640" cy="3124080"/>
          </a:xfrm>
          <a:prstGeom prst="rect">
            <a:avLst/>
          </a:prstGeom>
          <a:ln w="0">
            <a:noFill/>
          </a:ln>
        </p:spPr>
      </p:pic>
      <p:sp>
        <p:nvSpPr>
          <p:cNvPr id="155" name=""/>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 recurso minero mayor en Canadá</a:t>
            </a:r>
            <a:endParaRPr b="0" lang="en-US" sz="2800" spc="-1" strike="noStrike">
              <a:solidFill>
                <a:srgbClr val="ccecff"/>
              </a:solidFill>
              <a:latin typeface="Times New Roman"/>
            </a:endParaRPr>
          </a:p>
        </p:txBody>
      </p:sp>
      <p:sp>
        <p:nvSpPr>
          <p:cNvPr id="156" name=""/>
          <p:cNvSpPr/>
          <p:nvPr/>
        </p:nvSpPr>
        <p:spPr>
          <a:xfrm>
            <a:off x="457200" y="11430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Rocas volcánicas precámbricas metamorfizadas (greenstone belts)</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os depósitos (en general 0.1 a 5 Mt, pero Horne 60 Mt, Quemont 16 Mt) se asocian con rocas volcánicas félsicas; </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Py y Po = 50% de las menas, más Cpy, Sph, Ga, Mgt, Ag (acantita), tetrhed-tenn ± Se, Te, Bi, Sn</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as menas están recristalizadas por el metamorfismo (excepto Py) y deformadas con disrupción de los cuerpos de mena</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4920" y="152280"/>
            <a:ext cx="6524640" cy="3314880"/>
          </a:xfrm>
          <a:prstGeom prst="rect">
            <a:avLst/>
          </a:prstGeom>
          <a:ln w="0">
            <a:noFill/>
          </a:ln>
        </p:spPr>
      </p:pic>
      <p:pic>
        <p:nvPicPr>
          <p:cNvPr id="158" name="" descr=""/>
          <p:cNvPicPr/>
          <p:nvPr/>
        </p:nvPicPr>
        <p:blipFill>
          <a:blip r:embed="rId3"/>
          <a:stretch/>
        </p:blipFill>
        <p:spPr>
          <a:xfrm>
            <a:off x="2362320" y="3581280"/>
            <a:ext cx="6524640" cy="3019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763640" y="1692360"/>
            <a:ext cx="5688000" cy="5025960"/>
          </a:xfrm>
          <a:prstGeom prst="rect">
            <a:avLst/>
          </a:prstGeom>
          <a:ln w="0">
            <a:noFill/>
          </a:ln>
        </p:spPr>
      </p:pic>
      <p:sp>
        <p:nvSpPr>
          <p:cNvPr id="160" name=""/>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a:t>
            </a:r>
            <a:endParaRPr b="0" lang="en-US" sz="2800" spc="-1" strike="noStrike">
              <a:solidFill>
                <a:srgbClr val="ccecff"/>
              </a:solidFill>
              <a:latin typeface="Times New Roman"/>
            </a:endParaRPr>
          </a:p>
        </p:txBody>
      </p:sp>
      <p:sp>
        <p:nvSpPr>
          <p:cNvPr id="161" name=""/>
          <p:cNvSpPr/>
          <p:nvPr/>
        </p:nvSpPr>
        <p:spPr>
          <a:xfrm>
            <a:off x="457200" y="765000"/>
            <a:ext cx="822960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Alteración: clorita en el centro del conducto alimentador y sericita hacia los márgenes con carbona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057400" y="1752480"/>
            <a:ext cx="5000760" cy="4695840"/>
          </a:xfrm>
          <a:prstGeom prst="rect">
            <a:avLst/>
          </a:prstGeom>
          <a:ln w="0">
            <a:noFill/>
          </a:ln>
        </p:spPr>
      </p:pic>
      <p:sp>
        <p:nvSpPr>
          <p:cNvPr id="163" name=""/>
          <p:cNvSpPr/>
          <p:nvPr/>
        </p:nvSpPr>
        <p:spPr>
          <a:xfrm>
            <a:off x="468360" y="457200"/>
            <a:ext cx="8229600" cy="10666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VMS Tipo Noranda: esquema de  sistema convectivo de aguas marinas durante la formación de los cuerpos de sulfur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8120" y="380880"/>
            <a:ext cx="586728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La emanación de fluidos calientes en las fuentes termales submarinas se mezcla con el agua marina fría, lo que cambia drásticamente la química del fluido y produce la precipitación de sulfuros metálicos extremadamente finos, sulfatos y óxidos.</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acumulación de minerales ocurre por efectos gravitacionales al salir a fondo marino. </a:t>
            </a:r>
            <a:endParaRPr b="0" lang="en-US" sz="2400" spc="-1" strike="noStrike">
              <a:solidFill>
                <a:srgbClr val="ccecff"/>
              </a:solidFill>
              <a:latin typeface="Tahoma"/>
            </a:endParaRPr>
          </a:p>
        </p:txBody>
      </p:sp>
      <p:pic>
        <p:nvPicPr>
          <p:cNvPr id="92" name="" descr=""/>
          <p:cNvPicPr/>
          <p:nvPr/>
        </p:nvPicPr>
        <p:blipFill>
          <a:blip r:embed="rId2"/>
          <a:stretch/>
        </p:blipFill>
        <p:spPr>
          <a:xfrm>
            <a:off x="152280" y="2133720"/>
            <a:ext cx="3048120" cy="4486320"/>
          </a:xfrm>
          <a:prstGeom prst="rect">
            <a:avLst/>
          </a:prstGeom>
          <a:ln w="0">
            <a:noFill/>
          </a:ln>
        </p:spPr>
      </p:pic>
      <p:pic>
        <p:nvPicPr>
          <p:cNvPr id="93" name="" descr=""/>
          <p:cNvPicPr/>
          <p:nvPr/>
        </p:nvPicPr>
        <p:blipFill>
          <a:blip r:embed="rId3"/>
          <a:stretch/>
        </p:blipFill>
        <p:spPr>
          <a:xfrm>
            <a:off x="3886200" y="4114800"/>
            <a:ext cx="40132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295280"/>
            <a:ext cx="8610480" cy="28195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descarga de material es rápida, seguida por sedimentación química en bancos basales alrededor de aperturas volcánicas.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son masivos y su distribución estará controlada por los contrastes de densidad entre el agua de mar y los fluidos hidrotermales. </a:t>
            </a:r>
            <a:endParaRPr b="0" lang="en-US" sz="2400" spc="-1" strike="noStrike">
              <a:solidFill>
                <a:srgbClr val="ccecff"/>
              </a:solidFill>
              <a:latin typeface="Tahoma"/>
            </a:endParaRPr>
          </a:p>
        </p:txBody>
      </p:sp>
      <p:sp>
        <p:nvSpPr>
          <p:cNvPr id="95" name="PlaceHolder 2"/>
          <p:cNvSpPr>
            <a:spLocks noGrp="1"/>
          </p:cNvSpPr>
          <p:nvPr>
            <p:ph type="title"/>
          </p:nvPr>
        </p:nvSpPr>
        <p:spPr>
          <a:xfrm>
            <a:off x="2286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pic>
        <p:nvPicPr>
          <p:cNvPr id="96" name="" descr=""/>
          <p:cNvPicPr/>
          <p:nvPr/>
        </p:nvPicPr>
        <p:blipFill>
          <a:blip r:embed="rId2"/>
          <a:stretch/>
        </p:blipFill>
        <p:spPr>
          <a:xfrm>
            <a:off x="304920" y="3886200"/>
            <a:ext cx="4362480" cy="2590920"/>
          </a:xfrm>
          <a:prstGeom prst="rect">
            <a:avLst/>
          </a:prstGeom>
          <a:ln w="0">
            <a:noFill/>
          </a:ln>
        </p:spPr>
      </p:pic>
      <p:pic>
        <p:nvPicPr>
          <p:cNvPr id="97" name="" descr=""/>
          <p:cNvPicPr/>
          <p:nvPr/>
        </p:nvPicPr>
        <p:blipFill>
          <a:blip r:embed="rId3"/>
          <a:stretch/>
        </p:blipFill>
        <p:spPr>
          <a:xfrm>
            <a:off x="4800600" y="3886200"/>
            <a:ext cx="434340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04920"/>
            <a:ext cx="4876920" cy="63244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del fluido hidrotermal es mayor que el agua marina la depositación es cercana, limitada a pequeñas cuencas laterales, dependiendo entonces también de la topografía de fond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similar existen dos posibilidades, que al mezclarse generen un fluido de mayor densidad, precipitando su carga al igual que en el caso anterior, o que al mezclarse la densidad siga igual o menor, en este caso la mineralización tendrá una distribución areal mayor, con poco control topográfic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menor entonces los fluidos ascienden, se mezclan y precipitan en un radio mayor, generando depositos concordantes a la estratigrafía y sin mayor control topográfico (ej. Hierro bandeado – BIF).</a:t>
            </a:r>
            <a:endParaRPr b="0" lang="en-US" sz="2000" spc="-1" strike="noStrike">
              <a:solidFill>
                <a:srgbClr val="ccecff"/>
              </a:solidFill>
              <a:latin typeface="Tahoma"/>
            </a:endParaRPr>
          </a:p>
        </p:txBody>
      </p:sp>
      <p:pic>
        <p:nvPicPr>
          <p:cNvPr id="99" name="" descr=""/>
          <p:cNvPicPr/>
          <p:nvPr/>
        </p:nvPicPr>
        <p:blipFill>
          <a:blip r:embed="rId2"/>
          <a:stretch/>
        </p:blipFill>
        <p:spPr>
          <a:xfrm>
            <a:off x="4781520" y="533520"/>
            <a:ext cx="4362480" cy="2590560"/>
          </a:xfrm>
          <a:prstGeom prst="rect">
            <a:avLst/>
          </a:prstGeom>
          <a:ln w="0">
            <a:noFill/>
          </a:ln>
        </p:spPr>
      </p:pic>
      <p:pic>
        <p:nvPicPr>
          <p:cNvPr id="100" name="" descr=""/>
          <p:cNvPicPr/>
          <p:nvPr/>
        </p:nvPicPr>
        <p:blipFill>
          <a:blip r:embed="rId3"/>
          <a:stretch/>
        </p:blipFill>
        <p:spPr>
          <a:xfrm>
            <a:off x="4800600" y="3276720"/>
            <a:ext cx="434340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subarcvolc_576" descr="venting system on a submarine arc volcano"/>
          <p:cNvPicPr/>
          <p:nvPr/>
        </p:nvPicPr>
        <p:blipFill>
          <a:blip r:embed="rId2"/>
          <a:stretch/>
        </p:blipFill>
        <p:spPr>
          <a:xfrm>
            <a:off x="152280" y="685800"/>
            <a:ext cx="8686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4000" y="765000"/>
            <a:ext cx="8532720" cy="494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914400"/>
            <a:ext cx="4751280" cy="4322880"/>
          </a:xfrm>
          <a:prstGeom prst="rect">
            <a:avLst/>
          </a:prstGeom>
          <a:ln w="0">
            <a:noFill/>
          </a:ln>
        </p:spPr>
      </p:pic>
      <p:pic>
        <p:nvPicPr>
          <p:cNvPr id="104" name="" descr=""/>
          <p:cNvPicPr/>
          <p:nvPr/>
        </p:nvPicPr>
        <p:blipFill>
          <a:blip r:embed="rId3"/>
          <a:stretch/>
        </p:blipFill>
        <p:spPr>
          <a:xfrm>
            <a:off x="4925880" y="914400"/>
            <a:ext cx="4218120" cy="42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Brian</cp:lastModifiedBy>
  <dcterms:modified xsi:type="dcterms:W3CDTF">2005-05-19T07:06:29Z</dcterms:modified>
  <cp:revision>15</cp:revision>
  <dc:subject/>
  <dc:title>Modelos de Depositos: Introducción</dc:title>
</cp:coreProperties>
</file>